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1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E64-F9F7-421C-AD4B-35A0C5DB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A06E-807A-47F3-A875-6BCAD6C5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C311-B725-44BD-8898-F4344E097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DAD-157D-4636-98F7-D6D2C1D2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1E51-AE8E-4139-B5D9-1F9BA7E4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2E46-B702-4DBE-ABE3-B46CF388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5A99-2F76-4EB2-AE54-75CA3AAD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BAD-D438-4B3B-A6F0-9D5C0F0F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A3E8-E376-4DE8-A33B-BEA83D90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F09-2ED9-4E01-B83A-64B45275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3E3-B95A-4899-9006-02E23EC4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7E09-7BB5-4D4F-8A2B-49E9835B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65F7-848D-4435-B35D-82BF0D8019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4978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200"/>
                </a:solidFill>
                <a:latin typeface="Times New Roman"/>
              </a:rPr>
              <a:t>ПЕДАГОГИЧЕСКИЙ СОВЕТ </a:t>
            </a:r>
            <a:br>
              <a:rPr sz="4000"/>
            </a:br>
            <a:r>
              <a:rPr b="1" i="1" lang="en-US" sz="4000" spc="-1" strike="noStrike">
                <a:solidFill>
                  <a:srgbClr val="004200"/>
                </a:solidFill>
                <a:latin typeface="Times New Roman"/>
              </a:rPr>
              <a:t>«Организация познавательно - исследовательской деятельности в ДОУ в соответствии с ФГОС ДО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87280" y="3502080"/>
            <a:ext cx="424836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02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Arial"/>
              </a:rPr>
              <a:t>Разделение игроков на 2 команды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Сложи мозаику из стихов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63480" y="3429000"/>
            <a:ext cx="74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341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Cambria"/>
              </a:rPr>
              <a:t>Задание 1:</a:t>
            </a: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гра «Расшифруй название команды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команда получает карточку с названием команды «ИСКОРКА» и «ОЗАРЕНИЕ» и должна выполнить следующее задание: на каждую букву в течение 2 минут участники команды должны подобрать слова, которые используется в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4000" y="3875040"/>
            <a:ext cx="164628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2: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едагогическая разминка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шему вниманию предложены снежинки с написанными на них вопросами. Каждый из участников выбирает снежинку и отвечает на вопрос. За каждый правильный ответ команда получает медал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kurs\Documents\Старецкая И.П\рисунки\восклицательный знак.jpg"/>
          <p:cNvPicPr/>
          <p:nvPr/>
        </p:nvPicPr>
        <p:blipFill>
          <a:blip r:embed="rId2"/>
          <a:stretch/>
        </p:blipFill>
        <p:spPr>
          <a:xfrm>
            <a:off x="7873920" y="5240160"/>
            <a:ext cx="976320" cy="13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3: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Модель трех вопросов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м необходимо составить «Модель трех вопросов» на примере проект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команда: «Яго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команда: «Овощ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Users\kurs\Documents\Старецкая И.П\рисунки\восклицательный знак.jpg"/>
          <p:cNvPicPr/>
          <p:nvPr/>
        </p:nvPicPr>
        <p:blipFill>
          <a:blip r:embed="rId2"/>
          <a:stretch/>
        </p:blipFill>
        <p:spPr>
          <a:xfrm>
            <a:off x="7873920" y="5240160"/>
            <a:ext cx="976320" cy="13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"Психологическая разминка "Очень я собой горжусь!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213336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Очень я собой горжусь, я на многое гожусь!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Встать прямо, свести лопатки, подмигнуть правым, затем левым глазо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Я решаю любые задачи, со мною всегда любовь и удача!</a:t>
            </a:r>
            <a:r>
              <a:rPr b="1" lang="en-US" sz="1600" spc="-1" strike="noStrike">
                <a:solidFill>
                  <a:srgbClr val="007000"/>
                </a:solidFill>
                <a:latin typeface="Times New Roman"/>
              </a:rPr>
              <a:t>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Положить на лоб правую, затем левую рук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Я приманиваю удачу, с каждым днем становлюсь все богаче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Потереть ладонь о ладон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Я согрета солнечным лучиком, я достойна самого лучшего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Встать на носочки, руки сомкнуть в кольцо над голово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На пути у меня нет преграды, все получиться так, как надо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в стороны, кулаки сжать, круговые вращения рук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Покой и улыбку всегда берегу, и все мне помогут и я помогу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на поясе, наклоны в стор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Ситуация любая мне подвластна, мир прекрасен и я прекрасна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за головой, повороты в стор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Вселенная мне улыбается, и все у меня получается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азвести руки в стороны, делая глубокий вдо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64628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4 </a:t>
            </a:r>
            <a:br>
              <a:rPr sz="4000"/>
            </a:b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«Перевёртыш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213336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частье перемещается кучами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Уйти от новой стиральной маши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Лысина – мужское безобразие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На полицейском валенки мокну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Ниже пяток не опустишьс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Уговори умного к черту послать, так и нога заживе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Безделью часы – слезам г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64628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5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Кроссвор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едлагаю проверить свои знания, разгадав небольшой кроссворд. Ответами на вопросы кроссворда являются хорошо Вам знакомые понятия и термины. Удач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Cambri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6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Этапы проект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лагаю вам расположить этапы в правильной последовательности (они прописаны на божьих коровках). На цветках прописаны действия, вам необходимо соотнести этапы с действиями, т.е. посадить божью коровку на нужный цветок. Каждая команда получает по четыре цве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7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Черный ящ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десь находится предмет, который часто используется при реализации проекта. Он позволяет с минимальными затратами донести до человека максимум информац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131640" y="404640"/>
            <a:ext cx="55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mbria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знаний педагогов по развитию познавательно-исследовательской деятельности детей, совершенствование педагогического мастерства в процессе активного педагогического об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kurs\Documents\Старецкая И.П\рисунки\ребенок.png"/>
          <p:cNvPicPr/>
          <p:nvPr/>
        </p:nvPicPr>
        <p:blipFill>
          <a:blip r:embed="rId2"/>
          <a:stretch/>
        </p:blipFill>
        <p:spPr>
          <a:xfrm>
            <a:off x="157320" y="2852640"/>
            <a:ext cx="34779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астники выбирают один вопрос путем перекидывания рефлексивного кубика друг другу отвечают на не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Решение педсо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Продолжать создавать педагогические условия для развития проектно-исследовательской деятельности и экспериментирования детей, соответственно возрасту и комплексно-тематическому планиров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воспитатели. Дата: в течение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Пересмотреть календарное планирование в соответствии с данными рекомендациями, уделив должное внимание детскому экспериментированию в НОД, проектной деятельност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воспитатели. Дата: в течение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Используя материалы педсовета, подготовить и провести общее родительское собрание на тему «Растим любознательны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Заведующий, заместитель заведующего, воспитатели. Дата: м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kurs\Documents\Старецкая И.П\рисунки\обработанные\эксперимент.gif"/>
          <p:cNvPicPr/>
          <p:nvPr/>
        </p:nvPicPr>
        <p:blipFill>
          <a:blip r:embed="rId2"/>
          <a:stretch/>
        </p:blipFill>
        <p:spPr>
          <a:xfrm>
            <a:off x="1908000" y="1628640"/>
            <a:ext cx="5759640" cy="459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mbria"/>
              </a:rPr>
              <a:t>Желаем удачного дня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:\Users\kurs\Documents\Старецкая И.П\рисунки\смайлик.gif"/>
          <p:cNvPicPr/>
          <p:nvPr/>
        </p:nvPicPr>
        <p:blipFill>
          <a:blip r:embed="rId2"/>
          <a:stretch/>
        </p:blipFill>
        <p:spPr>
          <a:xfrm>
            <a:off x="5508720" y="4076640"/>
            <a:ext cx="2914560" cy="23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71640" y="407880"/>
            <a:ext cx="612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лан проведения педсове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C:\Users\kurs\Documents\Старецкая И.П\рисунки\обработанные\мальчик с микроскопом.gif"/>
          <p:cNvPicPr/>
          <p:nvPr/>
        </p:nvPicPr>
        <p:blipFill>
          <a:blip r:embed="rId2"/>
          <a:stretch/>
        </p:blipFill>
        <p:spPr>
          <a:xfrm>
            <a:off x="6084720" y="3789360"/>
            <a:ext cx="2808360" cy="343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577880" y="1990800"/>
            <a:ext cx="59389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3280" y="189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Самое лучшее открытие – то, которое ребенок делает сам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льф Уильям Эмерс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kurs\Documents\Старецкая И.П\рисунки\Знак-вопроса.jpg"/>
          <p:cNvPicPr/>
          <p:nvPr/>
        </p:nvPicPr>
        <p:blipFill>
          <a:blip r:embed="rId2"/>
          <a:stretch/>
        </p:blipFill>
        <p:spPr>
          <a:xfrm>
            <a:off x="6659640" y="4437000"/>
            <a:ext cx="20397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Актуальность проблемы познавательно-исследовательской деятельности до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0840" y="458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ыступление с докладом (Корягина К.С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Рекомендации к проведению НОД по познавательно-исследовательской деятельности с дошкольни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Аналитическая справка по результатам тематического контроля «Организация познавательно-исследовательской деятельности в ДО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Награждение педагогов по результатам смотра-конкурса «Лучший экспериментальный уголок в групп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mbria"/>
              </a:rPr>
              <a:t>Деловая игра с педагогам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Cambria"/>
              </a:rPr>
              <a:t>«Его величество Проек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Гл.бухгалтер</cp:lastModifiedBy>
  <dcterms:modified xsi:type="dcterms:W3CDTF">2017-12-21T00:42:19Z</dcterms:modified>
  <cp:revision>46</cp:revision>
  <dc:subject/>
  <dc:title>Слайд 1</dc:title>
</cp:coreProperties>
</file>