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jpeg" ContentType="image/jpeg"/>
  <Override PartName="/ppt/media/image11.png" ContentType="image/png"/>
  <Override PartName="/ppt/media/image12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E424-84FA-4326-8F51-68F1FFF4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F1CA-FB9F-49A7-8C8D-3C7DB5F3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D3BC-9B2C-4432-B7B8-921F80E5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C8A9-FA12-4583-ABF4-0233FCE9E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BDCA-2D89-4221-AA7A-FF9FDE3E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E9D4-C4D6-4CA1-91D5-754EF3E6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96E6-B80C-4DB6-96C5-538D2E5B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0AAA-E1DD-4567-8605-BDFE1557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2914-1D4C-49B0-AE9C-9810A47A3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E379-BB85-4A47-9DFA-F7181E6B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8F9A-A6F0-4731-A584-E0481AE4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674-9D9F-4EAB-9EEF-E68D95DA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89AE-32BF-4E1B-90FA-3D01BC75DD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052280"/>
            <a:ext cx="849780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4200"/>
                </a:solidFill>
                <a:latin typeface="Times New Roman"/>
              </a:rPr>
              <a:t>ПЕДАГОГИЧЕСКИЙ СОВЕТ </a:t>
            </a:r>
            <a:br>
              <a:rPr sz="4000"/>
            </a:br>
            <a:r>
              <a:rPr b="1" i="1" lang="en-US" sz="4000" spc="-1" strike="noStrike">
                <a:solidFill>
                  <a:srgbClr val="004200"/>
                </a:solidFill>
                <a:latin typeface="Times New Roman"/>
              </a:rPr>
              <a:t>«Организация познавательно - исследовательской деятельности в ДОУ в соответствии с ФГОС ДО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87280" y="3502080"/>
            <a:ext cx="4248360" cy="2809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3026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Arial"/>
              </a:rPr>
              <a:t>Разделение игроков на 2 команды</a:t>
            </a:r>
            <a:br>
              <a:rPr sz="4000"/>
            </a:br>
            <a:br>
              <a:rPr sz="40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Игра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«Сложи мозаику из стихов»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663480" y="3429000"/>
            <a:ext cx="74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80341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00000"/>
                </a:solidFill>
                <a:latin typeface="Cambria"/>
              </a:rPr>
              <a:t>Задание 1:</a:t>
            </a:r>
            <a:r>
              <a:rPr b="1" lang="en-US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Игра «Расшифруй название команды»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команда получает карточку с названием команды «ИСКОРКА» и «ОЗАРЕНИЕ» и должна выполнить следующее задание: на каждую букву в течение 2 минут участники команды должны подобрать слова, которые используется в проектной деятель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4000" y="3875040"/>
            <a:ext cx="1646280" cy="1719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2: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Педагогическая разминка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шему вниманию предложены снежинки с написанными на них вопросами. Каждый из участников выбирает снежинку и отвечает на вопрос. За каждый правильный ответ команда получает медаль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2" descr="C:\Users\kurs\Documents\Старецкая И.П\рисунки\восклицательный знак.jpg"/>
          <p:cNvPicPr/>
          <p:nvPr/>
        </p:nvPicPr>
        <p:blipFill>
          <a:blip r:embed="rId2"/>
          <a:stretch/>
        </p:blipFill>
        <p:spPr>
          <a:xfrm>
            <a:off x="7873920" y="5240160"/>
            <a:ext cx="976320" cy="13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l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6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3:</a:t>
            </a:r>
            <a:r>
              <a:rPr b="1" lang="ru-RU" sz="4000" spc="-1" strike="noStrike">
                <a:solidFill>
                  <a:srgbClr val="b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«Модель трех вопросов»</a:t>
            </a:r>
            <a:br>
              <a:rPr sz="36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ам необходимо составить «Модель трех вопросов» на примере проекта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 команда: «Яго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 команда: «Овощи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2" descr="C:\Users\kurs\Documents\Старецкая И.П\рисунки\восклицательный знак.jpg"/>
          <p:cNvPicPr/>
          <p:nvPr/>
        </p:nvPicPr>
        <p:blipFill>
          <a:blip r:embed="rId2"/>
          <a:stretch/>
        </p:blipFill>
        <p:spPr>
          <a:xfrm>
            <a:off x="7873920" y="5240160"/>
            <a:ext cx="976320" cy="1328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cover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"Психологическая разминка "Очень я собой горжусь!"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3640" y="213336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 Очень я собой горжусь, я на многое гожусь!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Встать прямо, свести лопатки, подмигнуть правым, затем левым глазом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 Я решаю любые задачи, со мною всегда любовь и удача!</a:t>
            </a:r>
            <a:r>
              <a:rPr b="1" lang="en-US" sz="1600" spc="-1" strike="noStrike">
                <a:solidFill>
                  <a:srgbClr val="007000"/>
                </a:solidFill>
                <a:latin typeface="Times New Roman"/>
              </a:rPr>
              <a:t>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Положить на лоб правую, затем левую руку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 Я приманиваю удачу, с каждым днем становлюсь все богаче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Потереть ладонь о ладонь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 Я согрета солнечным лучиком, я достойна самого лучшего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! 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Встать на носочки, руки сомкнуть в кольцо над головой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 На пути у меня нет преграды, все получиться так, как надо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в стороны, кулаки сжать, круговые вращения рукам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 Покой и улыбку всегда берегу, и все мне помогут и я помогу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на поясе, наклоны в стор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 Ситуация любая мне подвластна, мир прекрасен и я прекрасна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уки за головой, повороты в стороны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Вселенная мне улыбается, и все у меня получается! </a:t>
            </a:r>
            <a:r>
              <a:rPr b="1" i="1" lang="en-US" sz="1600" spc="-1" strike="noStrike">
                <a:solidFill>
                  <a:srgbClr val="007000"/>
                </a:solidFill>
                <a:latin typeface="Times New Roman"/>
              </a:rPr>
              <a:t>(Развести руки в стороны, делая глубокий вдох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64628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Задание 4 </a:t>
            </a:r>
            <a:br>
              <a:rPr sz="4000"/>
            </a:br>
            <a:r>
              <a:rPr b="1" lang="ru-RU" sz="4000" spc="-1" strike="noStrike">
                <a:solidFill>
                  <a:srgbClr val="b00000"/>
                </a:solidFill>
                <a:latin typeface="Cambria"/>
              </a:rPr>
              <a:t>«Перевёртыши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323640" y="2133360"/>
            <a:ext cx="844524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Счастье перемещается кучами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Уйти от новой стиральной маши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Лысина – мужское безобразие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На полицейском валенки мокну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Ниже пяток не опустишься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Уговори умного к черту послать, так и нога заживет»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Безделью часы – слезам г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».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7093080" y="4869000"/>
            <a:ext cx="1646280" cy="1719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5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Кроссворд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Предлагаю проверить свои знания, разгадав небольшой кроссворд. Ответами на вопросы кроссворда являются хорошо Вам знакомые понятия и термины. Удач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00000"/>
                </a:solidFill>
                <a:latin typeface="Cambria"/>
              </a:rPr>
              <a:t>Проверь себя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468360" y="1413000"/>
            <a:ext cx="828036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6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Этапы проект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лагаю вам расположить этапы в правильной последовательности (они прописаны на божьих коровках). На цветках прописаны действия, вам необходимо соотнести этапы с действиями, т.е. посадить божью коровку на нужный цветок. Каждая команда получает по четыре цвет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Задание 7 </a:t>
            </a:r>
            <a:br>
              <a:rPr sz="4400"/>
            </a:b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«Черный ящик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Здесь находится предмет, который часто используется при реализации проекта. Он позволяет с минимальными затратами донести до человека максимум информац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131640" y="404640"/>
            <a:ext cx="55436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Cambria"/>
              </a:rPr>
              <a:t>Цель: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истематизация знаний педагогов по развитию познавательно-исследовательской деятельности детей, совершенствование педагогического мастерства в процессе активного педагогического общ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4" descr="C:\Users\kurs\Documents\Старецкая И.П\рисунки\ребенок.png"/>
          <p:cNvPicPr/>
          <p:nvPr/>
        </p:nvPicPr>
        <p:blipFill>
          <a:blip r:embed="rId2"/>
          <a:stretch/>
        </p:blipFill>
        <p:spPr>
          <a:xfrm>
            <a:off x="157320" y="2852640"/>
            <a:ext cx="3477960" cy="3505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Участники выбирают один вопрос путем перекидывания рефлексивного кубика друг другу отвечают на нег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Решение педсов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Продолжать создавать педагогические условия для развития проектно-исследовательской деятельности и экспериментирования детей, соответственно возрасту и комплексно-тематическому планирован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воспитатели. Дата: в течение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Пересмотреть календарное планирование в соответствии с данными рекомендациями, уделив должное внимание детскому экспериментированию в НОД, проектной деятельност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воспитатели. Дата: в течение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Используя материалы педсовета, подготовить и провести общее родительское собрание на тему «Растим любознательных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Ответственные: Заведующий, заместитель заведующего, воспитатели. Дата: ма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00000"/>
                </a:solidFill>
                <a:latin typeface="Cambria"/>
              </a:rPr>
              <a:t>Спасибо за участие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C:\Users\kurs\Documents\Старецкая И.П\рисунки\обработанные\эксперимент.gif"/>
          <p:cNvPicPr/>
          <p:nvPr/>
        </p:nvPicPr>
        <p:blipFill>
          <a:blip r:embed="rId2"/>
          <a:stretch/>
        </p:blipFill>
        <p:spPr>
          <a:xfrm>
            <a:off x="1908000" y="1628640"/>
            <a:ext cx="5759640" cy="45961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821844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Cambria"/>
              </a:rPr>
              <a:t>Желаем удачного дня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C:\Users\kurs\Documents\Старецкая И.П\рисунки\смайлик.gif"/>
          <p:cNvPicPr/>
          <p:nvPr/>
        </p:nvPicPr>
        <p:blipFill>
          <a:blip r:embed="rId2"/>
          <a:stretch/>
        </p:blipFill>
        <p:spPr>
          <a:xfrm>
            <a:off x="5508720" y="4076640"/>
            <a:ext cx="2914560" cy="23148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7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5"/>
          <p:cNvSpPr/>
          <p:nvPr/>
        </p:nvSpPr>
        <p:spPr>
          <a:xfrm>
            <a:off x="971640" y="407880"/>
            <a:ext cx="6122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План проведения педсовет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7" descr="C:\Users\kurs\Documents\Старецкая И.П\рисунки\обработанные\мальчик с микроскопом.gif"/>
          <p:cNvPicPr/>
          <p:nvPr/>
        </p:nvPicPr>
        <p:blipFill>
          <a:blip r:embed="rId2"/>
          <a:stretch/>
        </p:blipFill>
        <p:spPr>
          <a:xfrm>
            <a:off x="6084720" y="3789360"/>
            <a:ext cx="2808360" cy="3438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3"/>
          <a:stretch/>
        </p:blipFill>
        <p:spPr>
          <a:xfrm>
            <a:off x="1577880" y="1990800"/>
            <a:ext cx="5938920" cy="4102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3280" y="18900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Вступ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«Самое лучшее открытие – то, которое ребенок делает сам»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льф Уильям Эмерс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C:\Users\kurs\Documents\Старецкая И.П\рисунки\Знак-вопроса.jpg"/>
          <p:cNvPicPr/>
          <p:nvPr/>
        </p:nvPicPr>
        <p:blipFill>
          <a:blip r:embed="rId2"/>
          <a:stretch/>
        </p:blipFill>
        <p:spPr>
          <a:xfrm>
            <a:off x="6659640" y="4437000"/>
            <a:ext cx="2039760" cy="22320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Актуальность проблемы познавательно-исследовательской деятельности дошкольник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20840" y="45810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</a:rPr>
              <a:t>Выступление с докладом (Корягина К.С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692280"/>
            <a:ext cx="8229600" cy="32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Рекомендации к проведению НОД по познавательно-исследовательской деятельности с дошкольникам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Аналитическая справка по результатам тематического контроля «Организация познавательно-исследовательской деятельности в ДОУ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Cambria"/>
              </a:rPr>
              <a:t>Награждение педагогов по результатам смотра-конкурса «Лучший экспериментальный уголок в группе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Cambria"/>
              </a:rPr>
              <a:t>Деловая игра с педагогами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Cambria"/>
              </a:rPr>
              <a:t>«Его величество Проект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Гл.бухгалтер</cp:lastModifiedBy>
  <dcterms:modified xsi:type="dcterms:W3CDTF">2017-12-21T00:42:19Z</dcterms:modified>
  <cp:revision>46</cp:revision>
  <dc:subject/>
  <dc:title>Слайд 1</dc:title>
</cp:coreProperties>
</file>