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97B-DBE0-42D6-82F7-EFEDB8BA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40A-A680-412E-B223-89B1E79A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0E1-44C3-4040-A15B-CD0D672B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9ADF-2CDB-41F2-AF77-9B6F83E0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AC43-831C-440A-B914-CECECC37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89EE-883D-406F-87D7-9E5D54BD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3CC5-462B-4805-A30A-75257422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F2B9-28DB-40A5-BC56-830675E2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2E97-4451-46F8-806A-5A4CD284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AA10-0237-464C-BC79-21C609F5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CB90-7779-4B6B-BE77-B88BF970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B26-FDB2-46C9-BD36-E347A8FB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4528-3B2F-4035-998D-5FE7F738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D372-98A7-4C67-99DE-BFCAB23D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008E-331B-42D6-9D5B-4E6C66C4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81B1-D5C7-4D45-BD34-9E86CF9B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E8F0-0C0C-4B4B-AFEE-B3E65165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F8E-A02A-4ECE-92DA-1FFBDB6D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AFE2-DBC8-4A42-95DC-31501FE1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643-B5CB-434B-9F61-C9E595FC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D008-FF57-46A4-BD0A-5F7B18AD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317D-EECF-4F93-9A9B-DFFC0007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EDF-819C-4503-AF1C-F33C6E81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248-AA65-43F0-B679-43436E96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7EDB-F9F9-433F-A49F-66A66F67C54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2E1C-C1C6-412E-A98B-016C1732F45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20.xml"/><Relationship Id="rId17" Type="http://schemas.openxmlformats.org/officeDocument/2006/relationships/slide" Target="slide21.xml"/><Relationship Id="rId18" Type="http://schemas.openxmlformats.org/officeDocument/2006/relationships/slide" Target="slide22.xml"/><Relationship Id="rId19" Type="http://schemas.openxmlformats.org/officeDocument/2006/relationships/slide" Target="slide23.xml"/><Relationship Id="rId20" Type="http://schemas.openxmlformats.org/officeDocument/2006/relationships/slide" Target="slide24.xml"/><Relationship Id="rId21" Type="http://schemas.openxmlformats.org/officeDocument/2006/relationships/slide" Target="slide25.xml"/><Relationship Id="rId22" Type="http://schemas.openxmlformats.org/officeDocument/2006/relationships/slide" Target="slide26.xml"/><Relationship Id="rId23" Type="http://schemas.openxmlformats.org/officeDocument/2006/relationships/slide" Target="slide27.xml"/><Relationship Id="rId24" Type="http://schemas.openxmlformats.org/officeDocument/2006/relationships/slide" Target="slide28.xml"/><Relationship Id="rId25" Type="http://schemas.openxmlformats.org/officeDocument/2006/relationships/slide" Target="slide29.xml"/><Relationship Id="rId2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34.xml"/><Relationship Id="rId5" Type="http://schemas.openxmlformats.org/officeDocument/2006/relationships/slide" Target="slide35.xml"/><Relationship Id="rId6" Type="http://schemas.openxmlformats.org/officeDocument/2006/relationships/slide" Target="slide36.xml"/><Relationship Id="rId7" Type="http://schemas.openxmlformats.org/officeDocument/2006/relationships/slide" Target="slide37.xml"/><Relationship Id="rId8" Type="http://schemas.openxmlformats.org/officeDocument/2006/relationships/slide" Target="slide38.xml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08660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aeaea"/>
                </a:solidFill>
                <a:latin typeface="Tahoma"/>
              </a:rPr>
              <a:t>Своя игра</a:t>
            </a:r>
            <a:br>
              <a:rPr sz="48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по теме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«Электрические явления»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916360" y="4437000"/>
            <a:ext cx="575928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ля учащихся 8 клас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их рыб называют живыми электростанциям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82692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341000"/>
            <a:ext cx="7543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глаживая в темноте кошку сухой ладонью, можно заметить небольшие искорки, возникающие между рукой и шерстью. Что здесь происходит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900000" y="5300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ие изменения вызывает ток в теле челове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900000" y="5157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1468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5640" y="981000"/>
            <a:ext cx="754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лемена, живущие по притокам рек Амазонки и Ориноко, в местах брода у каждого берега держат на привязи лошадей. При переправе сначала гонят лошадь, а затем идет человек. Обратно так же. Чем объясняется этот своеобразный способ переправы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5516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Чей это закон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формулируйте  его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284720" y="1557360"/>
                <a:ext cx="3949560" cy="371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Ðóêà çîëîòîé ñòàòóè â äðåâíåãðå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åñêîì õðàìå, êîòîðóþ öåëîâàëè ïðèõîæàíå, çà äåñÿòêè ëåò çàìåòíî ïîõóäåëà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Ñâÿùåííèêè â ïàíèêå: êòî-òî óêðàë çîëîòî, íî êòî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900000" y="5373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формулируйте закон      Джоуля – Ленц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508464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Какое  действие электрического тока  показано в опыте?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Объясните его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627280" y="1916280"/>
            <a:ext cx="5545080" cy="4159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826920" y="494172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19200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На каком действии электрического поля основано действие электромагнитов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5616720" cy="4213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00000" y="5013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42667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чему из всех деревьев молнией чаще всего поражается дуб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Назовите фамилию великого физика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3332160" cy="4537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00000" y="4508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341000"/>
            <a:ext cx="7543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тур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Теоретически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Назовите фамилию великого физика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9" name="" descr="Алессандро Вольта"/>
          <p:cNvPicPr/>
          <p:nvPr/>
        </p:nvPicPr>
        <p:blipFill>
          <a:blip r:embed="rId1"/>
          <a:stretch/>
        </p:blipFill>
        <p:spPr>
          <a:xfrm>
            <a:off x="3708360" y="1844640"/>
            <a:ext cx="3062160" cy="4032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2692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398760" cy="4680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55640" y="33336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Назовите фамилию великого физи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494172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Назовите фамилию великого физика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5640" y="1413000"/>
            <a:ext cx="754380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Джеймс Джоуль"/>
          <p:cNvPicPr/>
          <p:nvPr/>
        </p:nvPicPr>
        <p:blipFill>
          <a:blip r:embed="rId1"/>
          <a:stretch/>
        </p:blipFill>
        <p:spPr>
          <a:xfrm>
            <a:off x="3059280" y="1844640"/>
            <a:ext cx="3201840" cy="4105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00000" y="4797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Назовите фамилию великого физика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Эрстед"/>
          <p:cNvPicPr/>
          <p:nvPr/>
        </p:nvPicPr>
        <p:blipFill>
          <a:blip r:embed="rId1"/>
          <a:stretch/>
        </p:blipFill>
        <p:spPr>
          <a:xfrm>
            <a:off x="2843280" y="1916280"/>
            <a:ext cx="3163680" cy="4176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00000" y="5157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 переводится слово «физик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494172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Что такое  электроскоп? Перечислите другие прибор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 в переводе с греческого звучит слово «электрон»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71280" y="549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Никола Карно писал: «Природа дала нам возможность всегда и везде получать теплоту и сопровождающую её движущую силу развивать эту силу и приспособлять её для наших нужд – цель тепловых машин». Что понимается под словами движущая сила?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5157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748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836640"/>
            <a:ext cx="754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омоносов писал: «Восприняв теплоту тела, или превращаются в нечувствительные частицы и рассеиваются по воздуху или превращаются в пепел или плавятся». Что он написал под словами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нечувствительные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частицы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5157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тур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актически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900000" y="5300640"/>
            <a:ext cx="719280" cy="50472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776" h="21600">
                <a:moveTo>
                  <a:pt x="0" y="0"/>
                </a:moveTo>
                <a:lnTo>
                  <a:pt x="30776" y="0"/>
                </a:lnTo>
                <a:lnTo>
                  <a:pt x="30776" y="21600"/>
                </a:lnTo>
                <a:lnTo>
                  <a:pt x="0" y="21600"/>
                </a:lnTo>
                <a:close/>
              </a:path>
              <a:path fill="lightenLess" w="30776" h="21600">
                <a:moveTo>
                  <a:pt x="0" y="0"/>
                </a:moveTo>
                <a:lnTo>
                  <a:pt x="30776" y="0"/>
                </a:lnTo>
                <a:lnTo>
                  <a:pt x="29376" y="1400"/>
                </a:lnTo>
                <a:lnTo>
                  <a:pt x="1400" y="1400"/>
                </a:lnTo>
                <a:close/>
              </a:path>
              <a:path fill="darken" w="30776" h="21600">
                <a:moveTo>
                  <a:pt x="30776" y="0"/>
                </a:moveTo>
                <a:lnTo>
                  <a:pt x="30776" y="21600"/>
                </a:lnTo>
                <a:lnTo>
                  <a:pt x="29376" y="20200"/>
                </a:lnTo>
                <a:lnTo>
                  <a:pt x="29376" y="1400"/>
                </a:lnTo>
                <a:close/>
              </a:path>
              <a:path fill="darkenLess" w="30776" h="21600">
                <a:moveTo>
                  <a:pt x="30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76" y="20200"/>
                </a:lnTo>
                <a:close/>
              </a:path>
              <a:path fill="lighten" w="30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76" h="21600">
                <a:moveTo>
                  <a:pt x="8381" y="10800"/>
                </a:moveTo>
                <a:lnTo>
                  <a:pt x="22394" y="3794"/>
                </a:lnTo>
                <a:lnTo>
                  <a:pt x="2239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у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1835280" y="530064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3794"/>
                </a:moveTo>
                <a:lnTo>
                  <a:pt x="22425" y="10800"/>
                </a:lnTo>
                <a:lnTo>
                  <a:pt x="8412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ahoma"/>
              </a:rPr>
              <a:t>Вопросы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00000" y="1557360"/>
          <a:ext cx="7848720" cy="3292560"/>
        </p:xfrm>
        <a:graphic>
          <a:graphicData uri="http://schemas.openxmlformats.org/drawingml/2006/table">
            <a:tbl>
              <a:tblPr/>
              <a:tblGrid>
                <a:gridCol w="3197160"/>
                <a:gridCol w="898560"/>
                <a:gridCol w="974880"/>
                <a:gridCol w="974880"/>
                <a:gridCol w="898200"/>
                <a:gridCol w="90504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пон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лектриче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 законах и не толь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ова… сл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2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4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>
            <a:hlinkClick r:id="rId25" action="ppaction://hlinksldjump"/>
          </p:cNvPr>
          <p:cNvSpPr/>
          <p:nvPr/>
        </p:nvSpPr>
        <p:spPr>
          <a:xfrm>
            <a:off x="900000" y="573408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3794"/>
                </a:moveTo>
                <a:lnTo>
                  <a:pt x="22469" y="10800"/>
                </a:lnTo>
                <a:lnTo>
                  <a:pt x="84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у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066680" y="2924280"/>
          <a:ext cx="7543800" cy="2039760"/>
        </p:xfrm>
        <a:graphic>
          <a:graphicData uri="http://schemas.openxmlformats.org/drawingml/2006/table">
            <a:tbl>
              <a:tblPr/>
              <a:tblGrid>
                <a:gridCol w="2857680"/>
                <a:gridCol w="934920"/>
                <a:gridCol w="936720"/>
                <a:gridCol w="936720"/>
                <a:gridCol w="934920"/>
                <a:gridCol w="9428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числите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полните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5" name="">
            <a:hlinkClick r:id="rId8" action="ppaction://hlinksldjump"/>
          </p:cNvPr>
          <p:cNvSpPr/>
          <p:nvPr/>
        </p:nvSpPr>
        <p:spPr>
          <a:xfrm>
            <a:off x="971640" y="551664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748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ила тока, проходящая через нить лампы, 0,3 А, напряжение – 6 В. каково электрическое сопротивление нити ламп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566100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3" h="21600">
                <a:moveTo>
                  <a:pt x="12795" y="10800"/>
                </a:moveTo>
                <a:lnTo>
                  <a:pt x="26808" y="3794"/>
                </a:lnTo>
                <a:lnTo>
                  <a:pt x="2680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ила тока в цепи лампы равна 0,3 А. Сколько электронов проходит через поперечное сечение спирали в лампе за 5 мин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5516640"/>
            <a:ext cx="792360" cy="5047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901" h="21600">
                <a:moveTo>
                  <a:pt x="0" y="0"/>
                </a:moveTo>
                <a:lnTo>
                  <a:pt x="33901" y="0"/>
                </a:lnTo>
                <a:lnTo>
                  <a:pt x="33901" y="21600"/>
                </a:lnTo>
                <a:lnTo>
                  <a:pt x="0" y="21600"/>
                </a:lnTo>
                <a:close/>
              </a:path>
              <a:path fill="lightenLess" w="33901" h="21600">
                <a:moveTo>
                  <a:pt x="0" y="0"/>
                </a:moveTo>
                <a:lnTo>
                  <a:pt x="33901" y="0"/>
                </a:lnTo>
                <a:lnTo>
                  <a:pt x="32501" y="1400"/>
                </a:lnTo>
                <a:lnTo>
                  <a:pt x="1400" y="1400"/>
                </a:lnTo>
                <a:close/>
              </a:path>
              <a:path fill="darken" w="33901" h="21600">
                <a:moveTo>
                  <a:pt x="33901" y="0"/>
                </a:moveTo>
                <a:lnTo>
                  <a:pt x="33901" y="21600"/>
                </a:lnTo>
                <a:lnTo>
                  <a:pt x="32501" y="20200"/>
                </a:lnTo>
                <a:lnTo>
                  <a:pt x="32501" y="1400"/>
                </a:lnTo>
                <a:close/>
              </a:path>
              <a:path fill="darkenLess" w="33901" h="21600">
                <a:moveTo>
                  <a:pt x="3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1" y="20200"/>
                </a:lnTo>
                <a:close/>
              </a:path>
              <a:path fill="lighten" w="3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01" h="21600">
                <a:moveTo>
                  <a:pt x="9944" y="10800"/>
                </a:moveTo>
                <a:lnTo>
                  <a:pt x="23957" y="3794"/>
                </a:lnTo>
                <a:lnTo>
                  <a:pt x="23957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773000"/>
            <a:ext cx="75438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пределите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опротивление медного провода, подвешенного для питания трамвайного двигателя, если длина провода равна 5 км, а площадь поперечного сечения 0,65 см2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5950080"/>
            <a:ext cx="865440" cy="404640"/>
          </a:xfrm>
          <a:custGeom>
            <a:avLst/>
            <a:gdLst>
              <a:gd name="textAreaLeft" fmla="*/ 25920 w 865440"/>
              <a:gd name="textAreaRight" fmla="*/ 839520 w 8654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176" h="21600">
                <a:moveTo>
                  <a:pt x="0" y="0"/>
                </a:moveTo>
                <a:lnTo>
                  <a:pt x="46176" y="0"/>
                </a:lnTo>
                <a:lnTo>
                  <a:pt x="46176" y="21600"/>
                </a:lnTo>
                <a:lnTo>
                  <a:pt x="0" y="21600"/>
                </a:lnTo>
                <a:close/>
              </a:path>
              <a:path fill="lightenLess" w="46176" h="21600">
                <a:moveTo>
                  <a:pt x="0" y="0"/>
                </a:moveTo>
                <a:lnTo>
                  <a:pt x="46176" y="0"/>
                </a:lnTo>
                <a:lnTo>
                  <a:pt x="44776" y="1400"/>
                </a:lnTo>
                <a:lnTo>
                  <a:pt x="1400" y="1400"/>
                </a:lnTo>
                <a:close/>
              </a:path>
              <a:path fill="darken" w="46176" h="21600">
                <a:moveTo>
                  <a:pt x="46176" y="0"/>
                </a:moveTo>
                <a:lnTo>
                  <a:pt x="46176" y="21600"/>
                </a:lnTo>
                <a:lnTo>
                  <a:pt x="44776" y="20200"/>
                </a:lnTo>
                <a:lnTo>
                  <a:pt x="44776" y="1400"/>
                </a:lnTo>
                <a:close/>
              </a:path>
              <a:path fill="darkenLess" w="46176" h="21600">
                <a:moveTo>
                  <a:pt x="46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76" y="20200"/>
                </a:lnTo>
                <a:close/>
              </a:path>
              <a:path fill="lighten" w="46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176" h="21600">
                <a:moveTo>
                  <a:pt x="16082" y="10800"/>
                </a:moveTo>
                <a:lnTo>
                  <a:pt x="30094" y="3794"/>
                </a:lnTo>
                <a:lnTo>
                  <a:pt x="3009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апряжение на спирали лампочки равно 3,5 В, сопротивление спирали 14 Ом. Какую работу совершает ток в лампе за 5 мин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900000" y="566100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3" h="21600">
                <a:moveTo>
                  <a:pt x="12795" y="10800"/>
                </a:moveTo>
                <a:lnTo>
                  <a:pt x="26808" y="3794"/>
                </a:lnTo>
                <a:lnTo>
                  <a:pt x="2680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000" y="1981080"/>
            <a:ext cx="792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пределите количество теплоты , выделяемое в проводнике   за 3 мин, сила тока в цепи 5 А, а напряжение на концах проводника 200 В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900000" y="551664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4" h="21600">
                <a:moveTo>
                  <a:pt x="8425" y="10800"/>
                </a:moveTo>
                <a:lnTo>
                  <a:pt x="22438" y="3794"/>
                </a:lnTo>
                <a:lnTo>
                  <a:pt x="2243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54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Измерьте силу тока и напряжение в лампочке при последовательном  и параллельном соединении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537372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55" h="21600">
                <a:moveTo>
                  <a:pt x="11521" y="10800"/>
                </a:moveTo>
                <a:lnTo>
                  <a:pt x="25534" y="3794"/>
                </a:lnTo>
                <a:lnTo>
                  <a:pt x="2553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Из предложенных кусочков бумаги соберите картинку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3745080" cy="897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790720" cy="3408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00000" y="566100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3" h="21600">
                <a:moveTo>
                  <a:pt x="12795" y="10800"/>
                </a:moveTo>
                <a:lnTo>
                  <a:pt x="26808" y="3794"/>
                </a:lnTo>
                <a:lnTo>
                  <a:pt x="2680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00040" y="2492280"/>
            <a:ext cx="698832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ю всем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пехов в учебе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l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Электризация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это процесс сообщения телу электрического заряд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900000" y="494172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920" y="125280"/>
            <a:ext cx="7608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00280"/>
            <a:ext cx="7543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Что такое электризация?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900000" y="5157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Электрический ток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– это направленное движение заряженных частиц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900000" y="508464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Единицы измерения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 Кулон, Вольт, Ампер, Ом, Ватт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900000" y="508464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341000"/>
            <a:ext cx="754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войства электрического пол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лектрическое поле заряженного тела действует с некоторой силой на всякое другое тело, оказавшееся в этом пол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близи заряженных  тел создаваемое ими поле сильнее, вдали – слабе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26920" y="5516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320" y="1483920"/>
            <a:ext cx="7543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Удельное сопротивлени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– это физическая величина, показывающая  сопротивление  проводника из данного вещества единичной длины и единичной площад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900000" y="5157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Электричество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900000" y="494172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Электрический угорь, электрический скат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826920" y="508464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Электр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97164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Ток, проходя через тело человека, воздействует на центральную и периферическую нервную системы, вызывая нарушения работы сердца и дыха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>
            <a:hlinkClick r:id="rId1" action="ppaction://hlinksldjump"/>
          </p:cNvPr>
          <p:cNvSpPr/>
          <p:nvPr/>
        </p:nvSpPr>
        <p:spPr>
          <a:xfrm>
            <a:off x="900000" y="5373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907560"/>
            <a:ext cx="75438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реках обитает самая мощная из всех электрических рыб – электрический угорь. По этой причине племена устраивают переправу с помощью лошадей. Угри разряжают свои батареи о ноги лошадей и у нее успевают перезарядить, так что люди переходят невредимы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97164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кон Ома. Сила тока на участке цепи равна отношению напряжения на этом участке к его сопротивлению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826920" y="5013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29124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айте определение электрического тока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900000" y="5300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личество теплоты, выделяемое проводником с током, равно произведению квадрата силы тока, сопротивления проводника и времени прохождения по нему то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900000" y="5157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Химическо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900000" y="5300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агнитно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900000" y="5013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з-за глубоко уходящих в почву корней дуб хорошо заземлен, поэтому он чаще поражается молнией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>
            <a:hlinkClick r:id="rId1" action="ppaction://hlinksldjump"/>
          </p:cNvPr>
          <p:cNvSpPr/>
          <p:nvPr/>
        </p:nvSpPr>
        <p:spPr>
          <a:xfrm>
            <a:off x="104292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ндре-Мари АМПЕР (Ampère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(22.01.1775 - 10.06.1836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ранцузский физик, математик и химик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826920" y="5013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лессандро ВОЛЬТА (Vo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 18.02. 1745 -- 5.03. 182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влекаясь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кспериментальными исследованиями в области электриче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Вольта успел обогатить науку рядом замечательных не случайных открытий, а вполне научных, связанных между собой строгой логической последовательностью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ктрофор, конденсат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чувствительный соломенный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ктроскоп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 конденсатором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дородная лампа, эвдиометр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900000" y="5013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еорг 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">
            <a:hlinkClick r:id="rId1" action="ppaction://hlinksldjump"/>
          </p:cNvPr>
          <p:cNvSpPr/>
          <p:nvPr/>
        </p:nvSpPr>
        <p:spPr>
          <a:xfrm>
            <a:off x="97164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11052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99640" y="260280"/>
            <a:ext cx="75438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жеймс Прескотт ДЖОУЛЬ (Jou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24.12. 1818 - 11.10. 188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жеймс Прескотт Джоуль - известный английский физик, член Лондонского королевского общества (1850)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ые работы Джоуля, относящиеся к 1838 - 40 гг., касаются исследования законов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ктромагнетизм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Он внёс значительный вклад в исследование электромагнетизма и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пловых явлени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в создани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изики низких температу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в обосновани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кона сохранения энерги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Изучая тепловые действия токов, Джоуль в 1843 г. пришел к убеждению в существовании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висимо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между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бот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личеством произведенного ею тепл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826920" y="508464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320" y="764640"/>
            <a:ext cx="7543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анс-Кристиан ЭРСТЕД (Ørste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14.8.1777 - 9.3.1851) Ему удалось обнаружить, что "магнитный эффект электрического тока имеет круговое движение вокруг него«. Идея о "вихреобразности" процесса долго еще не воспринималась учеными, которые считали, что силы, действующие между проводником с током и магнитной стрелкой - обычные силы притяжения и отталкивания, подобные силам всемирного тяготения И. Ньютон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">
            <a:hlinkClick r:id="rId1" action="ppaction://hlinksldjump"/>
          </p:cNvPr>
          <p:cNvSpPr/>
          <p:nvPr/>
        </p:nvSpPr>
        <p:spPr>
          <a:xfrm>
            <a:off x="900000" y="5229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ирод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">
            <a:hlinkClick r:id="rId1" action="ppaction://hlinksldjump"/>
          </p:cNvPr>
          <p:cNvSpPr/>
          <p:nvPr/>
        </p:nvSpPr>
        <p:spPr>
          <a:xfrm>
            <a:off x="900000" y="5373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748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268280"/>
            <a:ext cx="754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азовите   единицы измерения и формулы для вычисления заряда, напряжения, силы тока сопротивления, мощности.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97164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ибор, определяющий заряжено ли тело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826920" y="5229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Янтар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900000" y="5229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олекулы и атом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900000" y="508464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або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826920" y="5373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I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тур. Ответы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0 О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90 К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,3 О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25 Дж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80 кДж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11052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413000"/>
            <a:ext cx="75438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речислите основные свойства электрического пол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90000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Что такое удельное сопротивлени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900000" y="5300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11052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981000"/>
            <a:ext cx="75438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 дальним селам, городам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то идет по проводам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ветлое величество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Это …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900000" y="5013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3:00:55Z</dcterms:created>
  <dc:creator>Елена</dc:creator>
  <dc:description/>
  <dc:language>en-US</dc:language>
  <cp:lastModifiedBy>ЕЛЕНА</cp:lastModifiedBy>
  <dcterms:modified xsi:type="dcterms:W3CDTF">2009-10-06T20:00:58Z</dcterms:modified>
  <cp:revision>59</cp:revision>
  <dc:subject/>
  <dc:title>Своя игра</dc:title>
</cp:coreProperties>
</file>