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D28-E8A9-431B-A7E0-D2AFFC64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27B-F1CE-46DE-A4B2-55C4803D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EF4-B096-4AFA-A122-F9CE94DF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734-AEE1-4320-B972-FA3F125F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83B-EC4B-4C22-9CC2-99E1B7A9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A9B-4E05-4D95-BB57-2C674282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AE5-B16E-4C1D-8DE5-E05F50D5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797-1EB0-40DC-AC70-76759C7B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693-D132-4F0A-AD63-4516765F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51E-50C6-4718-AE6F-56CDEE95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1FA-9CDB-433D-A531-8AE53D06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4CB-B364-4BDB-A061-15C7D4DE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95E1-584E-4FF3-AA6D-0C973E72A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азработка урока 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ема :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Тип урок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урок изучения нового материала, урок-исслед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Оборудование урок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компьютер, мультимедийный проектор, транспортир , бумажные треугольники, презент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Содержимое 4" descr="Буфер обмена01.jpg"/>
          <p:cNvPicPr/>
          <p:nvPr/>
        </p:nvPicPr>
        <p:blipFill>
          <a:blip r:embed="rId2"/>
          <a:stretch/>
        </p:blipFill>
        <p:spPr>
          <a:xfrm>
            <a:off x="1187280" y="1600200"/>
            <a:ext cx="257364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005.jpg"/>
          <p:cNvPicPr/>
          <p:nvPr/>
        </p:nvPicPr>
        <p:blipFill>
          <a:blip r:embed="rId3"/>
          <a:stretch/>
        </p:blipFill>
        <p:spPr>
          <a:xfrm>
            <a:off x="4648320" y="3254400"/>
            <a:ext cx="40384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Равнобедренный треугольник 3"/>
          <p:cNvSpPr/>
          <p:nvPr/>
        </p:nvSpPr>
        <p:spPr>
          <a:xfrm>
            <a:off x="1125360" y="1484280"/>
            <a:ext cx="6410520" cy="3384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5"/>
          <p:cNvSpPr/>
          <p:nvPr/>
        </p:nvSpPr>
        <p:spPr>
          <a:xfrm>
            <a:off x="4330800" y="1484280"/>
            <a:ext cx="0" cy="3384720"/>
          </a:xfrm>
          <a:prstGeom prst="line">
            <a:avLst/>
          </a:prstGeom>
          <a:ln w="22320">
            <a:solidFill>
              <a:srgbClr val="bbe0e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1981080" y="15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ите треугольник так, чтобы все вершины попали в точку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/>
          <p:cNvSpPr/>
          <p:nvPr/>
        </p:nvSpPr>
        <p:spPr>
          <a:xfrm>
            <a:off x="4148280" y="4568760"/>
            <a:ext cx="50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20"/>
          <p:cNvSpPr/>
          <p:nvPr/>
        </p:nvSpPr>
        <p:spPr>
          <a:xfrm>
            <a:off x="4308480" y="4846680"/>
            <a:ext cx="44280" cy="46080"/>
          </a:xfrm>
          <a:prstGeom prst="ellipse">
            <a:avLst/>
          </a:prstGeom>
          <a:solidFill>
            <a:srgbClr val="bbe0e3"/>
          </a:solidFill>
          <a:ln w="2628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1"/>
          <p:cNvSpPr/>
          <p:nvPr/>
        </p:nvSpPr>
        <p:spPr>
          <a:xfrm>
            <a:off x="4330800" y="4653000"/>
            <a:ext cx="241200" cy="193680"/>
          </a:xfrm>
          <a:prstGeom prst="rect">
            <a:avLst/>
          </a:prstGeom>
          <a:solidFill>
            <a:srgbClr val="bbe0e3"/>
          </a:solidFill>
          <a:ln w="2628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казательство теор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ведем через вершину В прямую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параллельную стороне А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5 являются накрест лежащими углами при пересечении параллельных прямы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K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АС и секущей В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глы  1 и 4 являются накрест лежащими углами при пересечении параллельных прямых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K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АС и секущей 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этому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1=&lt;4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3=&lt;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едовательно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1+&lt;2+&lt;3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0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умма углов треугольника равна 180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Содержимое 5" descr="006.jpg"/>
          <p:cNvPicPr/>
          <p:nvPr/>
        </p:nvPicPr>
        <p:blipFill>
          <a:blip r:embed="rId2"/>
          <a:stretch/>
        </p:blipFill>
        <p:spPr>
          <a:xfrm>
            <a:off x="4724280" y="2362320"/>
            <a:ext cx="4038840" cy="1871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00680" y="324576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828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4400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йди неизвестные углы треуголь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02920" y="1989000"/>
            <a:ext cx="3024720" cy="1656000"/>
            <a:chOff x="1402920" y="1989000"/>
            <a:chExt cx="3024720" cy="1656000"/>
          </a:xfrm>
        </p:grpSpPr>
        <p:grpSp>
          <p:nvGrpSpPr>
            <p:cNvPr id="83" name=""/>
            <p:cNvGrpSpPr/>
            <p:nvPr/>
          </p:nvGrpSpPr>
          <p:grpSpPr>
            <a:xfrm>
              <a:off x="1402920" y="1989000"/>
              <a:ext cx="3024720" cy="1656000"/>
              <a:chOff x="1402920" y="1989000"/>
              <a:chExt cx="3024720" cy="165600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1402920" y="1989000"/>
                <a:ext cx="1513080" cy="165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03280" y="3645000"/>
                <a:ext cx="302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2916360" y="1989000"/>
              <a:ext cx="1511280" cy="165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621440" y="32846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29440" y="21337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9680" y="150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99200" y="3448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653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13560" y="32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02920" y="1989000"/>
            <a:ext cx="3024720" cy="1656000"/>
            <a:chOff x="1402920" y="1989000"/>
            <a:chExt cx="3024720" cy="1656000"/>
          </a:xfrm>
        </p:grpSpPr>
        <p:grpSp>
          <p:nvGrpSpPr>
            <p:cNvPr id="94" name=""/>
            <p:cNvGrpSpPr/>
            <p:nvPr/>
          </p:nvGrpSpPr>
          <p:grpSpPr>
            <a:xfrm>
              <a:off x="1402920" y="1989000"/>
              <a:ext cx="3024720" cy="1656000"/>
              <a:chOff x="1402920" y="1989000"/>
              <a:chExt cx="3024720" cy="1656000"/>
            </a:xfrm>
          </p:grpSpPr>
          <p:sp>
            <p:nvSpPr>
              <p:cNvPr id="95" name=""/>
              <p:cNvSpPr/>
              <p:nvPr/>
            </p:nvSpPr>
            <p:spPr>
              <a:xfrm flipH="1">
                <a:off x="1402920" y="1989000"/>
                <a:ext cx="1513080" cy="165600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03280" y="3645000"/>
                <a:ext cx="3024360" cy="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916360" y="1989000"/>
              <a:ext cx="1511280" cy="165600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067280" y="4076640"/>
            <a:ext cx="3024000" cy="1656000"/>
            <a:chOff x="4067280" y="4076640"/>
            <a:chExt cx="3024000" cy="1656000"/>
          </a:xfrm>
        </p:grpSpPr>
        <p:grpSp>
          <p:nvGrpSpPr>
            <p:cNvPr id="99" name=""/>
            <p:cNvGrpSpPr/>
            <p:nvPr/>
          </p:nvGrpSpPr>
          <p:grpSpPr>
            <a:xfrm>
              <a:off x="4067280" y="4076640"/>
              <a:ext cx="3024000" cy="1656000"/>
              <a:chOff x="4067280" y="4076640"/>
              <a:chExt cx="3024000" cy="1656000"/>
            </a:xfrm>
          </p:grpSpPr>
          <p:sp>
            <p:nvSpPr>
              <p:cNvPr id="100" name=""/>
              <p:cNvSpPr/>
              <p:nvPr/>
            </p:nvSpPr>
            <p:spPr>
              <a:xfrm flipH="1">
                <a:off x="4067280" y="4076640"/>
                <a:ext cx="1512720" cy="165600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067280" y="5732640"/>
                <a:ext cx="3024000" cy="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5580000" y="4076640"/>
              <a:ext cx="1510920" cy="165600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283640" y="5392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59320" y="4221000"/>
            <a:ext cx="4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293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368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91560" y="553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9440" y="537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4797360"/>
            <a:ext cx="216000" cy="21600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84360" y="4653000"/>
            <a:ext cx="287640" cy="2887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68360" y="4149360"/>
            <a:ext cx="3024000" cy="1655640"/>
            <a:chOff x="468360" y="4149360"/>
            <a:chExt cx="3024000" cy="1655640"/>
          </a:xfrm>
        </p:grpSpPr>
        <p:grpSp>
          <p:nvGrpSpPr>
            <p:cNvPr id="112" name=""/>
            <p:cNvGrpSpPr/>
            <p:nvPr/>
          </p:nvGrpSpPr>
          <p:grpSpPr>
            <a:xfrm>
              <a:off x="468360" y="4149360"/>
              <a:ext cx="3024000" cy="1655640"/>
              <a:chOff x="468360" y="4149360"/>
              <a:chExt cx="3024000" cy="165564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1979640" y="4149360"/>
                <a:ext cx="1512720" cy="165564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468360" y="4149360"/>
                <a:ext cx="3024000" cy="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 flipV="1">
              <a:off x="468720" y="4149360"/>
              <a:ext cx="1510920" cy="165564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991120" y="1378440"/>
            <a:ext cx="2162520" cy="2693520"/>
            <a:chOff x="5991120" y="1378440"/>
            <a:chExt cx="2162520" cy="2693520"/>
          </a:xfrm>
        </p:grpSpPr>
        <p:grpSp>
          <p:nvGrpSpPr>
            <p:cNvPr id="117" name=""/>
            <p:cNvGrpSpPr/>
            <p:nvPr/>
          </p:nvGrpSpPr>
          <p:grpSpPr>
            <a:xfrm>
              <a:off x="5991120" y="1378440"/>
              <a:ext cx="2162520" cy="2693520"/>
              <a:chOff x="5991120" y="1378440"/>
              <a:chExt cx="2162520" cy="2693520"/>
            </a:xfrm>
          </p:grpSpPr>
          <p:sp>
            <p:nvSpPr>
              <p:cNvPr id="118" name=""/>
              <p:cNvSpPr/>
              <p:nvPr/>
            </p:nvSpPr>
            <p:spPr>
              <a:xfrm flipH="1" flipV="1">
                <a:off x="5991120" y="1378440"/>
                <a:ext cx="2162520" cy="59436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91120" y="1378440"/>
                <a:ext cx="1375200" cy="2693520"/>
              </a:xfrm>
              <a:prstGeom prst="line">
                <a:avLst/>
              </a:prstGeom>
              <a:ln w="381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H="1">
              <a:off x="7365960" y="1972800"/>
              <a:ext cx="787680" cy="2098800"/>
            </a:xfrm>
            <a:prstGeom prst="line">
              <a:avLst/>
            </a:prstGeom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694520" y="501336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16000" y="4868640"/>
            <a:ext cx="287280" cy="2156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4869000"/>
            <a:ext cx="216000" cy="2156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908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508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588000" y="2781000"/>
            <a:ext cx="360360" cy="14292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019640" y="1484280"/>
            <a:ext cx="144360" cy="36036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2924280"/>
            <a:ext cx="216000" cy="2156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980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9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616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92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92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192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192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92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92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92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92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92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192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192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192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92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192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192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192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ыясни 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ществует ли треугольник с угла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30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, 60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90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46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160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4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75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80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5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) 100 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20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55 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рно ли ,чт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тупоугольном треугольнике все углы туп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остроугольном треугольнике все углы остр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прямоугольном треугольнике два угла прямые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делайте выво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 любом треугольнике либо все углы острые , либо два угла острые, а третий тупой или прямо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нешний угол треуголь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кройте учебник на стр.70. Найдите определение внешнего угла треугольника. Прочитайте его. Построй треугольник АВС, построй внешний угол СВД. Расскажите как построить внешний угол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446640" y="3940200"/>
            <a:ext cx="225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762120" y="2057400"/>
          <a:ext cx="7391160" cy="3171960"/>
        </p:xfrm>
        <a:graphic>
          <a:graphicData uri="http://schemas.openxmlformats.org/drawingml/2006/table">
            <a:tbl>
              <a:tblPr/>
              <a:tblGrid>
                <a:gridCol w="1373040"/>
                <a:gridCol w="1373040"/>
                <a:gridCol w="1373400"/>
                <a:gridCol w="1373040"/>
                <a:gridCol w="189864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º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º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º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полните  таблиц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ую закономерность вы заметили (Сравните внешний угол треугольника и сумму углов треугольника, не смежных с ним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рьте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А 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 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Д  вашего треуголь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авните результат , сделайте выв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Доказательство разобрать дома самостоятельно на стр. 7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ли и задачи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здать условия для самостоятельного формулирования     и доказательства теоремы о сумме углов треугольни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смотреть применение теоремы при решении      различных геометрических задач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двести детей к утверждению о том, что треугольник может иметь  только один тупой или прямой уго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ая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развитие познавательного интереса, логического мышления, умения работать в па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чебная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знакомиться  с теоремой о сумме углов треугольника, научиться применять её при решении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вающая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витие памяти, внимательности, умения выдвигать свою гипотезу, отстаивать свою точку зр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Найди неизвестные углы треуголь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403848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вариан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35º     б) 40º   в)30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90º   б) 100º в)70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8000" y="620280"/>
            <a:ext cx="403848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вариан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50º  б)45º  в)40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100º б)110º в)9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59080" y="1494720"/>
            <a:ext cx="3745080" cy="878760"/>
            <a:chOff x="559080" y="1494720"/>
            <a:chExt cx="3745080" cy="878760"/>
          </a:xfrm>
        </p:grpSpPr>
        <p:sp>
          <p:nvSpPr>
            <p:cNvPr id="149" name=""/>
            <p:cNvSpPr/>
            <p:nvPr/>
          </p:nvSpPr>
          <p:spPr>
            <a:xfrm flipH="1" flipV="1">
              <a:off x="2203920" y="1494720"/>
              <a:ext cx="2100240" cy="77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61600" y="1499760"/>
              <a:ext cx="1645200" cy="87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59080" y="2271960"/>
              <a:ext cx="3745080" cy="9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35280" y="1413000"/>
            <a:ext cx="2400480" cy="799920"/>
            <a:chOff x="5435280" y="1413000"/>
            <a:chExt cx="2400480" cy="799920"/>
          </a:xfrm>
        </p:grpSpPr>
        <p:sp>
          <p:nvSpPr>
            <p:cNvPr id="153" name=""/>
            <p:cNvSpPr/>
            <p:nvPr/>
          </p:nvSpPr>
          <p:spPr>
            <a:xfrm flipH="1">
              <a:off x="5435280" y="1413000"/>
              <a:ext cx="999720" cy="79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5640" y="2212920"/>
              <a:ext cx="240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5360" y="1413000"/>
              <a:ext cx="1400040" cy="79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189080" y="1916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155736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989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7640" y="15573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3800" y="19162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5800" y="1916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3933720"/>
            <a:ext cx="2857680" cy="10224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962520"/>
            <a:ext cx="2857680" cy="10285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9440" y="45813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429264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484000" y="42926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08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68160" y="46083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4267080"/>
            <a:ext cx="2286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629040" y="41911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0"/>
            <a:ext cx="7164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344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23"/>
          <p:cNvSpPr/>
          <p:nvPr/>
        </p:nvSpPr>
        <p:spPr>
          <a:xfrm>
            <a:off x="285840" y="1214280"/>
            <a:ext cx="8572320" cy="5143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5"/>
          <p:cNvSpPr/>
          <p:nvPr/>
        </p:nvSpPr>
        <p:spPr>
          <a:xfrm flipH="1">
            <a:off x="1428480" y="1714680"/>
            <a:ext cx="1785960" cy="3143160"/>
          </a:xfrm>
          <a:prstGeom prst="line">
            <a:avLst/>
          </a:prstGeom>
          <a:ln w="7632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7"/>
          <p:cNvSpPr/>
          <p:nvPr/>
        </p:nvSpPr>
        <p:spPr>
          <a:xfrm flipV="1">
            <a:off x="1428840" y="4785840"/>
            <a:ext cx="5572080" cy="71640"/>
          </a:xfrm>
          <a:prstGeom prst="line">
            <a:avLst/>
          </a:prstGeom>
          <a:ln w="7632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>
            <a:off x="3214800" y="1714680"/>
            <a:ext cx="2928960" cy="3071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1"/>
          <p:cNvSpPr/>
          <p:nvPr/>
        </p:nvSpPr>
        <p:spPr>
          <a:xfrm flipV="1">
            <a:off x="5285520" y="2071440"/>
            <a:ext cx="2714760" cy="4071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2714760" y="1214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2960" y="4500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5857920" y="4714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6858000" y="1928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2714760" y="1785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1357200" y="43578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5214960" y="43578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5715000" y="42148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1"/>
          <p:cNvSpPr/>
          <p:nvPr/>
        </p:nvSpPr>
        <p:spPr>
          <a:xfrm>
            <a:off x="6357960" y="43578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285840" y="14292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пробуйте доказать дома эту теорему, используя чертеж учеников Пифаг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 70 п.30-31 ,№223(а,б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изационный момент. Постановка учебной задач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уализация опорных зн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казательство теор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енение теоремы при решении зада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мостоятельная раб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ведение итогов уро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машнее задание. Оценки за ур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Какая фигура называется треугольни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Какие виды углов вы знае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Признаки параллельности двух прям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В каком треугольнике углы при основании равны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Какие виды треугольников по углам вы знает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Какой треугольник называется остроугольны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Какой треугольник называется тупоугольны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Какой треугольник называется прямоугольны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Какие углы называются смежным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ши уст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пару односторонних уг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пару накрест лежащих уг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394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йдите все углы, если прямая а параллельна прямой в и угол 1 равен 70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82520" y="1600200"/>
            <a:ext cx="2787840" cy="218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166760" y="3940200"/>
            <a:ext cx="2617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ши уст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14240" y="2550960"/>
            <a:ext cx="3524400" cy="2622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дите углы 3,4,5, если прямая АС параллельна прямой проведенной через точку В  и угол 1 равен 60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угол 2 равен 50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Возьми треугольник АВ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Измерьте градусные меры углов  треуг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Запишите в тетрад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=…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=…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=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Найдите сумму  углов треуголь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+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+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С=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Запиши результаты в таблиц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31800" y="2151000"/>
            <a:ext cx="121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531800" y="215100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61" name=""/>
          <p:cNvGraphicFramePr/>
          <p:nvPr/>
        </p:nvGraphicFramePr>
        <p:xfrm>
          <a:off x="304920" y="609480"/>
          <a:ext cx="8610480" cy="460044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720800"/>
                <a:gridCol w="1616040"/>
                <a:gridCol w="1828800"/>
              </a:tblGrid>
              <a:tr h="1557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треуголь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ы уг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углов треуголь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80880" y="5409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делайте вывод о сумме углов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зьмите бумажный треугольник, лежащий у каждого на пар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куратно оторвите у треугольника два уг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ложите эти углы к третьему таким образом, чтобы они выходили из одной верш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78580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11T17:12:1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