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E606-BBD0-4D97-BEA3-D98684D91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6250-0D42-40CF-9F17-1998E0FA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EC79-FC4E-4778-B26A-AD88BBAF4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A345-2F5A-47AD-BD05-D6FA7E97E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981B-922E-4199-8002-547B4E51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2561-F777-4FC9-AEE1-CD732F71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FE61-BF52-4C86-B70B-79885AB1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4B77-7651-4872-B601-D720DD3F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8827-1C8B-4FD7-954C-6F055EF5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6F0B-7E44-4931-9FC5-47079A04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9135-204B-4F72-8B0F-257B832C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1BC6-3E12-4C6E-824F-E3EB39B7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4471-4FA9-41A5-AFF4-1D85C347B5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ОДЕЛИ ОБЩЕНИЯ ПЕДАГОГОВ С УЧАЩИМИ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21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Негативные модели общения педагогов с учащимис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5840" y="856800"/>
            <a:ext cx="420984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ель дифференцированного внимания («Локатор»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-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педагог строит взаимоотношения с детьми избирательно, концентрирует свое внимание на группе учащихся (сильных или слабых), оставляя без внимания остальных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Следствие -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300" spc="-1" strike="noStrike">
                <a:solidFill>
                  <a:srgbClr val="c00000"/>
                </a:solidFill>
                <a:latin typeface="Calibri"/>
              </a:rPr>
              <a:t>отсутствие целостной и непрерывной системы общения; фрагментарность и ситуативность взаимодействия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Модель негибкого реагирования («Робот»)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 - педагог направленно и последовательно действует на основе задуманной программы, не обращая внимания на обстоятельства, которые требуют изменения в общении.   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Следствие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300" spc="-1" strike="noStrike">
                <a:solidFill>
                  <a:srgbClr val="c00000"/>
                </a:solidFill>
                <a:latin typeface="Calibri"/>
              </a:rPr>
              <a:t>спланированные виды и формы работы, не приведенные в соответствие с реальными педагогическими задачами, остаются неосуществленными, дают низкий педагогический эффект, даже если фактически реализованы на уроке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Модель гипорефлексивная («Тетерев»)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 - педагог в процессе взаимодействия с учащимися слышит только себя (при объяснении нового материала, опросе учащихся, в ходе индивидуальных бесед с детьми). 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Следствие -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300" spc="-1" strike="noStrike">
                <a:solidFill>
                  <a:srgbClr val="c00000"/>
                </a:solidFill>
                <a:latin typeface="Calibri"/>
              </a:rPr>
              <a:t>теряется обратная связь, создается психологический вакуум вокруг учителя, он не способен учитывать вероятное восприятие материала урока учащимися, а значит, оперативно ощущать и интерпретировать социально-психологическую атмосферу в ходе взаимодействия учитель-ученик как на уроке, так и во внеурочное время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7960" y="857160"/>
            <a:ext cx="42814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ель диктаторская («Монблан»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- педагог отстраняется от учащихся, свои функции сводит к сообщению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едствие -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безинициативность, пассивность обучаем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ель "неконтактная" («Китайская стена»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- педагог устанавливает дистанцию между собой и учащими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черкивание учителем своего превосходства над учащимися; стремление сообщить информацию, а не обучить; утверждение "ведомости" школьников; снисходительно-покровительственное отношение к учащим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едств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отсутствие межличностного взаимодействия между педагогом и учениками, слабая обратная связь в учебно-воспитательном процессе и т. 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ель авторитарная («Я сам»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- педагог делает себя главным, единственным инициатором педагогическ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едств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устраняется личная инициатива учащихся; школьники ждут требований и инструкций и в результате не подготовлены к творческому повед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ель гиперрефлексивная («Гамлет»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- педагог подвержен постоянным сомнениям: правильно ли его поймут, обидятся или нет и т. 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едств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одержательная сторона общения подменяется эмоциональными моментами во взаимоотношениях учитель-уче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Благоприятная модель обще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8320" y="1600200"/>
            <a:ext cx="4209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дель активного взаимодействия («Союз»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- педагог постоянно находится в диалоге с обучаемыми, держит их в мажорном настроении, поощряет инициативу, схватывает изменения в психологическом климате коллектива и реагирует на ни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ледствие -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преобладание стиля дружеского взаимодействия с сохранением ролевой дистанции учителя, совместное решение возникающих пробле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4" descr="http://m.b17.ru/foto/uploaded/922a6999d83686585c78ad7161bbf1e5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7T10:39:39Z</dcterms:created>
  <dc:creator>Марина</dc:creator>
  <dc:description/>
  <dc:language>en-US</dc:language>
  <cp:lastModifiedBy>Марина</cp:lastModifiedBy>
  <dcterms:modified xsi:type="dcterms:W3CDTF">2016-11-27T11:03:29Z</dcterms:modified>
  <cp:revision>3</cp:revision>
  <dc:subject/>
  <dc:title>Слайд 1</dc:title>
</cp:coreProperties>
</file>