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F5C7-10B5-4681-8526-A1C3AA15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79EA-1EB5-4831-9617-A0E46BA0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A045-6732-42B7-9A23-48687D13A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ADE-B0A1-4952-930D-40423697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4D9E-EE0A-465F-A717-8FB26A7D9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D877D-42F6-4CB5-827E-B3FDB6D4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7CE-14B3-4C02-9A87-A806E7BA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B291-48D4-4140-BD0C-CEC75F5E7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863-07D8-4700-9D18-454693646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133C-A9E9-46D5-B1CE-BAD7A2A6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7B00-64C0-4DD1-88E1-5738F29F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F68F-2866-4F50-8CEB-B322081C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3027-481D-4178-8119-4C5A171E6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МОДЕЛИ ОБЩЕНИЯ ПЕДАГОГОВ С УЧАЩИМИС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42600"/>
            <a:ext cx="82296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Негативные модели общения педагогов с учащимися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285840" y="856800"/>
            <a:ext cx="420984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 дифференцированного внимания («Локатор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педагог строит взаимоотношения с детьми избирательно, концентрирует свое внимание на группе учащихся (сильных или слабых), оставляя без внимания остальных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ледствие 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отсутствие целостной и непрерывной системы общения; фрагментарность и ситуативность взаимодействи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одель негибкого реагирования («Робот»)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- педагог направленно и последовательно действует на основе задуманной программы, не обращая внимания на обстоятельства, которые требуют изменения в общении.  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спланированные виды и формы работы, не приведенные в соответствие с реальными педагогическими задачами, остаются неосуществленными, дают низкий педагогический эффект, даже если фактически реализованы на уроке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Модель гипорефлексивная («Тетерев»)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- педагог в процессе взаимодействия с учащимися слышит только себя (при объяснении нового материала, опросе учащихся, в ходе индивидуальных бесед с детьми). </a:t>
            </a:r>
            <a:r>
              <a:rPr b="1" lang="ru-RU" sz="1300" spc="-1" strike="noStrike">
                <a:solidFill>
                  <a:srgbClr val="000000"/>
                </a:solidFill>
                <a:latin typeface="Calibri"/>
              </a:rPr>
              <a:t>Следствие -</a:t>
            </a: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300" spc="-1" strike="noStrike">
                <a:solidFill>
                  <a:srgbClr val="c00000"/>
                </a:solidFill>
                <a:latin typeface="Calibri"/>
              </a:rPr>
              <a:t>теряется обратная связь, создается психологический вакуум вокруг учителя, он не способен учитывать вероятное восприятие материала урока учащимися, а значит, оперативно ощущать и интерпретировать социально-психологическую атмосферу в ходе взаимодействия учитель-ученик как на уроке, так и во внеурочное время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7960" y="857160"/>
            <a:ext cx="42814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диктаторская («Монблан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отстраняется от учащихся, свои функции сводит к сообщению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безинициативность, пассивность обучаем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"неконтактная" («Китайская стена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устанавливает дистанцию между собой и учащими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еркивание учителем своего превосходства над учащимися; стремление сообщить информацию, а не обучить; утверждение "ведомости" школьников; снисходительно-покровительственное отношение к учащим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отсутствие межличностного взаимодействия между педагогом и учениками, слабая обратная связь в учебно-воспитательном процессе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авторитарная («Я сам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делает себя главным, единственным инициатором педагогиче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устраняется личная инициатива учащихся; школьники ждут требований и инструкций и в результате не подготовлены к творческому пове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дель гиперрефлексивная («Гамлет»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- педагог подвержен постоянным сомнениям: правильно ли его поймут, обидятся или нет и т. 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ледстви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содержательная сторона общения подменяется эмоциональными моментами во взаимоотношениях учитель-учен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Благоприятная модель обще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48320" y="1600200"/>
            <a:ext cx="4209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ель активного взаимодействия («Союз»)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- педагог постоянно находится в диалоге с обучаемыми, держит их в мажорном настроении, поощряет инициативу, схватывает изменения в психологическом климате коллектива и реагирует на них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ледствие - </a:t>
            </a:r>
            <a:r>
              <a:rPr b="0" lang="ru-RU" sz="2000" spc="-1" strike="noStrike">
                <a:solidFill>
                  <a:srgbClr val="c00000"/>
                </a:solidFill>
                <a:latin typeface="Calibri"/>
              </a:rPr>
              <a:t>преобладание стиля дружеского взаимодействия с сохранением ролевой дистанции учителя, совместное решение возникающих пробле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Содержимое 4" descr="http://m.b17.ru/foto/uploaded/922a6999d83686585c78ad7161bbf1e5.jpg"/>
          <p:cNvPicPr/>
          <p:nvPr/>
        </p:nvPicPr>
        <p:blipFill>
          <a:blip r:embed="rId1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7T10:39:39Z</dcterms:created>
  <dc:creator>Марина</dc:creator>
  <dc:description/>
  <dc:language>en-US</dc:language>
  <cp:lastModifiedBy>Марина</cp:lastModifiedBy>
  <dcterms:modified xsi:type="dcterms:W3CDTF">2016-11-27T11:03:29Z</dcterms:modified>
  <cp:revision>3</cp:revision>
  <dc:subject/>
  <dc:title>Слайд 1</dc:title>
</cp:coreProperties>
</file>