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D4EEA-58A1-453B-9B54-0BB5F314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2D996-A5EC-4160-8B68-0A32F1E2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D847-329A-4BB1-9B77-029BEC42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6FF4C-3F63-420D-987A-5B3D8EC9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98F8-4661-4BB1-8168-446AC9B4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F16C-10F8-4DB9-A6AF-7EC6AD63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E258-E897-4042-855A-2C01F9DF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2256-92E3-43F9-A8B4-0F62C116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3A27-767A-45F1-954B-7437691A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1257-C469-4256-894D-1A024614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6A9E-7245-4F49-9409-5C7BCA5A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A9455-F951-4C6F-8CC3-174C5D57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7304-E61B-430D-A5BC-B92D6E5C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A222-1949-4F39-ABCF-9714D191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7C03-FB2B-4960-BF32-AD2129FF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C164-C76B-45BE-9179-7FA86FBC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9191-0332-4B64-AA32-0A179021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D36E6-38B9-490D-97B1-18D8BA9F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5C54B-EA80-4F1D-92C3-E5E850F7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D992-FB5D-47DD-AE12-A19F0555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373C-7FCF-4F4D-9F25-D1D637EA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DF050-8D27-4695-95D2-38DD6117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0D3DC-7D78-4949-B707-8CF853D2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8682-99CA-40E4-86BA-F9F272D4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7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6488-C908-4088-93ED-2ADCA9015A1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7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02AA-7D66-49FD-A0C1-3ED30D5C8A0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териал на психолого – педагогический консилиум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3300"/>
                </a:solidFill>
                <a:latin typeface="Tahoma"/>
              </a:rPr>
              <a:t>Адаптация обучающихся 5 классов в среднем звене школ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дготови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едагог – психолог МКОУ СОШ № 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. Овощи Туркменского райо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Иващенцева Лариса Викторов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00"/>
                </a:solidFill>
                <a:latin typeface="Tahoma"/>
              </a:rPr>
              <a:t>Социологическое исследование    (5 «а»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учебные предметы даются вашему ребенку легко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3" name="Object 11"/>
          <p:cNvGraphicFramePr/>
          <p:nvPr/>
        </p:nvGraphicFramePr>
        <p:xfrm>
          <a:off x="1332000" y="1989000"/>
          <a:ext cx="698508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89000"/>
                    <a:ext cx="698508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2000"/>
                </a:solidFill>
                <a:latin typeface="Tahoma"/>
              </a:rPr>
              <a:t>Какие предметы даются вашему</a:t>
            </a:r>
            <a:r>
              <a:rPr b="0" lang="ru-RU" sz="3800" spc="-1" strike="noStrike">
                <a:solidFill>
                  <a:srgbClr val="602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02000"/>
                </a:solidFill>
                <a:latin typeface="Tahoma"/>
              </a:rPr>
              <a:t>ребенку легко? (5 «б»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6" name="Object 4"/>
          <p:cNvGraphicFramePr/>
          <p:nvPr/>
        </p:nvGraphicFramePr>
        <p:xfrm>
          <a:off x="304920" y="1308240"/>
          <a:ext cx="8461080" cy="52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08240"/>
                    <a:ext cx="846108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Tahoma"/>
              </a:rPr>
              <a:t>По каким предметам подготовка д/з вызывает затруднение? (5 «а»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0" y="1052640"/>
          <a:ext cx="8820000" cy="53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8820000" cy="53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Tahoma"/>
              </a:rPr>
              <a:t>По каким предметам подготовка д/з вызывает затруднение? (5 «б»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02" name="Object 4"/>
          <p:cNvGraphicFramePr/>
          <p:nvPr/>
        </p:nvGraphicFramePr>
        <p:xfrm>
          <a:off x="-900000" y="1268280"/>
          <a:ext cx="8856720" cy="52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00000" y="1268280"/>
                    <a:ext cx="8856720" cy="52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С чем это связано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05" name="Diagram 5"/>
          <p:cNvGrpSpPr/>
          <p:nvPr/>
        </p:nvGrpSpPr>
        <p:grpSpPr>
          <a:xfrm>
            <a:off x="1775160" y="1571400"/>
            <a:ext cx="4945680" cy="4290840"/>
            <a:chOff x="1775160" y="1571400"/>
            <a:chExt cx="4945680" cy="4290840"/>
          </a:xfrm>
        </p:grpSpPr>
        <p:sp>
          <p:nvSpPr>
            <p:cNvPr id="206" name="_s4100"/>
            <p:cNvSpPr/>
            <p:nvPr/>
          </p:nvSpPr>
          <p:spPr>
            <a:xfrm>
              <a:off x="3097800" y="1571400"/>
              <a:ext cx="2300040" cy="2231640"/>
            </a:xfrm>
            <a:custGeom>
              <a:avLst/>
              <a:gdLst>
                <a:gd name="textAreaLeft" fmla="*/ 0 w 2300040"/>
                <a:gd name="textAreaRight" fmla="*/ 2300400 w 2300040"/>
                <a:gd name="textAreaTop" fmla="*/ 0 h 2231640"/>
                <a:gd name="textAreaBottom" fmla="*/ 2232000 h 22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_s4101"/>
            <p:cNvSpPr/>
            <p:nvPr/>
          </p:nvSpPr>
          <p:spPr>
            <a:xfrm rot="3600000">
              <a:off x="4050360" y="2050920"/>
              <a:ext cx="2232360" cy="2300040"/>
            </a:xfrm>
            <a:custGeom>
              <a:avLst/>
              <a:gdLst>
                <a:gd name="textAreaLeft" fmla="*/ 0 w 2232360"/>
                <a:gd name="textAreaRight" fmla="*/ 2232720 w 2232360"/>
                <a:gd name="textAreaTop" fmla="*/ 0 h 2300040"/>
                <a:gd name="textAreaBottom" fmla="*/ 2300400 h 23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_s4102"/>
            <p:cNvSpPr/>
            <p:nvPr/>
          </p:nvSpPr>
          <p:spPr>
            <a:xfrm rot="7200000">
              <a:off x="4050000" y="3082320"/>
              <a:ext cx="2232360" cy="2300040"/>
            </a:xfrm>
            <a:custGeom>
              <a:avLst/>
              <a:gdLst>
                <a:gd name="textAreaLeft" fmla="*/ 0 w 2232360"/>
                <a:gd name="textAreaRight" fmla="*/ 2232720 w 2232360"/>
                <a:gd name="textAreaTop" fmla="*/ 0 h 2300040"/>
                <a:gd name="textAreaBottom" fmla="*/ 2300400 h 23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_s4103"/>
            <p:cNvSpPr/>
            <p:nvPr/>
          </p:nvSpPr>
          <p:spPr>
            <a:xfrm rot="10800000">
              <a:off x="3097440" y="3629880"/>
              <a:ext cx="2300040" cy="2232360"/>
            </a:xfrm>
            <a:custGeom>
              <a:avLst/>
              <a:gdLst>
                <a:gd name="textAreaLeft" fmla="*/ 0 w 2300040"/>
                <a:gd name="textAreaRight" fmla="*/ 2300400 w 2300040"/>
                <a:gd name="textAreaTop" fmla="*/ 0 h 2232360"/>
                <a:gd name="textAreaBottom" fmla="*/ 223272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_s4104"/>
            <p:cNvSpPr/>
            <p:nvPr/>
          </p:nvSpPr>
          <p:spPr>
            <a:xfrm rot="14400000">
              <a:off x="2212560" y="3082320"/>
              <a:ext cx="2232360" cy="2300040"/>
            </a:xfrm>
            <a:custGeom>
              <a:avLst/>
              <a:gdLst>
                <a:gd name="textAreaLeft" fmla="*/ 0 w 2232360"/>
                <a:gd name="textAreaRight" fmla="*/ 2232720 w 2232360"/>
                <a:gd name="textAreaTop" fmla="*/ 0 h 2300040"/>
                <a:gd name="textAreaBottom" fmla="*/ 2300400 h 23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_s4105"/>
            <p:cNvSpPr/>
            <p:nvPr/>
          </p:nvSpPr>
          <p:spPr>
            <a:xfrm rot="18000000">
              <a:off x="2212920" y="2052360"/>
              <a:ext cx="2232360" cy="2300040"/>
            </a:xfrm>
            <a:custGeom>
              <a:avLst/>
              <a:gdLst>
                <a:gd name="textAreaLeft" fmla="*/ 0 w 2232360"/>
                <a:gd name="textAreaRight" fmla="*/ 2232720 w 2232360"/>
                <a:gd name="textAreaTop" fmla="*/ 0 h 2300040"/>
                <a:gd name="textAreaBottom" fmla="*/ 2300400 h 23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_s4106"/>
            <p:cNvSpPr/>
            <p:nvPr/>
          </p:nvSpPr>
          <p:spPr>
            <a:xfrm>
              <a:off x="4834080" y="1597680"/>
              <a:ext cx="8568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02000"/>
                  </a:solidFill>
                  <a:latin typeface="Tahoma"/>
                </a:rPr>
                <a:t>Невнимательность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02000"/>
                  </a:solidFill>
                  <a:latin typeface="Tahoma"/>
                </a:rPr>
                <a:t>ребенка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_s4107"/>
            <p:cNvSpPr/>
            <p:nvPr/>
          </p:nvSpPr>
          <p:spPr>
            <a:xfrm>
              <a:off x="5847480" y="3300120"/>
              <a:ext cx="8568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02000"/>
                  </a:solidFill>
                  <a:latin typeface="Tahoma"/>
                </a:rPr>
                <a:t>Плохо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02000"/>
                  </a:solidFill>
                  <a:latin typeface="Tahoma"/>
                </a:rPr>
                <a:t>Развит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02000"/>
                  </a:solidFill>
                  <a:latin typeface="Tahoma"/>
                </a:rPr>
                <a:t>памя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_s4108"/>
            <p:cNvSpPr/>
            <p:nvPr/>
          </p:nvSpPr>
          <p:spPr>
            <a:xfrm>
              <a:off x="2806560" y="5004360"/>
              <a:ext cx="8568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02000"/>
                  </a:solidFill>
                  <a:latin typeface="Tahoma"/>
                </a:rPr>
                <a:t>Сложнос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02000"/>
                  </a:solidFill>
                  <a:latin typeface="Tahoma"/>
                </a:rPr>
                <a:t>предмет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_s4109"/>
            <p:cNvSpPr/>
            <p:nvPr/>
          </p:nvSpPr>
          <p:spPr>
            <a:xfrm>
              <a:off x="4834080" y="5004360"/>
              <a:ext cx="8568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02000"/>
                  </a:solidFill>
                  <a:latin typeface="Tahoma"/>
                </a:rPr>
                <a:t>Объемное д/з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_s4110"/>
            <p:cNvSpPr/>
            <p:nvPr/>
          </p:nvSpPr>
          <p:spPr>
            <a:xfrm>
              <a:off x="1793160" y="3300120"/>
              <a:ext cx="8568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ahoma"/>
                </a:rPr>
                <a:t>Дети мало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ahoma"/>
                </a:rPr>
                <a:t>читают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_s4111"/>
            <p:cNvSpPr/>
            <p:nvPr/>
          </p:nvSpPr>
          <p:spPr>
            <a:xfrm>
              <a:off x="2806560" y="1595880"/>
              <a:ext cx="8568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Tahoma"/>
                </a:rPr>
                <a:t>Неинтересно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Tahoma"/>
                </a:rPr>
                <a:t>На уроках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Какая помощь нужна со стороны кл. рук., учителей – предметников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19" name="Diagram 19"/>
          <p:cNvGrpSpPr/>
          <p:nvPr/>
        </p:nvGrpSpPr>
        <p:grpSpPr>
          <a:xfrm>
            <a:off x="2416320" y="1984320"/>
            <a:ext cx="4240080" cy="3672000"/>
            <a:chOff x="2416320" y="1984320"/>
            <a:chExt cx="4240080" cy="3672000"/>
          </a:xfrm>
        </p:grpSpPr>
        <p:sp>
          <p:nvSpPr>
            <p:cNvPr id="220" name="_s5124"/>
            <p:cNvSpPr/>
            <p:nvPr/>
          </p:nvSpPr>
          <p:spPr>
            <a:xfrm flipV="1">
              <a:off x="3828960" y="1984320"/>
              <a:ext cx="1414440" cy="1224000"/>
            </a:xfrm>
            <a:custGeom>
              <a:avLst/>
              <a:gdLst>
                <a:gd name="textAreaLeft" fmla="*/ 507600 w 1414440"/>
                <a:gd name="textAreaRight" fmla="*/ 906840 w 1414440"/>
                <a:gd name="textAreaTop" fmla="*/ 439200 h 1224000"/>
                <a:gd name="textAreaBottom" fmla="*/ 7848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Объясня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непонятн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задани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_s5125"/>
            <p:cNvSpPr/>
            <p:nvPr/>
          </p:nvSpPr>
          <p:spPr>
            <a:xfrm flipV="1">
              <a:off x="3122640" y="3208320"/>
              <a:ext cx="2827440" cy="1224000"/>
            </a:xfrm>
            <a:custGeom>
              <a:avLst/>
              <a:gdLst>
                <a:gd name="textAreaLeft" fmla="*/ 621720 w 2827440"/>
                <a:gd name="textAreaRight" fmla="*/ 2205720 w 2827440"/>
                <a:gd name="textAreaTop" fmla="*/ 268920 h 1224000"/>
                <a:gd name="textAreaBottom" fmla="*/ 9550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Больше внимани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_s5126"/>
            <p:cNvSpPr/>
            <p:nvPr/>
          </p:nvSpPr>
          <p:spPr>
            <a:xfrm flipV="1">
              <a:off x="2416320" y="4432320"/>
              <a:ext cx="4240080" cy="1224000"/>
            </a:xfrm>
            <a:custGeom>
              <a:avLst/>
              <a:gdLst>
                <a:gd name="textAreaLeft" fmla="*/ 735840 w 4240080"/>
                <a:gd name="textAreaRight" fmla="*/ 3504240 w 4240080"/>
                <a:gd name="textAreaTop" fmla="*/ 212400 h 1224000"/>
                <a:gd name="textAreaBottom" fmla="*/ 10116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Дополнительны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заняти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0099"/>
                </a:solidFill>
                <a:latin typeface="Tahoma"/>
              </a:rPr>
              <a:t>Советы учителям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ольше вним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Доброжелательное отноше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уметь найти подход к ребенк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Чаще привлекать ребёнка к работе на уро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обольше терпения и здоровь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Довольны учител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42920" y="2924280"/>
            <a:ext cx="6616800" cy="25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езкие изменения условий обуч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азнообразные и усложненные требова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мена статус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-Снижение уровня опе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1042920" y="476280"/>
            <a:ext cx="6335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даптац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43640" cy="11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Tahoma"/>
              </a:rPr>
              <a:t>Что затрудняет адаптацию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Противоречивость и рассогласованность требований разных педагогов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Поток информации, насыщенный терминами, непонятными словам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Ощущение одиночест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240"/>
            <a:ext cx="8229600" cy="114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-Повышение уровня тревожности ребен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-Повышение уровня тревожности семь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- Внутреннее состояние ребёнка, характе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- Степень учебной и социальной мотива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- Состояние физического развит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- Самооценка ребё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1042920" y="549360"/>
            <a:ext cx="705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сихологические проблемы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Уровень тревожност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457200" y="2514600"/>
          <a:ext cx="403848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4600"/>
                    <a:ext cx="40384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8"/>
          <p:cNvGraphicFramePr/>
          <p:nvPr/>
        </p:nvGraphicFramePr>
        <p:xfrm>
          <a:off x="324000" y="1058760"/>
          <a:ext cx="8424720" cy="579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058760"/>
                    <a:ext cx="842472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602000"/>
              </a:solidFill>
              <a:latin typeface="Tahoma"/>
            </a:endParaRPr>
          </a:p>
        </p:txBody>
      </p:sp>
      <p:graphicFrame>
        <p:nvGraphicFramePr>
          <p:cNvPr id="142" name="Object 52"/>
          <p:cNvGraphicFramePr/>
          <p:nvPr/>
        </p:nvGraphicFramePr>
        <p:xfrm>
          <a:off x="457200" y="2752560"/>
          <a:ext cx="4038480" cy="22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52560"/>
                    <a:ext cx="403848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Diagram 65"/>
          <p:cNvGrpSpPr/>
          <p:nvPr/>
        </p:nvGrpSpPr>
        <p:grpSpPr>
          <a:xfrm>
            <a:off x="945000" y="1628640"/>
            <a:ext cx="7253280" cy="4718520"/>
            <a:chOff x="945000" y="1628640"/>
            <a:chExt cx="7253280" cy="4718520"/>
          </a:xfrm>
        </p:grpSpPr>
        <p:sp>
          <p:nvSpPr>
            <p:cNvPr id="145" name="_s1028"/>
            <p:cNvSpPr/>
            <p:nvPr/>
          </p:nvSpPr>
          <p:spPr>
            <a:xfrm flipH="1" flipV="1">
              <a:off x="2824920" y="3398760"/>
              <a:ext cx="87192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1029"/>
            <p:cNvSpPr/>
            <p:nvPr/>
          </p:nvSpPr>
          <p:spPr>
            <a:xfrm>
              <a:off x="945000" y="2511720"/>
              <a:ext cx="2016360" cy="1180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Узкие соц.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мотивы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_s1030"/>
            <p:cNvSpPr/>
            <p:nvPr/>
          </p:nvSpPr>
          <p:spPr>
            <a:xfrm flipH="1">
              <a:off x="2828520" y="4284360"/>
              <a:ext cx="87120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_s1031"/>
            <p:cNvSpPr/>
            <p:nvPr/>
          </p:nvSpPr>
          <p:spPr>
            <a:xfrm>
              <a:off x="945000" y="4282200"/>
              <a:ext cx="2016360" cy="1180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Мотивация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прессом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_s1032"/>
            <p:cNvSpPr/>
            <p:nvPr/>
          </p:nvSpPr>
          <p:spPr>
            <a:xfrm>
              <a:off x="4574520" y="4579200"/>
              <a:ext cx="0" cy="588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_s1033"/>
            <p:cNvSpPr/>
            <p:nvPr/>
          </p:nvSpPr>
          <p:spPr>
            <a:xfrm>
              <a:off x="3563640" y="5167440"/>
              <a:ext cx="2015640" cy="1179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Мотивация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содержанием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_s1034"/>
            <p:cNvSpPr/>
            <p:nvPr/>
          </p:nvSpPr>
          <p:spPr>
            <a:xfrm>
              <a:off x="5446440" y="4282200"/>
              <a:ext cx="871920" cy="293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_s1035"/>
            <p:cNvSpPr/>
            <p:nvPr/>
          </p:nvSpPr>
          <p:spPr>
            <a:xfrm>
              <a:off x="6181920" y="4282200"/>
              <a:ext cx="2016360" cy="1180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Престижная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мотивация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_s1036"/>
            <p:cNvSpPr/>
            <p:nvPr/>
          </p:nvSpPr>
          <p:spPr>
            <a:xfrm flipV="1">
              <a:off x="5443560" y="3396960"/>
              <a:ext cx="87120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6181920" y="2511720"/>
              <a:ext cx="2016360" cy="1180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Мотивация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благополучия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_s1038"/>
            <p:cNvSpPr/>
            <p:nvPr/>
          </p:nvSpPr>
          <p:spPr>
            <a:xfrm flipV="1">
              <a:off x="4571640" y="2809080"/>
              <a:ext cx="0" cy="589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_s1039"/>
            <p:cNvSpPr/>
            <p:nvPr/>
          </p:nvSpPr>
          <p:spPr>
            <a:xfrm>
              <a:off x="3563640" y="1628640"/>
              <a:ext cx="2015640" cy="1180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Широкие соц.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мотивы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_s1040"/>
            <p:cNvSpPr/>
            <p:nvPr/>
          </p:nvSpPr>
          <p:spPr>
            <a:xfrm>
              <a:off x="3563640" y="3399120"/>
              <a:ext cx="2015640" cy="1180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Классификация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мотивов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8" name="WordArt 80"/>
          <p:cNvSpPr txBox="1"/>
          <p:nvPr/>
        </p:nvSpPr>
        <p:spPr>
          <a:xfrm>
            <a:off x="1908000" y="189000"/>
            <a:ext cx="4824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тиваци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cc0099"/>
                </a:solidFill>
                <a:latin typeface="Tahoma"/>
              </a:rPr>
              <a:t>Степень учебной и социальной мотива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0" name="Organization Chart 22"/>
          <p:cNvGrpSpPr/>
          <p:nvPr/>
        </p:nvGrpSpPr>
        <p:grpSpPr>
          <a:xfrm>
            <a:off x="611280" y="1484280"/>
            <a:ext cx="8208360" cy="4462560"/>
            <a:chOff x="611280" y="1484280"/>
            <a:chExt cx="8208360" cy="4462560"/>
          </a:xfrm>
        </p:grpSpPr>
        <p:cxnSp>
          <p:nvCxnSpPr>
            <p:cNvPr id="161" name="_s2052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6019920" y="1962720"/>
              <a:ext cx="893160" cy="35046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4" name="_s2053"/>
            <p:cNvCxnSpPr>
              <a:stCxn id="165" idx="0"/>
              <a:endCxn id="163" idx="2"/>
            </p:cNvCxnSpPr>
            <p:nvPr/>
          </p:nvCxnSpPr>
          <p:spPr>
            <a:xfrm flipV="1" rot="16200000">
              <a:off x="5320440" y="2662200"/>
              <a:ext cx="893160" cy="21056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6" name="_s2054"/>
            <p:cNvCxnSpPr>
              <a:stCxn id="167" idx="0"/>
              <a:endCxn id="163" idx="2"/>
            </p:cNvCxnSpPr>
            <p:nvPr/>
          </p:nvCxnSpPr>
          <p:spPr>
            <a:xfrm flipV="1" rot="16200000">
              <a:off x="4619880" y="3362760"/>
              <a:ext cx="893160" cy="7041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8" name="_s2055"/>
            <p:cNvCxnSpPr>
              <a:stCxn id="169" idx="0"/>
              <a:endCxn id="163" idx="2"/>
            </p:cNvCxnSpPr>
            <p:nvPr/>
          </p:nvCxnSpPr>
          <p:spPr>
            <a:xfrm flipH="1" flipV="1" rot="5400000">
              <a:off x="3919320" y="3365640"/>
              <a:ext cx="893160" cy="698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0" name="_s2056"/>
            <p:cNvCxnSpPr>
              <a:stCxn id="171" idx="0"/>
              <a:endCxn id="163" idx="2"/>
            </p:cNvCxnSpPr>
            <p:nvPr/>
          </p:nvCxnSpPr>
          <p:spPr>
            <a:xfrm flipH="1" flipV="1" rot="5400000">
              <a:off x="3218400" y="2664720"/>
              <a:ext cx="893160" cy="21006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2" name="_s2057"/>
            <p:cNvCxnSpPr>
              <a:stCxn id="173" idx="0"/>
              <a:endCxn id="163" idx="2"/>
            </p:cNvCxnSpPr>
            <p:nvPr/>
          </p:nvCxnSpPr>
          <p:spPr>
            <a:xfrm flipH="1" flipV="1" rot="5400000">
              <a:off x="2517840" y="1964160"/>
              <a:ext cx="893160" cy="35020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3" name="_s2058"/>
            <p:cNvSpPr/>
            <p:nvPr/>
          </p:nvSpPr>
          <p:spPr>
            <a:xfrm>
              <a:off x="4114440" y="148428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5 «а»</a:t>
              </a:r>
              <a:endParaRPr b="0" lang="en-US" sz="3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_s2059"/>
            <p:cNvSpPr/>
            <p:nvPr/>
          </p:nvSpPr>
          <p:spPr>
            <a:xfrm>
              <a:off x="611280" y="416196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Узк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Соц.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мотив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_s2060"/>
            <p:cNvSpPr/>
            <p:nvPr/>
          </p:nvSpPr>
          <p:spPr>
            <a:xfrm>
              <a:off x="2012760" y="416196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Мотивация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прессом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_s2061"/>
            <p:cNvSpPr/>
            <p:nvPr/>
          </p:nvSpPr>
          <p:spPr>
            <a:xfrm>
              <a:off x="3414600" y="416196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Мотивация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благополучия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2062"/>
            <p:cNvSpPr/>
            <p:nvPr/>
          </p:nvSpPr>
          <p:spPr>
            <a:xfrm>
              <a:off x="4816080" y="416196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Мотивация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содержанием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_s2063"/>
            <p:cNvSpPr/>
            <p:nvPr/>
          </p:nvSpPr>
          <p:spPr>
            <a:xfrm>
              <a:off x="6217920" y="416196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Широкие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Соц.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мотив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_s2064"/>
            <p:cNvSpPr/>
            <p:nvPr/>
          </p:nvSpPr>
          <p:spPr>
            <a:xfrm>
              <a:off x="7619760" y="4161960"/>
              <a:ext cx="1199880" cy="1784880"/>
            </a:xfrm>
            <a:custGeom>
              <a:avLst/>
              <a:gdLst>
                <a:gd name="textAreaLeft" fmla="*/ 58320 w 1199880"/>
                <a:gd name="textAreaRight" fmla="*/ 1141560 w 119988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128">
                  <a:moveTo>
                    <a:pt x="3600" y="0"/>
                  </a:moveTo>
                  <a:arcTo wR="3600" hR="3600" stAng="16200000" swAng="-5400000"/>
                  <a:lnTo>
                    <a:pt x="0" y="28528"/>
                  </a:lnTo>
                  <a:arcTo wR="3600" hR="3600" stAng="10800000" swAng="-5400000"/>
                  <a:lnTo>
                    <a:pt x="18000" y="321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Престижная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мотиваци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cc0099"/>
                </a:solidFill>
                <a:latin typeface="Tahoma"/>
              </a:rPr>
              <a:t>Степень учебной и социальной мотива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5" name="Organization Chart 5"/>
          <p:cNvGrpSpPr/>
          <p:nvPr/>
        </p:nvGrpSpPr>
        <p:grpSpPr>
          <a:xfrm>
            <a:off x="0" y="1557360"/>
            <a:ext cx="8937360" cy="4781520"/>
            <a:chOff x="0" y="1557360"/>
            <a:chExt cx="8937360" cy="4781520"/>
          </a:xfrm>
        </p:grpSpPr>
        <p:cxnSp>
          <p:nvCxnSpPr>
            <p:cNvPr id="176" name="_s3076"/>
            <p:cNvCxnSpPr>
              <a:stCxn id="177" idx="0"/>
              <a:endCxn id="178" idx="2"/>
            </p:cNvCxnSpPr>
            <p:nvPr/>
          </p:nvCxnSpPr>
          <p:spPr>
            <a:xfrm flipV="1" rot="16200000">
              <a:off x="5897880" y="2040480"/>
              <a:ext cx="956880" cy="3814560"/>
            </a:xfrm>
            <a:prstGeom prst="bentConnector3">
              <a:avLst>
                <a:gd name="adj1" fmla="val 126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9" name="_s3077"/>
            <p:cNvCxnSpPr>
              <a:stCxn id="180" idx="0"/>
              <a:endCxn id="178" idx="2"/>
            </p:cNvCxnSpPr>
            <p:nvPr/>
          </p:nvCxnSpPr>
          <p:spPr>
            <a:xfrm flipV="1" rot="16200000">
              <a:off x="5135400" y="2802960"/>
              <a:ext cx="956880" cy="2289960"/>
            </a:xfrm>
            <a:prstGeom prst="bentConnector3">
              <a:avLst>
                <a:gd name="adj1" fmla="val 126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1" name="_s3078"/>
            <p:cNvCxnSpPr>
              <a:stCxn id="182" idx="0"/>
              <a:endCxn id="178" idx="2"/>
            </p:cNvCxnSpPr>
            <p:nvPr/>
          </p:nvCxnSpPr>
          <p:spPr>
            <a:xfrm flipV="1" rot="16200000">
              <a:off x="4372560" y="3565800"/>
              <a:ext cx="956880" cy="763920"/>
            </a:xfrm>
            <a:prstGeom prst="bentConnector3">
              <a:avLst>
                <a:gd name="adj1" fmla="val 126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3" name="_s3079"/>
            <p:cNvCxnSpPr>
              <a:stCxn id="184" idx="0"/>
              <a:endCxn id="178" idx="2"/>
            </p:cNvCxnSpPr>
            <p:nvPr/>
          </p:nvCxnSpPr>
          <p:spPr>
            <a:xfrm flipH="1" flipV="1" rot="5400000">
              <a:off x="3609360" y="3566160"/>
              <a:ext cx="956880" cy="763560"/>
            </a:xfrm>
            <a:prstGeom prst="bentConnector3">
              <a:avLst>
                <a:gd name="adj1" fmla="val 126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5" name="_s3080"/>
            <p:cNvCxnSpPr>
              <a:stCxn id="186" idx="0"/>
              <a:endCxn id="178" idx="2"/>
            </p:cNvCxnSpPr>
            <p:nvPr/>
          </p:nvCxnSpPr>
          <p:spPr>
            <a:xfrm flipH="1" flipV="1" rot="5400000">
              <a:off x="2846160" y="2803320"/>
              <a:ext cx="956880" cy="2289600"/>
            </a:xfrm>
            <a:prstGeom prst="bentConnector3">
              <a:avLst>
                <a:gd name="adj1" fmla="val 126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7" name="_s3081"/>
            <p:cNvCxnSpPr>
              <a:stCxn id="188" idx="0"/>
              <a:endCxn id="178" idx="2"/>
            </p:cNvCxnSpPr>
            <p:nvPr/>
          </p:nvCxnSpPr>
          <p:spPr>
            <a:xfrm flipH="1" flipV="1" rot="5400000">
              <a:off x="2083680" y="2040840"/>
              <a:ext cx="956880" cy="3814560"/>
            </a:xfrm>
            <a:prstGeom prst="bentConnector3">
              <a:avLst>
                <a:gd name="adj1" fmla="val 126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8" name="_s3082"/>
            <p:cNvSpPr/>
            <p:nvPr/>
          </p:nvSpPr>
          <p:spPr>
            <a:xfrm>
              <a:off x="3813840" y="1557360"/>
              <a:ext cx="1307880" cy="1912680"/>
            </a:xfrm>
            <a:custGeom>
              <a:avLst/>
              <a:gdLst>
                <a:gd name="textAreaLeft" fmla="*/ 63720 w 1307880"/>
                <a:gd name="textAreaRight" fmla="*/ 1244160 w 1307880"/>
                <a:gd name="textAreaTop" fmla="*/ 63720 h 1912680"/>
                <a:gd name="textAreaBottom" fmla="*/ 1848960 h 1912680"/>
              </a:gdLst>
              <a:ahLst/>
              <a:rect l="textAreaLeft" t="textAreaTop" r="textAreaRight" b="textAreaBottom"/>
              <a:pathLst>
                <a:path w="21600" h="31586">
                  <a:moveTo>
                    <a:pt x="3600" y="0"/>
                  </a:moveTo>
                  <a:arcTo wR="3600" hR="3600" stAng="16200000" swAng="-5400000"/>
                  <a:lnTo>
                    <a:pt x="0" y="27986"/>
                  </a:lnTo>
                  <a:arcTo wR="3600" hR="3600" stAng="10800000" swAng="-5400000"/>
                  <a:lnTo>
                    <a:pt x="18000" y="315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5 «б»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_s3083"/>
            <p:cNvSpPr/>
            <p:nvPr/>
          </p:nvSpPr>
          <p:spPr>
            <a:xfrm>
              <a:off x="0" y="4426200"/>
              <a:ext cx="1307880" cy="1912680"/>
            </a:xfrm>
            <a:custGeom>
              <a:avLst/>
              <a:gdLst>
                <a:gd name="textAreaLeft" fmla="*/ 63720 w 1307880"/>
                <a:gd name="textAreaRight" fmla="*/ 1244160 w 1307880"/>
                <a:gd name="textAreaTop" fmla="*/ 63720 h 1912680"/>
                <a:gd name="textAreaBottom" fmla="*/ 1848960 h 1912680"/>
              </a:gdLst>
              <a:ahLst/>
              <a:rect l="textAreaLeft" t="textAreaTop" r="textAreaRight" b="textAreaBottom"/>
              <a:pathLst>
                <a:path w="21600" h="31586">
                  <a:moveTo>
                    <a:pt x="3600" y="0"/>
                  </a:moveTo>
                  <a:arcTo wR="3600" hR="3600" stAng="16200000" swAng="-5400000"/>
                  <a:lnTo>
                    <a:pt x="0" y="27986"/>
                  </a:lnTo>
                  <a:arcTo wR="3600" hR="3600" stAng="10800000" swAng="-5400000"/>
                  <a:lnTo>
                    <a:pt x="18000" y="315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Мотивация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содержанием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_s3084"/>
            <p:cNvSpPr/>
            <p:nvPr/>
          </p:nvSpPr>
          <p:spPr>
            <a:xfrm>
              <a:off x="1526040" y="4426200"/>
              <a:ext cx="1307880" cy="1912680"/>
            </a:xfrm>
            <a:custGeom>
              <a:avLst/>
              <a:gdLst>
                <a:gd name="textAreaLeft" fmla="*/ 63720 w 1307880"/>
                <a:gd name="textAreaRight" fmla="*/ 1244160 w 1307880"/>
                <a:gd name="textAreaTop" fmla="*/ 63720 h 1912680"/>
                <a:gd name="textAreaBottom" fmla="*/ 1848960 h 1912680"/>
              </a:gdLst>
              <a:ahLst/>
              <a:rect l="textAreaLeft" t="textAreaTop" r="textAreaRight" b="textAreaBottom"/>
              <a:pathLst>
                <a:path w="21600" h="31586">
                  <a:moveTo>
                    <a:pt x="3600" y="0"/>
                  </a:moveTo>
                  <a:arcTo wR="3600" hR="3600" stAng="16200000" swAng="-5400000"/>
                  <a:lnTo>
                    <a:pt x="0" y="27986"/>
                  </a:lnTo>
                  <a:arcTo wR="3600" hR="3600" stAng="10800000" swAng="-5400000"/>
                  <a:lnTo>
                    <a:pt x="18000" y="315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Узкие соц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мотив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_s3085"/>
            <p:cNvSpPr/>
            <p:nvPr/>
          </p:nvSpPr>
          <p:spPr>
            <a:xfrm>
              <a:off x="3052440" y="4426200"/>
              <a:ext cx="1307880" cy="1912680"/>
            </a:xfrm>
            <a:custGeom>
              <a:avLst/>
              <a:gdLst>
                <a:gd name="textAreaLeft" fmla="*/ 63720 w 1307880"/>
                <a:gd name="textAreaRight" fmla="*/ 1244160 w 1307880"/>
                <a:gd name="textAreaTop" fmla="*/ 63720 h 1912680"/>
                <a:gd name="textAreaBottom" fmla="*/ 1848960 h 1912680"/>
              </a:gdLst>
              <a:ahLst/>
              <a:rect l="textAreaLeft" t="textAreaTop" r="textAreaRight" b="textAreaBottom"/>
              <a:pathLst>
                <a:path w="21600" h="31586">
                  <a:moveTo>
                    <a:pt x="3600" y="0"/>
                  </a:moveTo>
                  <a:arcTo wR="3600" hR="3600" stAng="16200000" swAng="-5400000"/>
                  <a:lnTo>
                    <a:pt x="0" y="27986"/>
                  </a:lnTo>
                  <a:arcTo wR="3600" hR="3600" stAng="10800000" swAng="-5400000"/>
                  <a:lnTo>
                    <a:pt x="18000" y="315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Престижна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мотиваци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_s3086"/>
            <p:cNvSpPr/>
            <p:nvPr/>
          </p:nvSpPr>
          <p:spPr>
            <a:xfrm>
              <a:off x="4578480" y="4426200"/>
              <a:ext cx="1307880" cy="1912680"/>
            </a:xfrm>
            <a:custGeom>
              <a:avLst/>
              <a:gdLst>
                <a:gd name="textAreaLeft" fmla="*/ 63720 w 1307880"/>
                <a:gd name="textAreaRight" fmla="*/ 1244160 w 1307880"/>
                <a:gd name="textAreaTop" fmla="*/ 63720 h 1912680"/>
                <a:gd name="textAreaBottom" fmla="*/ 1848960 h 1912680"/>
              </a:gdLst>
              <a:ahLst/>
              <a:rect l="textAreaLeft" t="textAreaTop" r="textAreaRight" b="textAreaBottom"/>
              <a:pathLst>
                <a:path w="21600" h="31586">
                  <a:moveTo>
                    <a:pt x="3600" y="0"/>
                  </a:moveTo>
                  <a:arcTo wR="3600" hR="3600" stAng="16200000" swAng="-5400000"/>
                  <a:lnTo>
                    <a:pt x="0" y="27986"/>
                  </a:lnTo>
                  <a:arcTo wR="3600" hR="3600" stAng="10800000" swAng="-5400000"/>
                  <a:lnTo>
                    <a:pt x="18000" y="315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Мотивация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благополучи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_s3087"/>
            <p:cNvSpPr/>
            <p:nvPr/>
          </p:nvSpPr>
          <p:spPr>
            <a:xfrm>
              <a:off x="6104880" y="4426200"/>
              <a:ext cx="1306440" cy="1912680"/>
            </a:xfrm>
            <a:custGeom>
              <a:avLst/>
              <a:gdLst>
                <a:gd name="textAreaLeft" fmla="*/ 63720 w 1306440"/>
                <a:gd name="textAreaRight" fmla="*/ 1242720 w 1306440"/>
                <a:gd name="textAreaTop" fmla="*/ 63720 h 1912680"/>
                <a:gd name="textAreaBottom" fmla="*/ 1848960 h 1912680"/>
              </a:gdLst>
              <a:ahLst/>
              <a:rect l="textAreaLeft" t="textAreaTop" r="textAreaRight" b="textAreaBottom"/>
              <a:pathLst>
                <a:path w="21600" h="31620">
                  <a:moveTo>
                    <a:pt x="3600" y="0"/>
                  </a:moveTo>
                  <a:arcTo wR="3600" hR="3600" stAng="16200000" swAng="-5400000"/>
                  <a:lnTo>
                    <a:pt x="0" y="28020"/>
                  </a:lnTo>
                  <a:arcTo wR="3600" hR="3600" stAng="10800000" swAng="-5400000"/>
                  <a:lnTo>
                    <a:pt x="18000" y="316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Широкие соц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мотив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_s3088"/>
            <p:cNvSpPr/>
            <p:nvPr/>
          </p:nvSpPr>
          <p:spPr>
            <a:xfrm>
              <a:off x="7629480" y="4426200"/>
              <a:ext cx="1307880" cy="1912680"/>
            </a:xfrm>
            <a:custGeom>
              <a:avLst/>
              <a:gdLst>
                <a:gd name="textAreaLeft" fmla="*/ 63720 w 1307880"/>
                <a:gd name="textAreaRight" fmla="*/ 1244160 w 1307880"/>
                <a:gd name="textAreaTop" fmla="*/ 63720 h 1912680"/>
                <a:gd name="textAreaBottom" fmla="*/ 1848960 h 1912680"/>
              </a:gdLst>
              <a:ahLst/>
              <a:rect l="textAreaLeft" t="textAreaTop" r="textAreaRight" b="textAreaBottom"/>
              <a:pathLst>
                <a:path w="21600" h="31586">
                  <a:moveTo>
                    <a:pt x="3600" y="0"/>
                  </a:moveTo>
                  <a:arcTo wR="3600" hR="3600" stAng="16200000" swAng="-5400000"/>
                  <a:lnTo>
                    <a:pt x="0" y="27986"/>
                  </a:lnTo>
                  <a:arcTo wR="3600" hR="3600" stAng="10800000" swAng="-5400000"/>
                  <a:lnTo>
                    <a:pt x="18000" y="315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Мотивация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прессом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cc0099"/>
                </a:solidFill>
                <a:latin typeface="Tahoma"/>
              </a:rPr>
              <a:t>Самооцен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казатель развития лич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висимость активности 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лияние оценки окружающи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подкрепление самооцен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висимость самооценок от психологического климата 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лектив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5:24:59Z</dcterms:created>
  <dc:creator>Алина</dc:creator>
  <dc:description/>
  <dc:language>en-US</dc:language>
  <cp:lastModifiedBy>Asus</cp:lastModifiedBy>
  <dcterms:modified xsi:type="dcterms:W3CDTF">2018-07-16T14:12:58Z</dcterms:modified>
  <cp:revision>12</cp:revision>
  <dc:subject/>
  <dc:title>Адап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