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7EE9-97F3-4CCA-BBEB-3713BDDB72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514-B483-4A8F-85D0-58A1887C9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4E2-76F1-4981-80C3-853C4657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C98-5D64-4375-A8E1-6A2552D2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81E-913B-4362-B8BE-20BDA97E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1200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2973240"/>
            <a:ext cx="1987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58F-4BFF-45A2-96A1-0A5C7879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CFF-1EA7-4F04-9919-6307CCB5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484-8BC8-4C7C-99E5-2F0CF92A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703-CCF1-4239-9420-1AF54A4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565-0F64-47E0-82DE-61CBBA1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06280"/>
            <a:ext cx="61722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0F4-3DED-4BD9-A210-A583B4E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930-6B64-415D-B166-52C67B0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2973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951-E8DF-4C11-8278-8663239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1200240"/>
            <a:ext cx="301176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973240"/>
            <a:ext cx="61722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CFB-97BD-4D68-8669-8B56D50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20024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2240" indent="-192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7600" indent="-160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42960" indent="-12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00000" indent="-128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157400" indent="-12852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78BC-92CC-481B-8BE5-486595E08479}" type="datetime">
              <a:rPr b="0" lang="en-US" sz="6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4766760"/>
            <a:ext cx="2171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4766760"/>
            <a:ext cx="1600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C47-29C6-424E-A87A-AF98AC24F46A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1120680" y="1643040"/>
            <a:ext cx="461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Сюжетно-ролевая игра как форма организации социально-личностного развития дошкольников в условиях ДО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038240" y="3098880"/>
            <a:ext cx="4962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7375e"/>
                </a:solidFill>
                <a:latin typeface="Arial"/>
              </a:rPr>
              <a:t>По программе «Актуальные подходы к организации образовательной деятельности с дошкольниками в соответствии с ФГОС ДО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Дорожная азбу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2"/>
          <a:stretch/>
        </p:blipFill>
        <p:spPr>
          <a:xfrm>
            <a:off x="2432160" y="2755800"/>
            <a:ext cx="2084400" cy="11764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"/>
          <p:cNvPicPr/>
          <p:nvPr/>
        </p:nvPicPr>
        <p:blipFill>
          <a:blip r:embed="rId3"/>
          <a:stretch/>
        </p:blipFill>
        <p:spPr>
          <a:xfrm>
            <a:off x="1000080" y="1706400"/>
            <a:ext cx="1925640" cy="1086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4"/>
          <a:stretch/>
        </p:blipFill>
        <p:spPr>
          <a:xfrm>
            <a:off x="3816360" y="1706400"/>
            <a:ext cx="1859040" cy="104940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3144-2B6E-41AB-BEC7-86C180A3C6F0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54B9-2FAA-4B82-8908-CB3093AD0BA6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8320" y="1681200"/>
            <a:ext cx="4629240" cy="22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. Повысить познавательную активность детей и пополнить знания о профессиях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. Повысить опыт игрового коллективного взаимодействия, научить устанавливать партнерские, дружеские отношения друг с другом, научатся договариваться, выслушивать ответы товарищей, решать спорные вопросы, находить общие решения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. Приобретение опыта само-регуляции и взаимоконтроля.</a:t>
            </a:r>
            <a:br>
              <a:rPr sz="15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313360" y="1276200"/>
            <a:ext cx="225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Arial"/>
              </a:rPr>
              <a:t>Планируемый результа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2"/>
          <a:stretch/>
        </p:blipFill>
        <p:spPr>
          <a:xfrm>
            <a:off x="3632040" y="1952640"/>
            <a:ext cx="2146320" cy="1609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079640" y="1193760"/>
            <a:ext cx="49212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Взаимодействие с родителям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привлечение родителей к организации детской исследовательской деятельности, экскурсии, семейные театры, конкурсов, изготовление костюмов и макетов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2173320" y="2519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"/>
          <p:cNvPicPr/>
          <p:nvPr/>
        </p:nvPicPr>
        <p:blipFill>
          <a:blip r:embed="rId4"/>
          <a:stretch/>
        </p:blipFill>
        <p:spPr>
          <a:xfrm>
            <a:off x="917640" y="1882800"/>
            <a:ext cx="1820880" cy="13651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2BAD-0E96-4AF7-8AE8-1EAA7DC84DB4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995400" y="1506600"/>
            <a:ext cx="4960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южетно-ролевая игра – идеальное поле для приобретения социальных навыков. Такие игры помогают решить многие воспитательные задачи: дети учатся налаживать общение с людьми, понятно излагать просьбу, у них формируются навыки культурного поведения. Но самое главное – дети приобретают новый социальный опыт взаимодействия с другими людьми, который поможет им и в налаживании контактов со сверстниками, и в игровой деятель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2907720" y="114300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4B00-ABBA-4CAB-BC0C-D97CEB538367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5"/>
          <p:cNvSpPr/>
          <p:nvPr/>
        </p:nvSpPr>
        <p:spPr>
          <a:xfrm>
            <a:off x="1282680" y="1073160"/>
            <a:ext cx="457668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Arial"/>
              </a:rPr>
              <a:t>Актуальност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у посоциально-личностному развития зарождаются и наиболее интенсивно развиваются в раннем и дошкольном возрасте. Опыт первых отношений с другими людьми является фундаментом для дальнейшего развития личности ребенка. В сюжетно-ролевой игре дети знакомятся с такими сторонами действительности, как взаимодействия и взаимоотношения взрослых. Для того, чтобы отобразить в игре какие-либо стороны жизни взрослых, дети должны предварительно с ними познакомиться (при помощи взрослого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808-6772-45B4-AB36-4B6AA734A747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79640" y="1235160"/>
            <a:ext cx="469872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Формирование социально-личностного развития дошкольников при помощи сюжетно-ролевой игр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дбор, изучение и анализ научно-методической, нормативно-  правовой литературы по ФГОС Д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здавать условия для социального- личностного развития детей старшего дошкольного возраст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учить детей играть в сюжетно-ролевые игры, соблюдая правила и ход игры, развивая у них интерес и активное участи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ать систему социально-личностного развития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нализ, результативность, перспектив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2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4F4B-6219-40DB-BACB-B22BB6CA76AD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998640" y="1316160"/>
            <a:ext cx="4618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Этапы проекта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1. Организационный (1-2 дн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ыявление проблемы, анализ методической литературы, планирование деятельности, создание условий для полноценного социального развития у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2. Содержательный (3 дн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в практическую деятельность эффективных форм по формированию социально-личностного развития у дошкольников в сюжетно-ролевой игр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"/>
              </a:rPr>
              <a:t>3. Результатив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нализ, результативность, перспектив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9B8-68F3-41AF-AE85-33EF63AE522D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7" descr=""/>
          <p:cNvPicPr/>
          <p:nvPr/>
        </p:nvPicPr>
        <p:blipFill>
          <a:blip r:embed="rId2"/>
          <a:stretch/>
        </p:blipFill>
        <p:spPr>
          <a:xfrm>
            <a:off x="1525680" y="1527120"/>
            <a:ext cx="3484440" cy="2355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8"/>
          <p:cNvSpPr/>
          <p:nvPr/>
        </p:nvSpPr>
        <p:spPr>
          <a:xfrm>
            <a:off x="1606680" y="1168560"/>
            <a:ext cx="372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Модель интегрированного взаимодейств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175-31AA-4ED1-A8FE-998B4E186E96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20320" y="1125000"/>
            <a:ext cx="4629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20680" y="1590840"/>
          <a:ext cx="4886280" cy="2662200"/>
        </p:xfrm>
        <a:graphic>
          <a:graphicData uri="http://schemas.openxmlformats.org/drawingml/2006/table">
            <a:tbl>
              <a:tblPr/>
              <a:tblGrid>
                <a:gridCol w="1257480"/>
                <a:gridCol w="1185840"/>
                <a:gridCol w="1220760"/>
                <a:gridCol w="1222200"/>
              </a:tblGrid>
              <a:tr h="9554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а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жняющ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На дороге»- сюжет «Регулируемый перекресток и переход проезжей части дорог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дорожных знаков, строительство автобуса из сту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м правила дорожного движения и правила поведения на ул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514440"/>
                          <a:tab algn="l" pos="1028880"/>
                          <a:tab algn="l" pos="1542960"/>
                          <a:tab algn="l" pos="2057400"/>
                          <a:tab algn="l" pos="2571840"/>
                          <a:tab algn="l" pos="3086280"/>
                          <a:tab algn="l" pos="3600360"/>
                          <a:tab algn="l" pos="4114800"/>
                          <a:tab algn="l" pos="4629240"/>
                          <a:tab algn="l" pos="5143680"/>
                          <a:tab algn="l" pos="5657760"/>
                          <a:tab algn="l" pos="6172200"/>
                          <a:tab algn="l" pos="6686640"/>
                          <a:tab algn="l" pos="7201080"/>
                          <a:tab algn="l" pos="7715160"/>
                          <a:tab algn="l" pos="8229600"/>
                          <a:tab algn="l" pos="8744040"/>
                          <a:tab algn="l" pos="9258480"/>
                          <a:tab algn="l" pos="977256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ы, дорожные знаки, пешеходный переход, костюмы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5AE8-B303-40CF-9B29-134C7B045D13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E59E-F5CF-42AE-AA94-3F95268A2C09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8320" y="1195560"/>
            <a:ext cx="462924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Модель сюжетно-ролевой игры 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Городская клини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363680" y="1719360"/>
            <a:ext cx="4495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я для ознакомления детей с разнообразными ситуациями возникающими в кли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зрослыми взаимодействия между детьми в процесс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выкам игров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у детей о работе в клинике как сфере социальной деятель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062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нтр сюжетно-ролевой игры</a:t>
            </a:r>
            <a:br>
              <a:rPr sz="1500"/>
            </a:b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«Городская клиника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2"/>
          <a:stretch/>
        </p:blipFill>
        <p:spPr>
          <a:xfrm>
            <a:off x="1152360" y="1889280"/>
            <a:ext cx="1078200" cy="3725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4522680" y="1749600"/>
            <a:ext cx="1238400" cy="4286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4"/>
          <a:stretch/>
        </p:blipFill>
        <p:spPr>
          <a:xfrm>
            <a:off x="2444760" y="2889360"/>
            <a:ext cx="16336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5"/>
          <a:stretch/>
        </p:blipFill>
        <p:spPr>
          <a:xfrm>
            <a:off x="2584440" y="1920960"/>
            <a:ext cx="1359000" cy="81576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C2D-0C39-439A-AE63-6B079D67169B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06640" y="1235160"/>
            <a:ext cx="462888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Модель сюжетно-ролевой игр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Дорожная азбу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1"/>
          <p:cNvSpPr/>
          <p:nvPr/>
        </p:nvSpPr>
        <p:spPr>
          <a:xfrm>
            <a:off x="4915080" y="47671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F11-C208-466B-B41E-B95904568FF6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876240" y="1984320"/>
            <a:ext cx="5143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я для ознакомления детей с разнообразными ситуациями возникающими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зрослыми взаимодействия между детьми в процесс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навыкам игров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ять представления у детей о работе сотрудников ГИБДД и дорожной службы как сфере социальной деятельности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4:37Z</dcterms:created>
  <dc:creator>ppsworld.ru</dc:creator>
  <dc:description/>
  <dc:language>en-US</dc:language>
  <cp:lastModifiedBy>Оксана</cp:lastModifiedBy>
  <dcterms:modified xsi:type="dcterms:W3CDTF">2018-07-15T21:30:23Z</dcterms:modified>
  <cp:revision>31</cp:revision>
  <dc:subject/>
  <dc:title>PRESENTATION  NAME</dc:title>
</cp:coreProperties>
</file>