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549D-BC7F-450E-B3C5-223AEB8CE4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8004-1B66-4F23-9C5F-8522F7D26B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746-A118-4117-A50A-7B6F5EAC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A21-2B3B-4DB3-9F0D-4323E2B1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908-1D57-4831-B394-721905D1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56A-7E00-4604-BF5D-F044FECE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66F-8FA4-4142-8A53-81DA5DD1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695-0807-4816-A47E-0DA8D9C7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AEF-3EA3-445A-9DA3-D060E2EB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92B-4119-4CB9-8ED3-79924A62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06280"/>
            <a:ext cx="61722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683-4CC8-4609-AF65-2D2CDABF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3D3-C4FF-4BE4-A479-F8C02266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B93-8137-4C0B-988B-589562F8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02E-11ED-49D8-B4D3-15039AB4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7600" indent="-160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42960" indent="-12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00000" indent="-128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51BE-7C00-4B50-A6EB-3F10DDC6F4D8}" type="datetime">
              <a:rPr b="0" lang="en-US" sz="6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4766760"/>
            <a:ext cx="2171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396C-A73E-4FC1-A4A8-2E065D678604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1120680" y="1643040"/>
            <a:ext cx="461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Сюжетно-ролевая игра как форма организации социально-личностного развития дошкольников в условиях ДО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1038240" y="3098880"/>
            <a:ext cx="4962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7375e"/>
                </a:solidFill>
                <a:latin typeface="Arial"/>
              </a:rPr>
              <a:t>По программе «Актуальные подходы к организации образовательной деятельности с дошкольниками в соответствии с ФГОС ДО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Центр сюжетно-ролевой игры</a:t>
            </a:r>
            <a:br>
              <a:rPr sz="1500"/>
            </a:b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«Дорожная азбука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2"/>
          <a:stretch/>
        </p:blipFill>
        <p:spPr>
          <a:xfrm>
            <a:off x="2432160" y="2755800"/>
            <a:ext cx="2084400" cy="11764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"/>
          <p:cNvPicPr/>
          <p:nvPr/>
        </p:nvPicPr>
        <p:blipFill>
          <a:blip r:embed="rId3"/>
          <a:stretch/>
        </p:blipFill>
        <p:spPr>
          <a:xfrm>
            <a:off x="1000080" y="1706400"/>
            <a:ext cx="1925640" cy="10861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/>
          <p:cNvPicPr/>
          <p:nvPr/>
        </p:nvPicPr>
        <p:blipFill>
          <a:blip r:embed="rId4"/>
          <a:stretch/>
        </p:blipFill>
        <p:spPr>
          <a:xfrm>
            <a:off x="3816360" y="1706400"/>
            <a:ext cx="1859040" cy="104940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FEE5-10D9-4557-AF8B-10312DD04CCE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D86D-3598-4780-B265-9B34D81EC569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8320" y="1681200"/>
            <a:ext cx="4629240" cy="22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. Повысить познавательную активность детей и пополнить знания о профессиях.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. Повысить опыт игрового коллективного взаимодействия, научить устанавливать партнерские, дружеские отношения друг с другом, научатся договариваться, выслушивать ответы товарищей, решать спорные вопросы, находить общие решения.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3. Приобретение опыта само-регуляции и взаимоконтроля.</a:t>
            </a:r>
            <a:br>
              <a:rPr sz="15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2313360" y="1276200"/>
            <a:ext cx="2257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Arial"/>
              </a:rPr>
              <a:t>Планируемый результа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"/>
          <p:cNvPicPr/>
          <p:nvPr/>
        </p:nvPicPr>
        <p:blipFill>
          <a:blip r:embed="rId2"/>
          <a:stretch/>
        </p:blipFill>
        <p:spPr>
          <a:xfrm>
            <a:off x="3632040" y="1952640"/>
            <a:ext cx="2146320" cy="16095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1079640" y="1193760"/>
            <a:ext cx="492120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Взаимодействие с родителями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привлечение родителей к организации детской исследовательской деятельности, экскурсии, семейные театры, конкурсов, изготовление костюмов и макетов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"/>
          <p:cNvPicPr/>
          <p:nvPr/>
        </p:nvPicPr>
        <p:blipFill>
          <a:blip r:embed="rId3"/>
          <a:stretch/>
        </p:blipFill>
        <p:spPr>
          <a:xfrm>
            <a:off x="2173320" y="251928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"/>
          <p:cNvPicPr/>
          <p:nvPr/>
        </p:nvPicPr>
        <p:blipFill>
          <a:blip r:embed="rId4"/>
          <a:stretch/>
        </p:blipFill>
        <p:spPr>
          <a:xfrm>
            <a:off x="917640" y="1882800"/>
            <a:ext cx="1820880" cy="1365120"/>
          </a:xfrm>
          <a:prstGeom prst="rect">
            <a:avLst/>
          </a:prstGeom>
          <a:ln w="0">
            <a:noFill/>
          </a:ln>
        </p:spPr>
      </p:pic>
      <p:sp>
        <p:nvSpPr>
          <p:cNvPr id="86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E8AC-0BB7-4C15-B5D5-0F582A7DFC2D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995400" y="1506600"/>
            <a:ext cx="4960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южетно-ролевая игра – идеальное поле для приобретения социальных навыков. Такие игры помогают решить многие воспитательные задачи: дети учатся налаживать общение с людьми, понятно излагать просьбу, у них формируются навыки культурного поведения. Но самое главное – дети приобретают новый социальный опыт взаимодействия с другими людьми, который поможет им и в налаживании контактов со сверстниками, и в игровой деятельност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2907720" y="114300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47A8-2A17-4518-927A-2755C2E4F888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5"/>
          <p:cNvSpPr/>
          <p:nvPr/>
        </p:nvSpPr>
        <p:spPr>
          <a:xfrm>
            <a:off x="1282680" y="1073160"/>
            <a:ext cx="4576680" cy="26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00000"/>
                </a:solidFill>
                <a:latin typeface="Arial"/>
              </a:rPr>
              <a:t>Актуальность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боту посоциально-личностному развития зарождаются и наиболее интенсивно развиваются в раннем и дошкольном возрасте. Опыт первых отношений с другими людьми является фундаментом для дальнейшего развития личности ребенка. В сюжетно-ролевой игре дети знакомятся с такими сторонами действительности, как взаимодействия и взаимоотношения взрослых. Для того, чтобы отобразить в игре какие-либо стороны жизни взрослых, дети должны предварительно с ними познакомиться (при помощи взрослого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B40C-A1CA-4E1E-B564-49BD4B8C0CAC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079640" y="1235160"/>
            <a:ext cx="469872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Цель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ормирование социально-личностного развития дошкольников при помощи сюжетно-ролевой игр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дбор, изучение и анализ научно-методической, нормативно-  правовой литературы по ФГОС Д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здавать условия для социального- личностного развития детей старшего дошкольного возраста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аучить детей играть в сюжетно-ролевые игры, соблюдая правила и ход игры, развивая у них интерес и активное участи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работать систему социально-личностного развития дошкольников в сюжетно-ролевой игр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нализ, результативность, перспективнос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2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F349-91F2-4EBE-88D9-40072E1B1B14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998640" y="1316160"/>
            <a:ext cx="461808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Этапы проекта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Arial"/>
              </a:rPr>
              <a:t>1. Организационный (1-2 дн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ыявление проблемы, анализ методической литературы, планирование деятельности, создание условий для полноценного социального развития у дошкольников в сюжетно-ролевой игр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Arial"/>
              </a:rPr>
              <a:t>2. Содержательный (3 дн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в практическую деятельность эффективных форм по формированию социально-личностного развития у дошкольников в сюжетно-ролевой игр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Arial"/>
              </a:rPr>
              <a:t>3. Результативны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нализ, результативность, перспективнос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7CCD-D924-467D-9CE1-EDD0095A85E5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7" descr=""/>
          <p:cNvPicPr/>
          <p:nvPr/>
        </p:nvPicPr>
        <p:blipFill>
          <a:blip r:embed="rId2"/>
          <a:stretch/>
        </p:blipFill>
        <p:spPr>
          <a:xfrm>
            <a:off x="1525680" y="1527120"/>
            <a:ext cx="3484440" cy="23558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8"/>
          <p:cNvSpPr/>
          <p:nvPr/>
        </p:nvSpPr>
        <p:spPr>
          <a:xfrm>
            <a:off x="1606680" y="1168560"/>
            <a:ext cx="3725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Модель интегрированного взаимодейств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85F7-0F90-4BE2-8845-DEFD7DC4118D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20320" y="1125000"/>
            <a:ext cx="462924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ерспективное планир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20680" y="1590840"/>
          <a:ext cx="4886280" cy="2662200"/>
        </p:xfrm>
        <a:graphic>
          <a:graphicData uri="http://schemas.openxmlformats.org/drawingml/2006/table">
            <a:tbl>
              <a:tblPr/>
              <a:tblGrid>
                <a:gridCol w="1257480"/>
                <a:gridCol w="1185840"/>
                <a:gridCol w="1220760"/>
                <a:gridCol w="1222200"/>
              </a:tblGrid>
              <a:tr h="95544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а с деть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жняющие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76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«На дороге»- сюжет «Регулируемый перекресток и переход проезжей части дорог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 дорожных знаков, строительство автобуса из сту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ем правила дорожного движения и правила поведения на ул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ы, дорожные знаки, пешеходный переход, костюмы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EA96-5796-44B1-B73E-750EDC8F737C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339F-D46D-44DE-AABF-62FF4BADFA4B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8320" y="1195560"/>
            <a:ext cx="462924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Модель сюжетно-ролевой игры </a:t>
            </a:r>
            <a:br>
              <a:rPr sz="1500"/>
            </a:b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«Городская клиника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1363680" y="1719360"/>
            <a:ext cx="449568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я для ознакомления детей с разнообразными ситуациями возникающими в клин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взрослыми взаимодействия между детьми в процесс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навыкам игрового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ширять представления у детей о работе в клинике как сфере социальной деятельности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Центр сюжетно-ролевой игры</a:t>
            </a:r>
            <a:br>
              <a:rPr sz="1500"/>
            </a:b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«Городская клиника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2"/>
          <a:stretch/>
        </p:blipFill>
        <p:spPr>
          <a:xfrm>
            <a:off x="1152360" y="1889280"/>
            <a:ext cx="1078200" cy="3725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"/>
          <p:cNvPicPr/>
          <p:nvPr/>
        </p:nvPicPr>
        <p:blipFill>
          <a:blip r:embed="rId3"/>
          <a:stretch/>
        </p:blipFill>
        <p:spPr>
          <a:xfrm>
            <a:off x="4522680" y="1749600"/>
            <a:ext cx="1238400" cy="4286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4"/>
          <a:stretch/>
        </p:blipFill>
        <p:spPr>
          <a:xfrm>
            <a:off x="2444760" y="2889360"/>
            <a:ext cx="163368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5"/>
          <a:stretch/>
        </p:blipFill>
        <p:spPr>
          <a:xfrm>
            <a:off x="2584440" y="1920960"/>
            <a:ext cx="1359000" cy="81576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19C9-0352-48DA-8D53-BD3075D9C51B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06640" y="1235160"/>
            <a:ext cx="46288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Модель сюжетно-ролевой игры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Дорожная азбу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D2A0-DFF3-4D4B-9E98-BCDD3254C83F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876240" y="1984320"/>
            <a:ext cx="514368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я для ознакомления детей с разнообразными ситуациями возникающими на дор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взрослыми взаимодействия между детьми в процесс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навыкам игрового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ширять представления у детей о работе сотрудников ГИБДД и дорожной службы как сфере социальной деятельности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4:37Z</dcterms:created>
  <dc:creator>ppsworld.ru</dc:creator>
  <dc:description/>
  <dc:language>en-US</dc:language>
  <cp:lastModifiedBy>Оксана</cp:lastModifiedBy>
  <dcterms:modified xsi:type="dcterms:W3CDTF">2018-07-15T21:30:23Z</dcterms:modified>
  <cp:revision>31</cp:revision>
  <dc:subject/>
  <dc:title>PRESENTATION  NAME</dc:title>
</cp:coreProperties>
</file>