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E40D-67BE-4A92-A38A-1685A0439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F2E0-F644-42A4-B27C-764AAF31D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7FAC-D3E2-43C5-B71A-5860B4AD8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B059-8FC6-4022-B9CD-78463798C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F25A-76E2-4C09-9267-8B624C737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BC55-CCEB-4D9B-9000-6ACCCD1F6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E747-F30F-4A00-B9DE-9AD2457C8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00C8-1568-47B4-B032-9B9B832E6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11DD-4EF7-4820-A519-FD6F43280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554D-C7C1-4691-A6D0-6171461E8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C30A-EFF4-492C-8161-EF6F80C4A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1E57-9F7E-4EEA-9344-F8B20A5B7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EAC7A-B189-4A15-9DA4-7E63B081FE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42680"/>
            <a:ext cx="7772400" cy="19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Защита детей от преступных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осягательств и их вовлечения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в противоправную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еятельность в сети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500280" y="4285800"/>
            <a:ext cx="5429520" cy="13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a452a"/>
                </a:solidFill>
                <a:latin typeface="Calibri"/>
              </a:rPr>
              <a:t>Зильберс Марина Майгоновна, педагог-психоло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3" descr="http://svopi.ru/uploads/posts/2016-01/1452239816_7.jpg"/>
          <p:cNvPicPr/>
          <p:nvPr/>
        </p:nvPicPr>
        <p:blipFill>
          <a:blip r:embed="rId1"/>
          <a:stretch/>
        </p:blipFill>
        <p:spPr>
          <a:xfrm>
            <a:off x="214200" y="4071960"/>
            <a:ext cx="3357720" cy="26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Содержимое 3" descr="Игра синий кит все задания с 1 по 50 — полная информация про синего кита (подробный материал)"/>
          <p:cNvPicPr/>
          <p:nvPr/>
        </p:nvPicPr>
        <p:blipFill>
          <a:blip r:embed="rId1"/>
          <a:stretch/>
        </p:blipFill>
        <p:spPr>
          <a:xfrm>
            <a:off x="285840" y="142920"/>
            <a:ext cx="4559040" cy="452592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4" descr="http://vesti-ukr.com/img/forall/u/4/70/22222.png"/>
          <p:cNvPicPr/>
          <p:nvPr/>
        </p:nvPicPr>
        <p:blipFill>
          <a:blip r:embed="rId2"/>
          <a:srcRect l="2777" t="21128" r="20837" b="14083"/>
          <a:stretch/>
        </p:blipFill>
        <p:spPr>
          <a:xfrm>
            <a:off x="3571920" y="2643120"/>
            <a:ext cx="542916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нешние признаки: когда бить тревогу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13840" y="857160"/>
            <a:ext cx="864396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объяснимое желание похудеть, сильная критика в адрес полных люд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влечение кофе, ранний утренний подъем (если за подростком такого раньше не наблюдалось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бор черной мрачной одежды, возможно, с символами, ассоциирующимися со смерть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незапное изменение внешности: выбривание висков, окрашивание волос в неестественные тон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явление на теле следов порезов, ожогов и иных признаков 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членовредительств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стоянная вовлеченность в виртуальный мир, увлеченная переписка в Сети (часто с малознакомыми людьми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обычный сленг в переписке, которым ребенок раньше не пользовалс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крытие доступа к девайсам, установка дополнительных паролей на домашнем компьютере, использование браузеров, предоставляющих возможность анонимного просмотра страниц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страстие к мобильным приложениям с внутренними чат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071600" y="428760"/>
            <a:ext cx="461484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исунки странного характера (перевернутые кресты, сатанинские звезды, масонские знаки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явление идеи установить в спальне зеркало напротив крова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влеченность мистическими фильмами и сценами жестокости и насил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ожиданное желание 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сделать татуировку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со странными символ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каз от общения с родителями и маскировка своих проблем и переживан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Содержимое 3" descr="https://im0-tub-ru.yandex.net/i?id=a0ce6339a037189fd0fd81404b358687-l&amp;n=13"/>
          <p:cNvPicPr/>
          <p:nvPr/>
        </p:nvPicPr>
        <p:blipFill>
          <a:blip r:embed="rId1"/>
          <a:stretch/>
        </p:blipFill>
        <p:spPr>
          <a:xfrm>
            <a:off x="214200" y="142920"/>
            <a:ext cx="3214800" cy="268452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4" descr="http://myvisions.org/wp-content/uploads/2016/10/Blue-ink-tiny-whale-tattoo-on-wrist.jpg"/>
          <p:cNvPicPr/>
          <p:nvPr/>
        </p:nvPicPr>
        <p:blipFill>
          <a:blip r:embed="rId2"/>
          <a:stretch/>
        </p:blipFill>
        <p:spPr>
          <a:xfrm>
            <a:off x="285840" y="2928960"/>
            <a:ext cx="2428920" cy="193356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5" descr="https://otvet.imgsmail.ru/download/54198618_4c757aebbe8dddc7a85452996321c53d_800.png"/>
          <p:cNvPicPr/>
          <p:nvPr/>
        </p:nvPicPr>
        <p:blipFill>
          <a:blip r:embed="rId3"/>
          <a:stretch/>
        </p:blipFill>
        <p:spPr>
          <a:xfrm>
            <a:off x="1428840" y="4500720"/>
            <a:ext cx="2627280" cy="20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то делать родителям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Если дети калечат себя, то в первую очередь, нужно обратиться к детскому психиатру, так как это может являться симптомом психического заболевани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Не все дети, которые себе приносят физический вред, больны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Добиться внимания можно миллионом других способов, а вредительство своему здоровью —это крайность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Более компетентными в этом вопросе являются врачи-психиатры.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то делать, если родители заметили своего ребенка с порезами на теле, рисунками китов на руке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Рисунок 6" descr="Игра синий кит все задания с 1 по 50 — полная информация про синего кита (подробный материал)"/>
          <p:cNvPicPr/>
          <p:nvPr/>
        </p:nvPicPr>
        <p:blipFill>
          <a:blip r:embed="rId1"/>
          <a:stretch/>
        </p:blipFill>
        <p:spPr>
          <a:xfrm>
            <a:off x="214200" y="2786040"/>
            <a:ext cx="2857680" cy="307188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8" descr="https://i.ytimg.com/vi/c-iC30TOC18/maxresdefault.jpg"/>
          <p:cNvPicPr/>
          <p:nvPr/>
        </p:nvPicPr>
        <p:blipFill>
          <a:blip r:embed="rId2"/>
          <a:srcRect l="55694" t="0" r="0" b="31559"/>
          <a:stretch/>
        </p:blipFill>
        <p:spPr>
          <a:xfrm>
            <a:off x="1928880" y="4214880"/>
            <a:ext cx="26352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ля выявления и предотвращения возможных проблем родителя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13840" y="1600200"/>
            <a:ext cx="4281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ледует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интересоваться жизнью своего чада, особенно подросткового возраста, не переходя при этом к тотальному контролю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ак можно больше участвовать в процессе его социализации: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посещать школу, знакомиться с друзьями и их родителями, организовывать семейный досуг, уметь быть не только воспитателем, но и надежным другом для своего ребенка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тараться проводить много времени всей семьей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Содержимое 4" descr="https://im0-tub-ru.yandex.net/i?id=182456ae8a644b9ee214541d0c5844c4-l&amp;n=13"/>
          <p:cNvPicPr/>
          <p:nvPr/>
        </p:nvPicPr>
        <p:blipFill>
          <a:blip r:embed="rId1"/>
          <a:stretch/>
        </p:blipFill>
        <p:spPr>
          <a:xfrm>
            <a:off x="4214880" y="1785960"/>
            <a:ext cx="45003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ОВЕТЫ РОДИТЕЛЯМ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13840" y="1143000"/>
            <a:ext cx="735804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Чаще интересуйтесь как дела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 ребёнка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, присматривайтесь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 нему, к его поведению, настроению и мироощущению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знайте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на какие сайты он заходит, чем интересуется и занимается помимо школьных обязанностей, какие видеоролики смотрит, что снимает на свой смартфон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елайте это мягко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 в категоричной форме, чтобы не спровоцировать закрытость и уход ребенка в себ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Это первые советы, с которых можно нача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сли ребенок только начинает открывать для себя интернет-пространство, расскажите о том, что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но имеет и темную сторону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9-10 годам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 ребёнка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олжно бы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хобби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Не важно, что он делает-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акеты кораблей или макраме, ходи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театральный кружок или поход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лжно быть что-то помимо учеб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7929360" y="2786040"/>
            <a:ext cx="75708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Рисунок 4" descr="http://women-things.ru/wp-content/uploads/2015/08/Podrostki-i-roditeli.jpg"/>
          <p:cNvPicPr/>
          <p:nvPr/>
        </p:nvPicPr>
        <p:blipFill>
          <a:blip r:embed="rId1"/>
          <a:stretch/>
        </p:blipFill>
        <p:spPr>
          <a:xfrm>
            <a:off x="5357880" y="4572000"/>
            <a:ext cx="335736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Будьте рядом с детьми, чтобы они могли обратиться к вам со своей проблемой.  Самое главное в управлении безопасностью детей в Интернете – это доверительное  живое общение с ребёнк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Рисунок 3" descr="http://grodno-best.info/wp-content/uploads/2016/05/vsem-dovolny.jpg"/>
          <p:cNvPicPr/>
          <p:nvPr/>
        </p:nvPicPr>
        <p:blipFill>
          <a:blip r:embed="rId1"/>
          <a:stretch/>
        </p:blipFill>
        <p:spPr>
          <a:xfrm>
            <a:off x="1428840" y="3214800"/>
            <a:ext cx="62863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entury Gothic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648320" y="857160"/>
            <a:ext cx="403848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тернет, это лучший помощник для самообразования, а также он помогает общаться людям со всех уголков планет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днако Интернет может стать и источником опасности, особенно это касается детей и подростков, которые наиболее подвержены влиянию глобальной сет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Содержимое 4" descr="https://im0-tub-ru.yandex.net/i?id=64eb3a43eb6d5c5ea4c9f5369bcd0220-l&amp;n=13"/>
          <p:cNvPicPr/>
          <p:nvPr/>
        </p:nvPicPr>
        <p:blipFill>
          <a:blip r:embed="rId1"/>
          <a:stretch/>
        </p:blipFill>
        <p:spPr>
          <a:xfrm>
            <a:off x="357120" y="1643040"/>
            <a:ext cx="43959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му угрожает опасность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929040" y="1143000"/>
            <a:ext cx="49291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амой уязвимой группой являются подростки. Они хотят уйти из-под контроля родителей и завязать новые отношения вне семь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поддержки и понимания нет ни в школе, ни дома, то ребенок ищет себе подобных, - тех, кому плох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Содержимое 4" descr="1496286"/>
          <p:cNvPicPr/>
          <p:nvPr/>
        </p:nvPicPr>
        <p:blipFill>
          <a:blip r:embed="rId1"/>
          <a:stretch/>
        </p:blipFill>
        <p:spPr>
          <a:xfrm>
            <a:off x="357120" y="1500120"/>
            <a:ext cx="3714840" cy="36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более уязвимые для злоумышленников это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е, подростки, кому в семьях некомфортно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те, кто стремится попробовать всё новое, связанное с острыми ощущениям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активно ищущие внимания и привязанно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бунтар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динокие или брошенны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те, кого взрослые могут легко обмануть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те, кого привлекает субкультура, выходящая за рамки понимания их родител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Содержимое 4" descr="Спасите своего ребенка, пока не поздно: все о подростковом суициде и «группах смерти»"/>
          <p:cNvPicPr/>
          <p:nvPr/>
        </p:nvPicPr>
        <p:blipFill>
          <a:blip r:embed="rId1"/>
          <a:stretch/>
        </p:blipFill>
        <p:spPr>
          <a:xfrm>
            <a:off x="4500720" y="2214720"/>
            <a:ext cx="450036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10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Ребёнок в соцсетях: что должно насторожить родителей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раничка вашего ребенка в социальных сетях способна рассказать о нем много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ратите внимание на псевдоним, аватарку (главная фотография профиля), открытость или закрытость аккаунта, группы, в которых состоит  ребёнок, а также на то, чем наполнена страница: видеозаписи, фотографии и друзь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Содержимое 4" descr="589b1423dbf52-screenshot-138"/>
          <p:cNvPicPr/>
          <p:nvPr/>
        </p:nvPicPr>
        <p:blipFill>
          <a:blip r:embed="rId1"/>
          <a:stretch/>
        </p:blipFill>
        <p:spPr>
          <a:xfrm>
            <a:off x="4500720" y="1214280"/>
            <a:ext cx="442908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13840" y="214200"/>
            <a:ext cx="847260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акрывание лиц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руками либо одеждой на фотографиях, 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емонстрирование указательного пальц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на таких снимках, загруженных в социальные сети, символизируют суицидальные мысл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сли ребёнок размещает у себя на странице 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фразы, иллюстрации на тему самоунижения и нанесения себе травм и порезов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это плохой зна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пасными считаются такие символы, как 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едузы, кошки, бабочки, единороги, съемки с высоты, крыш и чердаков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а также изображение того, как 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иты плывут вверх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Обратите внимание, не упоминает ли он в общении с кем-либо фразу «море китов группа смерти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Группа подозрительных «друзей»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появившихся за короткое время, свидетельствует о том, что ребёнок попал в опасную компани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резмерное увлечение копированием на своей страничке строчек из некоторых 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тихотворений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например, С. Есенина и И. Бродского, 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священных смерти, а также цитат из мистических книг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должно насторожить родител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хранение на страничках социальных сетей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транной депрессивной музык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особенно музыкальных направлений, пропагандирующих печаль и смерть) — один из ярких «симптомов» суицидальных наклонност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Следует проследить, размещает ли ребёнок у себя на страничке подобные 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изображения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: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Содержимое 3" descr="https://img08.rl0.ru/pgc/-x-i/582b34d5-4c80-8116-4c80-81588ddafc8f.photo.0.jpg"/>
          <p:cNvPicPr/>
          <p:nvPr/>
        </p:nvPicPr>
        <p:blipFill>
          <a:blip r:embed="rId1"/>
          <a:stretch/>
        </p:blipFill>
        <p:spPr>
          <a:xfrm>
            <a:off x="285840" y="928800"/>
            <a:ext cx="828684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Содержимое 3" descr="https://img03.rl0.ru/pgc/-x-i/582b34e0-2e86-b0c8-2e86-b086539c217a.photo.0.jpg"/>
          <p:cNvPicPr/>
          <p:nvPr/>
        </p:nvPicPr>
        <p:blipFill>
          <a:blip r:embed="rId1"/>
          <a:stretch/>
        </p:blipFill>
        <p:spPr>
          <a:xfrm>
            <a:off x="285840" y="500040"/>
            <a:ext cx="857232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1" descr="самоубийства"/>
          <p:cNvPicPr/>
          <p:nvPr/>
        </p:nvPicPr>
        <p:blipFill>
          <a:blip r:embed="rId1"/>
          <a:stretch/>
        </p:blipFill>
        <p:spPr>
          <a:xfrm>
            <a:off x="142920" y="214200"/>
            <a:ext cx="885816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8T17:11:16Z</dcterms:created>
  <dc:creator>Марина</dc:creator>
  <dc:description/>
  <dc:language>en-US</dc:language>
  <cp:lastModifiedBy>Марина</cp:lastModifiedBy>
  <dcterms:modified xsi:type="dcterms:W3CDTF">2017-03-19T15:52:44Z</dcterms:modified>
  <cp:revision>20</cp:revision>
  <dc:subject/>
  <dc:title>Защита детей от преступных  посягательств и их вовлечения  в противоправную  деятельность в сети INTERNET</dc:title>
</cp:coreProperties>
</file>