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3432-1643-4230-9857-87FFDCF6E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99CF-298E-42CE-8B37-5210EB776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B567-6A67-45F7-9AF6-822ED5B02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5716-8351-4947-A50A-945ACAEED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8E2C-5E51-4593-B759-8BC768C91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7CA5-A9A6-4059-A78E-F5B3EA10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EA2-DBEF-4D65-B9B0-60BF584AE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A49-75EF-4C1A-86E5-9FD17B35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E5B-D781-4545-8DBF-993910E88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DC74-A369-419C-B9DE-F7C71B04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F245-D013-4396-85D9-EC845D5D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29C1-7A60-4752-A6B5-B329DD81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D6466-EB03-43C7-9575-83218A36A7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42680"/>
            <a:ext cx="7772400" cy="19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щита детей от преступных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сягательств и их вовлечения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в противоправную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еятельность в сети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00280" y="4285800"/>
            <a:ext cx="5429520" cy="13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a452a"/>
                </a:solidFill>
                <a:latin typeface="Calibri"/>
              </a:rPr>
              <a:t>Зильберс Марина Майгоновна, педагог-психо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Рисунок 3" descr="http://svopi.ru/uploads/posts/2016-01/1452239816_7.jpg"/>
          <p:cNvPicPr/>
          <p:nvPr/>
        </p:nvPicPr>
        <p:blipFill>
          <a:blip r:embed="rId1"/>
          <a:stretch/>
        </p:blipFill>
        <p:spPr>
          <a:xfrm>
            <a:off x="214200" y="4071960"/>
            <a:ext cx="3357720" cy="26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одержимое 3" descr="Игра синий кит все задания с 1 по 50 — полная информация про синего кита (подробный материал)"/>
          <p:cNvPicPr/>
          <p:nvPr/>
        </p:nvPicPr>
        <p:blipFill>
          <a:blip r:embed="rId1"/>
          <a:stretch/>
        </p:blipFill>
        <p:spPr>
          <a:xfrm>
            <a:off x="285840" y="142920"/>
            <a:ext cx="4559040" cy="452592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4" descr="http://vesti-ukr.com/img/forall/u/4/70/22222.png"/>
          <p:cNvPicPr/>
          <p:nvPr/>
        </p:nvPicPr>
        <p:blipFill>
          <a:blip r:embed="rId2"/>
          <a:srcRect l="2777" t="21128" r="20837" b="14083"/>
          <a:stretch/>
        </p:blipFill>
        <p:spPr>
          <a:xfrm>
            <a:off x="3571920" y="2643120"/>
            <a:ext cx="542916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Внешние признаки: когда бить тревогу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13840" y="857160"/>
            <a:ext cx="864396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ъяснимое желание похудеть, сильная критика в адрес полных люд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влечение кофе, ранний утренний подъем (если за подростком такого раньше не наблюдалось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черной мрачной одежды, возможно, с символами, ассоциирующимися со смерть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незапное изменение внешности: выбривание висков, окрашивание волос в неестественные то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явление на теле следов порезов, ожогов и иных признаков 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</a:rPr>
              <a:t>членовредительст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стоянная вовлеченность в виртуальный мир, увлеченная переписка в Сети (часто с малознакомыми людьми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обычный сленг в переписке, которым ребенок раньше не пользовалс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крытие доступа к девайсам, установка дополнительных паролей на домашнем компьютере, использование браузеров, предоставляющих возможность анонимного просмотра страниц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страстие к мобильным приложениям с внутренними чатам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071600" y="428760"/>
            <a:ext cx="461484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исунки странного характера (перевернутые кресты, сатанинские звезды, масонские знаки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явление идеи установить в спальне зеркало напротив кроват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Увлеченность мистическими фильмами и сценами жестокости и насил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ожиданное желание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сделать татуировку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со странными символ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тказ от общения с родителями и маскировка своих проблем и пережива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https://im0-tub-ru.yandex.net/i?id=a0ce6339a037189fd0fd81404b358687-l&amp;n=13"/>
          <p:cNvPicPr/>
          <p:nvPr/>
        </p:nvPicPr>
        <p:blipFill>
          <a:blip r:embed="rId1"/>
          <a:stretch/>
        </p:blipFill>
        <p:spPr>
          <a:xfrm>
            <a:off x="214200" y="142920"/>
            <a:ext cx="3214800" cy="268452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myvisions.org/wp-content/uploads/2016/10/Blue-ink-tiny-whale-tattoo-on-wrist.jpg"/>
          <p:cNvPicPr/>
          <p:nvPr/>
        </p:nvPicPr>
        <p:blipFill>
          <a:blip r:embed="rId2"/>
          <a:stretch/>
        </p:blipFill>
        <p:spPr>
          <a:xfrm>
            <a:off x="285840" y="2928960"/>
            <a:ext cx="2428920" cy="193356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https://otvet.imgsmail.ru/download/54198618_4c757aebbe8dddc7a85452996321c53d_800.png"/>
          <p:cNvPicPr/>
          <p:nvPr/>
        </p:nvPicPr>
        <p:blipFill>
          <a:blip r:embed="rId3"/>
          <a:stretch/>
        </p:blipFill>
        <p:spPr>
          <a:xfrm>
            <a:off x="1428840" y="4500720"/>
            <a:ext cx="2627280" cy="20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Что делать родителя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Если дети калечат себя, то в первую очередь, нужно обратиться к детскому психиатру, так как это может являться симптомом психического заболеван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Не все дети, которые себе приносят физический вред, боль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обиться внимания можно миллионом других способов, а вредительство своему здоровью —это крайност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Более компетентными в этом вопросе являются врачи-психиатры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елать, если родители заметили своего ребенка с порезами на теле, рисунками китов на рук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Рисунок 6" descr="Игра синий кит все задания с 1 по 50 — полная информация про синего кита (подробный материал)"/>
          <p:cNvPicPr/>
          <p:nvPr/>
        </p:nvPicPr>
        <p:blipFill>
          <a:blip r:embed="rId1"/>
          <a:stretch/>
        </p:blipFill>
        <p:spPr>
          <a:xfrm>
            <a:off x="214200" y="2786040"/>
            <a:ext cx="2857680" cy="307188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https://i.ytimg.com/vi/c-iC30TOC18/maxresdefault.jpg"/>
          <p:cNvPicPr/>
          <p:nvPr/>
        </p:nvPicPr>
        <p:blipFill>
          <a:blip r:embed="rId2"/>
          <a:srcRect l="55694" t="0" r="0" b="31559"/>
          <a:stretch/>
        </p:blipFill>
        <p:spPr>
          <a:xfrm>
            <a:off x="1928880" y="4214880"/>
            <a:ext cx="26352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ля выявления и предотвращения возможных проблем родител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13840" y="1600200"/>
            <a:ext cx="42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едует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нтересоваться жизнью своего чада, особенно подросткового возраста, не переходя при этом к тотальному контролю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можно больше участвовать в процессе его социализации: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посещать школу, знакомиться с друзьями и их родителями, организовывать семейный досуг, уметь быть не только воспитателем, но и надежным другом для своего ребенка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тараться проводить много времени всей семье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Содержимое 4" descr="https://im0-tub-ru.yandex.net/i?id=182456ae8a644b9ee214541d0c5844c4-l&amp;n=13"/>
          <p:cNvPicPr/>
          <p:nvPr/>
        </p:nvPicPr>
        <p:blipFill>
          <a:blip r:embed="rId1"/>
          <a:stretch/>
        </p:blipFill>
        <p:spPr>
          <a:xfrm>
            <a:off x="4214880" y="1785960"/>
            <a:ext cx="45003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ВЕТЫ РОДИТЕЛЯМ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3840" y="1143000"/>
            <a:ext cx="735804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Чаще интересуйтесь как дела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ёнка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, присматривайтесь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нему, к его поведению, настроению и мироощуще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Узнайте,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а какие сайты он заходит, чем интересуется и занимается помимо школьных обязанностей, какие видеоролики смотрит, что снимает на свой смартфон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лайте это мягко,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е в категоричной форме, чтобы не спровоцировать закрытость и уход ребенка в себ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то первые советы, с которых можно начать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ебенок только начинает открывать для себя интернет-пространство, расскажите о том, что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но имеет и темную сторон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9-10 годам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у ребёнка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олжно быт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хобб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Не важно, что он делает-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акеты кораблей или макраме, ходи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 театральный кружок или похо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лжно быть что-то помимо учеб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929360" y="2786040"/>
            <a:ext cx="75708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Рисунок 4" descr="http://women-things.ru/wp-content/uploads/2015/08/Podrostki-i-roditeli.jpg"/>
          <p:cNvPicPr/>
          <p:nvPr/>
        </p:nvPicPr>
        <p:blipFill>
          <a:blip r:embed="rId1"/>
          <a:stretch/>
        </p:blipFill>
        <p:spPr>
          <a:xfrm>
            <a:off x="5357880" y="4572000"/>
            <a:ext cx="33573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285480"/>
            <a:ext cx="822960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Будьте рядом с детьми, чтобы они могли обратиться к вам со своей проблемой.  Самое главное в управлении безопасностью детей в Интернете – это доверительное  живое общение с ребёнко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Рисунок 3" descr="http://grodno-best.info/wp-content/uploads/2016/05/vsem-dovolny.jpg"/>
          <p:cNvPicPr/>
          <p:nvPr/>
        </p:nvPicPr>
        <p:blipFill>
          <a:blip r:embed="rId1"/>
          <a:stretch/>
        </p:blipFill>
        <p:spPr>
          <a:xfrm>
            <a:off x="1428840" y="3214800"/>
            <a:ext cx="6286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entury Gothic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48320" y="857160"/>
            <a:ext cx="4038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нет, это лучший помощник для самообразования, а также он помогает общаться людям со всех уголков планеты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днако Интернет может стать и источником опасности, особенно это касается детей и подростков, которые наиболее подвержены влиянию глобальной сети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Содержимое 4" descr="https://im0-tub-ru.yandex.net/i?id=64eb3a43eb6d5c5ea4c9f5369bcd0220-l&amp;n=13"/>
          <p:cNvPicPr/>
          <p:nvPr/>
        </p:nvPicPr>
        <p:blipFill>
          <a:blip r:embed="rId1"/>
          <a:stretch/>
        </p:blipFill>
        <p:spPr>
          <a:xfrm>
            <a:off x="357120" y="1643040"/>
            <a:ext cx="439596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му угрожает опасность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29040" y="1143000"/>
            <a:ext cx="4929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амой уязвимой группой являются подростки. Они хотят уйти из-под контроля родителей и завязать новые отношения вне семь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сли поддержки и понимания нет ни в школе, ни дома, то ребенок ищет себе подобных, - тех, кому плохо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4" descr="1496286"/>
          <p:cNvPicPr/>
          <p:nvPr/>
        </p:nvPicPr>
        <p:blipFill>
          <a:blip r:embed="rId1"/>
          <a:stretch/>
        </p:blipFill>
        <p:spPr>
          <a:xfrm>
            <a:off x="357120" y="1500120"/>
            <a:ext cx="37148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уязвимые для злоумышленников это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те, подростки, кому в семьях некомфортно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, кто стремится попробовать всё новое, связанное с острыми ощущениям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ктивно ищущие внимания и привязан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унтар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одинокие или брошенные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е, кого взрослые могут легко обмануть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те, кого привлекает субкультура, выходящая за рамки понимания их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Содержимое 4" descr="Спасите своего ребенка, пока не поздно: все о подростковом суициде и «группах смерти»"/>
          <p:cNvPicPr/>
          <p:nvPr/>
        </p:nvPicPr>
        <p:blipFill>
          <a:blip r:embed="rId1"/>
          <a:stretch/>
        </p:blipFill>
        <p:spPr>
          <a:xfrm>
            <a:off x="4500720" y="2214720"/>
            <a:ext cx="450036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57120"/>
            <a:ext cx="82296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Ребёнок в соцсетях: что должно насторожить родителе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раничка вашего ребенка в социальных сетях способна рассказать о нем многое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тите внимание на псевдоним, аватарку (главная фотография профиля), открытость или закрытость аккаунта, группы, в которых состоит  ребёнок, а также на то, чем наполнена страница: видеозаписи, фотографии и друзь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4" descr="589b1423dbf52-screenshot-138"/>
          <p:cNvPicPr/>
          <p:nvPr/>
        </p:nvPicPr>
        <p:blipFill>
          <a:blip r:embed="rId1"/>
          <a:stretch/>
        </p:blipFill>
        <p:spPr>
          <a:xfrm>
            <a:off x="4500720" y="1214280"/>
            <a:ext cx="44290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3840" y="214200"/>
            <a:ext cx="847260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крывание ли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руками либо одеждой на фотографиях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демонстрирование указательного пальц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на таких снимках, загруженных в социальные сети, символизируют суицидальные мыс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ребёнок размещает у себя на странице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фразы, иллюстрации на тему самоунижения и нанесения себе травм и порез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это плохой знак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пасными считаются такие символы, как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дузы, кошки, бабочки, единороги, съемки с высоты, крыш и чердаков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а также изображение того, как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иты плывут вверх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 Обратите внимание, не упоминает ли он в общении с кем-либо фразу «море китов группа смерти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руппа подозрительных «друзей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появившихся за короткое время, свидетельствует о том, что ребёнок попал в опасную компанию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резмерное увлечение копированием на своей страничке строчек из некоторых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ихотворен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, например, С. Есенина и И. Бродского,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священных смерти, а также цитат из мистических книг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должно насторожить родител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хранение на страничках социальных сетей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транной депрессивной музыки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особенно музыкальных направлений, пропагандирующих печаль и смерть) — один из ярких «симптомов» суицидальных наклонносте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ледует проследить, размещает ли ребёнок у себя на страничке подобные 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изображения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: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Содержимое 3" descr="https://img08.rl0.ru/pgc/-x-i/582b34d5-4c80-8116-4c80-81588ddafc8f.photo.0.jpg"/>
          <p:cNvPicPr/>
          <p:nvPr/>
        </p:nvPicPr>
        <p:blipFill>
          <a:blip r:embed="rId1"/>
          <a:stretch/>
        </p:blipFill>
        <p:spPr>
          <a:xfrm>
            <a:off x="285840" y="928800"/>
            <a:ext cx="8286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https://img03.rl0.ru/pgc/-x-i/582b34e0-2e86-b0c8-2e86-b086539c217a.photo.0.jpg"/>
          <p:cNvPicPr/>
          <p:nvPr/>
        </p:nvPicPr>
        <p:blipFill>
          <a:blip r:embed="rId1"/>
          <a:stretch/>
        </p:blipFill>
        <p:spPr>
          <a:xfrm>
            <a:off x="285840" y="500040"/>
            <a:ext cx="857232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Рисунок 1" descr="самоубийства"/>
          <p:cNvPicPr/>
          <p:nvPr/>
        </p:nvPicPr>
        <p:blipFill>
          <a:blip r:embed="rId1"/>
          <a:stretch/>
        </p:blipFill>
        <p:spPr>
          <a:xfrm>
            <a:off x="142920" y="214200"/>
            <a:ext cx="885816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8T17:11:16Z</dcterms:created>
  <dc:creator>Марина</dc:creator>
  <dc:description/>
  <dc:language>en-US</dc:language>
  <cp:lastModifiedBy>Марина</cp:lastModifiedBy>
  <dcterms:modified xsi:type="dcterms:W3CDTF">2017-03-19T15:52:44Z</dcterms:modified>
  <cp:revision>20</cp:revision>
  <dc:subject/>
  <dc:title>Защита детей от преступных  посягательств и их вовлечения  в противоправную  деятельность в сети INTERNET</dc:title>
</cp:coreProperties>
</file>