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1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9469-119E-4C27-A861-22BD0E01C3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49BB-4620-4B8A-B328-B4EA1E675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1A2-DFFE-47CC-B108-56A565A26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2E8-EECC-4432-A8AC-99598E6D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F45-99BA-4B0F-999C-95129045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228-7C0E-427B-BA94-A1BCD851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86A-58B0-4524-A6B5-26504588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F22-B551-4DF7-A506-6F504463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A32-ABBF-4981-8832-6DA78B5C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BB0-B017-4AE6-A28A-2F669C5C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CBE-CF6C-41C9-B324-6B3F04C5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84C-8ACA-4F28-9EC0-B579F604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BC3-7891-4E14-A3D3-0B4704FA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ED8-7153-436A-A960-7777D54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192-1DB1-45C4-9FC1-165187DB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80D2-CE76-4AC4-B296-1AA89B84E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06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и первой младшей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ькина 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рбунова Валент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116000" y="1700280"/>
            <a:ext cx="6915240" cy="17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аптация детей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детскому са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7168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Заранее подготовьте  детский гардеро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Старайтесь общаться с воспитателями доброжелательно, избегайте конфликтов по пустя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Мамино сердце разрывается при звуках отчаянного плача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Уходя – уходи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Не совершайте ошибки и не делайте перерывов в пос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Подготовка родителей.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Поведение родителей в период адаптации детей к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беспечьте малышу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эмоциональную стабильность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т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Выберите в семье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гаранта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зитивного расста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звольте малышу взять в детский сад эмоциональный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яко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С ребенком обязательно надо попрощаться, но помните о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золотой 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азработайте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ритуал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ощ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Выберите удобные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точки от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айдите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«прощальное окошко»,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откуда можно выглянуть и помахать ру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И улыбнитесь друг дру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285920" y="214200"/>
            <a:ext cx="65721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ИТИВНОГО РАССТАВА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6" descr="F:\Картинки\Анимация\Люди, дети\a3be690535b275d3a3afdf50a72ecd48.gif"/>
          <p:cNvPicPr/>
          <p:nvPr/>
        </p:nvPicPr>
        <p:blipFill>
          <a:blip r:embed="rId1"/>
          <a:stretch/>
        </p:blipFill>
        <p:spPr>
          <a:xfrm>
            <a:off x="6929280" y="50720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Запаситесь терпением, и детский сад будет привычным и уютным миром для вашего малы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C:\Documents and Settings\Людмила\Рабочий стол\Хорошо-плохо\малыш с игрушками.png"/>
          <p:cNvPicPr/>
          <p:nvPr/>
        </p:nvPicPr>
        <p:blipFill>
          <a:blip r:embed="rId1"/>
          <a:stretch/>
        </p:blipFill>
        <p:spPr>
          <a:xfrm>
            <a:off x="2571840" y="2714760"/>
            <a:ext cx="37148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900000" y="2421000"/>
            <a:ext cx="712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Зачем идти ребенку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Georgia"/>
              </a:rPr>
              <a:t>в детский сад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детском саду ребенок имеет возможность общаться со сверст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ебенок приобретает навыки общения с взрослыми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 детском саду ребенок знакомится с определенными правилами и учится соблюд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ебенок получает возможность интеллектуального и физическ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6c607259162c"/>
          <p:cNvPicPr/>
          <p:nvPr/>
        </p:nvPicPr>
        <p:blipFill>
          <a:blip r:embed="rId1"/>
          <a:stretch/>
        </p:blipFill>
        <p:spPr>
          <a:xfrm>
            <a:off x="4429080" y="5791320"/>
            <a:ext cx="118116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F:\Адаптация\Новая папка\70054606_on_i_ona_v_kresle.gif"/>
          <p:cNvPicPr/>
          <p:nvPr/>
        </p:nvPicPr>
        <p:blipFill>
          <a:blip r:embed="rId2"/>
          <a:stretch/>
        </p:blipFill>
        <p:spPr>
          <a:xfrm>
            <a:off x="6929280" y="1500120"/>
            <a:ext cx="10065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eorgia"/>
              </a:rPr>
              <a:t>Чтобы детский сад действительно оказался приятным и полезным местом для Вашего реб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Georgia"/>
              </a:rPr>
              <a:t>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хорошо подумать и понять, для чего именно он нужен Вам  и вашему ребен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F:\САЙТ\Логотип\мальчик и девочка.png"/>
          <p:cNvPicPr/>
          <p:nvPr/>
        </p:nvPicPr>
        <p:blipFill>
          <a:blip r:embed="rId1"/>
          <a:stretch/>
        </p:blipFill>
        <p:spPr>
          <a:xfrm>
            <a:off x="5429160" y="4714920"/>
            <a:ext cx="2935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6272280" y="4611600"/>
            <a:ext cx="2376360" cy="213048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2357280" y="500040"/>
            <a:ext cx="428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АПТАЦИЯ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42960" y="3786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силах родителей и педагогов сделать жизнь ребе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частливой, интересной и насыщенн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1000080" y="1285920"/>
            <a:ext cx="692964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от лат. «приспособляю» — это сложный процесс приспособления организма, который происходит на разных уров­нях: физиологическом, социальном, психологичес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иф 1.</a:t>
            </a: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даптация к детскому саду проходит трудно и мучительно. Я боюсь, что у нас будет то же са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иф 2.</a:t>
            </a: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Дети в детском саду все время болеют, потому что за ними плохо сле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Миф 3.</a:t>
            </a:r>
            <a:r>
              <a:rPr b="1" lang="ru-RU" sz="24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 ребенка, который начинает ходить в детский сад, портится характер, он становится просто невыноси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763640" y="476280"/>
            <a:ext cx="5761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фы об адапт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4" descr="F:\Картинки\Анимация\Люди, дети\t8512.gif"/>
          <p:cNvPicPr/>
          <p:nvPr/>
        </p:nvPicPr>
        <p:blipFill>
          <a:blip r:embed="rId1"/>
          <a:stretch/>
        </p:blipFill>
        <p:spPr>
          <a:xfrm>
            <a:off x="3643200" y="485784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:\Картинки\Анимация\Люди, дети\73.gif"/>
          <p:cNvPicPr/>
          <p:nvPr/>
        </p:nvPicPr>
        <p:blipFill>
          <a:blip r:embed="rId2"/>
          <a:stretch/>
        </p:blipFill>
        <p:spPr>
          <a:xfrm>
            <a:off x="7429680" y="3143160"/>
            <a:ext cx="12380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Длительность и течение адаптации зависит от многих фактор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особенностей высшей нервной деятельности (темперамен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возраста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состояни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разницы в обстановке, в которой ребенок находился дома, и той, в которой находится в детском са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условий в дошкольном учреж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оведения и эмоционального состояния взрослых (тревожность, негативизм к детскому саду…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ак подготовить ребенка к посещению детского с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Увеличьте круг общения вашего малыша с взрослыми 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Ребенок, который отправился в детский сад, должен обладать определенными культурно-гигиеническими навыками и навыками самообслуж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Позаботьтесь об укреплении здоровья малы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Georgia"/>
              </a:rPr>
              <a:t>Заранее знакомьте ребенка с детским сад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1773360"/>
            <a:ext cx="8064720" cy="44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F:\Картинки\Анимация\Люди, дети\10.gif"/>
          <p:cNvPicPr/>
          <p:nvPr/>
        </p:nvPicPr>
        <p:blipFill>
          <a:blip r:embed="rId1"/>
          <a:stretch/>
        </p:blipFill>
        <p:spPr>
          <a:xfrm>
            <a:off x="3929040" y="5286240"/>
            <a:ext cx="1257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Начиная подготовку малыша к походу в детский сад, придерживайтесь режима близкого к режиму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Georgia"/>
              </a:rPr>
              <a:t>Примерный режим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ием детей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             до 8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Завтрак                                       8.20–8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Игры, занятия, прогулка      9.00–1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готовка к обеду, обед    11.45–1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готовка ко сну, сон        12.00–15.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одъем, оздоровление, гигие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оцедуры, полдник            15.00–1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Активное бодрствование     16.00–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Прогулка                                   17.00–17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Игры, уход домой          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    17.30–19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F:\Картинки\Анимация\Люди, дети\5.gif"/>
          <p:cNvPicPr/>
          <p:nvPr/>
        </p:nvPicPr>
        <p:blipFill>
          <a:blip r:embed="rId1"/>
          <a:stretch/>
        </p:blipFill>
        <p:spPr>
          <a:xfrm>
            <a:off x="6858000" y="2928960"/>
            <a:ext cx="14889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риблизьте домашний режим питания к детсадовскому. Переходите на новый режим питания постепенно, чтобы перемены были не слишком ощут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eorgia"/>
              </a:rPr>
              <a:t>Помните, что в первый месяц посещения детского сада пребывание в группе  будет увеличиваться постепенно, на 2–3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7"/>
          <p:cNvPicPr/>
          <p:nvPr/>
        </p:nvPicPr>
        <p:blipFill>
          <a:blip r:embed="rId1"/>
          <a:stretch/>
        </p:blipFill>
        <p:spPr>
          <a:xfrm>
            <a:off x="6643800" y="1643040"/>
            <a:ext cx="129060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9"/>
          <p:cNvPicPr/>
          <p:nvPr/>
        </p:nvPicPr>
        <p:blipFill>
          <a:blip r:embed="rId2"/>
          <a:stretch/>
        </p:blipFill>
        <p:spPr>
          <a:xfrm>
            <a:off x="928800" y="5143680"/>
            <a:ext cx="114300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3:47:29Z</dcterms:created>
  <dc:creator>ЛЮДМИЛА</dc:creator>
  <dc:description/>
  <dc:language>en-US</dc:language>
  <cp:lastModifiedBy>Светлана</cp:lastModifiedBy>
  <dcterms:modified xsi:type="dcterms:W3CDTF">2017-09-13T17:43:23Z</dcterms:modified>
  <cp:revision>38</cp:revision>
  <dc:subject/>
  <dc:title>Адаптация детей  к детскому саду</dc:title>
</cp:coreProperties>
</file>