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4.png" ContentType="image/png"/>
  <Override PartName="/ppt/media/image3.gif" ContentType="image/gif"/>
  <Override PartName="/ppt/media/image6.png" ContentType="image/png"/>
  <Override PartName="/ppt/media/image7.gif" ContentType="image/gif"/>
  <Override PartName="/ppt/media/image12.gif" ContentType="image/gif"/>
  <Override PartName="/ppt/media/image8.gif" ContentType="image/gif"/>
  <Override PartName="/ppt/media/image13.gif" ContentType="image/gif"/>
  <Override PartName="/ppt/media/image9.gif" ContentType="image/gif"/>
  <Override PartName="/ppt/media/image10.gif" ContentType="image/gif"/>
  <Override PartName="/ppt/media/image11.gif" ContentType="image/gif"/>
  <Override PartName="/ppt/media/image1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97975-D8E1-40D5-B5D1-9D58568EF1A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27803-65F1-4999-B485-E8143809D8C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315F9-6308-4A34-9B2A-954297BA50B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л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865D0-EB8D-424D-BBD7-B3BB93562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7EF84-E942-4DD3-991F-DB185B03C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5F148-A179-4556-8B0A-37B7A76AD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87F6F-BBAB-4659-A062-8C62A4E45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3958C-AC09-4EC3-9055-05CA9A579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2E23E-1EDF-449D-B296-707E5CEC5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AF423-2A4E-4750-86D2-9879D8794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5C9CD-9A6C-4286-9C1B-5AC39DA36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8A645-F9A6-4546-A3B7-BF932759F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59642-2ACD-4CA3-AF2D-8F87FCEC2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0A7EF-0AB2-4C01-A075-DD01FE4B5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8AECB-96EA-4058-877B-BDFB9B720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8B79B-68BB-46B6-B789-D19A3AEF3BF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106640" y="3716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оспитатели первой младшей групп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Харькина Светлана Анатолье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Горбунова Валентина Алексее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WordArt 5"/>
          <p:cNvSpPr txBox="1"/>
          <p:nvPr/>
        </p:nvSpPr>
        <p:spPr>
          <a:xfrm>
            <a:off x="1116000" y="1700280"/>
            <a:ext cx="6915240" cy="179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Адаптация детей 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 детскому саду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571680" y="1643040"/>
            <a:ext cx="82296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Georgia"/>
              </a:rPr>
              <a:t>Заранее подготовьте  детский гардероб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Georgia"/>
              </a:rPr>
              <a:t>Старайтесь общаться с воспитателями доброжелательно, избегайте конфликтов по пустяка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Georgia"/>
              </a:rPr>
              <a:t>Мамино сердце разрывается при звуках отчаянного плача ребен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Georgia"/>
              </a:rPr>
              <a:t>Уходя – уходите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99"/>
                </a:solidFill>
                <a:latin typeface="Georgia"/>
              </a:rPr>
              <a:t>Не совершайте ошибки и не делайте перерывов в посещени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Georgia"/>
              </a:rPr>
              <a:t>Подготовка родителей.</a:t>
            </a:r>
            <a:br>
              <a:rPr sz="3200"/>
            </a:br>
            <a:r>
              <a:rPr b="1" lang="ru-RU" sz="3200" spc="-1" strike="noStrike">
                <a:solidFill>
                  <a:srgbClr val="cc0000"/>
                </a:solidFill>
                <a:latin typeface="Georgia"/>
              </a:rPr>
              <a:t>Поведение родителей в период адаптации детей к сад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500040" y="1285560"/>
            <a:ext cx="82296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Georgia"/>
              </a:rPr>
              <a:t>Обеспечьте малышу </a:t>
            </a:r>
            <a:r>
              <a:rPr b="1" i="1" lang="ru-RU" sz="2400" spc="-1" strike="noStrike">
                <a:solidFill>
                  <a:srgbClr val="000099"/>
                </a:solidFill>
                <a:latin typeface="Georgia"/>
              </a:rPr>
              <a:t>эмоциональную стабильность </a:t>
            </a:r>
            <a:r>
              <a:rPr b="0" lang="ru-RU" sz="2400" spc="-1" strike="noStrike">
                <a:solidFill>
                  <a:srgbClr val="000099"/>
                </a:solidFill>
                <a:latin typeface="Georgia"/>
              </a:rPr>
              <a:t>утро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Georgia"/>
              </a:rPr>
              <a:t>Выберите в семье </a:t>
            </a:r>
            <a:r>
              <a:rPr b="1" i="1" lang="ru-RU" sz="2400" spc="-1" strike="noStrike">
                <a:solidFill>
                  <a:srgbClr val="000099"/>
                </a:solidFill>
                <a:latin typeface="Georgia"/>
              </a:rPr>
              <a:t>гаранта </a:t>
            </a:r>
            <a:r>
              <a:rPr b="0" lang="ru-RU" sz="2400" spc="-1" strike="noStrike">
                <a:solidFill>
                  <a:srgbClr val="000099"/>
                </a:solidFill>
                <a:latin typeface="Georgia"/>
              </a:rPr>
              <a:t>позитивного расстава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Georgia"/>
              </a:rPr>
              <a:t>Позвольте малышу взять в детский сад эмоциональный </a:t>
            </a:r>
            <a:r>
              <a:rPr b="1" i="1" lang="ru-RU" sz="2400" spc="-1" strike="noStrike">
                <a:solidFill>
                  <a:srgbClr val="000099"/>
                </a:solidFill>
                <a:latin typeface="Georgia"/>
              </a:rPr>
              <a:t>якор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Georgia"/>
              </a:rPr>
              <a:t>С ребенком обязательно надо попрощаться, но помните о </a:t>
            </a:r>
            <a:r>
              <a:rPr b="1" i="1" lang="ru-RU" sz="2400" spc="-1" strike="noStrike">
                <a:solidFill>
                  <a:srgbClr val="000099"/>
                </a:solidFill>
                <a:latin typeface="Georgia"/>
              </a:rPr>
              <a:t>золотой середи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Georgia"/>
              </a:rPr>
              <a:t>Разработайте </a:t>
            </a:r>
            <a:r>
              <a:rPr b="1" i="1" lang="ru-RU" sz="2400" spc="-1" strike="noStrike">
                <a:solidFill>
                  <a:srgbClr val="000099"/>
                </a:solidFill>
                <a:latin typeface="Georgia"/>
              </a:rPr>
              <a:t>ритуал </a:t>
            </a:r>
            <a:r>
              <a:rPr b="0" lang="ru-RU" sz="2400" spc="-1" strike="noStrike">
                <a:solidFill>
                  <a:srgbClr val="000099"/>
                </a:solidFill>
                <a:latin typeface="Georgia"/>
              </a:rPr>
              <a:t>прощ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Georgia"/>
              </a:rPr>
              <a:t>Выберите удобные </a:t>
            </a:r>
            <a:r>
              <a:rPr b="1" i="1" lang="ru-RU" sz="2400" spc="-1" strike="noStrike">
                <a:solidFill>
                  <a:srgbClr val="000099"/>
                </a:solidFill>
                <a:latin typeface="Georgia"/>
              </a:rPr>
              <a:t>точки отсче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Georgia"/>
              </a:rPr>
              <a:t>Найдите </a:t>
            </a:r>
            <a:r>
              <a:rPr b="1" i="1" lang="ru-RU" sz="2400" spc="-1" strike="noStrike">
                <a:solidFill>
                  <a:srgbClr val="000099"/>
                </a:solidFill>
                <a:latin typeface="Georgia"/>
              </a:rPr>
              <a:t>«прощальное окошко», </a:t>
            </a:r>
            <a:r>
              <a:rPr b="0" lang="ru-RU" sz="2400" spc="-1" strike="noStrike">
                <a:solidFill>
                  <a:srgbClr val="000099"/>
                </a:solidFill>
                <a:latin typeface="Georgia"/>
              </a:rPr>
              <a:t>откуда можно выглянуть и помахать рук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Georgia"/>
              </a:rPr>
              <a:t>И улыбнитесь друг другу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WordArt 4"/>
          <p:cNvSpPr txBox="1"/>
          <p:nvPr/>
        </p:nvSpPr>
        <p:spPr>
          <a:xfrm>
            <a:off x="1285920" y="214200"/>
            <a:ext cx="6572160" cy="83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ЕХНИК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ОЗИТИВНОГО РАССТАВАНИЯ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79" name="Picture 6" descr="F:\Картинки\Анимация\Люди, дети\a3be690535b275d3a3afdf50a72ecd48.gif"/>
          <p:cNvPicPr/>
          <p:nvPr/>
        </p:nvPicPr>
        <p:blipFill>
          <a:blip r:embed="rId1"/>
          <a:stretch/>
        </p:blipFill>
        <p:spPr>
          <a:xfrm>
            <a:off x="6929280" y="5072040"/>
            <a:ext cx="1571760" cy="15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57200" y="857160"/>
            <a:ext cx="822960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cc0000"/>
                </a:solidFill>
                <a:latin typeface="Arial"/>
              </a:rPr>
              <a:t>Запаситесь терпением, и детский сад будет привычным и уютным миром для вашего малыш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6" descr="C:\Documents and Settings\Людмила\Рабочий стол\Хорошо-плохо\малыш с игрушками.png"/>
          <p:cNvPicPr/>
          <p:nvPr/>
        </p:nvPicPr>
        <p:blipFill>
          <a:blip r:embed="rId1"/>
          <a:stretch/>
        </p:blipFill>
        <p:spPr>
          <a:xfrm>
            <a:off x="2571840" y="2714760"/>
            <a:ext cx="3714840" cy="35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WordArt 4"/>
          <p:cNvSpPr txBox="1"/>
          <p:nvPr/>
        </p:nvSpPr>
        <p:spPr>
          <a:xfrm>
            <a:off x="900000" y="2421000"/>
            <a:ext cx="712944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ПАСИБО </a:t>
            </a:r>
            <a:endParaRPr b="0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А ВНИМАНИЕ</a:t>
            </a:r>
            <a:endParaRPr b="0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cc0000"/>
                </a:solidFill>
                <a:latin typeface="Georgia"/>
              </a:rPr>
              <a:t>Зачем идти ребенку </a:t>
            </a:r>
            <a:br>
              <a:rPr sz="3600"/>
            </a:br>
            <a:r>
              <a:rPr b="1" lang="ru-RU" sz="3600" spc="-1" strike="noStrike">
                <a:solidFill>
                  <a:srgbClr val="cc0000"/>
                </a:solidFill>
                <a:latin typeface="Georgia"/>
              </a:rPr>
              <a:t>в детский сад?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3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Georgia"/>
              </a:rPr>
              <a:t>В детском саду ребенок имеет возможность общаться со сверстник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Georgia"/>
              </a:rPr>
              <a:t>Ребенок приобретает навыки общения с взрослыми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Georgia"/>
              </a:rPr>
              <a:t>В детском саду ребенок знакомится с определенными правилами и учится соблюдать и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Georgia"/>
              </a:rPr>
              <a:t>Ребенок получает возможность интеллектуального и физического развит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6c607259162c"/>
          <p:cNvPicPr/>
          <p:nvPr/>
        </p:nvPicPr>
        <p:blipFill>
          <a:blip r:embed="rId1"/>
          <a:stretch/>
        </p:blipFill>
        <p:spPr>
          <a:xfrm>
            <a:off x="4429080" y="5791320"/>
            <a:ext cx="1181160" cy="1066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" descr="F:\Адаптация\Новая папка\70054606_on_i_ona_v_kresle.gif"/>
          <p:cNvPicPr/>
          <p:nvPr/>
        </p:nvPicPr>
        <p:blipFill>
          <a:blip r:embed="rId2"/>
          <a:stretch/>
        </p:blipFill>
        <p:spPr>
          <a:xfrm>
            <a:off x="6929280" y="1500120"/>
            <a:ext cx="1006560" cy="10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999720"/>
            <a:ext cx="8229600" cy="40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99"/>
                </a:solidFill>
                <a:latin typeface="Georgia"/>
              </a:rPr>
              <a:t>Чтобы детский сад действительно оказался приятным и полезным местом для Вашего ребенка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99"/>
                </a:solidFill>
                <a:latin typeface="Georgia"/>
              </a:rPr>
              <a:t>нужн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Georgia"/>
              </a:rPr>
              <a:t>хорошо подумать и понять, для чего именно он нужен Вам  и вашему ребенку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F:\САЙТ\Логотип\мальчик и девочка.png"/>
          <p:cNvPicPr/>
          <p:nvPr/>
        </p:nvPicPr>
        <p:blipFill>
          <a:blip r:embed="rId1"/>
          <a:stretch/>
        </p:blipFill>
        <p:spPr>
          <a:xfrm>
            <a:off x="5429160" y="4714920"/>
            <a:ext cx="293544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6" descr=""/>
          <p:cNvPicPr/>
          <p:nvPr/>
        </p:nvPicPr>
        <p:blipFill>
          <a:blip r:embed="rId1"/>
          <a:stretch/>
        </p:blipFill>
        <p:spPr>
          <a:xfrm>
            <a:off x="6272280" y="4611600"/>
            <a:ext cx="2376360" cy="2130480"/>
          </a:xfrm>
          <a:prstGeom prst="rect">
            <a:avLst/>
          </a:prstGeom>
          <a:ln w="0">
            <a:noFill/>
          </a:ln>
        </p:spPr>
      </p:pic>
      <p:sp>
        <p:nvSpPr>
          <p:cNvPr id="57" name="WordArt 6"/>
          <p:cNvSpPr txBox="1"/>
          <p:nvPr/>
        </p:nvSpPr>
        <p:spPr>
          <a:xfrm>
            <a:off x="2357280" y="500040"/>
            <a:ext cx="42865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АДАПТАЦИЯ</a:t>
            </a:r>
            <a:endParaRPr b="0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642960" y="3786120"/>
            <a:ext cx="82296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В силах родителей и педагогов сделать жизнь ребенк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счастливой, интересной и насыщенной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оугольник 4"/>
          <p:cNvSpPr/>
          <p:nvPr/>
        </p:nvSpPr>
        <p:spPr>
          <a:xfrm>
            <a:off x="1000080" y="1285920"/>
            <a:ext cx="6929640" cy="284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3399"/>
                </a:solidFill>
                <a:latin typeface="Georgia"/>
              </a:rPr>
              <a:t>от лат. «приспособляю» — это сложный процесс приспособления организма, который происходит на разных уров­нях: физиологическом, социальном, психологическ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Georgia"/>
              </a:rPr>
              <a:t>Миф 1.</a:t>
            </a:r>
            <a:r>
              <a:rPr b="1" lang="ru-RU" sz="2400" spc="-1" strike="noStrike">
                <a:solidFill>
                  <a:srgbClr val="000099"/>
                </a:solidFill>
                <a:latin typeface="Georgia"/>
              </a:rPr>
              <a:t> </a:t>
            </a:r>
            <a:r>
              <a:rPr b="0" lang="ru-RU" sz="2400" spc="-1" strike="noStrike">
                <a:solidFill>
                  <a:srgbClr val="000099"/>
                </a:solidFill>
                <a:latin typeface="Georgia"/>
              </a:rPr>
              <a:t>Адаптация к детскому саду проходит трудно и мучительно. Я боюсь, что у нас будет то же само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Georgia"/>
              </a:rPr>
              <a:t>Миф 2.</a:t>
            </a:r>
            <a:r>
              <a:rPr b="1" lang="ru-RU" sz="2400" spc="-1" strike="noStrike">
                <a:solidFill>
                  <a:srgbClr val="000099"/>
                </a:solidFill>
                <a:latin typeface="Georgia"/>
              </a:rPr>
              <a:t> </a:t>
            </a:r>
            <a:r>
              <a:rPr b="0" lang="ru-RU" sz="2400" spc="-1" strike="noStrike">
                <a:solidFill>
                  <a:srgbClr val="000099"/>
                </a:solidFill>
                <a:latin typeface="Georgia"/>
              </a:rPr>
              <a:t>Дети в детском саду все время болеют, потому что за ними плохо следят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Georgia"/>
              </a:rPr>
              <a:t>Миф 3.</a:t>
            </a:r>
            <a:r>
              <a:rPr b="1" lang="ru-RU" sz="2400" spc="-1" strike="noStrike">
                <a:solidFill>
                  <a:srgbClr val="000099"/>
                </a:solidFill>
                <a:latin typeface="Georgia"/>
              </a:rPr>
              <a:t> </a:t>
            </a:r>
            <a:r>
              <a:rPr b="0" lang="ru-RU" sz="2400" spc="-1" strike="noStrike">
                <a:solidFill>
                  <a:srgbClr val="000099"/>
                </a:solidFill>
                <a:latin typeface="Georgia"/>
              </a:rPr>
              <a:t>У ребенка, который начинает ходить в детский сад, портится характер, он становится просто невыносимы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WordArt 4"/>
          <p:cNvSpPr txBox="1"/>
          <p:nvPr/>
        </p:nvSpPr>
        <p:spPr>
          <a:xfrm>
            <a:off x="1763640" y="476280"/>
            <a:ext cx="5761080" cy="64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ифы об адаптации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2" name="Picture 4" descr="F:\Картинки\Анимация\Люди, дети\t8512.gif"/>
          <p:cNvPicPr/>
          <p:nvPr/>
        </p:nvPicPr>
        <p:blipFill>
          <a:blip r:embed="rId1"/>
          <a:stretch/>
        </p:blipFill>
        <p:spPr>
          <a:xfrm>
            <a:off x="3643200" y="4857840"/>
            <a:ext cx="1729080" cy="17287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F:\Картинки\Анимация\Люди, дети\73.gif"/>
          <p:cNvPicPr/>
          <p:nvPr/>
        </p:nvPicPr>
        <p:blipFill>
          <a:blip r:embed="rId2"/>
          <a:stretch/>
        </p:blipFill>
        <p:spPr>
          <a:xfrm>
            <a:off x="7429680" y="3143160"/>
            <a:ext cx="1238040" cy="10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Georgia"/>
              </a:rPr>
              <a:t>Длительность и течение адаптации зависит от многих факторов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28480"/>
            <a:ext cx="822960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Georgia"/>
              </a:rPr>
              <a:t>особенностей высшей нервной деятельности (темперамента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Georgia"/>
              </a:rPr>
              <a:t>возраста ребенк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Georgia"/>
              </a:rPr>
              <a:t>состояния здоровь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Georgia"/>
              </a:rPr>
              <a:t>разницы в обстановке, в которой ребенок находился дома, и той, в которой находится в детском саду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Georgia"/>
              </a:rPr>
              <a:t>условий в дошкольном учреждени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Georgia"/>
              </a:rPr>
              <a:t>поведения и эмоционального состояния взрослых (тревожность, негативизм к детскому саду…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Как подготовить ребенка к посещению детского са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8360" y="128592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99"/>
                </a:solidFill>
                <a:latin typeface="Georgia"/>
              </a:rPr>
              <a:t>Увеличьте круг общения вашего малыша с взрослыми и деть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99"/>
                </a:solidFill>
                <a:latin typeface="Georgia"/>
              </a:rPr>
              <a:t>Ребенок, который отправился в детский сад, должен обладать определенными культурно-гигиеническими навыками и навыками самообслужив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99"/>
                </a:solidFill>
                <a:latin typeface="Georgia"/>
              </a:rPr>
              <a:t>Позаботьтесь об укреплении здоровья малыш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99"/>
                </a:solidFill>
                <a:latin typeface="Georgia"/>
              </a:rPr>
              <a:t>Заранее знакомьте ребенка с детским садо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539640" y="1773360"/>
            <a:ext cx="8064720" cy="44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7" descr="F:\Картинки\Анимация\Люди, дети\10.gif"/>
          <p:cNvPicPr/>
          <p:nvPr/>
        </p:nvPicPr>
        <p:blipFill>
          <a:blip r:embed="rId1"/>
          <a:stretch/>
        </p:blipFill>
        <p:spPr>
          <a:xfrm>
            <a:off x="3929040" y="5286240"/>
            <a:ext cx="125748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457200" y="428760"/>
            <a:ext cx="8229600" cy="56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Georgia"/>
              </a:rPr>
              <a:t>Начиная подготовку малыша к походу в детский сад, придерживайтесь режима близкого к режиму в детском сад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Georgia"/>
              </a:rPr>
              <a:t>Примерный режим дн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Georgia"/>
              </a:rPr>
              <a:t>Прием детей      </a:t>
            </a:r>
            <a:r>
              <a:rPr b="0" lang="ru-RU" sz="2400" spc="-1" strike="noStrike">
                <a:solidFill>
                  <a:srgbClr val="000099"/>
                </a:solidFill>
                <a:latin typeface="Georgia"/>
              </a:rPr>
              <a:t>	</a:t>
            </a:r>
            <a:r>
              <a:rPr b="0" lang="ru-RU" sz="2400" spc="-1" strike="noStrike">
                <a:solidFill>
                  <a:srgbClr val="000099"/>
                </a:solidFill>
                <a:latin typeface="Georgia"/>
              </a:rPr>
              <a:t>                 до 8.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Georgia"/>
              </a:rPr>
              <a:t>Завтрак                                       8.20–8.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Georgia"/>
              </a:rPr>
              <a:t>Игры, занятия, прогулка      9.00–11.4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Georgia"/>
              </a:rPr>
              <a:t>Подготовка к обеду, обед    11.45–12.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Georgia"/>
              </a:rPr>
              <a:t>Подготовка ко сну, сон        12.00–15.0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Georgia"/>
              </a:rPr>
              <a:t>Подъем, оздоровление, гигиеническ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Georgia"/>
              </a:rPr>
              <a:t>процедуры, полдник            15.00–16.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Georgia"/>
              </a:rPr>
              <a:t>Активное бодрствование     16.00–17.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Georgia"/>
              </a:rPr>
              <a:t>Прогулка                                   17.00–17.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Georgia"/>
              </a:rPr>
              <a:t>Игры, уход домой          </a:t>
            </a:r>
            <a:r>
              <a:rPr b="0" lang="ru-RU" sz="2400" spc="-1" strike="noStrike">
                <a:solidFill>
                  <a:srgbClr val="000099"/>
                </a:solidFill>
                <a:latin typeface="Georgia"/>
              </a:rPr>
              <a:t>	</a:t>
            </a:r>
            <a:r>
              <a:rPr b="0" lang="ru-RU" sz="2400" spc="-1" strike="noStrike">
                <a:solidFill>
                  <a:srgbClr val="000099"/>
                </a:solidFill>
                <a:latin typeface="Georgia"/>
              </a:rPr>
              <a:t>    17.30–19.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Georgia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6" descr="F:\Картинки\Анимация\Люди, дети\5.gif"/>
          <p:cNvPicPr/>
          <p:nvPr/>
        </p:nvPicPr>
        <p:blipFill>
          <a:blip r:embed="rId1"/>
          <a:stretch/>
        </p:blipFill>
        <p:spPr>
          <a:xfrm>
            <a:off x="6858000" y="2928960"/>
            <a:ext cx="1488960" cy="22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457200" y="356760"/>
            <a:ext cx="8229600" cy="57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Georgia"/>
              </a:rPr>
              <a:t>Приблизьте домашний режим питания к детсадовскому. Переходите на новый режим питания постепенно, чтобы перемены были не слишком ощутим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Georgia"/>
              </a:rPr>
              <a:t>Помните, что в первый месяц посещения детского сада пребывание в группе  будет увеличиваться постепенно, на 2–3 час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7"/>
          <p:cNvPicPr/>
          <p:nvPr/>
        </p:nvPicPr>
        <p:blipFill>
          <a:blip r:embed="rId1"/>
          <a:stretch/>
        </p:blipFill>
        <p:spPr>
          <a:xfrm>
            <a:off x="6643800" y="1643040"/>
            <a:ext cx="1290600" cy="13366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9" descr="9"/>
          <p:cNvPicPr/>
          <p:nvPr/>
        </p:nvPicPr>
        <p:blipFill>
          <a:blip r:embed="rId2"/>
          <a:stretch/>
        </p:blipFill>
        <p:spPr>
          <a:xfrm>
            <a:off x="928800" y="5143680"/>
            <a:ext cx="1143000" cy="127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7T13:47:29Z</dcterms:created>
  <dc:creator>ЛЮДМИЛА</dc:creator>
  <dc:description/>
  <dc:language>en-US</dc:language>
  <cp:lastModifiedBy>Светлана</cp:lastModifiedBy>
  <dcterms:modified xsi:type="dcterms:W3CDTF">2017-09-13T17:43:23Z</dcterms:modified>
  <cp:revision>38</cp:revision>
  <dc:subject/>
  <dc:title>Адаптация детей  к детскому саду</dc:title>
</cp:coreProperties>
</file>