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DDA-CEAF-4B85-8AFE-220F19F2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749-FC75-420D-A8DC-2DA6448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723-E305-4B36-9319-3BFF2E4F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91D-9A4C-4FF2-B24B-EC4D9898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A35-FF55-4FAD-96E4-64564277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F137-B002-4787-AFBE-8A47EC23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01D-7E73-47E8-851E-36B45A33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AF1F-AF3C-4FF4-A78D-11517DF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6A9-7292-4969-95A6-56C91A7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F1A-5713-454E-866D-B137BC7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BA13-02AB-4C09-B612-8C192FF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2A4-A2E7-4BE4-B628-B37CA576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593-DC46-4416-9678-1F25BC0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3519-B028-496D-82B4-A235C806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0B2-9DF7-45C6-9DD5-4B604BE9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FC8-7E65-4BC5-A681-F1B85AE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E590-A6B0-4D35-9FCE-3E0A988C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1C75-6E5E-4919-9CE7-667E2F24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F3DB-E41D-4591-8FE6-70A27DF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60AB-E827-43F2-8766-60D47B2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0DFC-0136-4C38-AC69-414705D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4A5E-5D7F-46B5-A5FE-C027A7A6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50E-EE50-43C9-A1D0-DF0174D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AFAF-2E1D-40C1-A577-3651CEF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6DC5-0BE3-4E37-97AD-B364587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D56A-0A7D-4E54-B415-5DE35039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0957-EAED-4F38-B7F6-A8552D7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20BF-9EA8-468F-B065-573E58F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BBA7-92F3-4507-8517-BBFF5C0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47D5-9E27-424D-8ABB-45499AC7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6E21-7038-410C-B981-E2699923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2131-E088-4C03-88AD-6A8BA625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4B47-9B61-4321-BE32-2F4B86E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826-3CFA-4651-A66B-B042370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F4CF-E4C5-455E-8CEB-387C5BE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F3D4-2A50-4A86-B21B-002D2DA5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3D90-E4B7-4F43-847E-6918F3C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BED8-1ED1-4D97-81A7-9A7E4205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9C1C-ECC3-43E1-B5A1-7C81B5F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47705-F164-4136-8F74-35A5AE8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A8A7-FD9B-40E5-B6A0-2FFBB42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8450-AD6F-4C3F-B468-AEC95A26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3E7E-BC78-4FBB-9565-32D912E4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859C-0FF6-4A04-A0B4-AE22384D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4BE-9AD4-401E-B2D7-6A7039A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E127-A3A5-44DB-A9C3-CC53BDCE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31AB-0B08-4628-A395-956F666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5B96-E8FE-4D95-83C8-9E28D0E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69A9-6AB1-4E5F-9E07-B1401AEE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BEB37-6C00-4502-AD84-A45255D3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D3CB-B329-46F9-B734-6136495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A051-A0A0-43D0-B487-402A86E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92297-89E1-42D5-AD07-B625D57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8254-57A2-4AF3-9831-B2D3787D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18B0-8E7B-4501-9CFC-7A1FAA5E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69C-1517-4B61-969A-BBD6A48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F25E-2556-4239-A12C-EE98511C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648-3183-4B3F-960F-C2868AE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632-D9E9-4777-9EFB-D7709D6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35F-60DD-4E9A-A8D5-66E26C1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46F-7E6A-4881-9E3F-34D3673ABD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E42F-95FE-4BA3-A3BD-CA04B71459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DDC-937F-43CC-A9E5-B9962B1271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832-DEB3-453C-9D62-F6F45BCD656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62E-568A-4F5D-BB1E-F80409765A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АКЦЕНТУАЦИИ</a:t>
            </a:r>
            <a:br>
              <a:rPr sz="4500"/>
            </a:b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ХАРАКТЕРА </a:t>
            </a:r>
            <a:br>
              <a:rPr sz="4500"/>
            </a:b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ПОДРОСТКОВ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Рисунок 6" descr="E:\Мои документы\фото шк-инт №1 2010-11 год\DSC02576.JPG"/>
          <p:cNvPicPr/>
          <p:nvPr/>
        </p:nvPicPr>
        <p:blipFill>
          <a:blip r:embed="rId1"/>
          <a:stretch/>
        </p:blipFill>
        <p:spPr>
          <a:xfrm>
            <a:off x="2643120" y="371484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8. Сензитив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новные черты – робость, стеснительность, чувство собственной неполноценности. Увлечения можно разделить на истинные, гармонирующие с их особенностями, и на те, которые им не свойственны, обусловлены реакцией гиперкомпенсации. Первая группа увлечений относится к интеллектуально-эстетическим занятиям: музыкой, шахматами и т.д. Другая группа направлена на общественную работу, либо на силовые виды спор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9. Психастеническ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Его особенности – повышенная тревожность, мнительность, трудность принятия решений. Увлечения ограничены интеллектуально - эстетическими занятиями. Интерес и профессиональные склонности, как правило, лежат в таких сферах деятельности как «человек-природа», «человек - художественный образ»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10. Астено-невротическ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Главные черты – астения, повышенная утомляемость, плохая переносимость нагрузок и напряжения, фиксация на состоянии здоровья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11.Шиз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собенности типа – отгороженность, замкнутость, трудность в установлении контактов со сверстниками, своеобразность и необычность занятий и увлечений. Они поражают необычностью выбора предмета увлечения – буддизм, китайские иероглифы и т.п. Им хорошо даются тонкие ручные навыки: прикладное искусство, игра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855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ИПЕРТИМНЫЙ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3" descr="F:\Предметная неделя математики 2011-12\фото предметной недели\DSC04358.JPG"/>
          <p:cNvPicPr/>
          <p:nvPr/>
        </p:nvPicPr>
        <p:blipFill>
          <a:blip r:embed="rId1"/>
          <a:stretch/>
        </p:blipFill>
        <p:spPr>
          <a:xfrm>
            <a:off x="5000760" y="500040"/>
            <a:ext cx="336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 Black"/>
              </a:rPr>
              <a:t>1. Гипертимный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лавная особенность этого типа – постоянно приподнятое настроение, высокий жизненный тонус, активность и предприимчивость. Подростки этого типа плохо переносят дисциплинарный, авторитарный режим, отсутствие широких контактов со сверстниками. Их склонности и интересы отличаются крайним разнообразием и непостоянств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 Black"/>
              </a:rPr>
              <a:t>2. Эпилептоидны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Характеризуется недостаточной управляемостью поведения, нетерпимостью, конфликтностью, а также вязкостью мышления, педантичностью. Подростки данного типа хорошо чувствуют себя в условиях строгого дисциплинарного режима, особенно если им удается добиться положения, дающего им определенную власть. Все их увлечения, как правило, связаны с коллекционированием, которое часто сочетается с особой тщательностью и аккуратностью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3. Лабиль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тличается крайне изменчивым настроением. Интере интересы и увлечения ограничиваются жаждой получения новой, легко доступной информации, не требующей критической интеллектуальной обработки, отсюда потребность во множестве поверхностных контактов, позволяющих обмениваться такой информацией, либо увлечение теми занятиями, которые являются престижными в глазах окружающ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4. Конформ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Главные черты этого типа – постоянная ориентация на нормы и ценности ближайшего окружения, консервативность и безынициативность. Они легко справляются с работой и могут достигнуть хороших результатов, если от них не требуется постоянной личной инициативы, четкого регламентирования и заранее известно, что и как делать в каждой ситу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5. Неустойчив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ица этого типа слабовольны, легко внушаемы, не имеют устойчивых интересов и склонностей. Все их поступки определяются случайными внешними обстоятельствами. Но в условиях жесткого режима и дисциплины могут приобрести положительные трудовые навыки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6. Истер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лавные черты – эгоцентризм, демонстративность и жажда постоянного внимания. Все интересы и увлечения подростков связаны с занятиями, которые позволяют оказаться в центре внимания. Они участвуют в самодеятельности, увлекаются экстравагантной одеждой, могут заниматься изучением языков, литературной деятельностью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7. Цикл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тличаются резкими сменами настроения. Характерен сниженный фон настроения, вялость упадок сил, все валится из рук. То, что легко получалось вчера, сегодня совсем не получается или требует больших усилий. В учебе периоды активной работы сменяются безразличием к предметам. В разное время он ведет себя то как гипертим, то как гипот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52:35Z</dcterms:created>
  <dc:creator>АДМИН</dc:creator>
  <dc:description/>
  <dc:language>en-US</dc:language>
  <cp:lastModifiedBy>Марина</cp:lastModifiedBy>
  <dcterms:modified xsi:type="dcterms:W3CDTF">2018-07-17T11:09:14Z</dcterms:modified>
  <cp:revision>8</cp:revision>
  <dc:subject/>
  <dc:title>АКЦЕНТУАЦИИ ХАРАКТЕРА  ПОДРОСТКОВ</dc:title>
</cp:coreProperties>
</file>