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B59-B74F-4F8B-BEB0-0971C234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85A-F439-4DE2-BB83-CDEB238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C8C-AE30-4B9A-9744-E74E4713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037-3224-4B1E-864E-11E2908E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CCE8-5692-498A-A822-1BF3746A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B7A8-25C2-44DE-AA68-D1D2035E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FFCC-EBA5-4E54-8BAF-F9747536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0354-BDB2-4B78-850A-337EF79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8C58-FDA1-4FA1-BBE3-F6B76C8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3878-1AEA-4AE8-BEC5-6FE29DD5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B79-C4D6-41A7-BFB2-85890A77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3B7-D5E8-4240-BFFE-96C2763D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A1B-3923-43E0-B607-FA39A73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A4C-6AA5-4BA9-A8CF-9A8F9E96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572F-4578-4E47-B276-F63E6A1F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5BD-14F2-49B5-BEAC-1C2C1B38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1ECE-ED90-4148-9A52-E68BF866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9529-883C-4ABB-846B-5B44648F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78E0-1C02-427C-8860-32731D7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ABF4-D7D9-4E6B-99F3-078320AC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6581-987C-4C9B-B877-862B8F6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5EA0-C103-44F9-8B7A-9AF6C37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F5D-B21E-4B60-985F-932CE5A2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CD180-2D89-445B-A0AB-2B7069D7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D7FF-C270-4A83-BAD8-DA36809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B47B-3072-438D-87A3-CFDB07A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ED1F-23CC-4117-AF24-A82EA1A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06F9-6064-4BB4-A4C4-24BDC3F3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DF35-2423-4217-B3B5-9B40D7D6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AA6B-C64C-4397-8851-D27E16BA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6C0C-319A-4B39-BAB5-7D9E7BD6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6B4B-870E-4379-A7AC-249453F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35E7-CBB5-433C-8E6C-67FE6556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CE1-7A47-4799-88F8-199052F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74BE-3F14-4436-B178-A72B79A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DA5B-6235-4CC0-AB60-00B18FF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95FF-53EB-4008-9F22-5F52BAB6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21BF-622D-4AA6-95F2-EA638B69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77ED-B5FC-4CD5-B5E2-5B7A765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C37F-865A-4874-A8B8-3A42A18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3B55-718E-4963-AAC2-25238D36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AB5F-7115-458C-9F8C-1487A83D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A29C-E4D7-48C4-8FAA-C3A26931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EFEA-C907-4660-8A77-B22E7E23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E50-B9C4-4BE5-B557-991A6FBC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499D-6FB3-4D92-91F2-B2EACE80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45905-45E2-47C5-BE7F-BCFCABAE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A169A-4F17-47FC-A249-56F798E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AF88-4B63-4B9E-8F9B-6748647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35F6-9A86-4F44-8DDF-99F3427A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1DB73-B4D0-4845-AA1C-9EE9AB5A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9AFAC-5FC0-4139-89FF-D9CE57D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8D529-A269-42B4-AD2F-71420AD2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EC10-5F39-4B02-A481-EF64886E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D58C5-0430-4F2D-A607-F9D2F68B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9FCD-17E1-4F40-B0BB-0E8DBB6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6BF6-6F05-44CD-B160-73476793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AD4-4AB3-4923-B51C-41AB8A9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3CB-195D-4671-A8B2-DC1882C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C4E-3BAD-4305-A6D1-6C08887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771F-17FF-4D62-8206-3DD9C6EB22D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6B7-55AA-4326-9E09-9FF127AA53B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685-0173-49C9-B450-A3C3C58004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C5D-39C9-4FAF-80EC-3C6F2EC6368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2FD-523A-4C1F-B75A-B89EFF28A5D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0141b"/>
                </a:solidFill>
                <a:latin typeface="Century"/>
              </a:rPr>
              <a:t>АКЦЕНТУАЦИИ</a:t>
            </a:r>
            <a:br>
              <a:rPr sz="4500"/>
            </a:br>
            <a:r>
              <a:rPr b="1" lang="ru-RU" sz="4500" spc="-1" strike="noStrike">
                <a:solidFill>
                  <a:srgbClr val="50141b"/>
                </a:solidFill>
                <a:latin typeface="Century"/>
              </a:rPr>
              <a:t>ХАРАКТЕРА </a:t>
            </a:r>
            <a:br>
              <a:rPr sz="4500"/>
            </a:br>
            <a:r>
              <a:rPr b="1" lang="ru-RU" sz="4500" spc="-1" strike="noStrike">
                <a:solidFill>
                  <a:srgbClr val="50141b"/>
                </a:solidFill>
                <a:latin typeface="Century"/>
              </a:rPr>
              <a:t>ПОДРОСТКОВ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Рисунок 6" descr="E:\Мои документы\фото шк-инт №1 2010-11 год\DSC02576.JPG"/>
          <p:cNvPicPr/>
          <p:nvPr/>
        </p:nvPicPr>
        <p:blipFill>
          <a:blip r:embed="rId1"/>
          <a:stretch/>
        </p:blipFill>
        <p:spPr>
          <a:xfrm>
            <a:off x="2643120" y="371484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8. Сензитив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новные черты – робость, стеснительность, чувство собственной неполноценности. Увлечения можно разделить на истинные, гармонирующие с их особенностями, и на те, которые им не свойственны, обусловлены реакцией гиперкомпенсации. Первая группа увлечений относится к интеллектуально-эстетическим занятиям: музыкой, шахматами и т.д. Другая группа направлена на общественную работу, либо на силовые виды спор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9. Психастеническ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Его особенности – повышенная тревожность, мнительность, трудность принятия решений. Увлечения ограничены интеллектуально - эстетическими занятиями. Интерес и профессиональные склонности, как правило, лежат в таких сферах деятельности как «человек-природа», «человек - художественный образ»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10. Астено-невротическ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Главные черты – астения, повышенная утомляемость, плохая переносимость нагрузок и напряжения, фиксация на состоянии здоровья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11.Шизоид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Особенности типа – отгороженность, замкнутость, трудность в установлении контактов со сверстниками, своеобразность и необычность занятий и увлечений. Они поражают необычностью выбора предмета увлечения – буддизм, китайские иероглифы и т.п. Им хорошо даются тонкие ручные навыки: прикладное искусство, игра на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855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ИПЕРТИМНЫЙ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3" descr="F:\Предметная неделя математики 2011-12\фото предметной недели\DSC04358.JPG"/>
          <p:cNvPicPr/>
          <p:nvPr/>
        </p:nvPicPr>
        <p:blipFill>
          <a:blip r:embed="rId1"/>
          <a:stretch/>
        </p:blipFill>
        <p:spPr>
          <a:xfrm>
            <a:off x="5000760" y="500040"/>
            <a:ext cx="336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 Black"/>
              </a:rPr>
              <a:t>1. Гипертимный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Главная особенность этого типа – постоянно приподнятое настроение, высокий жизненный тонус, активность и предприимчивость. Подростки этого типа плохо переносят дисциплинарный, авторитарный режим, отсутствие широких контактов со сверстниками. Их склонности и интересы отличаются крайним разнообразием и непостоянств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 Black"/>
              </a:rPr>
              <a:t>2. Эпилептоидны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Характеризуется недостаточной управляемостью поведения, нетерпимостью, конфликтностью, а также вязкостью мышления, педантичностью. Подростки данного типа хорошо чувствуют себя в условиях строгого дисциплинарного режима, особенно если им удается добиться положения, дающего им определенную власть. Все их увлечения, как правило, связаны с коллекционированием, которое часто сочетается с особой тщательностью и аккуратностью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3. Лабиль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Отличается крайне изменчивым настроением. Интере интересы и увлечения ограничиваются жаждой получения новой, легко доступной информации, не требующей критической интеллектуальной обработки, отсюда потребность во множестве поверхностных контактов, позволяющих обмениваться такой информацией, либо увлечение теми занятиями, которые являются престижными в глазах окружающи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4. Конформ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Главные черты этого типа – постоянная ориентация на нормы и ценности ближайшего окружения, консервативность и безынициативность. Они легко справляются с работой и могут достигнуть хороших результатов, если от них не требуется постоянной личной инициативы, четкого регламентирования и заранее известно, что и как делать в каждой ситу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5. Неустойчив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Лица этого типа слабовольны, легко внушаемы, не имеют устойчивых интересов и склонностей. Все их поступки определяются случайными внешними обстоятельствами. Но в условиях жесткого режима и дисциплины могут приобрести положительные трудовые навыки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6. Истероид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лавные черты – эгоцентризм, демонстративность и жажда постоянного внимания. Все интересы и увлечения подростков связаны с занятиями, которые позволяют оказаться в центре внимания. Они участвуют в самодеятельности, увлекаются экстравагантной одеждой, могут заниматься изучением языков, литературной деятельностью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 Black"/>
              </a:rPr>
              <a:t>7. Циклоидны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Отличаются резкими сменами настроения. Характерен сниженный фон настроения, вялость упадок сил, все валится из рук. То, что легко получалось вчера, сегодня совсем не получается или требует больших усилий. В учебе периоды активной работы сменяются безразличием к предметам. В разное время он ведет себя то как гипертим, то как гипот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52:35Z</dcterms:created>
  <dc:creator>АДМИН</dc:creator>
  <dc:description/>
  <dc:language>en-US</dc:language>
  <cp:lastModifiedBy>Марина</cp:lastModifiedBy>
  <dcterms:modified xsi:type="dcterms:W3CDTF">2018-07-17T11:09:14Z</dcterms:modified>
  <cp:revision>8</cp:revision>
  <dc:subject/>
  <dc:title>АКЦЕНТУАЦИИ ХАРАКТЕРА  ПОДРОСТКОВ</dc:title>
</cp:coreProperties>
</file>