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04CB-8593-4F4B-B059-08059B222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C3F6-DAAA-4A15-9217-81D2DC1B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4638-CE5E-4D73-8627-5B7BD937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16DA-6082-4781-8D61-E243FC96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8433-58C5-46DA-AC42-F52AF5A4F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4805-3C17-4E6E-93FB-EC2F3FA8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EEF-2AD0-4A39-A96A-AF3269F8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E3CD3-8C91-4C00-AC54-73FA8977D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FE47-BD2E-4102-84AD-747E423ED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D47A-DAE8-4126-A748-39904F3B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3F98-6E2C-4E1F-9218-0225CB31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979E-B342-4D6E-935E-246563F82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EE41-D54C-4435-A840-AB39D56F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331AB-96F7-42C8-B14D-E3167281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73F6-3F56-4289-881C-D02712D7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8E3F-7910-44D9-BDC5-95B28125A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8985-03FA-4F3D-BFB7-017497C20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C0E6-3B5F-4C2A-A549-303A177E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56F6-22FB-4195-A767-AC58974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3B13-5990-4E93-A6D0-4C772DC4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0CFA-4099-4B69-A681-530C0A21C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2204-7D74-44F0-941A-DD0A10E2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F52B-43BD-49BB-8143-DF814A9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BFB-18A1-4234-9B0D-0162A1A1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114-F884-4AEA-8A22-B00001A6646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B8846-9994-4DBF-A1C8-77A9E6320475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Сочиняем </a:t>
            </a:r>
            <a:r>
              <a:rPr b="1" lang="en-US" sz="4800" spc="-1" strike="noStrike">
                <a:solidFill>
                  <a:srgbClr val="ff0066"/>
                </a:solidFill>
                <a:latin typeface="Tahoma"/>
              </a:rPr>
              <a:t>СИНКВЕЙН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413000"/>
            <a:ext cx="754380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Verdana"/>
              </a:rPr>
              <a:t>Синквейн</a:t>
            </a:r>
            <a:r>
              <a:rPr b="1" lang="en-US" sz="3600" spc="-1" strike="noStrike">
                <a:solidFill>
                  <a:srgbClr val="66ffff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– это короткое литературное произведение, характеризующее предмет (тему), состоящее из пяти строк, которое пишется по определённому плану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97524875"/>
          <p:cNvPicPr/>
          <p:nvPr/>
        </p:nvPicPr>
        <p:blipFill>
          <a:blip r:embed="rId1"/>
          <a:stretch/>
        </p:blipFill>
        <p:spPr>
          <a:xfrm>
            <a:off x="6516720" y="5108400"/>
            <a:ext cx="136692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119160" y="1268280"/>
            <a:ext cx="2724120" cy="32403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1280" y="404280"/>
            <a:ext cx="8353440" cy="6115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500" spc="-1" strike="noStrike">
                <a:solidFill>
                  <a:srgbClr val="ffff66"/>
                </a:solidFill>
                <a:latin typeface="Tahoma"/>
              </a:rPr>
              <a:t>Например:</a:t>
            </a:r>
            <a:br>
              <a:rPr sz="3500"/>
            </a:br>
            <a:br>
              <a:rPr sz="3100"/>
            </a:br>
            <a:r>
              <a:rPr b="0" i="1" lang="ru-RU" sz="3100" spc="-1" strike="noStrike">
                <a:solidFill>
                  <a:srgbClr val="66ffff"/>
                </a:solidFill>
                <a:latin typeface="Tahoma"/>
              </a:rPr>
              <a:t>о  Наталье Савишне</a:t>
            </a:r>
            <a:r>
              <a:rPr b="0" i="1" lang="ru-RU" sz="3100" spc="-1" strike="noStrike">
                <a:solidFill>
                  <a:srgbClr val="eaeaea"/>
                </a:solidFill>
                <a:latin typeface="Tahoma"/>
              </a:rPr>
              <a:t> </a:t>
            </a:r>
            <a:br>
              <a:rPr sz="3100"/>
            </a:br>
            <a:r>
              <a:rPr b="0" i="1" lang="ru-RU" sz="3100" spc="-1" strike="noStrike">
                <a:solidFill>
                  <a:srgbClr val="eaeaea"/>
                </a:solidFill>
                <a:latin typeface="Tahoma"/>
              </a:rPr>
              <a:t>:</a:t>
            </a:r>
            <a:br>
              <a:rPr sz="3100"/>
            </a:br>
            <a:br>
              <a:rPr sz="35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Наталья Савишна</a:t>
            </a:r>
            <a:br>
              <a:rPr sz="29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Бескорыстная, верная</a:t>
            </a:r>
            <a:br>
              <a:rPr sz="29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Привыкла, отказалась, жалеет</a:t>
            </a:r>
            <a:br>
              <a:rPr sz="2900"/>
            </a:br>
            <a:r>
              <a:rPr b="0" i="1" lang="ru-RU" sz="2400" spc="-1" strike="noStrike">
                <a:solidFill>
                  <a:srgbClr val="eaeaea"/>
                </a:solidFill>
                <a:latin typeface="Tahoma"/>
              </a:rPr>
              <a:t>«Вся жизнь ее была любовь и самопожертвование»</a:t>
            </a:r>
            <a:br>
              <a:rPr sz="2400"/>
            </a:br>
            <a:r>
              <a:rPr b="0" i="1" lang="ru-RU" sz="2900" spc="-1" strike="noStrike">
                <a:solidFill>
                  <a:srgbClr val="eaeaea"/>
                </a:solidFill>
                <a:latin typeface="Tahoma"/>
              </a:rPr>
              <a:t>«Чудесное создание»</a:t>
            </a:r>
            <a:br>
              <a:rPr sz="2900"/>
            </a:br>
            <a:endParaRPr b="1" lang="en-US" sz="29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80720" y="-360"/>
            <a:ext cx="8962920" cy="1081080"/>
          </a:xfrm>
          <a:prstGeom prst="rect">
            <a:avLst/>
          </a:prstGeom>
          <a:solidFill>
            <a:srgbClr val="c2f3fe"/>
          </a:solidFill>
          <a:ln w="9360">
            <a:solidFill>
              <a:srgbClr val="cc0000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Синквейны по произведению </a:t>
            </a:r>
            <a:br>
              <a:rPr sz="2800"/>
            </a:br>
            <a:r>
              <a:rPr b="1" i="1" lang="ru-RU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А.С. Пушкина «Капитанская дочка»: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179280" y="1281240"/>
            <a:ext cx="6639120" cy="19227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Грин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мелый, вер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тстаивает, не наруш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сновные качества: доброта, благородство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Преданность.</a:t>
            </a:r>
            <a:r>
              <a:rPr b="1" lang="en-US" sz="2400" spc="-1" strike="noStrike">
                <a:solidFill>
                  <a:srgbClr val="000066"/>
                </a:solidFill>
                <a:latin typeface="Palatino Linotyp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62360" y="4621320"/>
            <a:ext cx="6077160" cy="1922760"/>
          </a:xfrm>
          <a:prstGeom prst="rect">
            <a:avLst/>
          </a:prstGeom>
          <a:solidFill>
            <a:srgbClr val="c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Швабрин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Жестокий, корыст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Издевается, обманывает, предае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Вызывает чувство презрения, негодования.</a:t>
            </a:r>
            <a:br>
              <a:rPr sz="2400"/>
            </a:br>
            <a:r>
              <a:rPr b="1" i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Предател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4880520" y="2997360"/>
            <a:ext cx="4074480" cy="2288520"/>
          </a:xfrm>
          <a:prstGeom prst="rect">
            <a:avLst/>
          </a:prstGeom>
          <a:solidFill>
            <a:srgbClr val="e8b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Гринев</a:t>
            </a:r>
            <a:r>
              <a:rPr b="1" lang="en-US" sz="2400" spc="-1" strike="noStrike">
                <a:solidFill>
                  <a:srgbClr val="cc0000"/>
                </a:solidFill>
                <a:latin typeface="Palatino Linotype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Смелый, преданный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Жалеет, защищает, любит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Он бережет честь смолоду.</a:t>
            </a:r>
            <a:br>
              <a:rPr sz="2400"/>
            </a:br>
            <a:r>
              <a:rPr b="1" i="1" lang="en-US" sz="2400" spc="-1" strike="noStrike">
                <a:solidFill>
                  <a:srgbClr val="080808"/>
                </a:solidFill>
                <a:latin typeface="Times New Roman"/>
                <a:ea typeface="Times New Roman"/>
              </a:rPr>
              <a:t>Геро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16000" y="304920"/>
            <a:ext cx="7494480" cy="9633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5400" spc="-1" strike="noStrike">
                <a:solidFill>
                  <a:srgbClr val="ff0066"/>
                </a:solidFill>
                <a:latin typeface="Tahoma"/>
              </a:rPr>
              <a:t>Синквейн</a:t>
            </a:r>
            <a:br>
              <a:rPr sz="5400"/>
            </a:br>
            <a:endParaRPr b="1" lang="en-US" sz="5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f3fe"/>
                </a:solidFill>
                <a:latin typeface="Tahoma"/>
              </a:rPr>
              <a:t>Синквейн учит определять своё отношение к рассматриваемой проблем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1строка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– одно ключевое слово, определяющее содержание синквейн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2 стро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2 прилагательных, характеризующих данное поняти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3 строка 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3 глагола, обозначающих действие в рамках заданной темы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4 строка –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короткое предложение, раскрывающее суть темы или отношение к ней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5 строка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– синоним </a:t>
            </a:r>
            <a:r>
              <a:rPr b="1" lang="ru-RU" sz="2800" spc="-1" strike="noStrike">
                <a:solidFill>
                  <a:srgbClr val="66ffff"/>
                </a:solidFill>
                <a:latin typeface="Tahoma"/>
              </a:rPr>
              <a:t>( близкое по значению)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ключевого слова (существительное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2524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ahoma"/>
              </a:rPr>
              <a:t>Правила написания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ahoma"/>
              </a:rPr>
              <a:t>СИНКВЕЙН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507520" cy="4941720"/>
          </a:xfrm>
          <a:prstGeom prst="rect">
            <a:avLst/>
          </a:prstGeom>
          <a:noFill/>
          <a:ln w="9360">
            <a:solidFill>
              <a:srgbClr val="e4e917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1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дно слово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название стихотворения, тема, обычно существительно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2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два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прилагательное, причастие и т.д.)Описание темы, слова можно соединять союза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3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три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(глаголы). Действия, относящиеся к тем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4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четыре слов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предложение. Фраза, которая показывает отношение автора к теме в 1-ой строчк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ahoma"/>
              </a:rPr>
              <a:t>5 строчка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одно слово-ассоциация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, синоним, который повторяет суть темы в 1-ой строчке, обычно существительно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768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" dur="768" fill="hold"/>
                                        <p:tgtEl>
                                          <p:spTgt spid="11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6" dur="76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656000"/>
          </a:xfrm>
          <a:prstGeom prst="rect">
            <a:avLst/>
          </a:prstGeom>
          <a:solidFill>
            <a:srgbClr val="c2f3fe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Например: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характеристика мальчиков </a:t>
            </a:r>
            <a:br>
              <a:rPr sz="2400"/>
            </a:b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Глава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«Связался со школьниками» 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(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из романа «Братья Карамазовы»)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e917"/>
                </a:solidFill>
                <a:latin typeface="Tahoma"/>
              </a:rPr>
              <a:t>Мальчики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злобленные, безжалостные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овещаются, кидают, перестреливаютс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жестокие дети избивают беззащитного Илюшу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20:21:43Z</dcterms:created>
  <dc:creator>NEW</dc:creator>
  <dc:description/>
  <dc:language>en-US</dc:language>
  <cp:lastModifiedBy>админ</cp:lastModifiedBy>
  <dcterms:modified xsi:type="dcterms:W3CDTF">2018-07-17T17:55:29Z</dcterms:modified>
  <cp:revision>29</cp:revision>
  <dc:subject/>
  <dc:title>Буквы о, е на конце наречий после шипящих</dc:title>
</cp:coreProperties>
</file>