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F7DC-F23B-4A89-A077-B0C83CE74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B1D-8904-4E72-8FB1-BD6E7B67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B856-EFCE-40DA-AC28-EB67AED1F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B12-984C-4954-939B-0EC9373A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5CE7-3E14-4107-8346-C16F49C1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7CB3-2784-4E99-BE49-51D74A37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31A7-B700-4A8B-AC49-4FBE25A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3738-5C4B-45BE-845E-39BD32EB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8D1D-551C-4261-B01E-F5874C299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5FEA-BCC1-426C-AA8F-02D450A31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28CA-B5A0-4EC3-879D-AFDC2742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57AA-C4A0-46F1-B293-8B39EFA5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532F-6EA1-407E-9D7C-12E0E874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4381-1EF9-41FD-AF85-C3ABEFC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33577-18F1-472F-A58D-8EF35DC29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9E06-BCF1-4869-928A-81286A1C0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273B-4829-4DD0-BC69-354ED31F8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D42F-3956-482F-96CC-BED77936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0091-776B-447E-BBC8-F0B7A138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EB2-D7BC-4DC6-92F6-C3DF8EC9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761-B75B-4CA0-9A49-793E8040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FC75-A4B1-4A68-9039-40811D13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AF3-F265-4D15-B27D-12FEE4CF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275F-4F03-4B33-88E8-087AF1B4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A2731-8599-470B-9C0E-4BFA1AA4DBC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E18-9138-423C-8EC9-A126FF5B503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чиняем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СИНКВЕЙН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Verdana"/>
              </a:rPr>
              <a:t>Синквейн</a:t>
            </a:r>
            <a:r>
              <a:rPr b="1" lang="en-US" sz="36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– это короткое литературное произведение, характеризующее предмет (тему), состоящее из пяти строк, которое пишется по определённому план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97524875"/>
          <p:cNvPicPr/>
          <p:nvPr/>
        </p:nvPicPr>
        <p:blipFill>
          <a:blip r:embed="rId1"/>
          <a:stretch/>
        </p:blipFill>
        <p:spPr>
          <a:xfrm>
            <a:off x="6516720" y="5108400"/>
            <a:ext cx="13669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119160" y="1268280"/>
            <a:ext cx="2724120" cy="3240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353440" cy="611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66"/>
                </a:solidFill>
                <a:latin typeface="Tahoma"/>
              </a:rPr>
              <a:t>Например:</a:t>
            </a:r>
            <a:br>
              <a:rPr sz="3500"/>
            </a:br>
            <a:br>
              <a:rPr sz="3100"/>
            </a:br>
            <a:r>
              <a:rPr b="0" i="1" lang="ru-RU" sz="3100" spc="-1" strike="noStrike">
                <a:solidFill>
                  <a:srgbClr val="66ffff"/>
                </a:solidFill>
                <a:latin typeface="Tahoma"/>
              </a:rPr>
              <a:t>о  Наталье Савишне</a:t>
            </a:r>
            <a:r>
              <a:rPr b="0" i="1" lang="ru-RU" sz="31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3100"/>
            </a:br>
            <a:r>
              <a:rPr b="0" i="1" lang="ru-RU" sz="3100" spc="-1" strike="noStrike">
                <a:solidFill>
                  <a:srgbClr val="eaeaea"/>
                </a:solidFill>
                <a:latin typeface="Tahoma"/>
              </a:rPr>
              <a:t>:</a:t>
            </a:r>
            <a:br>
              <a:rPr sz="3100"/>
            </a:br>
            <a:br>
              <a:rPr sz="35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Наталья Савишна</a:t>
            </a:r>
            <a:br>
              <a:rPr sz="29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Бескорыстная, верная</a:t>
            </a:r>
            <a:br>
              <a:rPr sz="29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Привыкла, отказалась, жалеет</a:t>
            </a:r>
            <a:br>
              <a:rPr sz="2900"/>
            </a:br>
            <a:r>
              <a:rPr b="0" i="1" lang="ru-RU" sz="2400" spc="-1" strike="noStrike">
                <a:solidFill>
                  <a:srgbClr val="eaeaea"/>
                </a:solidFill>
                <a:latin typeface="Tahoma"/>
              </a:rPr>
              <a:t>«Вся жизнь ее была любовь и самопожертвование»</a:t>
            </a:r>
            <a:br>
              <a:rPr sz="24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«Чудесное создание»</a:t>
            </a:r>
            <a:br>
              <a:rPr sz="2900"/>
            </a:b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720" y="-360"/>
            <a:ext cx="8962920" cy="1081080"/>
          </a:xfrm>
          <a:prstGeom prst="rect">
            <a:avLst/>
          </a:prstGeom>
          <a:solidFill>
            <a:srgbClr val="c2f3fe"/>
          </a:solidFill>
          <a:ln w="9360">
            <a:solidFill>
              <a:srgbClr val="cc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инквейны по произведению </a:t>
            </a:r>
            <a:br>
              <a:rPr sz="2800"/>
            </a:br>
            <a:r>
              <a:rPr b="1" i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.С. Пушкина «Капитанская дочка»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79280" y="1281240"/>
            <a:ext cx="6639120" cy="192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Palatino Linotype"/>
                <a:ea typeface="Arial"/>
              </a:rPr>
              <a:t>Грин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мелый, верный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тстаивает, не нарушает, любит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сновные качества: доброта, благородство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еданность.</a:t>
            </a:r>
            <a:r>
              <a:rPr b="1" lang="en-US" sz="2400" spc="-1" strike="noStrike">
                <a:solidFill>
                  <a:srgbClr val="000066"/>
                </a:solidFill>
                <a:latin typeface="Palatino Linotyp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62360" y="4621320"/>
            <a:ext cx="6077160" cy="1922760"/>
          </a:xfrm>
          <a:prstGeom prst="rect">
            <a:avLst/>
          </a:prstGeom>
          <a:solidFill>
            <a:srgbClr val="c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Швабрин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Жестокий, корыстный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Издевается, обманывает, предает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ызывает чувство презрения, негодования.</a:t>
            </a:r>
            <a:br>
              <a:rPr sz="2400"/>
            </a:b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ед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880520" y="2997360"/>
            <a:ext cx="4074480" cy="228852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Palatino Linotype"/>
                <a:ea typeface="Arial"/>
              </a:rPr>
              <a:t>Гринев</a:t>
            </a:r>
            <a:r>
              <a:rPr b="1" lang="en-US" sz="2400" spc="-1" strike="noStrike">
                <a:solidFill>
                  <a:srgbClr val="cc0000"/>
                </a:solidFill>
                <a:latin typeface="Palatino Linotyp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мелый, преданный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Жалеет, защищает, любит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н бережет честь смолоду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е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494480" cy="963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Синквейн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f3fe"/>
                </a:solidFill>
                <a:latin typeface="Tahoma"/>
              </a:rPr>
              <a:t>Синквейн учит определять своё отношение к рассматриваемой пробл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1строк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– одно ключевое слово, определяющее содержание синквей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2 строк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2 прилагательных, характеризующих данное поня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3 строка –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3 глагола, обозначающих действие в рамках заданной т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4 строка –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короткое предложение, раскрывающее суть темы или отношение к н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5 строк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синоним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( близкое по значению)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ключевого слова (существительно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Правила написания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СИНКВЕЙН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507520" cy="4941720"/>
          </a:xfrm>
          <a:prstGeom prst="rect">
            <a:avLst/>
          </a:prstGeom>
          <a:noFill/>
          <a:ln w="9360">
            <a:solidFill>
              <a:srgbClr val="e4e91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1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дно слов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название стихотворения, тема, обычно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2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два сло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прилагательное, причастие и т.д.)Описание темы, слова можно соединять союз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3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три сло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глаголы). Действия, относящиеся к тем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4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четыре сло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предложение. Фраза, которая показывает отношение автора к теме в 1-ой стро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5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дно слово-ассоциаци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синоним, который повторяет суть темы в 1-ой строчке, обычно существитель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656000"/>
          </a:xfrm>
          <a:prstGeom prst="rect">
            <a:avLst/>
          </a:prstGeom>
          <a:solidFill>
            <a:srgbClr val="c2f3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Например: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характеристика мальчиков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«Связался со школьниками»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из романа «Братья Карамазовы»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e917"/>
                </a:solidFill>
                <a:latin typeface="Tahoma"/>
              </a:rPr>
              <a:t>Мальч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злобленные, безжалостны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овещаются, кидают, перестреливают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жестокие дети избивают беззащитного Илюш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21:43Z</dcterms:created>
  <dc:creator>NEW</dc:creator>
  <dc:description/>
  <dc:language>en-US</dc:language>
  <cp:lastModifiedBy>админ</cp:lastModifiedBy>
  <dcterms:modified xsi:type="dcterms:W3CDTF">2018-07-17T17:55:29Z</dcterms:modified>
  <cp:revision>29</cp:revision>
  <dc:subject/>
  <dc:title>Буквы о, е на конце наречий после шипящих</dc:title>
</cp:coreProperties>
</file>