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6.png" ContentType="image/png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D8BB-DF51-42EC-86D8-5BE503CAD4D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B706-A462-4259-8D86-81793813B735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509F8-839A-4ABF-AF88-7F910E78BB08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AB197-762E-43A1-82E6-1D7255CCE0C8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916E-28E7-4987-AD3A-10B376740A7F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B3F7-3A0A-40F3-8221-3A2F181B26ED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88E4-6E27-49A6-8D46-57FE77650957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34500-54F9-4FEE-89FE-0003D0A7720D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FC6A-DC01-49F4-9280-7888F97D0BA6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DC6F1-0761-4497-B213-629FCD907137}" type="slidenum">
              <a:rPr b="0" lang="ru-RU" sz="1200" spc="-1" strike="noStrike">
                <a:solidFill>
                  <a:srgbClr val="ffffff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B504-1611-4EB9-98E7-C5EB2DD92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281F-F230-4A0A-B1DA-F900B981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C157-82C2-420B-83D4-DE955D045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F95F-ED45-4838-8B14-DB5D9DA6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9791-0DC0-469B-ADB2-DFA2C0A6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ED450-4DA7-4779-A949-0ECBB8CB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EFA6-10A7-44D5-83AD-FF795B3C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C11F7-250B-4D91-B09B-09F5E662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B4B5C-1E91-45E4-BB84-3AC649FE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F498-184C-4560-932C-520F8E5A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FDE9-E58A-4786-9035-B7FE9FAF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AF8-2321-4E04-B452-C7DD8463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4D56-9DDF-4B9D-BDA9-6D023B46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8725-B7AC-4E24-A64E-F94E7D7D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21047-075B-49B2-AE2D-37F243C3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0C6A9-4CCC-47C9-A0CF-81655319E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89A8-BA92-48EF-95D4-7B49B889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CB54-78F2-47EE-8FD6-B2D67B79F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64D8-D609-4FBB-8462-41DF0CA8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7146-A508-48E8-B715-7868AD6A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61FD-47DD-4C1F-BBD1-9CC0B5029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C52B-41FD-4D17-A5FD-DA4F85C5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77F1-B695-4266-9647-A040B17A9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E9F9-6E2F-42DA-BBA3-0FEF264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9DE4-09DB-41F3-8C91-7570618785B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7928-2C2C-40D6-A483-2FD43FBDF8B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2"/>
          <p:cNvSpPr txBox="1"/>
          <p:nvPr/>
        </p:nvSpPr>
        <p:spPr>
          <a:xfrm>
            <a:off x="468360" y="3357720"/>
            <a:ext cx="7848720" cy="227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ДЫГЕЯ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0" y="213372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84360" y="12682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5"/>
          <p:cNvSpPr/>
          <p:nvPr/>
        </p:nvSpPr>
        <p:spPr>
          <a:xfrm>
            <a:off x="1692360" y="5493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2771640" y="0"/>
            <a:ext cx="96228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7"/>
          <p:cNvSpPr/>
          <p:nvPr/>
        </p:nvSpPr>
        <p:spPr>
          <a:xfrm>
            <a:off x="4140360" y="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8"/>
          <p:cNvSpPr/>
          <p:nvPr/>
        </p:nvSpPr>
        <p:spPr>
          <a:xfrm>
            <a:off x="5435640" y="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8028000" y="206064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10"/>
          <p:cNvSpPr/>
          <p:nvPr/>
        </p:nvSpPr>
        <p:spPr>
          <a:xfrm>
            <a:off x="6443640" y="5493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11"/>
          <p:cNvSpPr/>
          <p:nvPr/>
        </p:nvSpPr>
        <p:spPr>
          <a:xfrm>
            <a:off x="7380360" y="126828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12"/>
          <p:cNvSpPr/>
          <p:nvPr/>
        </p:nvSpPr>
        <p:spPr>
          <a:xfrm>
            <a:off x="4067280" y="13413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13"/>
          <p:cNvSpPr/>
          <p:nvPr/>
        </p:nvSpPr>
        <p:spPr>
          <a:xfrm>
            <a:off x="5651640" y="134136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14"/>
          <p:cNvSpPr/>
          <p:nvPr/>
        </p:nvSpPr>
        <p:spPr>
          <a:xfrm>
            <a:off x="2340000" y="1413000"/>
            <a:ext cx="961920" cy="914400"/>
          </a:xfrm>
          <a:custGeom>
            <a:avLst/>
            <a:gdLst/>
            <a:ahLst/>
            <a:rect l="l" t="t" r="r" b="b"/>
            <a:pathLst>
              <a:path w="962025" h="914400">
                <a:moveTo>
                  <a:pt x="1" y="349269"/>
                </a:moveTo>
                <a:lnTo>
                  <a:pt x="367463" y="349271"/>
                </a:lnTo>
                <a:lnTo>
                  <a:pt x="481013" y="0"/>
                </a:lnTo>
                <a:lnTo>
                  <a:pt x="594562" y="349271"/>
                </a:lnTo>
                <a:lnTo>
                  <a:pt x="962024" y="349269"/>
                </a:lnTo>
                <a:lnTo>
                  <a:pt x="664740" y="565128"/>
                </a:lnTo>
                <a:lnTo>
                  <a:pt x="778294" y="914398"/>
                </a:lnTo>
                <a:lnTo>
                  <a:pt x="481013" y="698535"/>
                </a:lnTo>
                <a:lnTo>
                  <a:pt x="183731" y="914398"/>
                </a:lnTo>
                <a:lnTo>
                  <a:pt x="297285" y="565128"/>
                </a:lnTo>
                <a:lnTo>
                  <a:pt x="1" y="349269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10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В городе множество мест, построенных в память героев Великой Отечественной и Гражданской Войн. К примеру, к 10-летию Великого Октября возведен монумент жертвам белогвардейского террора. В память погибших в ВОВ во время оккупации города немецко-фашистскими войсками зажжен Вечный Огонь славы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2"/>
          <a:stretch/>
        </p:blipFill>
        <p:spPr>
          <a:xfrm>
            <a:off x="1500120" y="2197080"/>
            <a:ext cx="6215040" cy="46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 Black"/>
              </a:rPr>
              <a:t>Знаменательным зданием является и Монумент "Дружба", установленный в память о 400-летии союза с Россией.  Находится он в центральной части города на площади Дружбы между улиц Пионерская и Советская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1285920" y="1874880"/>
            <a:ext cx="6643800" cy="4983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5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Black"/>
              </a:rPr>
              <a:t>Неподалеку от монумента располагается Майкопская Соборная мечеть– величественное здание с громадным синим куполом, окруженное четырьмя минаретами. Огромнейших размеров мечеть была преподнесена в подарок городу шейхом из Объединенных Арабских Эмиратов Халидом Бин Сакр-аль-Кассими  и была построена в 2000 году. В настоящее время она является самым заметным и видным зданием не только города, но и всего Кавказа</a:t>
            </a:r>
            <a:endParaRPr b="1" lang="en-US" sz="1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2"/>
          <a:stretch/>
        </p:blipFill>
        <p:spPr>
          <a:xfrm>
            <a:off x="1187280" y="1982880"/>
            <a:ext cx="6500880" cy="487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Великолепным зданием Майкопа является пятиглавая Свято - Троицкая церковь, построенная в псевдорусском стиле архитектуры в конце XIX века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2"/>
          <a:stretch/>
        </p:blipFill>
        <p:spPr>
          <a:xfrm>
            <a:off x="1143000" y="1531800"/>
            <a:ext cx="6858000" cy="532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Совершить пешие прогулки вы сможете в Городском Парке Культуры и Отдыха им. М. Горького, заложенном в середине XX века. На центральной аллее городского парка установлен бюст Шоры Ногмова – первого кабардинского ученого и историка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2"/>
          <a:stretch/>
        </p:blipFill>
        <p:spPr>
          <a:xfrm>
            <a:off x="1143000" y="1714680"/>
            <a:ext cx="6858000" cy="51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Также в Майкопе есть филармония – большое здание, в котором проходят различные мероприятия, такие как концерты и спектакл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2"/>
          <a:stretch/>
        </p:blipFill>
        <p:spPr>
          <a:xfrm>
            <a:off x="857160" y="1714680"/>
            <a:ext cx="7286760" cy="4862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И, конечно, как и во многих других городах России, в Майкопе есть памятник Ленину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Находится он на одноименной площади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2500200" y="1643040"/>
            <a:ext cx="3909960" cy="521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643120" y="214200"/>
            <a:ext cx="3500640" cy="4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уль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714240"/>
            <a:ext cx="91440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дежда и предметы быта издавна украшались вышивкой золотыми и серебряными нитями, шелком, шнуром, аппликацией. В узорах преобладают крупные растительные мотивы, негусто заполняющие фон. На серебряные изделия (украшения для одежды, конской сбруи и др.) тонкие растительные и криволинейные узоры наносились гравировкой, чернью, филигранью, насечкой. Несложные геометрические узоры характерны для циновок, резьбы по дереву, узорных войлок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дыгейские народные инструменты — камыль (духовой инструмент типа продольной флейты), шичепшин (смычковый), пхачич (ударный). С середины 19 в. получила распространение гармонь. Многие русские композиторы, будучи на Кавказе, познакомились с адыгейской народной музыкой и использовали ее в своем творчестве — М. И. Глинка, А. А. Алябьев, М. А. Балакирев, С. И. Танеев и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торическая память адыгов, как и других народов, проявляется, в первую очередь, в эпосе, устных исторических рассказах, героических песнях, в песнях-плачах, в народных напевах, народной педагогике, которая пронизывает Нартский эпос от первого до последнего сказания; в народной системе физического воспитания, в сказках и других жанрах народного творчества. В середине 1930-х гг. сделаны первые записи песен народного ашуга Ц. Теучежа. Уроженцами республики являются писатели Т. Керашев, М. Паранук, А. Евтых и мн. др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Прямоугольник 1" descr=""/>
          <p:cNvPicPr/>
          <p:nvPr/>
        </p:nvPicPr>
        <p:blipFill>
          <a:blip r:embed="rId2"/>
          <a:stretch/>
        </p:blipFill>
        <p:spPr>
          <a:xfrm>
            <a:off x="12600" y="146160"/>
            <a:ext cx="9124920" cy="5516280"/>
          </a:xfrm>
          <a:prstGeom prst="rect">
            <a:avLst/>
          </a:prstGeom>
          <a:ln w="0">
            <a:noFill/>
          </a:ln>
        </p:spPr>
      </p:pic>
      <p:sp>
        <p:nvSpPr>
          <p:cNvPr id="159" name="Содержимое 2"/>
          <p:cNvSpPr/>
          <p:nvPr/>
        </p:nvSpPr>
        <p:spPr>
          <a:xfrm>
            <a:off x="4859280" y="5805360"/>
            <a:ext cx="428472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БДОУ №13 «Вишенка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237600" cy="698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1071720" y="1000080"/>
            <a:ext cx="6929280" cy="5857920"/>
          </a:xfrm>
          <a:prstGeom prst="rect">
            <a:avLst/>
          </a:prstGeom>
          <a:ln w="0">
            <a:noFill/>
          </a:ln>
        </p:spPr>
      </p:pic>
      <p:sp>
        <p:nvSpPr>
          <p:cNvPr id="120" name="Заголовок 1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Герб Республики Адыгея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0" y="-360"/>
            <a:ext cx="91440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Герб Республики Адыге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 является государственным символом Республики Адыгея. Принят Парламентом Республики 24 марта 1994 года. Зарегистрирован за № 163 в Государственном геральдическом регистре Российской Федерации. Автор - народный художник республики Адыгея Меретуков Давлет Мухаджериеви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C:\Users\User1\Desktop\foto.jpg"/>
          <p:cNvPicPr/>
          <p:nvPr/>
        </p:nvPicPr>
        <p:blipFill>
          <a:blip r:embed="rId1"/>
          <a:stretch/>
        </p:blipFill>
        <p:spPr>
          <a:xfrm>
            <a:off x="1928880" y="1928880"/>
            <a:ext cx="5564160" cy="400032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6"/>
          <p:cNvSpPr/>
          <p:nvPr/>
        </p:nvSpPr>
        <p:spPr>
          <a:xfrm>
            <a:off x="1285920" y="5929200"/>
            <a:ext cx="714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ретуков Давлет Мухаджери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0" y="213840"/>
            <a:ext cx="9144000" cy="664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ерб Республики Адыгея представляет собой круг, сверху обрамленный лентой с надписью «Республика Адыгея» на адыгейском и русском языках . В середине ленты — большая звезда, с боковых сторон — листья дуба, клёна (слева), золотистые колосья пшеницы, початки кукурузы (справа). Круг замыкается аббревиатурой слов «Российская Федерация» — буквами 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РФ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, над которыми изображен национальный стол — анэ с хлебом и солью. В середине круга — главный герой нартского эпоса Саусэрыкъо на огненном летящем кон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руке всадника — пылающий факел, который богатырь похитил у богов для блага людей. Лучи от этого огня как бы рассыпаются по небосводу двенадцатью звездочками. 12 звезд символизируют 12 адыгских племен. Полет всадника на коне символизирует полет молодой республики в будущее, к прогрессу. Вспаханное поле, стол с хлебом-солью вместе с находящимися в гирлянде герба колосьями пшеницы и проса, початком кукурузы говорят о главном занятии адыгов - сельском хозяйстве. Голова быка символизирует золотые сокровища Майкопского кургана. Изображения гор, пашни, листьев клёна и дуба характеризуют географические и природные особенности республики, что расположена она на живописных северных склонах Кавказского хребта и долинах рек Кубани и Лабы и плодородной Прикубанской равнине, говорят о лесных богатствах края. Изображенная в верхней части герба большая пятиконечная звезда олицетворяет единение и братство многонационального населения Адыге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93600" y="0"/>
            <a:ext cx="9237600" cy="69865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3"/>
          <p:cNvSpPr txBox="1"/>
          <p:nvPr/>
        </p:nvSpPr>
        <p:spPr>
          <a:xfrm>
            <a:off x="684360" y="5300640"/>
            <a:ext cx="7488000" cy="117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Флаг Адыге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142560"/>
            <a:ext cx="9144000" cy="67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лаг утверждён 24 марта 1992 года законом Республики Адыгея № 2 «О Государственном флаге Республики Адыгея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ом Республики Адыгея от 1 августа 2013 года № 231 «О внесении изменения в статью 3 Закона Республики Адыгея „О праздничных днях и памятных датах“», дата 25 апреля установлена памятным днём — Днём Государственного флага Республики Адыге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Государственный флаг Республики Адыгея представляет собой прямоугольное полотнище зелёного цвета, на котором изображены двенадцать золотых звёзд и три золотые перекрещённые стрелы, направленные наконечниками вверх. Отношение длины флага к его ширине — 2:1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законе от 24 марта 1992 года</a:t>
            </a:r>
            <a:r>
              <a:rPr b="0" lang="ru-RU" sz="18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 цвет полотнища был тёмно-зелёным (аквамариновы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2 звёзд означают 12 адыгских (черкесских) племён, а 3 стрелы — 3 древнейших адыгских княжеских рода. Три перекрещённые стрелы обозначают их единство. Зелёный цвет символизирует жизнь, вечность, а также одну из природных особенностей республики, в которой почти 40 процентов территории занимают ле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стрелы также ассоциируются с богом кузнецов Тлепшом. Зелёный цвет полотнища символизирует религию ис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акже полотно является национальным флагом всех адыгов (черкесов). Ныне территориально разделенных на кабардинцев, адыгейцев, черкесов, шапсугов и адыгской (черкесской) диаспор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1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f2f2"/>
                </a:solidFill>
                <a:latin typeface="Arial Black"/>
              </a:rPr>
              <a:t>Майкоп – небольшой город в Российской Федерации, столица Республики Адыгея, численность населения которого составляет чуть более 154 тысячи человек, среди которых большую часть составляют русские (около 72%), остальные 28 % занимают адыги, армяне и украинцы. Дословный перевод имени города с адыгейского – долина яблонь. 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1000080" y="2698920"/>
            <a:ext cx="6642000" cy="41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571320"/>
            <a:ext cx="93582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Каждое путешествие  на поезде начинается с вокзала – исторического места города. В 1910 году была достроена железнодорожная ветка Армавир – Туапсе, и в город прибыл первый поезд. Там же в 1918 году погибло около 3 000 бойцов майкопских революционных полков и красногвардейских отрядов.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2"/>
          <a:stretch/>
        </p:blipFill>
        <p:spPr>
          <a:xfrm>
            <a:off x="1071720" y="2016000"/>
            <a:ext cx="685800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6:47:05Z</dcterms:created>
  <dc:creator>12</dc:creator>
  <dc:description/>
  <dc:language>en-US</dc:language>
  <cp:lastModifiedBy>RePack by Diakov</cp:lastModifiedBy>
  <dcterms:modified xsi:type="dcterms:W3CDTF">2017-04-25T06:06:36Z</dcterms:modified>
  <cp:revision>41</cp:revision>
  <dc:subject/>
  <dc:title>Слайд 1</dc:title>
</cp:coreProperties>
</file>