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6E2F-CE34-4DD5-9E0B-FD474E55267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0BD7-8473-4932-B35E-CA190AD4F5ED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2E893-734C-4E72-B63E-AA2B98C68E0A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CA66-E00C-4197-92B2-4AD8E26B956C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C6FA-275E-45FB-AACB-7AFDD855FA62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014D-7277-48E1-AD9C-2DFA2535771D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0F95-9E5F-43DD-BC7E-DCAA815B3C31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29D6-E92D-4F58-AE03-2A699B3ACC65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4417-C9D5-4F44-97D1-949E58F9FF0B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431A-4969-4873-99AB-9E6E8A42D2DB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B48B-C094-4A26-8FEC-1A7BA02E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435F-20B4-49C6-B56E-16E3DCA8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700-01CD-4451-AB12-CE86F305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C1CA-4CB4-4928-84DE-320EB30F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D242F-5CA9-4728-B2F8-486A3D82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1955-8920-4641-9304-9ACC5750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2BED5-2381-4088-9607-7C11EA9E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D0446-7FF6-4B28-A9A7-08671AAA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DEA0-3FC9-4B71-B615-47C05BF24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14BB-CD8B-4CB2-877A-7AF9FCA4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FE11-3C69-497C-BE42-475FC00D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457E-1BB4-4560-8E44-0E324B18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C246D-EE43-4FC5-8BA7-449E266D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B96D-3A30-4A74-B358-5650500C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EA68-A00D-4849-A1A3-D5353DFF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850E-E453-4479-8CF5-0C2E858B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4CC94-6DD1-4A53-AF0C-5ADA9EBB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5088-5529-4482-BB6F-1E69C1B4E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CB8B-A091-48FA-B8A3-E5EB5C23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14BD-D063-4EA9-9ED6-41F5E2B8B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E2A3-E4E0-45AF-8FEE-6FD823B3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E76C-3B8F-401F-AA21-E484FEDF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A1D6-6966-4CD0-A22C-8388527F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B392-66FA-4EEB-8183-D8DA7ED2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07043-368E-46CF-A81B-89AAC045C9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4B3E-5531-414E-A97C-955C6511101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468360" y="3357720"/>
            <a:ext cx="7848720" cy="22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ДЫГЕЯ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0" y="213372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684360" y="126828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1692360" y="54936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2771640" y="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4140360" y="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5435640" y="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8028000" y="2060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6443640" y="54936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7380360" y="126828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4067280" y="134136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3"/>
          <p:cNvSpPr/>
          <p:nvPr/>
        </p:nvSpPr>
        <p:spPr>
          <a:xfrm>
            <a:off x="5651640" y="134136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4"/>
          <p:cNvSpPr/>
          <p:nvPr/>
        </p:nvSpPr>
        <p:spPr>
          <a:xfrm>
            <a:off x="2340000" y="1413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В городе множество мест, построенных в память героев Великой Отечественной и Гражданской Войн. К примеру, к 10-летию Великого Октября возведен монумент жертвам белогвардейского террора. В память погибших в ВОВ во время оккупации города немецко-фашистскими войсками зажжен Вечный Огонь славы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1500120" y="2197080"/>
            <a:ext cx="6215040" cy="466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Arial Black"/>
              </a:rPr>
              <a:t>Знаменательным зданием является и Монумент "Дружба", установленный в память о 400-летии союза с Россией.  Находится он в центральной части города на площади Дружбы между улиц Пионерская и Советская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1285920" y="1874880"/>
            <a:ext cx="6643800" cy="49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Неподалеку от монумента располагается Майкопская Соборная мечеть– величественное здание с громадным синим куполом, окруженное четырьмя минаретами. Огромнейших размеров мечеть была преподнесена в подарок городу шейхом из Объединенных Арабских Эмиратов Халидом Бин Сакр-аль-Кассими  и была построена в 2000 году. В настоящее время она является самым заметным и видным зданием не только города, но и всего Кавказа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1187280" y="1982880"/>
            <a:ext cx="6500880" cy="487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Великолепным зданием Майкопа является пятиглавая Свято - Троицкая церковь, построенная в псевдорусском стиле архитектуры в конце XIX века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1143000" y="1531800"/>
            <a:ext cx="6858000" cy="532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овершить пешие прогулки вы сможете в Городском Парке Культуры и Отдыха им. М. Горького, заложенном в середине XX века. На центральной аллее городского парка установлен бюст Шоры Ногмова – первого кабардинского ученого и историка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1143000" y="171468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Также в Майкопе есть филармония – большое здание, в котором проходят различные мероприятия, такие как концерты и спектакли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857160" y="1714680"/>
            <a:ext cx="7286760" cy="48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И, конечно, как и во многих других городах России, в Майкопе есть памятник Ленину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Находится он на одноименной площади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2500200" y="1643040"/>
            <a:ext cx="3909960" cy="521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643120" y="214200"/>
            <a:ext cx="3500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уль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ежда и предметы быта издавна украшались вышивкой золотыми и серебряными нитями, шелком, шнуром, аппликацией. В узорах преобладают крупные растительные мотивы, негусто заполняющие фон. На серебряные изделия (украшения для одежды, конской сбруи и др.) тонкие растительные и криволинейные узоры наносились гравировкой, чернью, филигранью, насечкой. Несложные геометрические узоры характерны для циновок, резьбы по дереву, узорных войло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дыгейские народные инструменты — камыль (духовой инструмент типа продольной флейты), шичепшин (смычковый), пхачич (ударный). С середины 19 в. получила распространение гармонь. Многие русские композиторы, будучи на Кавказе, познакомились с адыгейской народной музыкой и использовали ее в своем творчестве — М. И. Глинка, А. А. Алябьев, М. А. Балакирев, С. И. Танеев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торическая память адыгов, как и других народов, проявляется, в первую очередь, в эпосе, устных исторических рассказах, героических песнях, в песнях-плачах, в народных напевах, народной педагогике, которая пронизывает Нартский эпос от первого до последнего сказания; в народной системе физического воспитания, в сказках и других жанрах народного творчества. В середине 1930-х гг. сделаны первые записи песен народного ашуга Ц. Теучежа. Уроженцами республики являются писатели Т. Керашев, М. Паранук, А. Евтых и мн.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Прямоугольник 1" descr=""/>
          <p:cNvPicPr/>
          <p:nvPr/>
        </p:nvPicPr>
        <p:blipFill>
          <a:blip r:embed="rId2"/>
          <a:stretch/>
        </p:blipFill>
        <p:spPr>
          <a:xfrm>
            <a:off x="12600" y="146160"/>
            <a:ext cx="9124920" cy="5516280"/>
          </a:xfrm>
          <a:prstGeom prst="rect">
            <a:avLst/>
          </a:prstGeom>
          <a:ln w="0">
            <a:noFill/>
          </a:ln>
        </p:spPr>
      </p:pic>
      <p:sp>
        <p:nvSpPr>
          <p:cNvPr id="159" name="Содержимое 2"/>
          <p:cNvSpPr/>
          <p:nvPr/>
        </p:nvSpPr>
        <p:spPr>
          <a:xfrm>
            <a:off x="4859280" y="5805360"/>
            <a:ext cx="42847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БДОУ №13 «Вишен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37600" cy="698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071720" y="1000080"/>
            <a:ext cx="6929280" cy="5857920"/>
          </a:xfrm>
          <a:prstGeom prst="rect">
            <a:avLst/>
          </a:prstGeom>
          <a:ln w="0">
            <a:noFill/>
          </a:ln>
        </p:spPr>
      </p:pic>
      <p:sp>
        <p:nvSpPr>
          <p:cNvPr id="120" name="Заголовок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Герб Республики Адыге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0" y="-36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рб Республики Адыге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является государственным символом Республики Адыгея. Принят Парламентом Республики 24 марта 1994 года. Зарегистрирован за № 163 в Государственном геральдическом регистре Российской Федерации. Автор - народный художник республики Адыгея Меретуков Давлет Мухаджериеви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C:\Users\User1\Desktop\foto.jpg"/>
          <p:cNvPicPr/>
          <p:nvPr/>
        </p:nvPicPr>
        <p:blipFill>
          <a:blip r:embed="rId1"/>
          <a:stretch/>
        </p:blipFill>
        <p:spPr>
          <a:xfrm>
            <a:off x="1928880" y="1928880"/>
            <a:ext cx="5564160" cy="400032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6"/>
          <p:cNvSpPr/>
          <p:nvPr/>
        </p:nvSpPr>
        <p:spPr>
          <a:xfrm>
            <a:off x="1285920" y="59292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ретуков Давлет Мухаджери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рб Республики Адыгея представляет собой круг, сверху обрамленный лентой с надписью «Республика Адыгея» на адыгейском и русском языках . В середине ленты — большая звезда, с боковых сторон — листья дуба, клёна (слева), золотистые колосья пшеницы, початки кукурузы (справа). Круг замыкается аббревиатурой слов «Российская Федерация» — буквами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Ф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над которыми изображен национальный стол — анэ с хлебом и солью. В середине круга — главный герой нартского эпоса Саусэрыкъо на огненном летящем кон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уке всадника — пылающий факел, который богатырь похитил у богов для блага людей. Лучи от этого огня как бы рассыпаются по небосводу двенадцатью звездочками. 12 звезд символизируют 12 адыгских племен. Полет всадника на коне символизирует полет молодой республики в будущее, к прогрессу. Вспаханное поле, стол с хлебом-солью вместе с находящимися в гирлянде герба колосьями пшеницы и проса, початком кукурузы говорят о главном занятии адыгов - сельском хозяйстве. Голова быка символизирует золотые сокровища Майкопского кургана. Изображения гор, пашни, листьев клёна и дуба характеризуют географические и природные особенности республики, что расположена она на живописных северных склонах Кавказского хребта и долинах рек Кубани и Лабы и плодородной Прикубанской равнине, говорят о лесных богатствах края. Изображенная в верхней части герба большая пятиконечная звезда олицетворяет единение и братство многонационального населения Адыге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93600" y="0"/>
            <a:ext cx="9237600" cy="6986520"/>
          </a:xfrm>
          <a:prstGeom prst="rect">
            <a:avLst/>
          </a:prstGeom>
          <a:ln w="0">
            <a:noFill/>
          </a:ln>
        </p:spPr>
      </p:pic>
      <p:sp>
        <p:nvSpPr>
          <p:cNvPr id="126" name="WordArt 3"/>
          <p:cNvSpPr txBox="1"/>
          <p:nvPr/>
        </p:nvSpPr>
        <p:spPr>
          <a:xfrm>
            <a:off x="684360" y="5300640"/>
            <a:ext cx="748800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Флаг Адыге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лаг утверждён 24 марта 1992 года законом Республики Адыгея № 2 «О Государственном флаге Республики Адыге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ом Республики Адыгея от 1 августа 2013 года № 231 «О внесении изменения в статью 3 Закона Республики Адыгея „О праздничных днях и памятных датах“», дата 25 апреля установлена памятным днём — Днём Государственного флага Республики Адыге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Государственный флаг Республики Адыгея представляет собой прямоугольное полотнище зелёного цвета, на котором изображены двенадцать золотых звёзд и три золотые перекрещённые стрелы, направленные наконечниками вверх. Отношение длины флага к его ширине — 2:1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законе от 24 марта 1992 года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цвет полотнища был тёмно-зелёным (аквамариновым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 звёзд означают 12 адыгских (черкесских) племён, а 3 стрелы — 3 древнейших адыгских княжеских рода. Три перекрещённые стрелы обозначают их единство. Зелёный цвет символизирует жизнь, вечность, а также одну из природных особенностей республики, в которой почти 40 процентов территории занимают ле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стрелы также ассоциируются с богом кузнецов Тлепшом. Зелёный цвет полотнища символизирует религию исл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же полотно является национальным флагом всех адыгов (черкесов). Ныне территориально разделенных на кабардинцев, адыгейцев, черкесов, шапсугов и адыгской (черкесской) диаспор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Arial Black"/>
              </a:rPr>
              <a:t>Майкоп – небольшой город в Российской Федерации, столица Республики Адыгея, численность населения которого составляет чуть более 154 тысячи человек, среди которых большую часть составляют русские (около 72%), остальные 28 % занимают адыги, армяне и украинцы. Дословный перевод имени города с адыгейского – долина яблонь. 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1000080" y="2698920"/>
            <a:ext cx="6642000" cy="415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571320"/>
            <a:ext cx="93582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Каждое путешествие  на поезде начинается с вокзала – исторического места города. В 1910 году была достроена железнодорожная ветка Армавир – Туапсе, и в город прибыл первый поезд. Там же в 1918 году погибло около 3 000 бойцов майкопских революционных полков и красногвардейских отрядов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1071720" y="2016000"/>
            <a:ext cx="6858000" cy="484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6:47:05Z</dcterms:created>
  <dc:creator>12</dc:creator>
  <dc:description/>
  <dc:language>en-US</dc:language>
  <cp:lastModifiedBy>RePack by Diakov</cp:lastModifiedBy>
  <dcterms:modified xsi:type="dcterms:W3CDTF">2017-04-25T06:06:36Z</dcterms:modified>
  <cp:revision>41</cp:revision>
  <dc:subject/>
  <dc:title>Слайд 1</dc:title>
</cp:coreProperties>
</file>