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4EFE-E903-45CE-ACB9-620387501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C09D-A315-4D3D-BED1-61BB59DE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371D-6024-41AE-B6D2-10160E68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2C13-26DC-43B8-9BB4-27742BBB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7869-F4C8-4CE3-85FC-392BAAD3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665B3-43B4-4438-8058-E33742E3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4DAF-3CF9-430B-9DA1-67727BAD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3A74B-961F-4BFF-A505-42902EAB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CA05-F003-495C-AE0E-89FC293A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4147-9DF9-4C31-A9FC-065BF379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CBA1-6B9A-4AD4-95B0-2092CA8D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CCF-8F1E-4683-AD05-7BE6CE24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4342-91F3-4A9C-AFF8-720C4267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D5710-0C15-4E7C-A204-5C0F7538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D77F-DA22-41D7-8B83-8136899E6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3D04-4878-48F4-A578-1195A86B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3333-8143-4F8B-8591-104FAA39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41D64A-9D05-4B6C-A453-BEAF40106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22B0D-627D-4B7F-B430-E732FEA7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6B5CF-ED0C-471E-825A-87597055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AC3B9-8F5F-4F52-9B51-C024C81B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47040-B975-4B90-A418-508A29285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69CB-0EDD-4B3C-984B-B4F9A52B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7CF3F-3F5E-4448-95E2-D6E7E68B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BA0D-E340-434E-8C6F-1000031E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931BC-44E4-467B-803F-98ADC6FF2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14C1E-DE2D-45AA-9D35-02173F44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127C4-7494-43B2-A058-D31592A96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50566-A21B-4820-A5F5-4A8E1BD6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3FE9-95FB-43D9-AB28-D2196849A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EE623-ADD0-43E0-AE8F-EB6B9B0C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9D26F-40F8-4DB8-A15C-BA66E098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CECEDA-0ECA-46D6-BA77-5E994922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654-2229-4F1A-B60B-10B48EC9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6C392-B837-4706-92EA-40B1F12A7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FF5C2-5D5B-4630-B08A-90FCD6A50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6F08F-7B7E-4F94-8CB7-262BCD2E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8C5AE-7A61-486D-B2C9-AD32E997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07D0C-550D-4DA2-9F29-9BF6ADD2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2B7BB-B349-4F44-8EB6-13C04A7A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7EAA0-F955-423C-BC66-816D7685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4D21A-DA93-4E62-87DD-C8D64877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6FBC7-E296-4FAF-8C45-6DCA042C6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CB1FA-7819-4182-975E-46CD76D44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2CF-5DAD-497C-9AAA-81DBA8ED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76B7E-61CC-4041-953C-BE0D1124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5E502-D872-4932-A012-53CCBFCD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94539-4560-4566-BAF8-8A39879A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3292E-FB1D-41D0-A6A3-BCCA92C2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C687E-BC8F-4638-B54D-D69620FC8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5772A-6AC3-4F74-BB3A-735E008C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CA8CA-FA51-460A-9A20-26096D39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02F042-F04C-4339-8F86-7A04CBA1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82EEB-9F40-4937-9F3F-1106F954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A2E25-4798-4DB0-82BE-84203F8C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94E-81A0-491C-8680-2A0B7CF6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748DA-6EA4-479A-A8E5-9E2C31E01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6EDAC-326E-4AB1-8D64-460437F8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71246-6007-471C-8AE9-F77BBD3A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7D186-1524-45D1-9F1B-9172924D1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62C2C-C833-4190-9160-E3B8B5F1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1A211-13DA-4E81-8B7A-E2D9BB076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A6970-0983-4751-84FA-00BED743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9ECACA-72DF-4AC3-A4CE-104F5346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9CCF4-EC00-4A2D-A720-26E8C17C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07EBA-A706-44FA-A11B-221C855F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5C9-5D75-4BC4-B774-8C406C18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F6FA9-6AA1-42DB-A1F0-790D8005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A8A144-F1E9-4898-8339-EFF053E48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554B7C-8C77-4B04-8931-16A08FEC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BE527-C1C9-415B-9D70-674EB5678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FFF91-5C1C-49AD-9F35-FC43702B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FBB23-2979-4D3E-ABC0-4A18DF790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5C680C-886B-4CF9-BD2C-0F068AADD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F6C081-F08F-4479-8E96-75FC8FE4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2C52C-B430-4690-9FA0-B18AC9F4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CF02F-4E4D-4B98-83C9-2B5D194E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A8CF-B8B5-455E-A1E7-CC782E56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4C9DB-4CDD-433E-A3C3-ED63699E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C46CF-B3BE-4FB4-9101-30AA71F1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1BC68-2CBE-4A96-9552-08D25EF4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E50DE5-0809-403D-AA8B-322595A2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3A230-4A6F-40AD-BA7D-A9BEA3C72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61672-2026-4BCF-AC03-6F9086C0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AFA92-E0F7-463D-88FB-EC4AD0FF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56F72-B41C-434D-B94F-FB1A4300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4E778-ED29-40AF-90A6-38E43104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CB59D-E01A-41B3-A2B5-33F4275B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FA9E-9803-40C8-A806-6C92496A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1A85F-24ED-48DF-A2C8-DED2CBF1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49247-06CC-4F1A-9F84-23FC99CA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1815C-6C29-4A24-A553-361EAE90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197DE-BE24-4085-A75B-57BAAEE1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35F69-3326-4A4E-AEEE-ADC9D874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115EBF-5922-4E45-AAA7-FDF928374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1D329-BAAC-419D-B0AF-51207D338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16AD-01A1-4C40-86BD-1B4DAD9ACA2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1216-9B69-4911-8184-BB582B598CFA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3C01D-5CD5-4C9D-81E1-0B873DE9AD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6F0F-6871-4386-8066-6ABAB641C81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9819-3951-470C-8CCD-70A13F7B74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20B7-E568-4580-AC20-EB992108B0F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3C66-D03E-4D37-BE11-C47E7B04425B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8E2C-A15F-4E47-9E4F-E81072A5BA4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7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468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http://www.summercamp.ru/images/6/61/0_67b_e6c45fda_Lm.jpg"/>
          <p:cNvPicPr/>
          <p:nvPr/>
        </p:nvPicPr>
        <p:blipFill>
          <a:blip r:embed="rId2"/>
          <a:stretch/>
        </p:blipFill>
        <p:spPr>
          <a:xfrm>
            <a:off x="2540160" y="2338560"/>
            <a:ext cx="4063680" cy="30510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4" descr=""/>
          <p:cNvPicPr/>
          <p:nvPr/>
        </p:nvPicPr>
        <p:blipFill>
          <a:blip r:embed="rId1"/>
          <a:stretch/>
        </p:blipFill>
        <p:spPr>
          <a:xfrm>
            <a:off x="755640" y="1365120"/>
            <a:ext cx="79074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Возрастные кризисы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Кризисы утраты и разлуки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Травматические кризисы и их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ризнаки(с признаками физического насилия, с признакам психологического насилия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7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4488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468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Регресс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– в кризисной ситуации ребенок или подросток откатывается к более ранним способам реагирования: к плаксивости, капризам, несамостоятельности, возможен энурез, сосание пальцев и т.д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Подавление Я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– избегание нового опыта, любого риска, он всегда пессимистически настроен в отношении собственных достижений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Отрицание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– дети не воспринимают источник тревоги как реальное событие. Результат такой защиты – неадекватно завышенная самооценка, они не принимают критику, самолюбивы, активно отрицают наличие трудностей и проблем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Проецирование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– приписывание другим собственных, часто отрицаемых для себя желаний и намерений. Проявляется, например, пережитое насилие в играх, рисунках, дети обвиняют других в том, что ощущают сами. Другими словами, если подросток ненавидит самоуверенных или, например, нытиков, это может быть потому, что он сам не чужд подобных качеств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Изоляция чувств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– неспособность или, скорее, невозможность осознавать свои чувства и проживать их, этакая «замороженность», страх прочувствовать в полной мере и т.д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4" descr=""/>
          <p:cNvPicPr/>
          <p:nvPr/>
        </p:nvPicPr>
        <p:blipFill>
          <a:blip r:embed="rId1"/>
          <a:stretch/>
        </p:blipFill>
        <p:spPr>
          <a:xfrm>
            <a:off x="835200" y="1847880"/>
            <a:ext cx="76323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838080" y="685440"/>
            <a:ext cx="8305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Инциденты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— это ситуации, при которых один или несколько подростков (настойчиво) проявляют неадекватное поведение (временное), нарушающее ежедневный распорядок дня. Неадекватное поведение, заключающееся, например, в несоблюдении указаний руководства школы, учителей, является обременительным, но его можно, проявляя известную настойчивость, остановить или преломить. В этом случае речь еще не идет об угрозах или агрессии физического характер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Кризисные ситуац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— это ситуации, при которых один или несколько подростков настойчиво проявляют неадекватное поведение, ломающее ежедневный распорядок дня, а также ситуации, при которых лицам угрожают и/или нападают на них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едпочтение отдается ежедневному распорядку дня;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 самого начала принимаются решительные меры;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одросток получает информацию о том, какие навыки ему необходимы;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опросите помощи и разделите роли;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личная безопасность окружающих получает приоритет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4684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увеличение расстояния между руководителем и подростком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95360" indent="-49536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медленное проговаривание слов и предложений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95360" indent="-49536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тон, понижающийся к концу предложения или слова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95360" indent="-49536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менее частый и менее продолжительный контакт глазами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95360" indent="-49536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замедленные, заторможенные движения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95360" indent="-49536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держанность в физических контактах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2824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граниченная духовная культур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бедненная досуговая сред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кука, неумение найти достойное занятие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изкая коммуникабельность, неспособность к общению с другими детьми конструктивными средствами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моциональная неразвитость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еумение использовать вербальную форму для доказательства своей правоты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0-27T08:14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