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78E3-D810-4E15-8D9C-C2055DF4B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5471-F563-424D-9CEF-FCCA07F69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7945-8D7A-4AFE-AD3C-DF2C9C468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632-B82F-4561-99C8-13EE95F0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86236-2388-4BF9-9315-F9AA6495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70EF-C575-4637-B484-AC40C3E6D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A0DE-4ADF-435E-A86D-0A38EC96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F0FB4-8DFC-44E2-B11D-0C1078D68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7478-B69E-46C9-A5AE-9E3DAAC2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94B30-01ED-42E4-A1FF-AC6C7B139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A10B-ABA0-4D61-BFAA-EB308B1E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FACB-6E2F-48B0-9FAD-2DB4BA24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E0C0-3F9D-4D55-A854-5AE20183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B3A1B-3662-49C0-8D25-81379E84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C6C2-57F8-4FEA-B46E-198D64F6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8C77-72E9-4F52-AE1B-142DE340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5C1B-1EE9-407E-8FD7-53261B224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41109-9A84-474E-A9B4-2AADC13C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1BAD2-29E4-4F2F-AB4E-04F6A2DE1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B6AA1-E394-45DF-9BFC-909B7C1D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3B9A9-8B61-450E-BEA7-59D771431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B9D25-88F9-44D9-A760-5EDEB9099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55E5-87AF-42F5-A4F5-E12008373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E7EB8-6189-426E-9435-EE2E7802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DFF52-96F3-4EA7-8BE1-48DBE584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A4B2A-8815-4959-B683-FEC120DB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E6A33-6307-452A-A9BC-1F41AA11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977828-62CA-4AAF-8512-F051FAF3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01C6-1253-4777-BFF4-51C13356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72D6-DE04-4618-866D-CCB26C74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1311C-59EA-42C9-8C54-7B505ABD6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16DEE-4695-4E2A-84B2-CDFEAB579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68D36-E336-4D02-9296-CE36105A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0B4A-6197-4EE7-AC6D-640BFFC6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86239-B420-4EC0-BFD4-FA7C395A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5E8AA-6583-4C6A-84B9-F296FFC03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7425D-5FE0-4B0A-B4A2-63DD2FCA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0D6BD-4EAD-4C2A-9E44-9AF98989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2EEC5-7028-4186-B739-6F28B8F5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D7134-F5F6-4C86-8E9F-811A5487D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6BD89-BDC2-4513-866C-B1740A4F5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D8C4A-C11D-4CDF-A3ED-96F99D04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A8E64-B8BE-4649-B227-178B0A28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7C6782-9C52-4261-8286-100FA0250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0672-BAF9-4081-AB18-245E415F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B3E50-2EB4-41BD-A04D-09B56A7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FF686-3375-4DA3-8CAE-40340EA0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89B9B-43AA-49F9-A6F7-951E9B2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396AF-8618-471D-BE91-058FBEFE5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9073F-C03A-4B41-BAE7-871ADB77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1A5DC-879E-4A61-8403-CA919C33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32F3E-5069-46B8-875E-9C2E20B2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37472-1570-462C-9D6A-F13A60E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8DBE6A-6D9B-4213-B69A-F3316CE4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254BC-E1C6-4BFA-8182-CFD0BA25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10F-5F63-480A-9F05-F5FDAEDB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46AAA0-C4CF-44BB-A8BE-E32E643A0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9B586-2305-4038-8685-7AEFB6BA8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FF6F2-BED6-4F1B-A767-5BA8FEE4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87917-CD4F-4E47-9844-773933D1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A1963-AF02-4544-B488-248AE2062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2C1DF-FA52-466B-9DDE-39388142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F2BA4-E5AA-48FB-80DD-35F5019A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1F2816-9BCD-445C-A90F-FFACBC91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E344-1D07-465D-A1EC-F5A1A6D4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FE83BB-7CA7-4772-B6D7-1455C67C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0004-0404-4881-B83E-6B5ABF8E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91768-7340-4658-B294-0FC3F878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1289AC-A594-444E-B206-E81B1BAB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7803BC-8802-4ED1-B5FF-3C101639D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FE377-A75C-4589-9820-6709900E3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9F91D-C955-4ED1-9C14-5D942B00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66BB4-7C01-46B6-A48C-C3944CD0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8A8A8-5C49-4A98-B0EF-7CCCEE6B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1CCFF-05F5-4704-883E-BFD827CF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C68906-90DA-413C-9FE0-77E79E309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5389DF-570A-4A21-8E79-6036CA24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5007-F500-44E8-B04B-12356434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B37395-0B39-41C6-80F6-39B4E457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A2370-4594-4098-AE28-0943AC4A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A7478B-3E9A-4928-BDA5-7E29D1F8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F4064-E059-4A39-A5E1-2C74C691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D997B5-3711-4CD7-A228-53D87357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CD14B-E389-4839-8A40-489A5764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8DC5EB-2756-453A-8282-0A53ECE51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B8C792-065B-4121-8EA7-26D4B8766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09F8E-AC98-417A-94FE-3BF232BF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34B1D-76C0-43FF-ABCE-8D69CD064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D180-C625-499F-9A16-16847843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88285-81E7-48E4-B287-884F46F5E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E487E-BB42-4093-8312-171649DA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6FB047-BDE7-4D3A-BEE2-FC8123094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3A2A2-9C10-4D47-B312-8533B2B43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9160C-AE92-4D5D-9AC1-D6AED727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8A9F54-A004-4C8E-A010-A0FEAB9E2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1E3EE-F2F4-47BE-B2EB-5AD2443EB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934B-594B-456A-BE1F-820ACC9946B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AAD3-D87F-4BC4-8D21-A66B7FF2FC05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583C-D2F8-40C4-8A18-219C62268CE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ая соединительная линия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ая соединительная линия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95F25-3ECC-41B6-99DE-EC9C5F7065D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F773-E734-4A26-B02E-2081C6549E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C1E3-2392-49AC-AEB4-8DF7E2584A9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D703-1267-480D-91CD-CAC51B26E1F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5ED31-DF5D-4070-8C94-70D7399D3D51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Rectangle 7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2" descr="http://www.summercamp.ru/images/6/61/0_67b_e6c45fda_Lm.jpg"/>
          <p:cNvPicPr/>
          <p:nvPr/>
        </p:nvPicPr>
        <p:blipFill>
          <a:blip r:embed="rId2"/>
          <a:stretch/>
        </p:blipFill>
        <p:spPr>
          <a:xfrm>
            <a:off x="2540160" y="2338560"/>
            <a:ext cx="4063680" cy="3051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4" descr=""/>
          <p:cNvPicPr/>
          <p:nvPr/>
        </p:nvPicPr>
        <p:blipFill>
          <a:blip r:embed="rId1"/>
          <a:stretch/>
        </p:blipFill>
        <p:spPr>
          <a:xfrm>
            <a:off x="755640" y="1365120"/>
            <a:ext cx="7907400" cy="39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озрастные кризисы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Кризисы утраты и разлуки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равматические кризисы и их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ризнаки(с признаками физического насилия, с признакам психологического насилия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Rectangle 7" descr=""/>
          <p:cNvPicPr/>
          <p:nvPr/>
        </p:nvPicPr>
        <p:blipFill>
          <a:blip r:embed="rId1"/>
          <a:stretch/>
        </p:blipFill>
        <p:spPr>
          <a:xfrm>
            <a:off x="450720" y="274680"/>
            <a:ext cx="84488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Регресс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в кризисной ситуации ребенок или подросток откатывается к более ранним способам реагирования: к плаксивости, капризам, несамостоятельности, возможен энурез, сосание пальцев и т.д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одавление Я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избегание нового опыта, любого риска, он всегда пессимистически настроен в отношении собственных достижений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Отрицани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дети не воспринимают источник тревоги как реальное событие. Результат такой защиты – неадекватно завышенная самооценка, они не принимают критику, самолюбивы, активно отрицают наличие трудностей и проблем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Проецирование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приписывание другим собственных, часто отрицаемых для себя желаний и намерений. Проявляется, например, пережитое насилие в играх, рисунках, дети обвиняют других в том, что ощущают сами. Другими словами, если подросток ненавидит самоуверенных или, например, нытиков, это может быть потому, что он сам не чужд подобных качеств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fffff"/>
                </a:solidFill>
                <a:latin typeface="Times New Roman"/>
              </a:rPr>
              <a:t>Изоляция чувств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</a:rPr>
              <a:t> – неспособность или, скорее, невозможность осознавать свои чувства и проживать их, этакая «замороженность», страх прочувствовать в полной мере и т.д.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Rectangle 4" descr=""/>
          <p:cNvPicPr/>
          <p:nvPr/>
        </p:nvPicPr>
        <p:blipFill>
          <a:blip r:embed="rId1"/>
          <a:stretch/>
        </p:blipFill>
        <p:spPr>
          <a:xfrm>
            <a:off x="835200" y="1847880"/>
            <a:ext cx="763236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838080" y="685440"/>
            <a:ext cx="83059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Инциденты 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— это ситуации, при которых один или несколько подростков (настойчиво) проявляют неадекватное поведение (временное), нарушающее ежедневный распорядок дня. Неадекватное поведение, заключающееся, например, в несоблюдении указаний руководства школы, учителей, является обременительным, но его можно, проявляя известную настойчивость, остановить или преломить. В этом случае речь еще не идет об угрозах или агрессии физического характер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Кризисные ситуации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 — это ситуации, при которых один или несколько подростков настойчиво проявляют неадекватное поведение, ломающее ежедневный распорядок дня, а также ситуации, при которых лицам угрожают и/или нападают на ни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редпочтение отдается ежедневному распорядку дня;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с самого начала принимаются решительные меры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дросток получает информацию о том, какие навыки ему необходимы;          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попросите помощи и разделите роли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ffffff"/>
                </a:solidFill>
                <a:latin typeface="Times New Roman"/>
              </a:rPr>
              <a:t>личная безопасность окружающих получает приоритет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468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увеличение расстояния между руководителем и подростком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едленное проговаривание слов и предложений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он, понижающийся к концу предложения или слова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менее частый и менее продолжительный контакт глазами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замедленные, заторможенные движения;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95360" indent="-495360"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держанность в физических контактах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32824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граниченная духовная культур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бедненная досуговая среда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кука, неумение найти достойное занятие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изкая коммуникабельность, неспособность к общению с другими детьми конструктивными средствами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моциональная неразвитость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Неумение использовать вербальную форму для доказательства своей правоты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0-27T08:14:5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