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E543-A325-4610-BBC2-CB71DDDAC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382F-4E87-49BE-8095-9C0DD834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8786-A2EA-4796-B45B-ACC70887A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DB2C-62C8-4B66-9062-428223549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D250-65A3-4ABA-BC29-D727C3C6A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49113-5EAB-4BA5-9A8B-09AC42FF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FFAF3-4650-499C-B7E3-BA7C96D2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3AC5-613E-430A-A408-47A72971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1CC7F-B94D-46C7-972A-BBC352F4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1CB4-CE2A-4305-89BD-4F291C73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20C70-8C00-4C8A-9A8D-2ACBE98C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DEC4-B526-4208-A583-0AF7F2C5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06EF8-B732-4996-B4D0-5EF5E6CA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9C8AA-98FC-4E07-A1D4-17E352C5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FFCE7-44EC-4E2B-A5E9-BA3BB5C2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77B59-586F-417D-B31A-9BA8A051F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4B33-F876-4851-B76B-B9BF302DD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6B45E-AF0D-4457-AEA4-3356DB1D3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1E7AA-0C62-47D8-A19E-E702D6C9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5F4CC-2602-4557-AE2A-722B99C2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CF38D-391B-45DA-867D-343AA6DE4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8A14C-B774-4FC3-95FD-4DCFAC1F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FB25-B6A6-41DB-AE3E-06268C3D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51A16-1307-441A-82F0-CFA9F9A6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E503E-40CD-41A7-A043-A8563DD3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22C71-416D-4546-9D33-3E560CE8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92187-053C-430B-8B07-02AEAD87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3478A-F7A8-49B3-9122-D2B2F197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87141-8597-4FC9-B74B-98D48A598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8848A-B96F-4C27-863C-172A9228B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EED0E-078C-46EA-A441-CD11E28E8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F5599-6582-4E23-A149-22F42A02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C1FA6-A5C6-4E66-96FA-C6CF780B8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AFEA-3BBE-4044-962F-4701B475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CCF5A-C2C3-4EC7-9844-EFF257469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AE5C5A-554C-45E8-8A85-13A1369BF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7097C-A761-4814-BEF3-DF5D1F51E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FDB2C-72B5-4B52-A9B0-4FD254AC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AD39D-85CC-4742-AD5F-B856AAF3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6CC85-57E9-46DB-9773-25793EB3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2EBAC-6275-4338-AB60-2DEF9884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A967E-4726-47C6-AED5-916E2ADAD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3CA76-99CF-4A66-A6A9-705BB73B6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C2366-A9AD-4802-A591-F6C526807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64FB-6B8F-4A22-AFA7-8140B46F5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E7604-CCB6-4479-B942-490832BC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8AD11-4257-402C-990F-537E6C4B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964B2-8E26-403C-896A-72AC753C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CD1015-559B-4EDF-B252-452159C9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26A16-5C14-479E-8F49-BC9B4346A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F40F9-3D76-48A3-ADA0-B309C69A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3AB9B-FDBA-4A3F-8249-35CCEBCD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9EC3D-C7DB-4D24-A47F-162814B2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08EDB-E700-46C0-90B3-548439F4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E4A5D-0206-4C0C-A142-314E8FBE6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2BAD-6C24-4285-9FA7-B2E05F817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195FE-86DA-4887-865D-2770FECA0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C9ACF-63AE-4232-AFB8-BFCEC93A1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A7833-57EB-4531-B467-2BCB5962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8FE5E-8265-4137-80D8-4F64432A6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1B42F-3271-4977-B487-5903BB41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6955D-8691-42B0-BFC9-50D4F24D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ABC66-EC78-47A9-977B-C780DB3C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97BD3-8F91-48C0-9284-C97E0FEA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09A1B-A555-4388-AE04-9FBFA462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1F750-712F-48E4-849B-420F713B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4CA1-7328-458B-8DB1-6225737CF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21B25-8E09-47F1-99E4-7F276405E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493B0-A9D7-49FC-9E3F-3DED50220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5E15ED-43E4-4643-A4A3-C58F1B542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BAE11-6D47-4DBC-B071-6924AF014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53BB3-9CC1-4E67-8304-C1FF853C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3FEF1-BB5A-4571-8E13-C82E5BB2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E355D-FB13-4649-9B3B-FAD2396A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2CEA0-9F0E-44C4-BE42-BE44F570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3A7B4-6581-438B-BBCB-5C71631D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A3CC4-7804-4130-9583-20692171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38B7-EDE9-4B6C-84C4-E38482CC6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0C631-C415-4047-A812-5DB3DA68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2693B-D7DB-4D6E-8B52-80B2983F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27229-8E80-4C5E-B4CB-DFAF2CD3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E005C-C60C-474C-8D72-0A8846536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2179F0-134B-40E2-819E-13244E92C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061B-1D5E-4BA5-8D5C-7E858DE1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8b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96464">
                  <a:alpha val="1176"/>
                </a:srgbClr>
              </a:gs>
              <a:gs pos="100000">
                <a:srgbClr val="696464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f7f2e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f7f4e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56f5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3481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3481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df958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B719-216A-423D-AE99-53722F0B26E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8b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96464">
                  <a:alpha val="1176"/>
                </a:srgbClr>
              </a:gs>
              <a:gs pos="100000">
                <a:srgbClr val="696464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f7f2e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f7f4e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9a1700"/>
              </a:gs>
              <a:gs pos="100000">
                <a:srgbClr val="ff8271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56f5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3481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3481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df958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9D61-836F-47AD-B72D-622D43F90F62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8b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96464">
                  <a:alpha val="1176"/>
                </a:srgbClr>
              </a:gs>
              <a:gs pos="100000">
                <a:srgbClr val="696464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f7f2e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f7f4e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56f5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3481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3481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df958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FFA6-48EC-42A0-BB44-E8017E150D3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8b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96464">
                  <a:alpha val="1176"/>
                </a:srgbClr>
              </a:gs>
              <a:gs pos="100000">
                <a:srgbClr val="696464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9a1700"/>
              </a:gs>
              <a:gs pos="100000">
                <a:srgbClr val="ff8271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f7f4e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f7f2e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56f5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3481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3481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df958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9B37-5E91-4896-9E6F-C26FDB1CC68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8b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56f5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3481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3481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df958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E8F7-E7C6-46F7-A8FD-EF6CD0FA53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8b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56f5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3481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3481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df958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5705-93D7-49C9-83EA-8FD7D1622EA1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8b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56f5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3481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3481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df958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AA93-87C9-4883-B1EC-1C86ABD305BA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536400" y="176040"/>
            <a:ext cx="8442360" cy="2073600"/>
          </a:xfrm>
          <a:prstGeom prst="rect">
            <a:avLst/>
          </a:prstGeom>
          <a:ln w="0">
            <a:noFill/>
          </a:ln>
        </p:spPr>
      </p:pic>
      <p:pic>
        <p:nvPicPr>
          <p:cNvPr id="302" name="Подзаголовок 2" descr=""/>
          <p:cNvPicPr/>
          <p:nvPr/>
        </p:nvPicPr>
        <p:blipFill>
          <a:blip r:embed="rId2"/>
          <a:stretch/>
        </p:blipFill>
        <p:spPr>
          <a:xfrm>
            <a:off x="536400" y="3127320"/>
            <a:ext cx="821700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Заголовок 1" descr=""/>
          <p:cNvPicPr/>
          <p:nvPr/>
        </p:nvPicPr>
        <p:blipFill>
          <a:blip r:embed="rId1"/>
          <a:stretch/>
        </p:blipFill>
        <p:spPr>
          <a:xfrm>
            <a:off x="450720" y="-55440"/>
            <a:ext cx="8242560" cy="11458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1426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Активные занятия подростков спортом, их творческое самовыражение, участие в группах общения и личностного роста, арттерапия - всё это активизирует личностные ресурсы, в свою очередь обеспечивающие активность личности, её здоровье и устойчивость к негативному внешнему воздействию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25" name="Рисунок 3" descr=""/>
          <p:cNvPicPr/>
          <p:nvPr/>
        </p:nvPicPr>
        <p:blipFill>
          <a:blip r:embed="rId2"/>
          <a:stretch/>
        </p:blipFill>
        <p:spPr>
          <a:xfrm>
            <a:off x="785880" y="4214880"/>
            <a:ext cx="2887560" cy="2165400"/>
          </a:xfrm>
          <a:prstGeom prst="rect">
            <a:avLst/>
          </a:prstGeom>
          <a:ln w="0">
            <a:noFill/>
          </a:ln>
        </p:spPr>
      </p:pic>
      <p:pic>
        <p:nvPicPr>
          <p:cNvPr id="326" name="Рисунок 5" descr=""/>
          <p:cNvPicPr/>
          <p:nvPr/>
        </p:nvPicPr>
        <p:blipFill>
          <a:blip r:embed="rId3"/>
          <a:stretch/>
        </p:blipFill>
        <p:spPr>
          <a:xfrm>
            <a:off x="5072040" y="3714840"/>
            <a:ext cx="285588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Заголовок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448840" cy="15667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357200"/>
            <a:ext cx="8229600" cy="50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Данная форма работы используется в случаях уже сформированного суицида. Она направлена на профилактику рецидивов или их негативных последствий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29" name="Picture 4" descr=""/>
          <p:cNvPicPr/>
          <p:nvPr/>
        </p:nvPicPr>
        <p:blipFill>
          <a:blip r:embed="rId2"/>
          <a:stretch/>
        </p:blipFill>
        <p:spPr>
          <a:xfrm>
            <a:off x="2500200" y="3286080"/>
            <a:ext cx="3934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10" descr=""/>
          <p:cNvPicPr/>
          <p:nvPr/>
        </p:nvPicPr>
        <p:blipFill>
          <a:blip r:embed="rId1"/>
          <a:stretch/>
        </p:blipFill>
        <p:spPr>
          <a:xfrm>
            <a:off x="2266920" y="-208080"/>
            <a:ext cx="6883560" cy="136692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-360" y="1428480"/>
            <a:ext cx="85726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3018"/>
                </a:solidFill>
                <a:latin typeface="Century Gothic"/>
              </a:rPr>
              <a:t>Групповое изучение класса (сбор информации об отклонениях – заполнение матрицы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3018"/>
                </a:solidFill>
                <a:latin typeface="Century Gothic"/>
              </a:rPr>
              <a:t>Диагностика нарушений и заполнение диагностической карты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3018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2a3018"/>
                </a:solidFill>
                <a:latin typeface="Century Gothic"/>
              </a:rPr>
              <a:t>Анализ полученных данных, выявление причин  отклонений.</a:t>
            </a:r>
            <a:r>
              <a:rPr b="0" lang="ru-RU" sz="2400" spc="-1" strike="noStrike">
                <a:solidFill>
                  <a:srgbClr val="2a3018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3018"/>
                </a:solidFill>
                <a:latin typeface="Century Gothic"/>
              </a:rPr>
              <a:t>Определение основных направлений работы по типу нарушения (проблемы в обучении, поведении, самосознании, общении)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3018"/>
                </a:solidFill>
                <a:latin typeface="Century Gothic"/>
              </a:rPr>
              <a:t>Планирование индивидуальной и групповой работы с детьми, родителями, педагогами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3018"/>
                </a:solidFill>
                <a:latin typeface="Century Gothic"/>
              </a:rPr>
              <a:t>Реализация плана работы. Применение в работе с детьми основных приемов психолого-педагогического воздействия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3018"/>
                </a:solidFill>
                <a:latin typeface="Century Gothic"/>
              </a:rPr>
              <a:t>Анализ динамики развития. Корректировка программы развития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Прямоугольник 2"/>
          <p:cNvSpPr/>
          <p:nvPr/>
        </p:nvSpPr>
        <p:spPr>
          <a:xfrm>
            <a:off x="1661040" y="642960"/>
            <a:ext cx="672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иагностическая карт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4" descr="сканирование002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44974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сканирование002"/>
          <p:cNvPicPr/>
          <p:nvPr/>
        </p:nvPicPr>
        <p:blipFill>
          <a:blip r:embed="rId2"/>
          <a:stretch/>
        </p:blipFill>
        <p:spPr>
          <a:xfrm>
            <a:off x="0" y="1643040"/>
            <a:ext cx="9144000" cy="44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"/>
          <p:cNvGraphicFramePr/>
          <p:nvPr/>
        </p:nvGraphicFramePr>
        <p:xfrm>
          <a:off x="0" y="3284640"/>
          <a:ext cx="9144000" cy="3002040"/>
        </p:xfrm>
        <a:graphic>
          <a:graphicData uri="http://schemas.openxmlformats.org/drawingml/2006/table">
            <a:tbl>
              <a:tblPr/>
              <a:tblGrid>
                <a:gridCol w="1835280"/>
                <a:gridCol w="1365120"/>
                <a:gridCol w="1330200"/>
                <a:gridCol w="1809720"/>
                <a:gridCol w="1305000"/>
                <a:gridCol w="1498680"/>
              </a:tblGrid>
              <a:tr h="2251080"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правления работ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рупповая рабо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твет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ндивидуал. рабо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твет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тметка о выполнении,  примеча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6" name="Rectangle 1"/>
          <p:cNvSpPr/>
          <p:nvPr/>
        </p:nvSpPr>
        <p:spPr>
          <a:xfrm>
            <a:off x="1285920" y="21888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План рабо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с ребенком на меся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3"/>
          <p:cNvSpPr/>
          <p:nvPr/>
        </p:nvSpPr>
        <p:spPr>
          <a:xfrm>
            <a:off x="1357200" y="178596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Ф. и. ребенка 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Месяц 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4"/>
          <p:cNvSpPr/>
          <p:nvPr/>
        </p:nvSpPr>
        <p:spPr>
          <a:xfrm>
            <a:off x="468360" y="692280"/>
            <a:ext cx="86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одели профилакти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5"/>
          <p:cNvSpPr/>
          <p:nvPr/>
        </p:nvSpPr>
        <p:spPr>
          <a:xfrm>
            <a:off x="3786120" y="3068640"/>
            <a:ext cx="1357560" cy="914400"/>
          </a:xfrm>
          <a:prstGeom prst="ellipse">
            <a:avLst/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Я - ребе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6"/>
          <p:cNvSpPr/>
          <p:nvPr/>
        </p:nvSpPr>
        <p:spPr>
          <a:xfrm>
            <a:off x="1619280" y="1773360"/>
            <a:ext cx="1440000" cy="1296720"/>
          </a:xfrm>
          <a:prstGeom prst="ellipse">
            <a:avLst/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Родит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7"/>
          <p:cNvSpPr/>
          <p:nvPr/>
        </p:nvSpPr>
        <p:spPr>
          <a:xfrm>
            <a:off x="4427640" y="1341360"/>
            <a:ext cx="1490400" cy="1201680"/>
          </a:xfrm>
          <a:prstGeom prst="ellipse">
            <a:avLst/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a3018"/>
                </a:solidFill>
                <a:latin typeface="Arial"/>
              </a:rPr>
              <a:t>Рабо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a3018"/>
                </a:solidFill>
                <a:latin typeface="Arial"/>
              </a:rPr>
              <a:t>Зам. по В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8"/>
          <p:cNvSpPr/>
          <p:nvPr/>
        </p:nvSpPr>
        <p:spPr>
          <a:xfrm>
            <a:off x="6588000" y="2708280"/>
            <a:ext cx="1440000" cy="1295280"/>
          </a:xfrm>
          <a:prstGeom prst="ellipse">
            <a:avLst/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a3018"/>
                </a:solidFill>
                <a:latin typeface="Arial"/>
              </a:rPr>
              <a:t>Рабо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a3018"/>
                </a:solidFill>
                <a:latin typeface="Arial"/>
              </a:rPr>
              <a:t>социаль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a3018"/>
                </a:solidFill>
                <a:latin typeface="Arial"/>
              </a:rPr>
              <a:t>педаго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9"/>
          <p:cNvSpPr/>
          <p:nvPr/>
        </p:nvSpPr>
        <p:spPr>
          <a:xfrm>
            <a:off x="5076720" y="4508640"/>
            <a:ext cx="1562040" cy="1346040"/>
          </a:xfrm>
          <a:prstGeom prst="ellipse">
            <a:avLst/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a3018"/>
                </a:solidFill>
                <a:latin typeface="Arial"/>
              </a:rPr>
              <a:t>Рабо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a301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2a3018"/>
                </a:solidFill>
                <a:latin typeface="Arial"/>
              </a:rPr>
              <a:t>класс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a3018"/>
                </a:solidFill>
                <a:latin typeface="Arial"/>
              </a:rPr>
              <a:t>руководите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4"/>
          <p:cNvSpPr/>
          <p:nvPr/>
        </p:nvSpPr>
        <p:spPr>
          <a:xfrm flipH="1" flipV="1">
            <a:off x="4785840" y="3928680"/>
            <a:ext cx="577800" cy="72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6"/>
          <p:cNvSpPr/>
          <p:nvPr/>
        </p:nvSpPr>
        <p:spPr>
          <a:xfrm flipH="1">
            <a:off x="5143680" y="3429000"/>
            <a:ext cx="144432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7"/>
          <p:cNvSpPr/>
          <p:nvPr/>
        </p:nvSpPr>
        <p:spPr>
          <a:xfrm flipH="1">
            <a:off x="4454640" y="2133720"/>
            <a:ext cx="46080" cy="9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8"/>
          <p:cNvSpPr/>
          <p:nvPr/>
        </p:nvSpPr>
        <p:spPr>
          <a:xfrm flipV="1">
            <a:off x="2916360" y="3933360"/>
            <a:ext cx="11509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22"/>
          <p:cNvSpPr/>
          <p:nvPr/>
        </p:nvSpPr>
        <p:spPr>
          <a:xfrm>
            <a:off x="1476360" y="4149720"/>
            <a:ext cx="1490760" cy="1440000"/>
          </a:xfrm>
          <a:prstGeom prst="ellipse">
            <a:avLst/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a3018"/>
                </a:solidFill>
                <a:latin typeface="Arial"/>
              </a:rPr>
              <a:t>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a3018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a3018"/>
                </a:solidFill>
                <a:latin typeface="Arial"/>
              </a:rPr>
              <a:t>психол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 flipV="1">
            <a:off x="3059280" y="2565000"/>
            <a:ext cx="3528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7"/>
          <p:cNvSpPr/>
          <p:nvPr/>
        </p:nvSpPr>
        <p:spPr>
          <a:xfrm flipH="1" flipV="1">
            <a:off x="2857680" y="2928600"/>
            <a:ext cx="2357280" cy="185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9"/>
          <p:cNvSpPr/>
          <p:nvPr/>
        </p:nvSpPr>
        <p:spPr>
          <a:xfrm>
            <a:off x="2928960" y="2786040"/>
            <a:ext cx="1008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31"/>
          <p:cNvSpPr/>
          <p:nvPr/>
        </p:nvSpPr>
        <p:spPr>
          <a:xfrm flipV="1">
            <a:off x="2916360" y="2205000"/>
            <a:ext cx="158436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3" name="Прямая со стрелкой 23"/>
          <p:cNvCxnSpPr>
            <a:endCxn id="342" idx="3"/>
          </p:cNvCxnSpPr>
          <p:nvPr/>
        </p:nvCxnSpPr>
        <p:spPr>
          <a:xfrm flipV="1">
            <a:off x="6286680" y="3812760"/>
            <a:ext cx="513360" cy="83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54" name="Прямая со стрелкой 24"/>
          <p:cNvCxnSpPr/>
          <p:nvPr/>
        </p:nvCxnSpPr>
        <p:spPr>
          <a:xfrm>
            <a:off x="5786280" y="2286000"/>
            <a:ext cx="101376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55" name="Прямая со стрелкой 27"/>
          <p:cNvCxnSpPr>
            <a:endCxn id="343" idx="2"/>
          </p:cNvCxnSpPr>
          <p:nvPr/>
        </p:nvCxnSpPr>
        <p:spPr>
          <a:xfrm>
            <a:off x="2928960" y="4928760"/>
            <a:ext cx="2148480" cy="25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56" name="Прямая со стрелкой 29"/>
          <p:cNvCxnSpPr>
            <a:endCxn id="348" idx="0"/>
          </p:cNvCxnSpPr>
          <p:nvPr/>
        </p:nvCxnSpPr>
        <p:spPr>
          <a:xfrm>
            <a:off x="2142000" y="3071880"/>
            <a:ext cx="80280" cy="10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57" name="Прямая со стрелкой 32"/>
          <p:cNvCxnSpPr>
            <a:stCxn id="341" idx="2"/>
          </p:cNvCxnSpPr>
          <p:nvPr/>
        </p:nvCxnSpPr>
        <p:spPr>
          <a:xfrm flipH="1">
            <a:off x="3071880" y="1940400"/>
            <a:ext cx="13561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Rectangle 2" descr=""/>
          <p:cNvPicPr/>
          <p:nvPr/>
        </p:nvPicPr>
        <p:blipFill>
          <a:blip r:embed="rId1"/>
          <a:stretch/>
        </p:blipFill>
        <p:spPr>
          <a:xfrm>
            <a:off x="1365120" y="304920"/>
            <a:ext cx="7785360" cy="119988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1071720" y="1571760"/>
            <a:ext cx="78580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89520" indent="-33264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entury Gothic"/>
              </a:rPr>
              <a:t>Проявления доброты, внимания и заботы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89520" indent="-33264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entury Gothic"/>
              </a:rPr>
              <a:t>Просьб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89520" indent="-33264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entury Gothic"/>
              </a:rPr>
              <a:t>Поощрение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89520" indent="-33264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entury Gothic"/>
              </a:rPr>
              <a:t>Авансирование личности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89520" indent="-33264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entury Gothic"/>
              </a:rPr>
              <a:t>Прощение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89520" indent="-33264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entury Gothic"/>
              </a:rPr>
              <a:t>Проявление огорчения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89520" indent="-33264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entury Gothic"/>
              </a:rPr>
              <a:t>Поручительство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89520" indent="-33264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entury Gothic"/>
              </a:rPr>
              <a:t>Убеждение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89520" indent="-33264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entury Gothic"/>
              </a:rPr>
              <a:t>Внушение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89520" indent="-33264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entury Gothic"/>
              </a:rPr>
              <a:t>Доверие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89520" indent="-33264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entury Gothic"/>
              </a:rPr>
              <a:t>Вовлечение в интересную деятельность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89520" indent="-33264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entury Gothic"/>
              </a:rPr>
              <a:t>Моральная поддержк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60" name="Picture 4" descr=""/>
          <p:cNvPicPr/>
          <p:nvPr/>
        </p:nvPicPr>
        <p:blipFill>
          <a:blip r:embed="rId2"/>
          <a:stretch/>
        </p:blipFill>
        <p:spPr>
          <a:xfrm>
            <a:off x="6215040" y="3857760"/>
            <a:ext cx="22399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071360" y="285480"/>
            <a:ext cx="78627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entury Gothic"/>
              </a:rPr>
              <a:t>     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1" lang="ru-RU" sz="2300" spc="-1" strike="noStrike">
                <a:solidFill>
                  <a:srgbClr val="7c6b4d"/>
                </a:solidFill>
                <a:latin typeface="Times New Roman"/>
                <a:ea typeface="Times New Roman"/>
              </a:rPr>
              <a:t>Для  профилактики суицидальных настроений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ят систематические занятия с учащимися, направленные на формирование стрессоустойчивости,  отработку техник принятия верного решения в ситуациях жизненного выбора, правил поведения в конфликте и т.д.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ках гуманитарного цикла и классных часах с подростками необходимо говорить о ценности жизни, индивидуальной неповторимости каждого человека, о позитивном прогнозе будущего, умении прогнозировать свой успех – с конкретными примерами и фактами из жизни, художественной литературы, СМИ. 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пустимо открытое прямое публичное обсуждение с учащимися суицидальных случаев. Зачастую цена подобных мероприятий (родительских собраний, классных часов) – жизнь кого-то из подростков, т.к. в подростковой среде возможно повторение суицидальных попыток по механизму подражания, заражения протестной реакции и д.р.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4"/>
          <p:cNvSpPr/>
          <p:nvPr/>
        </p:nvSpPr>
        <p:spPr>
          <a:xfrm>
            <a:off x="395280" y="404640"/>
            <a:ext cx="85694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грамма профилактики суицидального поведения включает в себя: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боту с родителями по обеспечению нормальной обстановки в семь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еспечение ребенку психологически комфортного положения в классном коллектив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тодическую помощь в преодолении учебных трудносте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хождение для учащегося компенсаторных видов деятельности, в которых он мог бы переживать ситуацию успех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хождение альтернативных способов проведения досуга и получения положительных эмоций с помощью, общения с природой и искусством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учение навыкам здорового образа жизни - рационального питания, режима труда и отдыха, дозированных физических нагрузок, правильного дыхания, расслабления и сосредоточен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енировку волевых качеств и выработку умения противостоять жизненным трудностя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работку стратегии общего плана жизни и путей достижения перспективных  целей, формирование внутреннего фокуса контроля и воспитание у молодого человека чувства ответственности за свою собственную судьбу перед самим собо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ирование навыков выхода из трудных ситуаций, веры в свои силы и возможности, умения принимать решения, разрешать конфликты и вести переговор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ирование Я-концепции с устойчивым позитивным представлением о самом себе и активной жизненной позицией, помогающей преодолевать естественные жизненные трудности через труд и волевое усилие над самим соб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1"/>
          <a:stretch/>
        </p:blipFill>
        <p:spPr>
          <a:xfrm>
            <a:off x="1066680" y="268200"/>
            <a:ext cx="7875720" cy="10242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356760" y="1285560"/>
            <a:ext cx="86439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) 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Несформированное понимание смерти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понимании ребенка смерть не означает бесповоротное прекращение жизни. Ребёнок думает, что всё можно будет вернуть назад. У подростков понимание и осознание страха смерти формируется не раньше 18 лет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) 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Отсутствие идеологии в обществе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дросток в обществе "без родины и флага" чаще испытывает ощущения ненужности, депрессии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) 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Ранняя половая жизнь, приводящая к ранним разочарованиям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 этом  возникает ситуация, по мнению подростка, не совместимая с представлением "как жить дальше" (потеря любимого, наступление нежеланной беременности и т.д.), т.е. происходит утрата цели. Суицидальное поведение у подростков часто объясняется тем, что молодые люди, не имея жизненного опыта, не могут правильно определить цель своей жизни и наметить пути ее достижения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)  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Дисгармония в семье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первую очередь нарушены родительско-детские отношения. Роль «последней капли» играют школьные ситуации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) 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Саморазрушаемое поведение (алкоголизм, наркомания, криминализация общества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6) В подавляющем большинстве случаев суицидальное поведение в возрасте до 15 лет связано с 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реакцией  протест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особенно частым источником последних являются нарушенные внутрисемейные, внутришкольные или внутригрупповые взаимоотношения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) 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Депрессия также является одной из причин, приводящих подростка   к  суицидальному поведению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ct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 существует какой-либо одной причины самоубийства. Эти причины могут выступать в различных комбинациях, или даже выступать  все вместе , таким образом, есть множество тревог, проблем, непонимания, которые, накапливаясь, подводят подростка  до негативных поступков.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1066680" y="139680"/>
            <a:ext cx="7875720" cy="10065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1000080" y="1357200"/>
            <a:ext cx="79344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- потеря аппетита или импульсивное обжорство, бессонница или повышенная сонливость в течение, по крайней мере, последних дней;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37872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- частые жалобы на соматические недомогания (на боли в животе, головные боли, постоянную усталость, частую сонливость);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37872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- необычно пренебрежительное отношение к своему внешнему виду;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37872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- постоянное чувство одиночества, бесполезности, вины или грусти;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37872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- ощущение скуки при проведении времени в привычном окружении или выполнении работы, которая раньше приносила удовольствие;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37872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- уход от контактов, изоляция от друзей и семьи, превращение в человека - одиночку;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37872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- нарушение внимания со снижением качества выполняемой работы;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37872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- погруженность в размышления о смерти;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37872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- отсутствие планов на будущее;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37872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- внезапные приступы гнева, зачастую возникающие из-за мелочей.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3787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ловек, готовящийся совершить самоубийство, часто говорит о своем душевном состоянии. Он или она могут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ямо и явно говорить о смерти: </a:t>
            </a:r>
            <a:r>
              <a:rPr b="1" i="1" lang="ru-RU" sz="2800" spc="-1" strike="noStrike">
                <a:solidFill>
                  <a:srgbClr val="660033"/>
                </a:solidFill>
                <a:latin typeface="Times New Roman"/>
              </a:rPr>
              <a:t>«Я собираюсь покончить с собой»; «Я не могу так дальше жить»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свенно намекать о своем намерении: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660033"/>
                </a:solidFill>
                <a:latin typeface="Times New Roman"/>
              </a:rPr>
              <a:t>«Я больше не буду ни для кого проблемой»; «Тебе больше не придется обо мне волноваться»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ного шутить на тему самоубийства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являть нездоровую заинтересованность вопросами смерти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d3481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Заголовок 1" descr=""/>
          <p:cNvPicPr/>
          <p:nvPr/>
        </p:nvPicPr>
        <p:blipFill>
          <a:blip r:embed="rId1"/>
          <a:stretch/>
        </p:blipFill>
        <p:spPr>
          <a:xfrm>
            <a:off x="1432080" y="268200"/>
            <a:ext cx="7510320" cy="87804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1434960" y="1071360"/>
            <a:ext cx="74995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. Раздавать другим вещи, имеющие большую личную значимость, окончательно приводить в порядок дела, мириться с давними врагами.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37872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37872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. Демонстрировать радикальные перемены в поведении, такие как: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37872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- в еде – есть слишком мало или слишком много;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37872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- во сне – спать слишком мало или слишком много;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37872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- во внешнем виде – стать неряшливым;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37872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37872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- в школьных привычках – пропускать занятия, не выполнять домашние задания, избегать общения с одноклассниками; проявлять раздражительность, угрюмость; находиться в подавленном настроении;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37872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37872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- замкнуться от семьи и друзей; быть чрезмерно деятельным или, наоборот, безразличным к окружающему миру; ощущать попеременно то внезапную эйфорию, то приступы отчаяния.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37872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37872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. Проявлять признаки беспомощности, безнадежности и отчаяния.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3787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Заголовок 1" descr=""/>
          <p:cNvPicPr/>
          <p:nvPr/>
        </p:nvPicPr>
        <p:blipFill>
          <a:blip r:embed="rId1"/>
          <a:stretch/>
        </p:blipFill>
        <p:spPr>
          <a:xfrm>
            <a:off x="450720" y="-158760"/>
            <a:ext cx="8242560" cy="11462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285480" y="1000080"/>
            <a:ext cx="864396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Формы психопрофилактической работы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d34817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Организация социальной среды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Воздействуя на социальные факторы, можно предотвратить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нежелательное поведение личности. Воздействие может быть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направлено на общество в целом, через создание негативного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общественного мнения по отношению к отклоняющемуся поведению.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Объектом работы также может быть семья, социальная группа (школа,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класс) или конкретная личность. 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Социальная  реклама  по формированию установок на здоровый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образ жизни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95724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000080"/>
            <a:ext cx="822960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Форма лекций, бесед, распространение специальной литературы  или  видео- и телефильмы. Суть подхода заключается в попытке воздействия на когнитивные процессы личности с целью повышения её способности к принятию конструктивных решений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15" name="Рисунок 3" descr=""/>
          <p:cNvPicPr/>
          <p:nvPr/>
        </p:nvPicPr>
        <p:blipFill>
          <a:blip r:embed="rId2"/>
          <a:stretch/>
        </p:blipFill>
        <p:spPr>
          <a:xfrm>
            <a:off x="1000080" y="3714840"/>
            <a:ext cx="2776680" cy="207936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5" descr=""/>
          <p:cNvPicPr/>
          <p:nvPr/>
        </p:nvPicPr>
        <p:blipFill>
          <a:blip r:embed="rId3"/>
          <a:stretch/>
        </p:blipFill>
        <p:spPr>
          <a:xfrm>
            <a:off x="6215040" y="4429080"/>
            <a:ext cx="249408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Заголовок 1" descr=""/>
          <p:cNvPicPr/>
          <p:nvPr/>
        </p:nvPicPr>
        <p:blipFill>
          <a:blip r:embed="rId1"/>
          <a:stretch/>
        </p:blipFill>
        <p:spPr>
          <a:xfrm>
            <a:off x="450720" y="-109440"/>
            <a:ext cx="8242560" cy="12985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6840" y="1357200"/>
            <a:ext cx="8472600" cy="50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entury Gothic"/>
              </a:rPr>
              <a:t>Реализуется в форме групповых</a:t>
            </a:r>
            <a:r>
              <a:rPr b="1" i="1" lang="ru-RU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entury Gothic"/>
              </a:rPr>
              <a:t>тренингов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4002c"/>
                </a:solidFill>
                <a:latin typeface="Century Gothic"/>
              </a:rPr>
              <a:t>4.</a:t>
            </a:r>
            <a:r>
              <a:rPr b="1" i="1" lang="ru-RU" sz="3000" spc="-1" strike="noStrike">
                <a:solidFill>
                  <a:srgbClr val="74002c"/>
                </a:solidFill>
                <a:latin typeface="Century Gothic"/>
              </a:rPr>
              <a:t> Организация деятельности, альтернативной  девиантному поведению. 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Альтернативными формами активности признаны: познание (путешествие), испытание себя (походы в горы, спорт с риском), значимое общение, любовь, творчество, деятельность (в том числе профессиональная, религиозно-духовная, благотворительная)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437680" cy="6696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7855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Личная ответственность за здоровье, гармонию с окружающим миром и своим организмом. Здоровый стиль жизни предполагает здоровое питание, регулярные физические нагрузки, соблюдение режима труда и отдыха, общение с природой, исключение излишеств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21" name="Рисунок 8" descr=""/>
          <p:cNvPicPr/>
          <p:nvPr/>
        </p:nvPicPr>
        <p:blipFill>
          <a:blip r:embed="rId2"/>
          <a:stretch/>
        </p:blipFill>
        <p:spPr>
          <a:xfrm>
            <a:off x="857160" y="3214800"/>
            <a:ext cx="1673280" cy="2800080"/>
          </a:xfrm>
          <a:prstGeom prst="rect">
            <a:avLst/>
          </a:prstGeom>
          <a:ln w="0">
            <a:noFill/>
          </a:ln>
        </p:spPr>
      </p:pic>
      <p:pic>
        <p:nvPicPr>
          <p:cNvPr id="322" name="Рисунок 9" descr=""/>
          <p:cNvPicPr/>
          <p:nvPr/>
        </p:nvPicPr>
        <p:blipFill>
          <a:blip r:embed="rId3"/>
          <a:stretch/>
        </p:blipFill>
        <p:spPr>
          <a:xfrm>
            <a:off x="4857840" y="3429000"/>
            <a:ext cx="348300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7T19:00:13Z</dcterms:created>
  <dc:creator>Admin</dc:creator>
  <dc:description/>
  <dc:language>en-US</dc:language>
  <cp:lastModifiedBy>Марина</cp:lastModifiedBy>
  <dcterms:modified xsi:type="dcterms:W3CDTF">2018-07-17T09:01:29Z</dcterms:modified>
  <cp:revision>22</cp:revision>
  <dc:subject/>
  <dc:title>Профилактика суицидального поведения среди детей и подростков</dc:title>
</cp:coreProperties>
</file>