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DBA-609B-47BF-9ED4-329B526C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3D6-88F1-414D-AE8B-5FAF0456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E868-DB98-4EF9-81B8-1AB126A29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7FE1-A99F-4BC7-93D2-224478D1F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A05D-ED96-48B8-A109-CDA04214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063B-EC0C-46BC-9496-935EBA963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8E94-5549-4459-AAFF-9B90809E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AA82-74A8-42B4-AC9C-9F36B089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CE06-D8AF-4BAD-8247-124666221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79645-B223-4BC9-B975-BECA94B2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E51C5-CE26-4DB5-BEEF-2ECA18A81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714C-BE72-498D-9AD1-2CB42EAC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3405-F6D8-440B-883B-9DFBD425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C66D-E127-4AFC-99AB-A5E6B532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C329-064E-419B-BCD8-FD4BA63D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F001-5856-41AA-AECF-457F98371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7571-F7DA-466F-9ACA-0D1F800E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2F95C-9702-4E6F-850F-F2373480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853BB-16FC-44B0-B378-876D65E9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9DC272-3C9F-40D2-AB8C-0B617FF9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5C9C6F-CCBA-4CD8-AE77-418FD484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B8E7-C66F-4EEF-9977-BFBDDEC75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97C1-49AA-4416-8D46-528DECCF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A421D-A03D-453F-9407-D0C51B2A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98300-E9AA-487B-A2B8-695C45B2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9877B3-46F5-43AB-9121-3F3B536A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5C387-49E5-47A1-BF5E-31DC67E8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B171-96FE-45DE-BA12-32F7FAB6B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6907B-0BFD-4465-B193-5DD20658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CFF11-753C-470E-A06D-EF871694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7B9EE-B125-4BEB-83CF-C2537F001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EF66D1-0A24-48A9-B54F-2CF90BA3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803B0-09CA-4E23-A248-360EBD37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4FBB-1753-480F-A791-43B795BA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F82B-7AB2-41E1-A9F1-B384A9FF1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9B24-79EC-41A7-BABA-74B771BAC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EB871-AECB-4559-A691-099BB5FA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09F34F-DC85-4F17-9FD8-82C840A9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DE3B1-6B8F-42DA-8C0B-528D1A39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D8FB0D-4DCD-400B-B1BA-1268C86D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F73BD-24BA-4048-8569-08682B3A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00DD8-B1A9-4CA8-8D5B-915833B58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B60B1-DF88-44A1-8F72-1953958B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C5712-872F-44FF-91CE-9BCDBD24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16A2-025B-4314-BF96-1A5B09D2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5546E-5533-4C88-BFC6-8FE48436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FFE6C-B060-491C-B41B-60833346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E89148-CDA9-41E1-A78A-FB8F1A740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B0CA-1604-4D31-952C-15D2D6809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B9E69-0DB2-4D62-AC18-0F61A7D1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01F8D-DA52-4828-926A-732DD07F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7F505C-A1B7-4E1E-ABE1-94971B69C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C80CF-7F4F-4193-8437-900C80F7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0A0250-EA97-4B1B-A8DB-92B743D9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86475-43A7-42DD-B7D8-557DEF770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5FBC-CC3B-45D0-84E6-7C91CCD89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8188E-449C-4496-8FD2-73D99AAB1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7C15E6-9828-4465-96FE-036D97B9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F4AA2F-F855-4D48-B553-8B0E642A5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9CC8A-73F4-4184-B935-D8EC67BC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F1A08-F988-4D8D-8E2C-3BA4346A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E4254-CD8C-4C50-8651-0B0306F52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71B3A-0C31-4F33-9CE4-D9783E20E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7C74A-9B75-4E28-A18A-2A9BAB2F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5DC55-5CD3-42BD-B3FA-3193D60E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FCD1B-7A4F-466C-92E4-C8E98C31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41A-5856-45EB-85B0-A270B37A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5A1C52-E69C-4179-AB50-E3E23423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78008-105C-4482-A2BF-1B53AE62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70F5E-B68B-4112-A734-2C29AA29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35571-D974-4FEC-8F7D-AF96ACFD1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CBA03-57F8-4C5B-9FFC-679197BE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1999D-820D-4D53-A5EA-9FFE283FF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A4CAF-DA52-406B-BB23-A4BA7232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83A09-9A30-43C5-B192-A81F132E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D27C8-D66D-4721-8CDC-52DFD7945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7DAC-B01C-4865-A54F-0EE66F65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003C-4710-4C7B-9169-8E336E5D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2A825-A7F5-485E-9E95-FDA3D465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ACF339-5FA4-45D6-B6E8-6D3DCCD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BB6028-578F-4B23-98A6-3AA569E0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A6799-1C8A-4493-A1A0-F8E5CFF2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586951-FB44-4AE5-B3AA-C56DDFAF0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2813-3E00-4F65-A288-C18C6BB25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96464">
                  <a:alpha val="1176"/>
                </a:srgbClr>
              </a:gs>
              <a:gs pos="100000">
                <a:srgbClr val="696464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2e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7f4e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76EA-FDB5-4B57-ACE2-CD063F0070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96464">
                  <a:alpha val="1176"/>
                </a:srgbClr>
              </a:gs>
              <a:gs pos="100000">
                <a:srgbClr val="696464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2e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7f4e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a1700"/>
              </a:gs>
              <a:gs pos="100000">
                <a:srgbClr val="ff827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CAFB-0450-4756-A35F-4DD9195326E8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96464">
                  <a:alpha val="1176"/>
                </a:srgbClr>
              </a:gs>
              <a:gs pos="100000">
                <a:srgbClr val="696464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2e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f7f4e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7FA1-C7A3-461C-A80A-CE30ACBF4F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696464">
                  <a:alpha val="1176"/>
                </a:srgbClr>
              </a:gs>
              <a:gs pos="100000">
                <a:srgbClr val="696464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9a1700"/>
              </a:gs>
              <a:gs pos="100000">
                <a:srgbClr val="ff827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f7f4eb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f7f2e9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64A4-ADE0-492D-A3C6-840D5083729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A376-899F-4364-A87D-6AFF56F5E2D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FCC3-7237-4373-A5FB-BFF7DBECD6DD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8b8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56f5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d3481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d3481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df958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7FE2-0460-41AD-AC9D-D2817C35BCC3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1" descr=""/>
          <p:cNvPicPr/>
          <p:nvPr/>
        </p:nvPicPr>
        <p:blipFill>
          <a:blip r:embed="rId1"/>
          <a:stretch/>
        </p:blipFill>
        <p:spPr>
          <a:xfrm>
            <a:off x="536400" y="176040"/>
            <a:ext cx="8442360" cy="2073600"/>
          </a:xfrm>
          <a:prstGeom prst="rect">
            <a:avLst/>
          </a:prstGeom>
          <a:ln w="0">
            <a:noFill/>
          </a:ln>
        </p:spPr>
      </p:pic>
      <p:pic>
        <p:nvPicPr>
          <p:cNvPr id="302" name="Подзаголовок 2" descr=""/>
          <p:cNvPicPr/>
          <p:nvPr/>
        </p:nvPicPr>
        <p:blipFill>
          <a:blip r:embed="rId2"/>
          <a:stretch/>
        </p:blipFill>
        <p:spPr>
          <a:xfrm>
            <a:off x="536400" y="3127320"/>
            <a:ext cx="82170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450720" y="-55440"/>
            <a:ext cx="8242560" cy="11458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1426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ктивные занятия подростков спортом, их творческое самовыражение, участие в группах общения и личностного роста, арттерапия - всё это активизирует личностные ресурсы, в свою очередь обеспечивающие активность личности, её здоровье и устойчивость к негативному внешнему воздействию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5" name="Рисунок 3" descr=""/>
          <p:cNvPicPr/>
          <p:nvPr/>
        </p:nvPicPr>
        <p:blipFill>
          <a:blip r:embed="rId2"/>
          <a:stretch/>
        </p:blipFill>
        <p:spPr>
          <a:xfrm>
            <a:off x="785880" y="4214880"/>
            <a:ext cx="2887560" cy="216540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5" descr=""/>
          <p:cNvPicPr/>
          <p:nvPr/>
        </p:nvPicPr>
        <p:blipFill>
          <a:blip r:embed="rId3"/>
          <a:stretch/>
        </p:blipFill>
        <p:spPr>
          <a:xfrm>
            <a:off x="5072040" y="3714840"/>
            <a:ext cx="285588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Заголовок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48840" cy="15667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357200"/>
            <a:ext cx="82296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Данная форма работы используется в случаях уже сформированного суицида. Она направлена на профилактику рецидивов или их негативных последствий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9" name="Picture 4" descr=""/>
          <p:cNvPicPr/>
          <p:nvPr/>
        </p:nvPicPr>
        <p:blipFill>
          <a:blip r:embed="rId2"/>
          <a:stretch/>
        </p:blipFill>
        <p:spPr>
          <a:xfrm>
            <a:off x="2500200" y="3286080"/>
            <a:ext cx="3934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10" descr=""/>
          <p:cNvPicPr/>
          <p:nvPr/>
        </p:nvPicPr>
        <p:blipFill>
          <a:blip r:embed="rId1"/>
          <a:stretch/>
        </p:blipFill>
        <p:spPr>
          <a:xfrm>
            <a:off x="2266920" y="-208080"/>
            <a:ext cx="6883560" cy="13669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-360" y="1428480"/>
            <a:ext cx="857268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Групповое изучение класса (сбор информации об отклонениях – заполнение матрицы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Диагностика нарушений и заполнение диагностической карты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Анализ полученных данных, выявление причин  отклонений.</a:t>
            </a:r>
            <a:r>
              <a:rPr b="0" lang="ru-RU" sz="2400" spc="-1" strike="noStrike">
                <a:solidFill>
                  <a:srgbClr val="2a3018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Определение основных направлений работы по типу нарушения (проблемы в обучении, поведении, самосознании, общении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Планирование индивидуальной и групповой работы с детьми, родителями, педагогам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Реализация плана работы. Применение в работе с детьми основных приемов психолого-педагогического воздейств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a3018"/>
                </a:solidFill>
                <a:latin typeface="Century Gothic"/>
              </a:rPr>
              <a:t>Анализ динамики развития. Корректировка программы развития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55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2"/>
          <p:cNvSpPr/>
          <p:nvPr/>
        </p:nvSpPr>
        <p:spPr>
          <a:xfrm>
            <a:off x="1661040" y="642960"/>
            <a:ext cx="672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агностическая карт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сканирование002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4497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сканирование002"/>
          <p:cNvPicPr/>
          <p:nvPr/>
        </p:nvPicPr>
        <p:blipFill>
          <a:blip r:embed="rId2"/>
          <a:stretch/>
        </p:blipFill>
        <p:spPr>
          <a:xfrm>
            <a:off x="0" y="1643040"/>
            <a:ext cx="91440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"/>
          <p:cNvGraphicFramePr/>
          <p:nvPr/>
        </p:nvGraphicFramePr>
        <p:xfrm>
          <a:off x="0" y="3284640"/>
          <a:ext cx="9144000" cy="3002040"/>
        </p:xfrm>
        <a:graphic>
          <a:graphicData uri="http://schemas.openxmlformats.org/drawingml/2006/table">
            <a:tbl>
              <a:tblPr/>
              <a:tblGrid>
                <a:gridCol w="1835280"/>
                <a:gridCol w="1365120"/>
                <a:gridCol w="1330200"/>
                <a:gridCol w="1809720"/>
                <a:gridCol w="1305000"/>
                <a:gridCol w="1498680"/>
              </a:tblGrid>
              <a:tr h="225108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равления работ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рупповая ра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ндивидуал. работ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вет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тметка о выполнении,  примеч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080" rIns="64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4080" marR="64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6" name="Rectangle 1"/>
          <p:cNvSpPr/>
          <p:nvPr/>
        </p:nvSpPr>
        <p:spPr>
          <a:xfrm>
            <a:off x="1285920" y="21888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План работ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Calibri"/>
              </a:rPr>
              <a:t>с ребенком на месяц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1357200" y="1785960"/>
            <a:ext cx="728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Ф. и. ребенка 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есяц 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468360" y="692280"/>
            <a:ext cx="86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дели профилакти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Oval 5"/>
          <p:cNvSpPr/>
          <p:nvPr/>
        </p:nvSpPr>
        <p:spPr>
          <a:xfrm>
            <a:off x="3786120" y="3068640"/>
            <a:ext cx="1357560" cy="91440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Я - ребе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1619280" y="1773360"/>
            <a:ext cx="1440000" cy="129672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</a:rPr>
              <a:t>Родите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4427640" y="1341360"/>
            <a:ext cx="1490400" cy="12016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Зам. по В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8"/>
          <p:cNvSpPr/>
          <p:nvPr/>
        </p:nvSpPr>
        <p:spPr>
          <a:xfrm>
            <a:off x="6588000" y="2708280"/>
            <a:ext cx="1440000" cy="129528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Работ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социаль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педаго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Oval 9"/>
          <p:cNvSpPr/>
          <p:nvPr/>
        </p:nvSpPr>
        <p:spPr>
          <a:xfrm>
            <a:off x="5076720" y="4508640"/>
            <a:ext cx="1562040" cy="134604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Рабо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классн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a3018"/>
                </a:solidFill>
                <a:latin typeface="Arial"/>
              </a:rPr>
              <a:t>руководител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4"/>
          <p:cNvSpPr/>
          <p:nvPr/>
        </p:nvSpPr>
        <p:spPr>
          <a:xfrm flipH="1" flipV="1">
            <a:off x="4785840" y="3928680"/>
            <a:ext cx="577800" cy="723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16"/>
          <p:cNvSpPr/>
          <p:nvPr/>
        </p:nvSpPr>
        <p:spPr>
          <a:xfrm flipH="1">
            <a:off x="5143680" y="3429000"/>
            <a:ext cx="144432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7"/>
          <p:cNvSpPr/>
          <p:nvPr/>
        </p:nvSpPr>
        <p:spPr>
          <a:xfrm flipH="1">
            <a:off x="4454640" y="2133720"/>
            <a:ext cx="4608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18"/>
          <p:cNvSpPr/>
          <p:nvPr/>
        </p:nvSpPr>
        <p:spPr>
          <a:xfrm flipV="1">
            <a:off x="2916360" y="3933360"/>
            <a:ext cx="1150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Oval 22"/>
          <p:cNvSpPr/>
          <p:nvPr/>
        </p:nvSpPr>
        <p:spPr>
          <a:xfrm>
            <a:off x="1476360" y="4149720"/>
            <a:ext cx="1490760" cy="1440000"/>
          </a:xfrm>
          <a:prstGeom prst="ellipse">
            <a:avLst/>
          </a:prstGeom>
          <a:solidFill>
            <a:srgbClr val="d348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3018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a3018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a3018"/>
                </a:solidFill>
                <a:latin typeface="Arial"/>
              </a:rPr>
              <a:t>психо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 flipV="1">
            <a:off x="3059280" y="2565000"/>
            <a:ext cx="352872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27"/>
          <p:cNvSpPr/>
          <p:nvPr/>
        </p:nvSpPr>
        <p:spPr>
          <a:xfrm flipH="1" flipV="1">
            <a:off x="2857680" y="2928600"/>
            <a:ext cx="2357280" cy="18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29"/>
          <p:cNvSpPr/>
          <p:nvPr/>
        </p:nvSpPr>
        <p:spPr>
          <a:xfrm>
            <a:off x="2928960" y="2786040"/>
            <a:ext cx="1008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1"/>
          <p:cNvSpPr/>
          <p:nvPr/>
        </p:nvSpPr>
        <p:spPr>
          <a:xfrm flipV="1">
            <a:off x="2916360" y="2205000"/>
            <a:ext cx="158436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3" name="Прямая со стрелкой 23"/>
          <p:cNvCxnSpPr>
            <a:endCxn id="342" idx="3"/>
          </p:cNvCxnSpPr>
          <p:nvPr/>
        </p:nvCxnSpPr>
        <p:spPr>
          <a:xfrm flipV="1">
            <a:off x="6286680" y="3812760"/>
            <a:ext cx="513360" cy="83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4" name="Прямая со стрелкой 24"/>
          <p:cNvCxnSpPr/>
          <p:nvPr/>
        </p:nvCxnSpPr>
        <p:spPr>
          <a:xfrm>
            <a:off x="5786280" y="2286000"/>
            <a:ext cx="1013760" cy="61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5" name="Прямая со стрелкой 27"/>
          <p:cNvCxnSpPr>
            <a:endCxn id="343" idx="2"/>
          </p:cNvCxnSpPr>
          <p:nvPr/>
        </p:nvCxnSpPr>
        <p:spPr>
          <a:xfrm>
            <a:off x="2928960" y="4928760"/>
            <a:ext cx="2148480" cy="25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6" name="Прямая со стрелкой 29"/>
          <p:cNvCxnSpPr>
            <a:endCxn id="348" idx="0"/>
          </p:cNvCxnSpPr>
          <p:nvPr/>
        </p:nvCxnSpPr>
        <p:spPr>
          <a:xfrm>
            <a:off x="2142000" y="3071880"/>
            <a:ext cx="80280" cy="107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57" name="Прямая со стрелкой 32"/>
          <p:cNvCxnSpPr>
            <a:stCxn id="341" idx="2"/>
          </p:cNvCxnSpPr>
          <p:nvPr/>
        </p:nvCxnSpPr>
        <p:spPr>
          <a:xfrm flipH="1">
            <a:off x="3071880" y="1940400"/>
            <a:ext cx="1356120" cy="34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1365120" y="304920"/>
            <a:ext cx="7785360" cy="119988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1071720" y="1571760"/>
            <a:ext cx="7858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роявления доброты, внимания и заботы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росьб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оощр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Авансирование личности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рощ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роявление огорчения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Поручительство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Убежд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Внушен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Доверие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Вовлечение в интересную деятельность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89520" indent="-332640">
              <a:lnSpc>
                <a:spcPct val="90000"/>
              </a:lnSpc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entury Gothic"/>
              </a:rPr>
              <a:t>Моральная поддержка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60" name="Picture 4" descr=""/>
          <p:cNvPicPr/>
          <p:nvPr/>
        </p:nvPicPr>
        <p:blipFill>
          <a:blip r:embed="rId2"/>
          <a:stretch/>
        </p:blipFill>
        <p:spPr>
          <a:xfrm>
            <a:off x="6215040" y="3857760"/>
            <a:ext cx="22399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56f5b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71360" y="285480"/>
            <a:ext cx="7862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Gothic"/>
              </a:rPr>
              <a:t>    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2300" spc="-1" strike="noStrike">
                <a:solidFill>
                  <a:srgbClr val="7c6b4d"/>
                </a:solidFill>
                <a:latin typeface="Times New Roman"/>
                <a:ea typeface="Times New Roman"/>
              </a:rPr>
              <a:t>Для  профилактики суицидальных настроений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систематические занятия с учащимися, направленные на формирование стрессоустойчивости,  отработку техник принятия верного решения в ситуациях жизненного выбора, правил поведения в конфликте и т.д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уроках гуманитарного цикла и классных часах с подростками необходимо говорить о ценности жизни, индивидуальной неповторимости каждого человека, о позитивном прогнозе будущего, умении прогнозировать свой успех – с конкретными примерами и фактами из жизни, художественной литературы, СМИ. 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опустимо открытое прямое публичное обсуждение с учащимися суицидальных случаев. Зачастую цена подобных мероприятий (родительских собраний, классных часов) – жизнь кого-то из подростков, т.к. в подростковой среде возможно повторение суицидальных попыток по механизму подражания, заражения протестной реакции и д.р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4"/>
          <p:cNvSpPr/>
          <p:nvPr/>
        </p:nvSpPr>
        <p:spPr>
          <a:xfrm>
            <a:off x="395280" y="404640"/>
            <a:ext cx="85694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ограмма профилактики суицидального поведения включает в себя: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боту с родителями по обеспечению нормальной обстановки в семь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еспечение ребенку психологически комфортного положения в классном коллекти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етодическую помощь в преодолении учебных трудносте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хождение для учащегося компенсаторных видов деятельности, в которых он мог бы переживать ситуацию успех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хождение альтернативных способов проведения досуга и получения положительных эмоций с помощью, общения с природой и искусством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учение навыкам здорового образа жизни - рационального питания, режима труда и отдыха, дозированных физических нагрузок, правильного дыхания, расслабления и сосредоточения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енировку волевых качеств и выработку умения противостоять жизненным трудностя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работку стратегии общего плана жизни и путей достижения перспективных  целей, формирование внутреннего фокуса контроля и воспитание у молодого человека чувства ответственности за свою собственную судьбу перед самим собой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навыков выхода из трудных ситуаций, веры в свои силы и возможности, умения принимать решения, разрешать конфликты и вести перегово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ирование Я-концепции с устойчивым позитивным представлением о самом себе и активной жизненной позицией, помогающей преодолевать естественные жизненные трудности через труд и волевое усилие над самим собо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1066680" y="268200"/>
            <a:ext cx="7875720" cy="102420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356760" y="1285560"/>
            <a:ext cx="864396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сформированное понимание смерти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 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онимании ребенка смерть не означает бесповоротное прекращение жизни. Ребёнок думает, что всё можно будет вернуть назад. У подростков понимание и осознание страха смерти формируется не раньше 18 лет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Отсутствие идеологии в обществе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росток в обществе "без родины и флага" чаще испытывает ощущения ненужности, депресси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анняя половая жизнь, приводящая к ранним разочарованиям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 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и этом  возникает ситуация, по мнению подростка, не совместимая с представлением "как жить дальше" (потеря любимого, наступление нежеланной беременности и т.д.), т.е. происходит утрата цели. Суицидальное поведение у подростков часто объясняется тем, что молодые люди, не имея жизненного опыта, не могут правильно определить цель своей жизни и наметить пути ее достиже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) 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исгармония в семь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первую очередь нарушены родительско-детские отношения. Роль «последней капли» играют школьные ситуации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Саморазрушаемое поведение (алкоголизм, наркомания, криминализация общества)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6) В подавляющем большинстве случаев суицидальное поведение в возрасте до 15 лет связано с 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акцией  протест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обенно частым источником последних являются нарушенные внутрисемейные, внутришкольные или внутригрупповые взаимоотношения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) 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Депрессия также является одной из причин, приводящих подростка   к  суицидальному поведению.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 существует какой-либо одной причины самоубийства. Эти причины могут выступать в различных комбинациях, или даже выступать  все вместе , таким образом, есть множество тревог, проблем, непонимания, которые, накапливаясь, подводят подростка  до негативных поступков. </a:t>
            </a: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Заголовок 1" descr=""/>
          <p:cNvPicPr/>
          <p:nvPr/>
        </p:nvPicPr>
        <p:blipFill>
          <a:blip r:embed="rId1"/>
          <a:stretch/>
        </p:blipFill>
        <p:spPr>
          <a:xfrm>
            <a:off x="1066680" y="139680"/>
            <a:ext cx="7875720" cy="1006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1000080" y="1357200"/>
            <a:ext cx="79344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потеря аппетита или импульсивное обжорство, бессонница или повышенная сонливость в течение, по крайней мере, последних дней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частые жалобы на соматические недомогания (на боли в животе, головные боли, постоянную усталость, частую сонливость)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необычно пренебрежительное отношение к своему внешнему виду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постоянное чувство одиночества, бесполезности, вины или грусти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ощущение скуки при проведении времени в привычном окружении или выполнении работы, которая раньше приносила удовольствие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уход от контактов, изоляция от друзей и семьи, превращение в человека - одиночку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нарушение внимания со снижением качества выполняемой работы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погруженность в размышления о смерти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отсутствие планов на будущее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незапные приступы гнева, зачастую возникающие из-за мелочей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к, готовящийся совершить самоубийство, часто говорит о своем душевном состоянии. Он или она могут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ямо и явно говорить о смерти: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«Я собираюсь покончить с собой»; «Я не могу так дальше жить»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свенно намекать о своем намерении:</a:t>
            </a:r>
            <a:r>
              <a:rPr b="0" lang="ru-RU" sz="28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Times New Roman"/>
              </a:rPr>
              <a:t>«Я больше не буду ни для кого проблемой»; «Тебе больше не придется обо мне волноваться»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ного шутить на тему самоубийства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являть нездоровую заинтересованность вопросами смер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Заголовок 1" descr=""/>
          <p:cNvPicPr/>
          <p:nvPr/>
        </p:nvPicPr>
        <p:blipFill>
          <a:blip r:embed="rId1"/>
          <a:stretch/>
        </p:blipFill>
        <p:spPr>
          <a:xfrm>
            <a:off x="1432080" y="268200"/>
            <a:ext cx="7510320" cy="8780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1434960" y="1071360"/>
            <a:ext cx="74995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Раздавать другим вещи, имеющие большую личную значимость, окончательно приводить в порядок дела, мириться с давними врагами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Демонстрировать радикальные перемены в поведении, такие как: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 еде – есть слишком мало или слишком много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о сне – спать слишком мало или слишком много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о внешнем виде – стать неряшливым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в школьных привычках – пропускать занятия, не выполнять домашние задания, избегать общения с одноклассниками; проявлять раздражительность, угрюмость; находиться в подавленном настроении;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- замкнуться от семьи и друзей; быть чрезмерно деятельным или, наоборот, безразличным к окружающему миру; ощущать попеременно то внезапную эйфорию, то приступы отчаяния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3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. Проявлять признаки беспомощности, безнадежности и отчаяния.</a:t>
            </a: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  <a:p>
            <a:pPr marL="443160" indent="-37872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Заголовок 1" descr=""/>
          <p:cNvPicPr/>
          <p:nvPr/>
        </p:nvPicPr>
        <p:blipFill>
          <a:blip r:embed="rId1"/>
          <a:stretch/>
        </p:blipFill>
        <p:spPr>
          <a:xfrm>
            <a:off x="450720" y="-158760"/>
            <a:ext cx="8242560" cy="11462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285480" y="1000080"/>
            <a:ext cx="864396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рмы психопрофилактической работ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34817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Организация социальной среды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здействуя на социальные факторы, можно предотвратить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ежелательное поведение личности. Воздействие может быть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направлено на общество в целом, через создание негативного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щественного мнения по отношению к отклоняющемуся поведению.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ъектом работы также может быть семья, социальная группа (школа,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ласс) или конкретная личность. 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Социальная  реклама  по формированию установок на здоровый 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образ жизни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Заголовок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95724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000080"/>
            <a:ext cx="822960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Форма лекций, бесед, распространение специальной литературы  или  видео- и телефильмы. Суть подхода заключается в попытке воздействия на когнитивные процессы личности с целью повышения её способности к принятию конструктивных решений.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d3481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15" name="Рисунок 3" descr=""/>
          <p:cNvPicPr/>
          <p:nvPr/>
        </p:nvPicPr>
        <p:blipFill>
          <a:blip r:embed="rId2"/>
          <a:stretch/>
        </p:blipFill>
        <p:spPr>
          <a:xfrm>
            <a:off x="1000080" y="3714840"/>
            <a:ext cx="2776680" cy="2079360"/>
          </a:xfrm>
          <a:prstGeom prst="rect">
            <a:avLst/>
          </a:prstGeom>
          <a:ln w="0">
            <a:noFill/>
          </a:ln>
        </p:spPr>
      </p:pic>
      <p:pic>
        <p:nvPicPr>
          <p:cNvPr id="316" name="Рисунок 5" descr=""/>
          <p:cNvPicPr/>
          <p:nvPr/>
        </p:nvPicPr>
        <p:blipFill>
          <a:blip r:embed="rId3"/>
          <a:stretch/>
        </p:blipFill>
        <p:spPr>
          <a:xfrm>
            <a:off x="6215040" y="4429080"/>
            <a:ext cx="249408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Заголовок 1" descr=""/>
          <p:cNvPicPr/>
          <p:nvPr/>
        </p:nvPicPr>
        <p:blipFill>
          <a:blip r:embed="rId1"/>
          <a:stretch/>
        </p:blipFill>
        <p:spPr>
          <a:xfrm>
            <a:off x="450720" y="-109440"/>
            <a:ext cx="8242560" cy="12985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6840" y="1357200"/>
            <a:ext cx="84726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Реализуется в форме групповых</a:t>
            </a:r>
            <a:r>
              <a:rPr b="1" i="1" lang="ru-RU" sz="3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тренингов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4002c"/>
                </a:solidFill>
                <a:latin typeface="Century Gothic"/>
              </a:rPr>
              <a:t>4.</a:t>
            </a:r>
            <a:r>
              <a:rPr b="1" i="1" lang="ru-RU" sz="3000" spc="-1" strike="noStrike">
                <a:solidFill>
                  <a:srgbClr val="74002c"/>
                </a:solidFill>
                <a:latin typeface="Century Gothic"/>
              </a:rPr>
              <a:t> Организация деятельности, альтернативной  девиантному поведению.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Альтернативными формами активности признаны: познание (путешествие), испытание себя (походы в горы, спорт с риском), значимое общение, любовь, творчество, деятельность (в том числе профессиональная, религиозно-духовная, благотворительная)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437680" cy="6696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78552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Личная ответственность за здоровье, гармонию с окружающим миром и своим организмом. Здоровый стиль жизни предполагает здоровое питание, регулярные физические нагрузки, соблюдение режима труда и отдыха, общение с природой, исключение излишеств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21" name="Рисунок 8" descr=""/>
          <p:cNvPicPr/>
          <p:nvPr/>
        </p:nvPicPr>
        <p:blipFill>
          <a:blip r:embed="rId2"/>
          <a:stretch/>
        </p:blipFill>
        <p:spPr>
          <a:xfrm>
            <a:off x="857160" y="3214800"/>
            <a:ext cx="1673280" cy="280008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9" descr=""/>
          <p:cNvPicPr/>
          <p:nvPr/>
        </p:nvPicPr>
        <p:blipFill>
          <a:blip r:embed="rId3"/>
          <a:stretch/>
        </p:blipFill>
        <p:spPr>
          <a:xfrm>
            <a:off x="4857840" y="3429000"/>
            <a:ext cx="348300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7T19:00:13Z</dcterms:created>
  <dc:creator>Admin</dc:creator>
  <dc:description/>
  <dc:language>en-US</dc:language>
  <cp:lastModifiedBy>Марина</cp:lastModifiedBy>
  <dcterms:modified xsi:type="dcterms:W3CDTF">2018-07-17T09:01:29Z</dcterms:modified>
  <cp:revision>22</cp:revision>
  <dc:subject/>
  <dc:title>Профилактика суицидального поведения среди детей и подростков</dc:title>
</cp:coreProperties>
</file>