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0DA-D562-4D5D-806B-14C0A8B2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0BB-86B7-413A-88CC-6948685A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F2A-2974-41D0-B996-270C46BA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594-003A-4389-97A9-B547E116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CBEF-1523-490A-AE8F-F6E2BBEE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E4EB-3092-4500-9CA9-69505FA4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C583-0092-485E-A089-B60FEE5A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AFAB-F5E4-42C9-9BCC-0B80015B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2487-550D-4C11-AC4D-0AD21414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B94F-0EF0-46BF-94EC-4604D954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F0D3-0262-4309-940A-BEE78908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72E-7150-4CFE-B9C4-21ADFDF2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D78E-BDBF-44E7-8CC7-2450AF08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6F02-DB45-439D-9688-2E5ABE11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BA6F-D967-4C15-A4F8-9E0E5799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AB74-E78F-49BF-8F98-ED27C262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2C53-04B3-4B50-867D-6B5B42E0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011DF-8D3B-4A7D-9A47-C2D212D4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FD96-F481-4F8E-AE8A-BA51B05F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7E46-AAB5-451C-8A5C-570D5BB7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EC26D-4871-4D50-9A0F-3A865222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8819F-560A-4D2E-9D8F-40447DFA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F1D-6BFC-4E15-BAA0-0BA2BCAC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72583-51F8-462E-9CB0-1CE71091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C2ED8-D353-42C5-A630-D01EC0B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C6B5-F7D7-423C-82E8-B10C35D4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671E3-B34A-4057-8EA5-586ACBD1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949D-8B66-45FB-B9A6-C4C4885B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A1E5-02D0-4FAA-B5C0-968A2CD3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1009-87B9-4BA9-9001-E852624A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5CBF-0C64-463C-A020-27A12990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B2F0-F80B-452F-AF1D-25358BB0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D299-1DE2-44D0-8AEB-68D46B2E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837-DBAA-4196-89B5-1BE0DA52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0F90-5A25-42F4-AA0B-C9110040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D4EC3-5F73-416B-864E-7AAAC1C6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10B2-81BD-4839-BBD5-151068A1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1173D-AB8D-4548-B08B-D515311A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84A4-DCC2-4962-88ED-65614114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BD2C-8179-4819-86AF-080768F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68DE4-EB73-4A56-B1D4-E8848DEE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8961-EC03-4299-BE69-B37B4B05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7FB6-B351-410E-A783-554F41BC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1AB-2281-4B5B-87DE-AE4D6019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F1E-4A97-4BAD-9200-32E6C126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7DA-C59E-45C2-80CC-0905B581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83A-AD42-4751-B825-299E578D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D71-B926-473F-AE22-B8AD9753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80FD-FD27-41FA-897B-B61220D7F44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DAE9-4941-4809-912D-0BCDEA6B5E6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0964-2D2D-4DF0-85D5-10299A4F8ED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E0DD-116A-4EF4-BDC2-C15E7EF1395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474040" cy="2517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4149360"/>
            <a:ext cx="8075520" cy="1655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33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Баева Нина Петровн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33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оспитатель ГПД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33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БОУ «Умётская СОШ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33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3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мёт, 2017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ы все разны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слушает классическую музыку, а кто-то тяжёлый рок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ому-то нравится играть в футбол, а кому-то читать книги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любит смотреть кино, а кто-то рисует чудесные картины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о все мы особенные! И каждый из нас достоин уважения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1919160" y="549360"/>
            <a:ext cx="53816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3552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40464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16 ноября – Международный день толерант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Толерантность – это уважение, принятие и понимание многообразия мир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Толерантность – это способность признавать мнение людей, которые думают не так, как мы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nstantia"/>
              </a:rPr>
              <a:t>Толерантность – </a:t>
            </a:r>
            <a:r>
              <a:rPr b="1" lang="ru-RU" sz="2800" spc="-1" strike="noStrike">
                <a:solidFill>
                  <a:srgbClr val="ff3300"/>
                </a:solidFill>
                <a:latin typeface="Constantia"/>
              </a:rPr>
              <a:t> это благосклонность и уважение к  другому.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1040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 давайте, давайте друж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усть не раз нам слова эти вспомнят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ружбой всегда дорож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 любое желание исполниться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есть друзья на свете –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Всё прекрасно, всё цветёт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Даже самый сильный ветер,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Даже буря не согнёт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Мы и в дождь, и в снег, и в стужу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Будем весело шагать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При любой погоде дружим –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Дружбы этой не порв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бота в группах</a:t>
            </a:r>
            <a:br>
              <a:rPr sz="50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гра «Собери пословицу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имей сто рублей, ….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руга ищи, 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ружба не гриб, 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рево живёт корнями, …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рый друг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дин за всех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имей сто рублей, а имей сто друз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руга ищи, а найдёшь - берег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ружба не гриб, в лесу не найдёш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рево живёт корнями, а человек друзья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рый друг  лучше новых дву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дин за всех  и все за одног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4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 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то в дружбу верит горячо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Кто рядом чувствует плечо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Тот никогда не упадё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В любой беде не пропадёт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 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А если и споткнётся вдруг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 То встать ему поможет друг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 Всегда в беде надёжный друг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 Ему протянет ру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4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C:\Users\Алексанр\Desktop\Lenovo_A1000_IMG_20171129_142827.jpg"/>
          <p:cNvPicPr/>
          <p:nvPr/>
        </p:nvPicPr>
        <p:blipFill>
          <a:blip r:embed="rId1"/>
          <a:stretch/>
        </p:blipFill>
        <p:spPr>
          <a:xfrm>
            <a:off x="2514600" y="836640"/>
            <a:ext cx="41148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4" descr="C:\Users\Алексанр\Desktop\Новая папка (3)\ФОТО\2017.11. День Народного единства\Lenovo_A1000_IMG_20171102_133937.jpg"/>
          <p:cNvPicPr/>
          <p:nvPr/>
        </p:nvPicPr>
        <p:blipFill>
          <a:blip r:embed="rId1"/>
          <a:stretch/>
        </p:blipFill>
        <p:spPr>
          <a:xfrm>
            <a:off x="2514600" y="836640"/>
            <a:ext cx="41148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44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2" descr="C:\Users\Алексанр\Desktop\SAM_3586.JPG"/>
          <p:cNvPicPr/>
          <p:nvPr/>
        </p:nvPicPr>
        <p:blipFill>
          <a:blip r:embed="rId1"/>
          <a:stretch/>
        </p:blipFill>
        <p:spPr>
          <a:xfrm>
            <a:off x="912960" y="836640"/>
            <a:ext cx="731808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57480"/>
            <a:ext cx="822960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ывод: Когда мы едины – мы непобедимы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2570040" y="1119240"/>
            <a:ext cx="44784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Цель: раскрыть содержание понятий «дружба»,  «толерантность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20500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формировать между детьми дружеские взаимоотнош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учить детей помогать друг другу, уважать и ценить отношение между собо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спитывать уважение к людям разных национальнос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пользуемые источни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езентация к классному часу по толерантн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ttp://nsportal.ru/nachalnaya-shkola/vospitatelnaya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abota/prezentatsiya-beseda-o-tolerantnosti-dlya-uchashchikhsya-2-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отографии из архива класс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правочный материал (словари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тихи М. Игнатьевой, И. Кравченк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ИП: обобщение и систематизац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ОРМА: индивидуальная, групповая, в пара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ОРУДОВАНИЕ: карточки, иллюстрации, плакат, национальные костюмы, словари В.И.Даля и С.И.Ожего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8360" y="112500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ходит праздник каждый г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собой он счастье нам несё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му все рады: взрослые и де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нашей солнечной плане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то б ни был ты, казах или татарин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усский или евре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ъединяет этот праздник всех люд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наша дружба крепче расцвета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9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думаю о мире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Если б нам соединиться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сем ребятам подружиться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Если бы объединились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се деревни, города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е лились бы больше слезы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 планете никогда!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 небе, на воде, на суше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олубь мира бы парил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аждый бы на белом свете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м о мире говорил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(М.Игнатьев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9996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солнце и весна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звёзды и луна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в море корабли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дети всей Земли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птицы в вышине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рыбы в глубине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ит с небом океан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ружат люди разных стран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абота в пара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2071800" y="2571840"/>
            <a:ext cx="3941640" cy="379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395280" y="134100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должите фраз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«Дружба – это …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ловар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5" descr="C:\Users\Алексанр\Desktop\0012-025-Vidy-slovarej.jpg"/>
          <p:cNvPicPr/>
          <p:nvPr/>
        </p:nvPicPr>
        <p:blipFill>
          <a:blip r:embed="rId1"/>
          <a:stretch/>
        </p:blipFill>
        <p:spPr>
          <a:xfrm>
            <a:off x="5076720" y="1916280"/>
            <a:ext cx="3295800" cy="4360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50560" y="1844280"/>
            <a:ext cx="8435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.И. Ожег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лковый словар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ружба – это близкие отношени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анные на взаимн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верии, привязанност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ности интере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44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64640"/>
            <a:ext cx="83628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ладимир Иванович Даль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Толковый словарь»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ружба – взаимная привязан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ух или более людей, тесная связь и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добром смысле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ескорыстна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ойкая приязнь, основанная на любв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уважении; в дурном, тесная связ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анная на взаимных выгода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а первое место учёный ставит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бескорыстие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. Ты дружишь с человеком не для того, чтобы он делал тебе что-нибудь хорошее , а потому что он близок тебе, близки его интересы, взгля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C:\Users\Алексанр\Desktop\img12.jpg"/>
          <p:cNvPicPr/>
          <p:nvPr/>
        </p:nvPicPr>
        <p:blipFill>
          <a:blip r:embed="rId1"/>
          <a:stretch/>
        </p:blipFill>
        <p:spPr>
          <a:xfrm>
            <a:off x="611280" y="1700280"/>
            <a:ext cx="2016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03:17:30Z</dcterms:created>
  <dc:creator>Lena</dc:creator>
  <dc:description/>
  <dc:language>en-US</dc:language>
  <cp:lastModifiedBy>Алексанр</cp:lastModifiedBy>
  <dcterms:modified xsi:type="dcterms:W3CDTF">2018-07-18T11:33:04Z</dcterms:modified>
  <cp:revision>121</cp:revision>
  <dc:subject/>
  <dc:title>Название проекта</dc:title>
</cp:coreProperties>
</file>