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69C-68FF-4C5C-925A-FDF6DFA4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5C0-8FCE-4121-BFB1-6785F3CE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8A2-28DB-49F5-AD53-AEF1E18E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489-A63F-4BF9-8C8D-D1FCF538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C7C0-3EB5-4307-94B9-A49C7FF1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1823-3A32-42E7-81E2-15307D8B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B91E-A9EA-472F-ACB7-325180C3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60BF-AB3D-4FD8-AEE3-C57DA868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6C40-B1D9-416D-AE04-0DF00955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5C5D-D941-44FF-9208-0CA87754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BDB7-5186-4C65-8825-00CE660D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6C4-8076-44FF-A2E6-8547C897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99F4-F6DC-44CB-87AE-F0178CC7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6B9E-1B0F-419A-BA3E-D5650610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715F-D3C8-4F71-8492-A652AFCE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F3EA-33DE-4FB3-9F17-D95420FA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1FC9-180E-4987-993B-62BDC661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F1696-AE1E-4A52-8905-7D2EF15C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3E50-51DF-44FF-AE98-567F4A21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D875C-3552-4093-922F-59E1DE2B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7CD34-20E1-48E8-B97A-FE519236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5DC5F-F4B0-4128-A4FE-E8D4D6A8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63A-7139-4CCE-B811-A161D543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0CEE3-925A-4E16-ABD7-60BE8CB5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F92A-D5B6-4DD4-94A4-58C0DB39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C36B-7FBF-4E83-9ACB-7A8A8250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039E7-9277-4359-B82F-E95F2E7C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39CC-734A-4BDC-852E-0D3FCBF3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90875-3232-4C9F-A6B0-43ED2EF9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666E1-F5E1-451B-AEE7-7B7D517A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89FD9-9134-40B6-9AB5-E3A5D612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9BB1F-48C4-4D18-81A4-7234CDE9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629C9-F797-424B-9884-622B69F0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F75-FAA7-4A61-BC12-0165987A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AE0BB-B642-4853-81EA-A2B24280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90338-B39E-46DC-A277-400B0C59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0A490-45B7-4A96-A915-08425ABB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B3F07-260D-41BF-9160-6F1580BB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5DC8-0A29-4FB0-8ACA-37FA00AD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9AFBE-2565-403E-8923-9FA9D69F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93FEC-0E9E-4B7D-8741-44851290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993A0-62B1-4458-A27A-E404F23B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5D75A-016C-4133-981A-FF16E099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39AA-5A39-4B8D-9370-5ABF2038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BA2-4448-423F-9321-4440523E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76C-3DC3-4031-B961-E99FC6B1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B9A-C6EF-4E6A-BFB7-8D41C5A3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12F-F31D-4CD0-855D-B3F81657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0E7B-4F6F-4DE9-92EE-D83B5B79515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C5BF-B1DC-454C-8177-2CBDFF19653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1722-17FF-4258-81EC-1F49A225148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7258-CCD6-4088-83CE-B4F68901B24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474040" cy="2517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4149360"/>
            <a:ext cx="8075520" cy="1655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336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Баева Нина Петровна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336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оспитатель ГПД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336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БОУ «Умётская СОШ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336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3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мёт, 2017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Мы все разные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слушает классическую музыку, а кто-то тяжёлый рок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ому-то нравится играть в футбол, а кому-то читать книги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любит смотреть кино, а кто-то рисует чудесные картины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о все мы особенные! И каждый из нас достоин уважения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1919160" y="549360"/>
            <a:ext cx="538164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35520"/>
            <a:ext cx="8229600" cy="59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40464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16 ноября – Международный день толерантно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Толерантность – это уважение, принятие и понимание многообразия мир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 Black"/>
              </a:rPr>
              <a:t>Толерантность – это способность признавать мнение людей, которые думают не так, как мы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onstantia"/>
              </a:rPr>
              <a:t>Толерантность – </a:t>
            </a:r>
            <a:r>
              <a:rPr b="1" lang="ru-RU" sz="2800" spc="-1" strike="noStrike">
                <a:solidFill>
                  <a:srgbClr val="ff3300"/>
                </a:solidFill>
                <a:latin typeface="Constantia"/>
              </a:rPr>
              <a:t> это благосклонность и уважение к  другому.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10404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к давайте, давайте друж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усть не раз нам слова эти вспомнят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ружбой всегда дорож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 любое желание исполниться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есть друзья на свете –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Всё прекрасно, всё цветёт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Даже самый сильный ветер,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Даже буря не согнёт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 Мы и в дождь, и в снег, и в стужу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 Будем весело шагать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 При любой погоде дружим –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 Дружбы этой не порв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бота в группах</a:t>
            </a:r>
            <a:br>
              <a:rPr sz="50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гра «Собери пословицу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имей сто рублей, ….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руга ищи, 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ружба не гриб, 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рево живёт корнями, …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арый друг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дин за всех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имей сто рублей, а имей сто друз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руга ищи, а найдёшь - берег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ружба не гриб, в лесу не найдёш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рево живёт корнями, а человек друзья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арый друг  лучше новых дву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дин за всех  и все за одног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42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764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 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то в дружбу верит горячо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Кто рядом чувствует плечо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Тот никогда не упадё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В любой беде не пропадёт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                           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А если и споткнётся вдруг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                           То встать ему поможет друг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                           Всегда в беде надёжный друг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                           Ему протянет ру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42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2" descr="C:\Users\Алексанр\Desktop\Lenovo_A1000_IMG_20171129_142827.jpg"/>
          <p:cNvPicPr/>
          <p:nvPr/>
        </p:nvPicPr>
        <p:blipFill>
          <a:blip r:embed="rId1"/>
          <a:stretch/>
        </p:blipFill>
        <p:spPr>
          <a:xfrm>
            <a:off x="2514600" y="836640"/>
            <a:ext cx="41148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4" descr="C:\Users\Алексанр\Desktop\Новая папка (3)\ФОТО\2017.11. День Народного единства\Lenovo_A1000_IMG_20171102_133937.jpg"/>
          <p:cNvPicPr/>
          <p:nvPr/>
        </p:nvPicPr>
        <p:blipFill>
          <a:blip r:embed="rId1"/>
          <a:stretch/>
        </p:blipFill>
        <p:spPr>
          <a:xfrm>
            <a:off x="2514600" y="836640"/>
            <a:ext cx="41148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442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2" descr="C:\Users\Алексанр\Desktop\SAM_3586.JPG"/>
          <p:cNvPicPr/>
          <p:nvPr/>
        </p:nvPicPr>
        <p:blipFill>
          <a:blip r:embed="rId1"/>
          <a:stretch/>
        </p:blipFill>
        <p:spPr>
          <a:xfrm>
            <a:off x="912960" y="836640"/>
            <a:ext cx="731808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57480"/>
            <a:ext cx="822960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ывод: Когда мы едины – мы непобедимы!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Рисунок 1" descr=""/>
          <p:cNvPicPr/>
          <p:nvPr/>
        </p:nvPicPr>
        <p:blipFill>
          <a:blip r:embed="rId1"/>
          <a:stretch/>
        </p:blipFill>
        <p:spPr>
          <a:xfrm>
            <a:off x="2570040" y="1119240"/>
            <a:ext cx="44784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Цель: раскрыть содержание понятий «дружба»,  «толерантность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20500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формировать между детьми дружеские взаимоотнош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учить детей помогать друг другу, уважать и ценить отношение между собо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спитывать уважение к людям разных национальност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спользуемые источни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езентация к классному часу по толерантнос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ttp://nsportal.ru/nachalnaya-shkola/vospitatelnaya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rabota/prezentatsiya-beseda-o-tolerantnosti-dlya-uchashchikhsya-2-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отографии из архива класс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правочный материал (словари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тихи М. Игнатьевой, И. Кравченко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ИП: обобщение и систематизац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ОРМА: индивидуальная, групповая, в пара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БОРУДОВАНИЕ: карточки, иллюстрации, плакат, национальные костюмы, словари В.И.Даля и С.И.Ожего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99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8360" y="1125000"/>
            <a:ext cx="822960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ходит праздник каждый го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собой он счастье нам несё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му все рады: взрослые и де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нашей солнечной планет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то б ни был ты, казах или татарин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усский или евре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ъединяет этот праздник всех люд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наша дружба крепче расцветае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9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думаю о мире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Если б нам соединиться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сем ребятам подружиться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Если бы объединились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се деревни, города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е лились бы больше слезы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а планете никогда!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 небе, на воде, на суше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Голубь мира бы парил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аждый бы на белом свете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ам о мире говорил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(М.Игнатьев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9996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549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ружат солнце и весна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ружат звёзды и луна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ружат в море корабли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ружат дети всей Земли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ружат птицы в вышине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ружат рыбы в глубине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Дружит с небом океан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Дружат люди разных стран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абота в парах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1"/>
          <a:stretch/>
        </p:blipFill>
        <p:spPr>
          <a:xfrm>
            <a:off x="2071800" y="2571840"/>
            <a:ext cx="3941640" cy="3798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395280" y="134100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должите фраз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«Дружба – это …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ловарн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5" descr="C:\Users\Алексанр\Desktop\0012-025-Vidy-slovarej.jpg"/>
          <p:cNvPicPr/>
          <p:nvPr/>
        </p:nvPicPr>
        <p:blipFill>
          <a:blip r:embed="rId1"/>
          <a:stretch/>
        </p:blipFill>
        <p:spPr>
          <a:xfrm>
            <a:off x="5076720" y="1916280"/>
            <a:ext cx="3295800" cy="4360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250560" y="1844280"/>
            <a:ext cx="8435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.И. Ожег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лковый словар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ружба – это близкие отношени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анные на взаимн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верии, привязанност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щности интере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442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64640"/>
            <a:ext cx="83628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ладимир Иванович Даль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Толковый словарь»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ружба – взаимная привязан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ух или более людей, тесная связь и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добром смысле,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ескорыстна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ойкая приязнь, основанная на любв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уважении; в дурном, тесная связ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ованная на взаимных выгода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На первое место учёный ставит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бескорыстие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. Ты дружишь с человеком не для того, чтобы он делал тебе что-нибудь хорошее , а потому что он близок тебе, близки его интересы, взгляд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C:\Users\Алексанр\Desktop\img12.jpg"/>
          <p:cNvPicPr/>
          <p:nvPr/>
        </p:nvPicPr>
        <p:blipFill>
          <a:blip r:embed="rId1"/>
          <a:stretch/>
        </p:blipFill>
        <p:spPr>
          <a:xfrm>
            <a:off x="611280" y="1700280"/>
            <a:ext cx="20160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03:17:30Z</dcterms:created>
  <dc:creator>Lena</dc:creator>
  <dc:description/>
  <dc:language>en-US</dc:language>
  <cp:lastModifiedBy>Алексанр</cp:lastModifiedBy>
  <dcterms:modified xsi:type="dcterms:W3CDTF">2018-07-18T11:33:04Z</dcterms:modified>
  <cp:revision>121</cp:revision>
  <dc:subject/>
  <dc:title>Название проекта</dc:title>
</cp:coreProperties>
</file>