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B96-D318-4974-826F-DEEB2A75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0A9-C261-414E-891A-083EF5A9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520-96BB-4576-A94A-10085FF2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0AD-001C-4521-A766-8DFFE255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198-3BE2-4E16-B412-DD58427E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526-38D5-46E6-930D-CAC3485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E02-9AA9-4600-AD95-842B9CA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E65-8B8F-45E5-8784-FA7C65C1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85C-240F-47AC-B746-425B9660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546-8E2D-4CE7-8163-9310ADBA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1D0-A632-4812-A4D3-9B8C772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205-2696-4486-9CE7-1C77C53B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4CB7-DABF-41EC-8F79-4C0ADF36C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5003640" y="2349360"/>
            <a:ext cx="3889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ДУЖН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ЛИТР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8" descr="8"/>
          <p:cNvPicPr/>
          <p:nvPr/>
        </p:nvPicPr>
        <p:blipFill>
          <a:blip r:embed="rId1"/>
          <a:stretch/>
        </p:blipFill>
        <p:spPr>
          <a:xfrm>
            <a:off x="108000" y="189000"/>
            <a:ext cx="48117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Т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В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 «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Г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13"/>
          <p:cNvPicPr/>
          <p:nvPr/>
        </p:nvPicPr>
        <p:blipFill>
          <a:blip r:embed="rId1"/>
          <a:stretch/>
        </p:blipFill>
        <p:spPr>
          <a:xfrm>
            <a:off x="755640" y="1052640"/>
            <a:ext cx="763416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97080" y="0"/>
            <a:ext cx="10009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Т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ПЕ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Ж 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ДУ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ГО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18"/>
          <p:cNvPicPr/>
          <p:nvPr/>
        </p:nvPicPr>
        <p:blipFill>
          <a:blip r:embed="rId1"/>
          <a:stretch/>
        </p:blipFill>
        <p:spPr>
          <a:xfrm>
            <a:off x="1187280" y="836640"/>
            <a:ext cx="68421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ЛЕ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Й 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С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СО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В </a:t>
            </a:r>
            <a:br>
              <a:rPr sz="3400"/>
            </a:b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«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ПЕ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Й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Ж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 С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ГО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Й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20"/>
          <p:cNvPicPr/>
          <p:nvPr/>
        </p:nvPicPr>
        <p:blipFill>
          <a:blip r:embed="rId1"/>
          <a:stretch/>
        </p:blipFill>
        <p:spPr>
          <a:xfrm>
            <a:off x="1187280" y="1268280"/>
            <a:ext cx="6842160" cy="53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Т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 КА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Й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НО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Й 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БЫ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Т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ДУ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Г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 – ду - 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Безымянный1"/>
          <p:cNvPicPr/>
          <p:nvPr/>
        </p:nvPicPr>
        <p:blipFill>
          <a:blip r:embed="rId1"/>
          <a:stretch/>
        </p:blipFill>
        <p:spPr>
          <a:xfrm>
            <a:off x="34920" y="22320"/>
            <a:ext cx="6791400" cy="6791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6516720" y="4653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Безымянный"/>
          <p:cNvPicPr/>
          <p:nvPr/>
        </p:nvPicPr>
        <p:blipFill>
          <a:blip r:embed="rId1"/>
          <a:stretch/>
        </p:blipFill>
        <p:spPr>
          <a:xfrm>
            <a:off x="4427640" y="925560"/>
            <a:ext cx="4635360" cy="347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Безымянныйgg"/>
          <p:cNvPicPr/>
          <p:nvPr/>
        </p:nvPicPr>
        <p:blipFill>
          <a:blip r:embed="rId2"/>
          <a:stretch/>
        </p:blipFill>
        <p:spPr>
          <a:xfrm>
            <a:off x="179280" y="333360"/>
            <a:ext cx="404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372000" y="43920"/>
            <a:ext cx="2314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жд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ымянныйdd"/>
          <p:cNvPicPr/>
          <p:nvPr/>
        </p:nvPicPr>
        <p:blipFill>
          <a:blip r:embed="rId1"/>
          <a:stretch/>
        </p:blipFill>
        <p:spPr>
          <a:xfrm>
            <a:off x="179280" y="189000"/>
            <a:ext cx="5688000" cy="323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Безымянныйgguu"/>
          <p:cNvPicPr/>
          <p:nvPr/>
        </p:nvPicPr>
        <p:blipFill>
          <a:blip r:embed="rId2"/>
          <a:stretch/>
        </p:blipFill>
        <p:spPr>
          <a:xfrm>
            <a:off x="5364000" y="4076640"/>
            <a:ext cx="330048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79280" y="2349360"/>
            <a:ext cx="5688000" cy="57492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79280" y="2924280"/>
            <a:ext cx="5688000" cy="57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79280" y="3500280"/>
            <a:ext cx="5688000" cy="574920"/>
          </a:xfrm>
          <a:prstGeom prst="rect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Безымянныйgguu"/>
          <p:cNvPicPr/>
          <p:nvPr/>
        </p:nvPicPr>
        <p:blipFill>
          <a:blip r:embed="rId1"/>
          <a:stretch/>
        </p:blipFill>
        <p:spPr>
          <a:xfrm>
            <a:off x="755640" y="260280"/>
            <a:ext cx="813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Р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КУ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ЖИ «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Г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4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Р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КУ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ЖИ </a:t>
            </a:r>
            <a:br>
              <a:rPr sz="3400"/>
            </a:b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«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ЛЕ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 ДО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Ж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Я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Г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9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Р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КУ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ЖИ «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Г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05"/>
          <p:cNvPicPr/>
          <p:nvPr/>
        </p:nvPicPr>
        <p:blipFill>
          <a:blip r:embed="rId1"/>
          <a:stretch/>
        </p:blipFill>
        <p:spPr>
          <a:xfrm>
            <a:off x="611280" y="1197000"/>
            <a:ext cx="79200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1:42Z</dcterms:created>
  <dc:creator>User</dc:creator>
  <dc:description/>
  <dc:language>en-US</dc:language>
  <cp:lastModifiedBy>админ</cp:lastModifiedBy>
  <dcterms:modified xsi:type="dcterms:W3CDTF">2012-06-25T08:46:58Z</dcterms:modified>
  <cp:revision>5</cp:revision>
  <dc:subject/>
  <dc:title>Слайд 1</dc:title>
</cp:coreProperties>
</file>