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A219-9465-4F98-AEE7-3121ABBB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399A-9454-49F0-A954-F442952C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EDC3-793C-4682-B9BD-851186A3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3BA3-7AA8-47C1-AB24-5E0150A5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BE78-4FA5-48ED-B5C7-F5AB23D8E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45C5-5130-4EED-9ED3-D576D596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258C-7D39-4904-B2D1-91ED5AC0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1213-50EE-418F-BF36-20C9B3B2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3A06-5740-43A6-AF6A-4E1657AD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6CDC-0034-4CA1-A33D-0431F601E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846EB-8185-43C7-AFED-7F5ADAA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F26E-8D85-442E-915E-F214A4D8C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62D1-C65A-4262-A8B5-42BA8BAB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2BBE6-92EE-47E1-9663-5EDE92D3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8BCD-177D-49E5-AE75-ACCED4547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B169-DB61-4D63-80EF-078C20D42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C9D19-6793-4927-A49B-21A97CB3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2250E1-9F09-4E49-A5D5-CAAD7E747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2A472-F17F-4C86-B042-1BAAA3C61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BA201-F107-4DB8-A816-6807071A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CE8E9-F0CE-4982-818C-26B900B5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1317B-C992-4570-B9DD-2D1051CC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7F74-5662-4E86-8D41-421CC134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F93F6-DDFF-47A0-A26E-E12C9C45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B6E2C-7B77-4381-9379-9C4B1595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4B06A-CA94-48BE-90BC-517B0E36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9BF6-5E71-4C37-AA83-F5507F21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33279-4585-456E-A5F2-40A66A83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6562-72EA-4C8B-8A10-EA9BF04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09640-7578-45FF-B652-6F0FD689E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8732-0261-461F-9C16-1A3C0186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012FA-A4FC-48DA-8F22-33796B6B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8A137-5C8A-438A-A47E-BB13B1CD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5CE5-FC02-4510-BEAA-AC60DA0A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F55FB-6240-426C-86CF-2E961D31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E8A44-0495-432B-B3DA-FF497554F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88C0C-03E5-41B0-B5F7-707FE72B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BC0B4-D895-40FA-9E0E-67B110CB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0F616-0AE4-4DF8-B14F-5F7144AD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9959F-F5F7-4860-AD26-AB85B8EF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17BC3-6850-4F48-9A4D-66EEEAD6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83EC-53D2-499A-9CB4-2F6FE280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6F9C8-7A00-4B82-AC16-CCA9E6C5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7DA64-ED1C-467D-985A-EE02E477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76F6-C116-4523-B945-79D9B84C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D524-A759-4562-A753-491A9134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2B69C-7F91-4CED-A33B-6F8C86FE5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ADA72-3B6B-4BC7-A8E2-2949C3CC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FFAC5-FCF3-4EBF-A275-1A70D819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7AA1A-FD47-4800-9257-4CDA8AA13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1CC97-C076-472B-941C-7FE8547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69B2C-A9B3-48CD-B6E1-1009B1E4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7D84B-CEE5-41AD-B145-E241107A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AA502-E402-49FF-9FE4-20839578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AB8A5F-4A35-4903-9030-3C564699D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4E88-528D-4E5D-8C7A-F9870628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3CEBA-08D3-4394-8236-ADBA806BA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2AAB-90AD-4CB1-8CA8-6251F57D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E4B-ABB1-4AD0-99E2-38BC9C1B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807F-8051-4D5E-8913-B35FC685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F9AA-FE9C-4A32-A7F3-028BC9AEEB1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6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FB69-AAFC-4AA5-AA8D-EE5CBCA324D2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5E0F-AE13-48B9-BE82-4B80116A856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11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2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29AE-977E-4F44-9220-03AB4991A71C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F6C8-7901-436C-83CC-5E3B063926A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998960" y="324000"/>
            <a:ext cx="3932280" cy="5033880"/>
          </a:xfrm>
          <a:prstGeom prst="rect">
            <a:avLst/>
          </a:prstGeom>
          <a:ln w="0">
            <a:noFill/>
          </a:ln>
        </p:spPr>
      </p:pic>
      <p:grpSp>
        <p:nvGrpSpPr>
          <p:cNvPr id="228" name="Рисунок 8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29" name="Рисунок 8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" descr="C:\Documents and Settings\USER\Рабочий стол\12.png"/>
          <p:cNvPicPr/>
          <p:nvPr/>
        </p:nvPicPr>
        <p:blipFill>
          <a:blip r:embed="rId3"/>
          <a:stretch/>
        </p:blipFill>
        <p:spPr>
          <a:xfrm>
            <a:off x="714240" y="1071720"/>
            <a:ext cx="40719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468360" y="476280"/>
            <a:ext cx="81043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ст. Найдите слова, в которых пишется 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(из)давн__, 2.(с)лев__, 3.(до)статочн__, 4. (с)прав__,   5.(до)темн__, 6.(до)стойн__, 7.(за)светл__, 8.(из)далек__,    9.(на)мертв__, 10. (до)словн__, 11.(на)чист__, 12.(за)нов__, 13.(до)сух__, 14. (на)глух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684360" y="620640"/>
            <a:ext cx="65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вер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, 6, 7, 9, 10, 11, 12, 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-6+- «4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-4 + - «3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73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24000" y="1192320"/>
            <a:ext cx="770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скве издавн…  любили  музыкальные пр..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задолг…  до создания Императорского Большого т..атра богатые дв..ряне зав..дили у себя в имениях домашние т..атры где играли свои (же) актё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…дставления могли начат..ся засветл… и длились дотемн… пока хозяин и его гости досыт..  (не) насмотрят..ся на игру талантливых крепос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редк…  в Москву на гастроли приезжала итальянская оп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2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TextBox 3" descr=""/>
          <p:cNvPicPr/>
          <p:nvPr/>
        </p:nvPicPr>
        <p:blipFill>
          <a:blip r:embed="rId1"/>
          <a:stretch/>
        </p:blipFill>
        <p:spPr>
          <a:xfrm>
            <a:off x="360360" y="281160"/>
            <a:ext cx="8283600" cy="85860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4" descr=""/>
          <p:cNvPicPr/>
          <p:nvPr/>
        </p:nvPicPr>
        <p:blipFill>
          <a:blip r:embed="rId2"/>
          <a:stretch/>
        </p:blipFill>
        <p:spPr>
          <a:xfrm>
            <a:off x="927000" y="1427040"/>
            <a:ext cx="7577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286000" y="92160"/>
            <a:ext cx="6572160" cy="1071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143680" y="1928520"/>
            <a:ext cx="3643200" cy="2206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Какие слова являются наречиями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35" name="Рисунок 8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36" name="Рисунок 8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3" descr="C:\Documents and Settings\USER\Рабочий стол\Рисунок9.jpg"/>
          <p:cNvPicPr/>
          <p:nvPr/>
        </p:nvPicPr>
        <p:blipFill>
          <a:blip r:embed="rId3"/>
          <a:stretch/>
        </p:blipFill>
        <p:spPr>
          <a:xfrm>
            <a:off x="714240" y="1000080"/>
            <a:ext cx="4140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Рисунок 3"/>
          <p:cNvGrpSpPr/>
          <p:nvPr/>
        </p:nvGrpSpPr>
        <p:grpSpPr>
          <a:xfrm>
            <a:off x="669960" y="1023840"/>
            <a:ext cx="4097160" cy="4194360"/>
            <a:chOff x="669960" y="1023840"/>
            <a:chExt cx="4097160" cy="4194360"/>
          </a:xfrm>
        </p:grpSpPr>
        <p:pic>
          <p:nvPicPr>
            <p:cNvPr id="240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669960" y="1023840"/>
              <a:ext cx="4097160" cy="41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785880" y="1143000"/>
              <a:ext cx="3870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3286080" y="92160"/>
            <a:ext cx="5400720" cy="10713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143680" y="1714320"/>
            <a:ext cx="3643200" cy="35002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Существительные склоняются, глаголы спрягаются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Как изменяются наречия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5" name="Picture 2" descr="C:\Documents and Settings\USER\Рабочий стол\Рисунок8.jpg"/>
          <p:cNvPicPr/>
          <p:nvPr/>
        </p:nvPicPr>
        <p:blipFill>
          <a:blip r:embed="rId3"/>
          <a:stretch/>
        </p:blipFill>
        <p:spPr>
          <a:xfrm>
            <a:off x="785880" y="1143000"/>
            <a:ext cx="3854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3071880" y="-49320"/>
            <a:ext cx="5786280" cy="10731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143680" y="1714680"/>
            <a:ext cx="3643200" cy="30715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Когда на конце наречий после шипящих пишется -О, а когда -Е?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9" name="Рисунок 6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50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C:\Documents and Settings\USER\Рабочий стол\Рисунок5.jpg"/>
          <p:cNvPicPr/>
          <p:nvPr/>
        </p:nvPicPr>
        <p:blipFill>
          <a:blip r:embed="rId3"/>
          <a:stretch/>
        </p:blipFill>
        <p:spPr>
          <a:xfrm>
            <a:off x="642960" y="100008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780080" y="237960"/>
            <a:ext cx="4357440" cy="1073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143680" y="1714680"/>
            <a:ext cx="3643200" cy="30715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«Третий лишний»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743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591f4d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скучно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591f4d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нарочно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591f4d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празднично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56" name="Рисунок 6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57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Picture 2" descr="C:\Documents and Settings\USER\Рабочий стол\Рисунок4.jpg"/>
          <p:cNvPicPr/>
          <p:nvPr/>
        </p:nvPicPr>
        <p:blipFill>
          <a:blip r:embed="rId3"/>
          <a:stretch/>
        </p:blipFill>
        <p:spPr>
          <a:xfrm>
            <a:off x="642960" y="92880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932360" y="304920"/>
            <a:ext cx="3925800" cy="1073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143680" y="1714320"/>
            <a:ext cx="3643200" cy="35002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В каких случаях в наречиях пишется одна, а в каких две буквы </a:t>
            </a:r>
            <a:r>
              <a:rPr b="1" lang="ru-RU" sz="3200" spc="-1" strike="noStrike">
                <a:solidFill>
                  <a:srgbClr val="591f4d"/>
                </a:solidFill>
                <a:latin typeface="Trebuchet MS"/>
              </a:rPr>
              <a:t>Н</a:t>
            </a: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63" name="Рисунок 6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64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" descr="C:\Documents and Settings\USER\Рабочий стол\Рисунок3.jpg"/>
          <p:cNvPicPr/>
          <p:nvPr/>
        </p:nvPicPr>
        <p:blipFill>
          <a:blip r:embed="rId3"/>
          <a:stretch/>
        </p:blipFill>
        <p:spPr>
          <a:xfrm>
            <a:off x="642960" y="10000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932360" y="195120"/>
            <a:ext cx="3925800" cy="1683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5143680" y="1714320"/>
            <a:ext cx="3643200" cy="28573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Когда в наречиях пишется суффикс -А, а когда -О?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70" name="Рисунок 6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71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2" descr="C:\Documents and Settings\USER\Рабочий стол\Рисунок1.jpg"/>
          <p:cNvPicPr/>
          <p:nvPr/>
        </p:nvPicPr>
        <p:blipFill>
          <a:blip r:embed="rId3"/>
          <a:stretch/>
        </p:blipFill>
        <p:spPr>
          <a:xfrm>
            <a:off x="642960" y="10717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6132600" cy="15066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 Приставки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) из- (ис)  до-, с (со-)- - А               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) в-(во-) на- за- 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. Если приставка уже была в прилагательном- 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Фигура, имеющая форму буквы L 6"/>
          <p:cNvSpPr/>
          <p:nvPr/>
        </p:nvSpPr>
        <p:spPr>
          <a:xfrm rot="10800000">
            <a:off x="571320" y="1500120"/>
            <a:ext cx="1214280" cy="214560"/>
          </a:xfrm>
          <a:custGeom>
            <a:avLst/>
            <a:gdLst/>
            <a:ahLst/>
            <a:rect l="l" t="t" r="r" b="b"/>
            <a:pathLst>
              <a:path w="1214438" h="214312">
                <a:moveTo>
                  <a:pt x="0" y="0"/>
                </a:moveTo>
                <a:lnTo>
                  <a:pt x="107156" y="0"/>
                </a:lnTo>
                <a:lnTo>
                  <a:pt x="107156" y="107156"/>
                </a:lnTo>
                <a:lnTo>
                  <a:pt x="1214438" y="107156"/>
                </a:lnTo>
                <a:lnTo>
                  <a:pt x="1214438" y="214312"/>
                </a:lnTo>
                <a:lnTo>
                  <a:pt x="0" y="214312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Фигура, имеющая форму буквы L 7"/>
          <p:cNvSpPr/>
          <p:nvPr/>
        </p:nvSpPr>
        <p:spPr>
          <a:xfrm rot="10800000">
            <a:off x="499680" y="3857400"/>
            <a:ext cx="785880" cy="142920"/>
          </a:xfrm>
          <a:custGeom>
            <a:avLst/>
            <a:gdLst/>
            <a:ahLst/>
            <a:rect l="l" t="t" r="r" b="b"/>
            <a:pathLst>
              <a:path w="785812" h="142875">
                <a:moveTo>
                  <a:pt x="0" y="0"/>
                </a:moveTo>
                <a:lnTo>
                  <a:pt x="71438" y="0"/>
                </a:lnTo>
                <a:lnTo>
                  <a:pt x="71438" y="71438"/>
                </a:lnTo>
                <a:lnTo>
                  <a:pt x="785812" y="71438"/>
                </a:lnTo>
                <a:lnTo>
                  <a:pt x="785812" y="142875"/>
                </a:lnTo>
                <a:lnTo>
                  <a:pt x="0" y="142875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Фигура, имеющая форму буквы L 8"/>
          <p:cNvSpPr/>
          <p:nvPr/>
        </p:nvSpPr>
        <p:spPr>
          <a:xfrm rot="10800000">
            <a:off x="642960" y="2714400"/>
            <a:ext cx="1285920" cy="214200"/>
          </a:xfrm>
          <a:custGeom>
            <a:avLst/>
            <a:gdLst/>
            <a:ahLst/>
            <a:rect l="l" t="t" r="r" b="b"/>
            <a:pathLst>
              <a:path w="1285875" h="214313">
                <a:moveTo>
                  <a:pt x="0" y="0"/>
                </a:moveTo>
                <a:lnTo>
                  <a:pt x="107157" y="0"/>
                </a:lnTo>
                <a:lnTo>
                  <a:pt x="107157" y="107157"/>
                </a:lnTo>
                <a:lnTo>
                  <a:pt x="1285875" y="107157"/>
                </a:lnTo>
                <a:lnTo>
                  <a:pt x="1285875" y="214313"/>
                </a:lnTo>
                <a:lnTo>
                  <a:pt x="0" y="214313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Фигура, имеющая форму буквы L 9"/>
          <p:cNvSpPr/>
          <p:nvPr/>
        </p:nvSpPr>
        <p:spPr>
          <a:xfrm rot="10800000">
            <a:off x="5357520" y="1571400"/>
            <a:ext cx="1214280" cy="214200"/>
          </a:xfrm>
          <a:custGeom>
            <a:avLst/>
            <a:gdLst/>
            <a:ahLst/>
            <a:rect l="l" t="t" r="r" b="b"/>
            <a:pathLst>
              <a:path w="1214437" h="214313">
                <a:moveTo>
                  <a:pt x="0" y="0"/>
                </a:moveTo>
                <a:lnTo>
                  <a:pt x="107157" y="0"/>
                </a:lnTo>
                <a:lnTo>
                  <a:pt x="107157" y="107157"/>
                </a:lnTo>
                <a:lnTo>
                  <a:pt x="1214437" y="107157"/>
                </a:lnTo>
                <a:lnTo>
                  <a:pt x="1214437" y="214313"/>
                </a:lnTo>
                <a:lnTo>
                  <a:pt x="0" y="214313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Фигура, имеющая форму буквы L 10"/>
          <p:cNvSpPr/>
          <p:nvPr/>
        </p:nvSpPr>
        <p:spPr>
          <a:xfrm rot="10800000">
            <a:off x="5429160" y="2714400"/>
            <a:ext cx="642960" cy="214200"/>
          </a:xfrm>
          <a:custGeom>
            <a:avLst/>
            <a:gdLst/>
            <a:ahLst/>
            <a:rect l="l" t="t" r="r" b="b"/>
            <a:pathLst>
              <a:path w="642938" h="214313">
                <a:moveTo>
                  <a:pt x="0" y="0"/>
                </a:moveTo>
                <a:lnTo>
                  <a:pt x="107157" y="0"/>
                </a:lnTo>
                <a:lnTo>
                  <a:pt x="107157" y="107157"/>
                </a:lnTo>
                <a:lnTo>
                  <a:pt x="642938" y="107157"/>
                </a:lnTo>
                <a:lnTo>
                  <a:pt x="642938" y="214313"/>
                </a:lnTo>
                <a:lnTo>
                  <a:pt x="0" y="214313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Фигура, имеющая форму буквы L 11"/>
          <p:cNvSpPr/>
          <p:nvPr/>
        </p:nvSpPr>
        <p:spPr>
          <a:xfrm rot="10800000">
            <a:off x="5500800" y="3857400"/>
            <a:ext cx="1000080" cy="214200"/>
          </a:xfrm>
          <a:custGeom>
            <a:avLst/>
            <a:gdLst/>
            <a:ahLst/>
            <a:rect l="l" t="t" r="r" b="b"/>
            <a:pathLst>
              <a:path w="1000125" h="214313">
                <a:moveTo>
                  <a:pt x="0" y="0"/>
                </a:moveTo>
                <a:lnTo>
                  <a:pt x="107157" y="0"/>
                </a:lnTo>
                <a:lnTo>
                  <a:pt x="107157" y="107157"/>
                </a:lnTo>
                <a:lnTo>
                  <a:pt x="1000125" y="107157"/>
                </a:lnTo>
                <a:lnTo>
                  <a:pt x="1000125" y="214313"/>
                </a:lnTo>
                <a:lnTo>
                  <a:pt x="0" y="214313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21"/>
          <p:cNvGrpSpPr/>
          <p:nvPr/>
        </p:nvGrpSpPr>
        <p:grpSpPr>
          <a:xfrm>
            <a:off x="523800" y="1571760"/>
            <a:ext cx="8496360" cy="4595760"/>
            <a:chOff x="523800" y="1571760"/>
            <a:chExt cx="8496360" cy="4595760"/>
          </a:xfrm>
        </p:grpSpPr>
        <p:pic>
          <p:nvPicPr>
            <p:cNvPr id="285" name="TextBox 5" descr=""/>
            <p:cNvPicPr/>
            <p:nvPr/>
          </p:nvPicPr>
          <p:blipFill>
            <a:blip r:embed="rId1"/>
            <a:stretch/>
          </p:blipFill>
          <p:spPr>
            <a:xfrm>
              <a:off x="4696920" y="1571760"/>
              <a:ext cx="2367000" cy="459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Группа 26"/>
            <p:cNvGrpSpPr/>
            <p:nvPr/>
          </p:nvGrpSpPr>
          <p:grpSpPr>
            <a:xfrm>
              <a:off x="5941800" y="1925640"/>
              <a:ext cx="2413440" cy="2918880"/>
              <a:chOff x="5941800" y="1925640"/>
              <a:chExt cx="2413440" cy="2918880"/>
            </a:xfrm>
          </p:grpSpPr>
          <p:sp>
            <p:nvSpPr>
              <p:cNvPr id="287" name="Минус 27"/>
              <p:cNvSpPr/>
              <p:nvPr/>
            </p:nvSpPr>
            <p:spPr>
              <a:xfrm rot="2090400">
                <a:off x="5880960" y="2624040"/>
                <a:ext cx="2541600" cy="304560"/>
              </a:xfrm>
              <a:custGeom>
                <a:avLst/>
                <a:gdLst/>
                <a:ahLst/>
                <a:rect l="l" t="t" r="r" b="b"/>
                <a:pathLst>
                  <a:path w="2676806" h="315908">
                    <a:moveTo>
                      <a:pt x="354811" y="120803"/>
                    </a:moveTo>
                    <a:lnTo>
                      <a:pt x="2321995" y="120803"/>
                    </a:lnTo>
                    <a:lnTo>
                      <a:pt x="2321995" y="195105"/>
                    </a:lnTo>
                    <a:lnTo>
                      <a:pt x="354811" y="195105"/>
                    </a:lnTo>
                    <a:lnTo>
                      <a:pt x="354811" y="120803"/>
                    </a:lnTo>
                    <a:close/>
                  </a:path>
                </a:pathLst>
              </a:custGeom>
              <a:solidFill>
                <a:srgbClr val="b83d68"/>
              </a:solidFill>
              <a:ln w="39960">
                <a:solidFill>
                  <a:srgbClr val="862a4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Минус 28"/>
              <p:cNvSpPr/>
              <p:nvPr/>
            </p:nvSpPr>
            <p:spPr>
              <a:xfrm>
                <a:off x="6146640" y="3404880"/>
                <a:ext cx="2035080" cy="275400"/>
              </a:xfrm>
              <a:custGeom>
                <a:avLst/>
                <a:gdLst/>
                <a:ahLst/>
                <a:rect l="l" t="t" r="r" b="b"/>
                <a:pathLst>
                  <a:path w="2143350" h="285746">
                    <a:moveTo>
                      <a:pt x="284101" y="109269"/>
                    </a:moveTo>
                    <a:lnTo>
                      <a:pt x="1859249" y="109269"/>
                    </a:lnTo>
                    <a:lnTo>
                      <a:pt x="1859249" y="176477"/>
                    </a:lnTo>
                    <a:lnTo>
                      <a:pt x="284101" y="176477"/>
                    </a:lnTo>
                    <a:lnTo>
                      <a:pt x="284101" y="109269"/>
                    </a:lnTo>
                    <a:close/>
                  </a:path>
                </a:pathLst>
              </a:custGeom>
              <a:solidFill>
                <a:srgbClr val="b83d68"/>
              </a:solidFill>
              <a:ln w="39960">
                <a:solidFill>
                  <a:srgbClr val="862a4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Минус 29"/>
              <p:cNvSpPr/>
              <p:nvPr/>
            </p:nvSpPr>
            <p:spPr>
              <a:xfrm rot="19981200">
                <a:off x="5880960" y="3946680"/>
                <a:ext cx="2534400" cy="341280"/>
              </a:xfrm>
              <a:custGeom>
                <a:avLst/>
                <a:gdLst/>
                <a:ahLst/>
                <a:rect l="l" t="t" r="r" b="b"/>
                <a:pathLst>
                  <a:path w="2668867" h="354007">
                    <a:moveTo>
                      <a:pt x="353758" y="135372"/>
                    </a:moveTo>
                    <a:lnTo>
                      <a:pt x="2315109" y="135372"/>
                    </a:lnTo>
                    <a:lnTo>
                      <a:pt x="2315109" y="218635"/>
                    </a:lnTo>
                    <a:lnTo>
                      <a:pt x="353758" y="218635"/>
                    </a:lnTo>
                    <a:lnTo>
                      <a:pt x="353758" y="135372"/>
                    </a:lnTo>
                    <a:close/>
                  </a:path>
                </a:pathLst>
              </a:custGeom>
              <a:solidFill>
                <a:srgbClr val="b83d68"/>
              </a:solidFill>
              <a:ln w="39960">
                <a:solidFill>
                  <a:srgbClr val="862a4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Группа 20"/>
            <p:cNvGrpSpPr/>
            <p:nvPr/>
          </p:nvGrpSpPr>
          <p:grpSpPr>
            <a:xfrm>
              <a:off x="523800" y="1729080"/>
              <a:ext cx="3695760" cy="3560760"/>
              <a:chOff x="523800" y="1729080"/>
              <a:chExt cx="3695760" cy="3560760"/>
            </a:xfrm>
          </p:grpSpPr>
          <p:pic>
            <p:nvPicPr>
              <p:cNvPr id="291" name="TextBox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23800" y="1729080"/>
                <a:ext cx="1953360" cy="356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2" name="Группа 25"/>
              <p:cNvGrpSpPr/>
              <p:nvPr/>
            </p:nvGrpSpPr>
            <p:grpSpPr>
              <a:xfrm>
                <a:off x="1581840" y="2134440"/>
                <a:ext cx="1973160" cy="2570040"/>
                <a:chOff x="1581840" y="2134440"/>
                <a:chExt cx="1973160" cy="2570040"/>
              </a:xfrm>
            </p:grpSpPr>
            <p:sp>
              <p:nvSpPr>
                <p:cNvPr id="293" name="Минус 12"/>
                <p:cNvSpPr/>
                <p:nvPr/>
              </p:nvSpPr>
              <p:spPr>
                <a:xfrm rot="2090400">
                  <a:off x="1542240" y="2696400"/>
                  <a:ext cx="2057040" cy="285480"/>
                </a:xfrm>
                <a:custGeom>
                  <a:avLst/>
                  <a:gdLst/>
                  <a:ahLst/>
                  <a:rect l="l" t="t" r="r" b="b"/>
                  <a:pathLst>
                    <a:path w="2676806" h="315908">
                      <a:moveTo>
                        <a:pt x="354811" y="120803"/>
                      </a:moveTo>
                      <a:lnTo>
                        <a:pt x="2321995" y="120803"/>
                      </a:lnTo>
                      <a:lnTo>
                        <a:pt x="2321995" y="195105"/>
                      </a:lnTo>
                      <a:lnTo>
                        <a:pt x="354811" y="195105"/>
                      </a:lnTo>
                      <a:lnTo>
                        <a:pt x="354811" y="120803"/>
                      </a:lnTo>
                      <a:close/>
                    </a:path>
                  </a:pathLst>
                </a:custGeom>
                <a:solidFill>
                  <a:srgbClr val="b83d68"/>
                </a:solidFill>
                <a:ln w="39960">
                  <a:solidFill>
                    <a:srgbClr val="862a4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Минус 13"/>
                <p:cNvSpPr/>
                <p:nvPr/>
              </p:nvSpPr>
              <p:spPr>
                <a:xfrm>
                  <a:off x="1757160" y="3428280"/>
                  <a:ext cx="1647360" cy="258120"/>
                </a:xfrm>
                <a:custGeom>
                  <a:avLst/>
                  <a:gdLst/>
                  <a:ahLst/>
                  <a:rect l="l" t="t" r="r" b="b"/>
                  <a:pathLst>
                    <a:path w="2143350" h="285746">
                      <a:moveTo>
                        <a:pt x="284101" y="109269"/>
                      </a:moveTo>
                      <a:lnTo>
                        <a:pt x="1859249" y="109269"/>
                      </a:lnTo>
                      <a:lnTo>
                        <a:pt x="1859249" y="176477"/>
                      </a:lnTo>
                      <a:lnTo>
                        <a:pt x="284101" y="176477"/>
                      </a:lnTo>
                      <a:lnTo>
                        <a:pt x="284101" y="109269"/>
                      </a:lnTo>
                      <a:close/>
                    </a:path>
                  </a:pathLst>
                </a:custGeom>
                <a:solidFill>
                  <a:srgbClr val="b83d68"/>
                </a:solidFill>
                <a:ln w="39960">
                  <a:solidFill>
                    <a:srgbClr val="862a4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Минус 14"/>
                <p:cNvSpPr/>
                <p:nvPr/>
              </p:nvSpPr>
              <p:spPr>
                <a:xfrm rot="19981200">
                  <a:off x="1542600" y="3936600"/>
                  <a:ext cx="2051280" cy="320040"/>
                </a:xfrm>
                <a:custGeom>
                  <a:avLst/>
                  <a:gdLst/>
                  <a:ahLst/>
                  <a:rect l="l" t="t" r="r" b="b"/>
                  <a:pathLst>
                    <a:path w="2668868" h="354007">
                      <a:moveTo>
                        <a:pt x="353758" y="135372"/>
                      </a:moveTo>
                      <a:lnTo>
                        <a:pt x="2315110" y="135372"/>
                      </a:lnTo>
                      <a:lnTo>
                        <a:pt x="2315110" y="218635"/>
                      </a:lnTo>
                      <a:lnTo>
                        <a:pt x="353758" y="218635"/>
                      </a:lnTo>
                      <a:lnTo>
                        <a:pt x="353758" y="135372"/>
                      </a:lnTo>
                      <a:close/>
                    </a:path>
                  </a:pathLst>
                </a:custGeom>
                <a:solidFill>
                  <a:srgbClr val="b83d68"/>
                </a:solidFill>
                <a:ln w="39960">
                  <a:solidFill>
                    <a:srgbClr val="862a4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Прямоугольник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2992320" y="2765160"/>
                <a:ext cx="1227240" cy="13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7475040" y="2676600"/>
              <a:ext cx="1545120" cy="13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8" name="TextBox 22" descr=""/>
          <p:cNvPicPr/>
          <p:nvPr/>
        </p:nvPicPr>
        <p:blipFill>
          <a:blip r:embed="rId5"/>
          <a:stretch/>
        </p:blipFill>
        <p:spPr>
          <a:xfrm>
            <a:off x="212760" y="176040"/>
            <a:ext cx="8645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7:21:14Z</dcterms:created>
  <dc:creator>дом</dc:creator>
  <dc:description/>
  <dc:language>en-US</dc:language>
  <cp:lastModifiedBy>Учитель</cp:lastModifiedBy>
  <dcterms:modified xsi:type="dcterms:W3CDTF">2018-01-25T10:53:28Z</dcterms:modified>
  <cp:revision>82</cp:revision>
  <dc:subject/>
  <dc:title>Слайд 1</dc:title>
</cp:coreProperties>
</file>