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6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DF55-4930-438F-BEEB-3FE01FE2F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A154-CC7B-49FD-9035-0CCAAAFD8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731A-8D90-4F77-A587-310A96984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BCE2-15E4-40A9-B44D-AAA50AF7D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A130-2CA7-438C-BD25-2788CAD87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9709-EA00-40BE-A367-4F34D9139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EC3E-55FC-4405-932D-2F22921D8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FD46-7866-406C-A28B-11AFEF173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ABE9-9CD0-40C0-B942-847945C92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793A-49C6-48B7-AD57-EA5006A20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0F84-C9C6-4C75-9B2E-99912D2F8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F996-0471-4EA9-8919-188AFD34E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22BAA-E3C8-4C77-8458-EA7EBD3EE2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http://cdn01.ru/files/users/images/71/11/71112a126017c597d336ccfe9f5cbcad.jpg"/>
          <p:cNvPicPr/>
          <p:nvPr/>
        </p:nvPicPr>
        <p:blipFill>
          <a:blip r:embed="rId1"/>
          <a:stretch/>
        </p:blipFill>
        <p:spPr>
          <a:xfrm>
            <a:off x="642960" y="357120"/>
            <a:ext cx="8143920" cy="6000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1428840" y="3571560"/>
            <a:ext cx="6968880" cy="144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чему крапива жжется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6"/>
          <p:cNvSpPr/>
          <p:nvPr/>
        </p:nvSpPr>
        <p:spPr>
          <a:xfrm>
            <a:off x="1214280" y="1143000"/>
            <a:ext cx="7143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Ах, не трогайте меня! Обожгу и без огня!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213840" y="642600"/>
            <a:ext cx="86439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Крапива является любимым и, пожалуй, единственным лакомством таких бабочек, как репейницы и адмирала. Если бы ее не было, то эти виды бабочек перестали существов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Крапива способна излечить подагру, т.к. в ней содержатся вещества, способные разлагать мочевую кислоту. Существует мнение, что именно эта кислота отвечает за болевые приступы и прочие признаки подаг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 Из волокон, находящихся внутри крапивы, можно получать ткань, которая по своим свойствам будет аналогична льняной ткани. Немцы во время войны шили из такой ткани себе обмундиров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 Крапиву полезно употреблять в пищу, т.к. он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держит железо, магний и кальц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т.е. вещества, которые очень важны для полноценного развития человека и поддержания его здоровь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. В Британии из крапивы делают вино. Чтобы получить 3 тыс. литров вина требуется всего 40 кг листьев этого жгучего растения. Но и на вкус вино получается немного колючим, сухим и терпки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28400" y="142920"/>
            <a:ext cx="8258040" cy="59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. Отвар крапивы можно использовать для окрашивания яиц в зеленоватый цвет, из нее добывают пищевой зеленый краси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. В некоторых южных странах специально выращивают особую крапиву —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а такая высокая, что в крапивном поле не то что человек — лошадь скроется. Из волокон этой крапивы делают ткань, очень похожую на шёлк. А еще прочные верёвки, рыболовные сети. Рами очень сильно жжётся, поэтому убирать её люди выходят в специальной плотной одежде, в рукавица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. Крапивой лечат ожоги:4 столовые ложки листьев крапивы двудомной заливают 1 стаканом горячей воды и настаивают 2 часа. Настоем смачивают марлю и прикладывают к пораженному участку кож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https://im1-tub-ru.yandex.net/i?id=901a35e96c0c4919d48f954fc524e5ec&amp;n=33&amp;h=215&amp;w=288"/>
          <p:cNvPicPr/>
          <p:nvPr/>
        </p:nvPicPr>
        <p:blipFill>
          <a:blip r:embed="rId1"/>
          <a:stretch/>
        </p:blipFill>
        <p:spPr>
          <a:xfrm>
            <a:off x="2571840" y="1071720"/>
            <a:ext cx="403704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Заголовок 1" descr=""/>
          <p:cNvPicPr/>
          <p:nvPr/>
        </p:nvPicPr>
        <p:blipFill>
          <a:blip r:embed="rId1"/>
          <a:stretch/>
        </p:blipFill>
        <p:spPr>
          <a:xfrm>
            <a:off x="420840" y="-55440"/>
            <a:ext cx="8242200" cy="7747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428760" y="57168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планете великое множество лекарственных растений, но настоящим лидером лекарственных трав – крапива. Это поистине уникальная трава, в каких только сферах жизнедеятельности она не используется челове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к, в прошлом, из лубяных волокон, получаемых из крапивы, делали нитки, веревки, рыболовные сети, а также изготавливали весьма прочные тка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странах Востока крапива служит материалом для изготовления высших сортов бумаг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 корней крапивы получают  желтую краску, а из листьев и стеблей — зелену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 также используют в кулинарии (салаты, супы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https://im1-tub-ru.yandex.net/i?id=50d1880d960ea1af06f9b35e57e84b88&amp;n=33&amp;h=215&amp;w=287"/>
          <p:cNvPicPr/>
          <p:nvPr/>
        </p:nvPicPr>
        <p:blipFill>
          <a:blip r:embed="rId2"/>
          <a:stretch/>
        </p:blipFill>
        <p:spPr>
          <a:xfrm>
            <a:off x="214200" y="5143680"/>
            <a:ext cx="1970280" cy="1476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http://naelis.ru/foto/krapiw-shi.jpg"/>
          <p:cNvPicPr/>
          <p:nvPr/>
        </p:nvPicPr>
        <p:blipFill>
          <a:blip r:embed="rId3"/>
          <a:stretch/>
        </p:blipFill>
        <p:spPr>
          <a:xfrm>
            <a:off x="1357200" y="4286160"/>
            <a:ext cx="1654200" cy="1292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3" descr="http://www.eda-land.ru/images/article/orig/2015/07/krapiva-28.jpg"/>
          <p:cNvPicPr/>
          <p:nvPr/>
        </p:nvPicPr>
        <p:blipFill>
          <a:blip r:embed="rId4"/>
          <a:stretch/>
        </p:blipFill>
        <p:spPr>
          <a:xfrm>
            <a:off x="5357880" y="5143680"/>
            <a:ext cx="2309760" cy="1530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5" descr="http://ru5.anyfad.com/items/t1@254123cf-bfe2-47e6-980a-61954c681447/Yablochnaya-osen-Avtorskaya-bumaga-ruchnoy-raboty.jpg"/>
          <p:cNvPicPr/>
          <p:nvPr/>
        </p:nvPicPr>
        <p:blipFill>
          <a:blip r:embed="rId5"/>
          <a:stretch/>
        </p:blipFill>
        <p:spPr>
          <a:xfrm>
            <a:off x="2714760" y="5143680"/>
            <a:ext cx="2074680" cy="1519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7" descr="http://recipesforhealth.ru/wp-content/uploads/2016/10/nettle-root-extract-tea.jpg"/>
          <p:cNvPicPr/>
          <p:nvPr/>
        </p:nvPicPr>
        <p:blipFill>
          <a:blip r:embed="rId6"/>
          <a:stretch/>
        </p:blipFill>
        <p:spPr>
          <a:xfrm>
            <a:off x="4000680" y="4214880"/>
            <a:ext cx="1928520" cy="1325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1" descr="http://charivne.info/images/image/2013/august/nazarchuk/lupa/kropyva.jpg"/>
          <p:cNvPicPr/>
          <p:nvPr/>
        </p:nvPicPr>
        <p:blipFill>
          <a:blip r:embed="rId7"/>
          <a:stretch/>
        </p:blipFill>
        <p:spPr>
          <a:xfrm>
            <a:off x="7072200" y="3643200"/>
            <a:ext cx="1833840" cy="13748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" descr="http://astransk.ru/images/stories/virtuemart/product/resized/belita-viteks-shampun-krapiva-s-konditsionerom_400x520.jpg"/>
          <p:cNvPicPr/>
          <p:nvPr/>
        </p:nvPicPr>
        <p:blipFill>
          <a:blip r:embed="rId8"/>
          <a:stretch/>
        </p:blipFill>
        <p:spPr>
          <a:xfrm>
            <a:off x="7429680" y="5095800"/>
            <a:ext cx="171432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ходе работы я пришла  к выводу, что крапива жжёт не огнём, а муравьиной кислотой, вытекающей из очень острых волосков, которые повреждаются, когда мы касаемся крапив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 осталась очень довольна своим маленьким открытием. Так как узнала, что крапива не только сорняк, который жжется, но и приносит пользу человеку, а так ж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уется в медицине, косметологии, кулинарии, хозяйст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делала открытие, что есть крапива в других странах, от которой можно умере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Пословицы и поговор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лое семя крапива, не сварить из него п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жётся, как крапива, а колется, как ё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бы на крапиву не мороз, так бы с нею и ладов не бы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гуча крапива родится, да во щах увари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апива и молода, а уже кус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то раньше встаёт, тот грибки соберёт, а сонливый да ленивый идут после за крапив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иным водиться — что в крапиву сади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Arial"/>
              </a:rPr>
              <a:t>Загад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928800" y="1500120"/>
          <a:ext cx="7500960" cy="4214880"/>
        </p:xfrm>
        <a:graphic>
          <a:graphicData uri="http://schemas.openxmlformats.org/drawingml/2006/table">
            <a:tbl>
              <a:tblPr/>
              <a:tblGrid>
                <a:gridCol w="3751200"/>
                <a:gridCol w="3749760"/>
              </a:tblGrid>
              <a:tr h="166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Злая, как волчица,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жется, как горчица!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 это за диво?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о же ...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bdf5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Мне зелёный кипяток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ги голые обжёг.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bdf53"/>
                    </a:solidFill>
                  </a:tcPr>
                </a:tc>
              </a:tr>
              <a:tr h="12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Только тронь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дернешь ладонь: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жигае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3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У заборов он бывает,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когда не остывает.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3d1"/>
                    </a:solidFill>
                  </a:tcPr>
                </a:tc>
              </a:tr>
              <a:tr h="12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Это зелье ты не тронь: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жётся больно, как огонь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Не огонь - а жжётся,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руки не даётся.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9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http://herbaldoc.ru/wp-content/uploads/2015/01/krapiva-02.jpg"/>
          <p:cNvPicPr/>
          <p:nvPr/>
        </p:nvPicPr>
        <p:blipFill>
          <a:blip r:embed="rId1"/>
          <a:srcRect l="5556" t="0" r="5556" b="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1"/>
          <p:cNvSpPr/>
          <p:nvPr/>
        </p:nvSpPr>
        <p:spPr>
          <a:xfrm>
            <a:off x="500040" y="214200"/>
            <a:ext cx="86439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том на даче я нечаянно обожглась о незнакомое для меня растение и сразу мне стало интересно «Что это за растение?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Крапива!, сказала ма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Почему же она так меня обожгла? Чем она так меня? И почему появился такой большой и болезненный волдырь?, задумалась 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самом деле, при соприкосновении с крапивой я почувствовала боль, как при ожоге. Меня  очень заинтересовал вопрос: как крапива без огня меня обжгл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 поставила перед собой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Цель: Изучить свойства крапив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ма тогда надела перчатки и аккуратно сорвала это жгучее растение, чтобы  мы могли поближе его рассмотреть. У нас была лупа моей пробабушки Гали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55520" y="-1989000"/>
            <a:ext cx="552456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3"/>
          <p:cNvSpPr/>
          <p:nvPr/>
        </p:nvSpPr>
        <p:spPr>
          <a:xfrm>
            <a:off x="428760" y="35712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ы заметили, что её стебли и листья покрыты какими-то волосками. Зачем они крапиве? Может быть, это они вызывают ожог? Мне стало ещё интереснее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https://im0-tub-ru.yandex.net/i?id=ec552c8417a90fd51fe63ace52ca6e1b&amp;n=33&amp;h=215&amp;w=287"/>
          <p:cNvPicPr/>
          <p:nvPr/>
        </p:nvPicPr>
        <p:blipFill>
          <a:blip r:embed="rId1"/>
          <a:stretch/>
        </p:blipFill>
        <p:spPr>
          <a:xfrm>
            <a:off x="1285920" y="1447920"/>
            <a:ext cx="6643800" cy="49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Я поставила несколько задач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Узнать, почему волоски на листьях крапивы особые и  что у них внут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 Выяснить, что происходит с листьями крапивы, когда мы прикасаемся к 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Понять, чем полезна крапи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285840" y="214200"/>
            <a:ext cx="86439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тобы ответить эти вопросы, мы еще рассмотрели веточку крапив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 увидели, что волоски на веточках и листьях крапивы очень остры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Каждый из них похож на иглу маленького шпри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димо при касании к крапиве, эти волоски и повреждают нашу кож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 почему происходит ожог, всё равно было непонятн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Чтобы выяснить, что происходит с волосками крапивы при соприкосновении с ними, я надела тоже перчатки, помяла веточку крапивы и снова посмотрели на неё. Некоторые волоски были сломаны и из них вытекала какая-то жидк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что мама мне пояснила, что эта муравьиная кислота, которая при прикосновении с кожей раздражает её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2" descr="http://cdn01.ru/files/users/images/67/48/67486f6cede408657a9967e57e6ac0ba.jpg"/>
          <p:cNvPicPr/>
          <p:nvPr/>
        </p:nvPicPr>
        <p:blipFill>
          <a:blip r:embed="rId1"/>
          <a:stretch/>
        </p:blipFill>
        <p:spPr>
          <a:xfrm>
            <a:off x="3500280" y="857160"/>
            <a:ext cx="366732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ш выв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5840" y="856800"/>
            <a:ext cx="857232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трые волоски крапивы содержат много солей кремнезем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и волоски прокалывают кожу  и тут же обламываются. Тут же из внутренних полостей волосков в ранки попадают крошечные капли муравьиной кислоты, и начинается жжение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Значит, попадая на оцарапанную кожу, муравьиная кислота вызывает ожо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т оказывается, почему крапива и без огня обжигает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428760" y="3500280"/>
            <a:ext cx="3408120" cy="3021120"/>
          </a:xfrm>
          <a:prstGeom prst="rect">
            <a:avLst/>
          </a:prstGeom>
          <a:ln w="0">
            <a:noFill/>
          </a:ln>
        </p:spPr>
      </p:pic>
      <p:pic>
        <p:nvPicPr>
          <p:cNvPr id="56" name="Клип 5" descr="http://cdn01.ru/files/users/images/77/f2/77f23665c54c08ca4512d33c943f8d5d.jpg"/>
          <p:cNvPicPr/>
          <p:nvPr/>
        </p:nvPicPr>
        <p:blipFill>
          <a:blip r:embed="rId2"/>
          <a:stretch/>
        </p:blipFill>
        <p:spPr>
          <a:xfrm>
            <a:off x="4286160" y="3500280"/>
            <a:ext cx="4500720" cy="3000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http://image.made-in-china.com/2f0j10TsatLQAERMcf/-.jpg"/>
          <p:cNvPicPr/>
          <p:nvPr/>
        </p:nvPicPr>
        <p:blipFill>
          <a:blip r:embed="rId3"/>
          <a:stretch/>
        </p:blipFill>
        <p:spPr>
          <a:xfrm>
            <a:off x="7655040" y="0"/>
            <a:ext cx="148896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А еще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18676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с мамой из интернета узнали, что  есть такая крапива, которая запросто может свалить в обморок женщину и даже здоровенного мужика. Растет она в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страли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зоветс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портеей   Гигантской или шелковицевой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http://www.australiantravelclub.ru/website/atc/upload/custom/images/krapiva.jpg"/>
          <p:cNvPicPr/>
          <p:nvPr/>
        </p:nvPicPr>
        <p:blipFill>
          <a:blip r:embed="rId1"/>
          <a:stretch/>
        </p:blipFill>
        <p:spPr>
          <a:xfrm>
            <a:off x="2643120" y="3027240"/>
            <a:ext cx="540540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28400" y="1643040"/>
            <a:ext cx="8186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еще есть такая крапив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ая может уби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растает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го-Восточной Ази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получить ст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ительный ожог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не выдержит организм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новится сердц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5" descr="http://urologia.msk.ru/wp-content/uploads/2016/12/Lamium_album_plant.jpg"/>
          <p:cNvPicPr/>
          <p:nvPr/>
        </p:nvPicPr>
        <p:blipFill>
          <a:blip r:embed="rId1"/>
          <a:stretch/>
        </p:blipFill>
        <p:spPr>
          <a:xfrm>
            <a:off x="4500720" y="1428840"/>
            <a:ext cx="421452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b050"/>
                </a:solidFill>
                <a:latin typeface="Arial"/>
              </a:rPr>
              <a:t>Интересные факты</a:t>
            </a:r>
            <a:r>
              <a:rPr b="0" i="1" lang="ru-RU" sz="2800" spc="-1" strike="noStrike">
                <a:solidFill>
                  <a:srgbClr val="00b05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Одно из самых известных литературных произведений, где упоминается крапива, — это сказка Г. Х. Андерсена «Дикие лебеди». Единственный способ, которым Элиза могла спасти своих заколдованных братьев, — это сплести для них кольчуги из стеблей крапивы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Свежие листья крапивы являются естественным консервантом: если обложить ею свежее мясо или набить потрошеную рыбу, а потом крапивой же укрыть сверху – их можно хранить летом несколько дней вне холодильни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Сушеные листья крапивы прекрасно идут в зимний чай, когда хочется витамин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4T07:20:33Z</dcterms:created>
  <dc:creator>школа</dc:creator>
  <dc:description/>
  <dc:language>en-US</dc:language>
  <cp:lastModifiedBy>Домашний</cp:lastModifiedBy>
  <dcterms:modified xsi:type="dcterms:W3CDTF">2017-01-31T12:45:59Z</dcterms:modified>
  <cp:revision>44</cp:revision>
  <dc:subject/>
  <dc:title>Лекарственные растения.</dc:title>
</cp:coreProperties>
</file>