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7EFD-04BF-4759-9D08-C5097F64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69A-B1CE-4FF7-9AD0-955A3062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5F3-F4F8-4AAA-A31B-07B33F19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B722-F2F1-4B40-99E9-2BFB9A05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F3D9-24E7-4798-BC40-959EEB7B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3D9A-7F9A-4EEB-A406-118DD1B8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04F-953E-4F88-8F06-0A978449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090-FA72-45B4-945F-98ACD239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E16E-2CA3-4128-A34E-4FCC1177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FAC-5999-419C-8A12-AD765C40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B76-6E4C-4E3F-A10C-226A6B54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A63-9F6A-4FAB-B137-5A5F78BA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AE9C-E30B-43B1-A752-468323B926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http://cdn01.ru/files/users/images/71/11/71112a126017c597d336ccfe9f5cbcad.jpg"/>
          <p:cNvPicPr/>
          <p:nvPr/>
        </p:nvPicPr>
        <p:blipFill>
          <a:blip r:embed="rId1"/>
          <a:stretch/>
        </p:blipFill>
        <p:spPr>
          <a:xfrm>
            <a:off x="642960" y="357120"/>
            <a:ext cx="8143920" cy="6000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428840" y="3571560"/>
            <a:ext cx="696888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крапива жжется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1214280" y="1143000"/>
            <a:ext cx="7143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х, не трогайте меня! Обожгу и без огня!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13840" y="642600"/>
            <a:ext cx="8643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рапива является любимым и, пожалуй, единственным лакомством таких бабочек, как репейницы и адмирала. Если бы ее не было, то эти виды бабочек перестали существ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Крапива способна излечить подагру, т.к. в ней содержатся вещества, способные разлагать мочевую кислоту. Существует мнение, что именно эта кислота отвечает за болевые приступы и прочие признаки пода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 Из волокон, находящихся внутри крапивы, можно получать ткань, которая по своим свойствам будет аналогична льняной ткани. Немцы во время войны шили из такой ткани себе обмунди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Крапиву полезно употреблять в пищу, т.к. о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ит железо, магний и каль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.е. вещества, которые очень важны для полноценного развития человека и поддержания его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В Британии из крапивы делают вино. Чтобы получить 3 тыс. литров вина требуется всего 40 кг листьев этого жгучего растения. Но и на вкус вино получается немного колючим, сухим и терпк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28400" y="142920"/>
            <a:ext cx="825804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Отвар крапивы можно использовать для окрашивания яиц в зеленоватый цвет, из нее добывают пищевой зеленый крас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В некоторых южных странах специально выращивают особую крапиву 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такая высокая, что в крапивном поле не то что человек — лошадь скроется. Из волокон этой крапивы делают ткань, очень похожую на шёлк. А еще прочные верёвки, рыболовные сети. Рами очень сильно жжётся, поэтому убирать её люди выходят в специальной плотной одежде, в рукавиц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Крапивой лечат ожоги:4 столовые ложки листьев крапивы двудомной заливают 1 стаканом горячей воды и настаивают 2 часа. Настоем смачивают марлю и прикладывают к пораженному участку ко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ttps://im1-tub-ru.yandex.net/i?id=901a35e96c0c4919d48f954fc524e5ec&amp;n=33&amp;h=215&amp;w=288"/>
          <p:cNvPicPr/>
          <p:nvPr/>
        </p:nvPicPr>
        <p:blipFill>
          <a:blip r:embed="rId1"/>
          <a:stretch/>
        </p:blipFill>
        <p:spPr>
          <a:xfrm>
            <a:off x="2571840" y="1071720"/>
            <a:ext cx="40370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420840" y="-55440"/>
            <a:ext cx="8242200" cy="774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28760" y="57168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ланете великое множество лекарственных растений, но настоящим лидером лекарственных трав – крапива. Это поистине уникальная трава, в каких только сферах жизнедеятельности она не используется челове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, в прошлом, из лубяных волокон, получаемых из крапивы, делали нитки, веревки, рыболовные сети, а также изготавливали весьма прочные тка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транах Востока крапива служит материалом для изготовления высших сортов бума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корней крапивы получают  желтую краску, а из листьев и стеблей — зелену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также используют в кулинарии (салаты, суп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https://im1-tub-ru.yandex.net/i?id=50d1880d960ea1af06f9b35e57e84b88&amp;n=33&amp;h=215&amp;w=287"/>
          <p:cNvPicPr/>
          <p:nvPr/>
        </p:nvPicPr>
        <p:blipFill>
          <a:blip r:embed="rId2"/>
          <a:stretch/>
        </p:blipFill>
        <p:spPr>
          <a:xfrm>
            <a:off x="214200" y="5143680"/>
            <a:ext cx="1970280" cy="147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http://naelis.ru/foto/krapiw-shi.jpg"/>
          <p:cNvPicPr/>
          <p:nvPr/>
        </p:nvPicPr>
        <p:blipFill>
          <a:blip r:embed="rId3"/>
          <a:stretch/>
        </p:blipFill>
        <p:spPr>
          <a:xfrm>
            <a:off x="1357200" y="4286160"/>
            <a:ext cx="1654200" cy="1292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eda-land.ru/images/article/orig/2015/07/krapiva-28.jpg"/>
          <p:cNvPicPr/>
          <p:nvPr/>
        </p:nvPicPr>
        <p:blipFill>
          <a:blip r:embed="rId4"/>
          <a:stretch/>
        </p:blipFill>
        <p:spPr>
          <a:xfrm>
            <a:off x="5357880" y="5143680"/>
            <a:ext cx="2309760" cy="153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http://ru5.anyfad.com/items/t1@254123cf-bfe2-47e6-980a-61954c681447/Yablochnaya-osen-Avtorskaya-bumaga-ruchnoy-raboty.jpg"/>
          <p:cNvPicPr/>
          <p:nvPr/>
        </p:nvPicPr>
        <p:blipFill>
          <a:blip r:embed="rId5"/>
          <a:stretch/>
        </p:blipFill>
        <p:spPr>
          <a:xfrm>
            <a:off x="2714760" y="5143680"/>
            <a:ext cx="2074680" cy="1519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http://recipesforhealth.ru/wp-content/uploads/2016/10/nettle-root-extract-tea.jpg"/>
          <p:cNvPicPr/>
          <p:nvPr/>
        </p:nvPicPr>
        <p:blipFill>
          <a:blip r:embed="rId6"/>
          <a:stretch/>
        </p:blipFill>
        <p:spPr>
          <a:xfrm>
            <a:off x="4000680" y="4214880"/>
            <a:ext cx="1928520" cy="132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1" descr="http://charivne.info/images/image/2013/august/nazarchuk/lupa/kropyva.jpg"/>
          <p:cNvPicPr/>
          <p:nvPr/>
        </p:nvPicPr>
        <p:blipFill>
          <a:blip r:embed="rId7"/>
          <a:stretch/>
        </p:blipFill>
        <p:spPr>
          <a:xfrm>
            <a:off x="7072200" y="3643200"/>
            <a:ext cx="1833840" cy="1374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http://astransk.ru/images/stories/virtuemart/product/resized/belita-viteks-shampun-krapiva-s-konditsionerom_400x520.jpg"/>
          <p:cNvPicPr/>
          <p:nvPr/>
        </p:nvPicPr>
        <p:blipFill>
          <a:blip r:embed="rId8"/>
          <a:stretch/>
        </p:blipFill>
        <p:spPr>
          <a:xfrm>
            <a:off x="7429680" y="5095800"/>
            <a:ext cx="17143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ходе работы я пришла  к выводу, что крапива жжёт не огнём, а муравьиной кислотой, вытекающей из очень острых волосков, которые повреждаются, когда мы касаемся крапи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осталась очень довольна своим маленьким открытием. Так как узнала, что крапива не только сорняк, который жжется, но и приносит пользу человеку, а так ж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в медицине, косметологии, кулинарии, хозяй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ла открытие, что есть крапива в других странах, от которой можно умере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Пословицы и погово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лое семя крапива, не сварить из него п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жётся, как крапива, а колется, как ё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бы на крапиву не мороз, так бы с нею и ладов не бы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гуча крапива родится, да во щах увар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пива и молода, а уже кус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раньше встаёт, тот грибки соберёт, а сонливый да ленивый идут после за крапи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ным водиться — что в крапиву сад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Загад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28800" y="1500120"/>
          <a:ext cx="7500960" cy="4214880"/>
        </p:xfrm>
        <a:graphic>
          <a:graphicData uri="http://schemas.openxmlformats.org/drawingml/2006/table">
            <a:tbl>
              <a:tblPr/>
              <a:tblGrid>
                <a:gridCol w="3751200"/>
                <a:gridCol w="3749760"/>
              </a:tblGrid>
              <a:tr h="16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лая, как волчица,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жется, как горчица!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это за диво?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о же ...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не зелёный кипяток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голые обжёг.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</a:tr>
              <a:tr h="12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олько тронь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дернешь ладонь: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жига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У заборов он бывает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огда не остывает.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</a:tr>
              <a:tr h="12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то зелье ты не тронь: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жётся больно, как огон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 огонь - а жжётся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уки не даётся.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herbaldoc.ru/wp-content/uploads/2015/01/krapiva-02.jpg"/>
          <p:cNvPicPr/>
          <p:nvPr/>
        </p:nvPicPr>
        <p:blipFill>
          <a:blip r:embed="rId1"/>
          <a:srcRect l="5556" t="0" r="5556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500040" y="214200"/>
            <a:ext cx="8643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ом на даче я нечаянно обожглась о незнакомое для меня растение и сразу мне стало интересно «Что это за растение?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Крапива!, сказала м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Почему же она так меня обожгла? Чем она так меня? И почему появился такой большой и болезненный волдырь?, задумалась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самом деле, при соприкосновении с крапивой я почувствовала боль, как при ожоге. Меня  очень заинтересовал вопрос: как крапива без огня меня обжг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поставила перед собо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ель: Изучить свойства крап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ма тогда надела перчатки и аккуратно сорвала это жгучее растение, чтобы  мы могли поближе его рассмотреть. У нас была лупа моей пробабушки Гал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55520" y="-1989000"/>
            <a:ext cx="55245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428760" y="35712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заметили, что её стебли и листья покрыты какими-то волосками. Зачем они крапиве? Может быть, это они вызывают ожог? Мне стало ещё интереснее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s://im0-tub-ru.yandex.net/i?id=ec552c8417a90fd51fe63ace52ca6e1b&amp;n=33&amp;h=215&amp;w=287"/>
          <p:cNvPicPr/>
          <p:nvPr/>
        </p:nvPicPr>
        <p:blipFill>
          <a:blip r:embed="rId1"/>
          <a:stretch/>
        </p:blipFill>
        <p:spPr>
          <a:xfrm>
            <a:off x="1285920" y="1447920"/>
            <a:ext cx="664380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поставила несколько зад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Узнать, почему волоски на листьях крапивы особые и  что у них внут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Выяснить, что происходит с листьями крапивы, когда мы прикасаемся к 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Понять, чем полезна крап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85840" y="214200"/>
            <a:ext cx="8643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ответить эти вопросы, мы еще рассмотрели веточку крапи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 увидели, что волоски на веточках и листьях крапивы очень остр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Каждый из них похож на иглу маленького шпр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имо при касании к крапиве, эти волоски и повреждают нашу кож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почему происходит ожог, всё равно было непонят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Чтобы выяснить, что происходит с волосками крапивы при соприкосновении с ними, я надела тоже перчатки, помяла веточку крапивы и снова посмотрели на неё. Некоторые волоски были сломаны и из них вытекала какая-то жидк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что мама мне пояснила, что эта муравьиная кислота, которая при прикосновении с кожей раздражает 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http://cdn01.ru/files/users/images/67/48/67486f6cede408657a9967e57e6ac0ba.jpg"/>
          <p:cNvPicPr/>
          <p:nvPr/>
        </p:nvPicPr>
        <p:blipFill>
          <a:blip r:embed="rId1"/>
          <a:stretch/>
        </p:blipFill>
        <p:spPr>
          <a:xfrm>
            <a:off x="3500280" y="857160"/>
            <a:ext cx="36673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 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840" y="856800"/>
            <a:ext cx="85723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рые волоски крапивы содержат много солей кремнезем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волоски прокалывают кожу  и тут же обламываются. Тут же из внутренних полостей волосков в ранки попадают крошечные капли муравьиной кислоты, и начинается жж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Значит, попадая на оцарапанную кожу, муравьиная кислота вызывает ожо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т оказывается, почему крапива и без огня обжигает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28760" y="3500280"/>
            <a:ext cx="3408120" cy="3021120"/>
          </a:xfrm>
          <a:prstGeom prst="rect">
            <a:avLst/>
          </a:prstGeom>
          <a:ln w="0">
            <a:noFill/>
          </a:ln>
        </p:spPr>
      </p:pic>
      <p:pic>
        <p:nvPicPr>
          <p:cNvPr id="56" name="Клип 5" descr="http://cdn01.ru/files/users/images/77/f2/77f23665c54c08ca4512d33c943f8d5d.jpg"/>
          <p:cNvPicPr/>
          <p:nvPr/>
        </p:nvPicPr>
        <p:blipFill>
          <a:blip r:embed="rId2"/>
          <a:stretch/>
        </p:blipFill>
        <p:spPr>
          <a:xfrm>
            <a:off x="4286160" y="3500280"/>
            <a:ext cx="4500720" cy="3000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http://image.made-in-china.com/2f0j10TsatLQAERMcf/-.jpg"/>
          <p:cNvPicPr/>
          <p:nvPr/>
        </p:nvPicPr>
        <p:blipFill>
          <a:blip r:embed="rId3"/>
          <a:stretch/>
        </p:blipFill>
        <p:spPr>
          <a:xfrm>
            <a:off x="7655040" y="0"/>
            <a:ext cx="14889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 ещ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186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 мамой из интернета узнали, что  есть такая крапива, которая запросто может свалить в обморок женщину и даже здоровенного мужика. Растет она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трал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зов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портеей   Гигантской или шелковицев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www.australiantravelclub.ru/website/atc/upload/custom/images/krapiva.jpg"/>
          <p:cNvPicPr/>
          <p:nvPr/>
        </p:nvPicPr>
        <p:blipFill>
          <a:blip r:embed="rId1"/>
          <a:stretch/>
        </p:blipFill>
        <p:spPr>
          <a:xfrm>
            <a:off x="2643120" y="3027240"/>
            <a:ext cx="540540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400" y="164304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е есть такая крапи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может уб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растает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го-Восточной Аз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лучить ст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ый ожо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е выдержит организм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ится серд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5" descr="http://urologia.msk.ru/wp-content/uploads/2016/12/Lamium_album_plant.jpg"/>
          <p:cNvPicPr/>
          <p:nvPr/>
        </p:nvPicPr>
        <p:blipFill>
          <a:blip r:embed="rId1"/>
          <a:stretch/>
        </p:blipFill>
        <p:spPr>
          <a:xfrm>
            <a:off x="4500720" y="1428840"/>
            <a:ext cx="42145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Интересные факты</a:t>
            </a:r>
            <a:r>
              <a:rPr b="0" i="1" lang="ru-RU" sz="28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дно из самых известных литературных произведений, где упоминается крапива, — это сказка Г. Х. Андерсена «Дикие лебеди». Единственный способ, которым Элиза могла спасти своих заколдованных братьев, — это сплести для них кольчуги из стеблей крапив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вежие листья крапивы являются естественным консервантом: если обложить ею свежее мясо или набить потрошеную рыбу, а потом крапивой же укрыть сверху – их можно хранить летом несколько дней вне холодиль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ушеные листья крапивы прекрасно идут в зимний чай, когда хочется витамин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07:20:33Z</dcterms:created>
  <dc:creator>школа</dc:creator>
  <dc:description/>
  <dc:language>en-US</dc:language>
  <cp:lastModifiedBy>Домашний</cp:lastModifiedBy>
  <dcterms:modified xsi:type="dcterms:W3CDTF">2017-01-31T12:45:59Z</dcterms:modified>
  <cp:revision>44</cp:revision>
  <dc:subject/>
  <dc:title>Лекарственные растения.</dc:title>
</cp:coreProperties>
</file>