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75B-6660-4BBB-8D3F-0CE6D8BA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DB4-7E60-471C-895B-04E1B315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B7D-19FC-4650-9BE7-2256624E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1DB-9422-46F6-BE84-7A3E0962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525-092B-41B5-93D8-C64CF1A5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080-70FF-4173-A536-55784C32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0F0-053E-42C6-A011-788DB716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268-648F-4FA7-8DFA-C75E44A5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82B-2B14-419D-9760-A8DA78A0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FCD-BE1B-4A3A-B304-9F4532F3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ED0-335A-4CD7-9DAB-F638A08A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E1F-C13F-4D9A-B094-2BF32DEA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423A-C065-42C7-AD88-99FBDADA0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Изображение 087"/>
          <p:cNvPicPr/>
          <p:nvPr/>
        </p:nvPicPr>
        <p:blipFill>
          <a:blip r:embed="rId1"/>
          <a:stretch/>
        </p:blipFill>
        <p:spPr>
          <a:xfrm>
            <a:off x="0" y="0"/>
            <a:ext cx="8785080" cy="658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403280" y="587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as  ist  Pyschlit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Изображение 075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56000" y="1268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Unsere  Biblioth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Изображение 078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050920" y="333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Kindergar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Изображение 099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084720" y="549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Kir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Изображение 10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855"/>
          <p:cNvPicPr/>
          <p:nvPr/>
        </p:nvPicPr>
        <p:blipFill>
          <a:blip r:embed="rId1"/>
          <a:stretch/>
        </p:blipFill>
        <p:spPr>
          <a:xfrm>
            <a:off x="1042920" y="115920"/>
            <a:ext cx="6696000" cy="6278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835280" y="5661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rz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g857"/>
          <p:cNvPicPr/>
          <p:nvPr/>
        </p:nvPicPr>
        <p:blipFill>
          <a:blip r:embed="rId1"/>
          <a:stretch/>
        </p:blipFill>
        <p:spPr>
          <a:xfrm>
            <a:off x="684360" y="147600"/>
            <a:ext cx="7704000" cy="6626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763640" y="6093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Verkau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856"/>
          <p:cNvPicPr/>
          <p:nvPr/>
        </p:nvPicPr>
        <p:blipFill>
          <a:blip r:embed="rId1"/>
          <a:stretch/>
        </p:blipFill>
        <p:spPr>
          <a:xfrm>
            <a:off x="179280" y="301680"/>
            <a:ext cx="8964720" cy="6556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7164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Arbe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g858"/>
          <p:cNvPicPr/>
          <p:nvPr/>
        </p:nvPicPr>
        <p:blipFill>
          <a:blip r:embed="rId1"/>
          <a:stretch/>
        </p:blipFill>
        <p:spPr>
          <a:xfrm>
            <a:off x="250920" y="0"/>
            <a:ext cx="957564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539640" y="6093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andwe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Изображение 09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484360" y="57340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eine  Sch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Изображение 070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692360" y="573408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11280" y="26028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Kranken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Изображение 093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124000" y="5877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siksch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зображение 083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0:53:45Z</dcterms:created>
  <dc:creator>Your User Name</dc:creator>
  <dc:description/>
  <dc:language>en-US</dc:language>
  <cp:lastModifiedBy>User</cp:lastModifiedBy>
  <dcterms:modified xsi:type="dcterms:W3CDTF">2018-07-18T17:36:13Z</dcterms:modified>
  <cp:revision>6</cp:revision>
  <dc:subject/>
  <dc:title>Слайд 1</dc:title>
</cp:coreProperties>
</file>