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428-DAA7-498E-B63A-8AE3E627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1E0-BEEF-459F-A33D-5B030D08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4AE-E69F-4FC1-802E-4855AD92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5D9-D27C-43BD-8A12-DC129D74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FAB-ABF1-4210-9BDF-0FC3CB2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831-04FA-4A8C-A332-5D939E2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9A0-040F-49DA-9353-77CA6F2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663-74E7-4E27-B6C0-5F0623C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502-FCD6-470C-BBD1-AB8B913E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EED-D956-47EA-A354-1E6AA366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C16-3B08-46E7-87EA-E818A8D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210-1734-4335-87DD-03BCFE1A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E594-691A-412B-80EE-D6F41DFED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Изображение 087"/>
          <p:cNvPicPr/>
          <p:nvPr/>
        </p:nvPicPr>
        <p:blipFill>
          <a:blip r:embed="rId1"/>
          <a:stretch/>
        </p:blipFill>
        <p:spPr>
          <a:xfrm>
            <a:off x="0" y="0"/>
            <a:ext cx="8785080" cy="658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03280" y="5877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as  ist  Pyschlit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Изображение 075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56000" y="126828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Unsere  Biblioth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Изображение 078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050920" y="333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Kinderga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Изображение 099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084720" y="549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Kir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зображение 10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855"/>
          <p:cNvPicPr/>
          <p:nvPr/>
        </p:nvPicPr>
        <p:blipFill>
          <a:blip r:embed="rId1"/>
          <a:stretch/>
        </p:blipFill>
        <p:spPr>
          <a:xfrm>
            <a:off x="1042920" y="115920"/>
            <a:ext cx="6696000" cy="6278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835280" y="566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rz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857"/>
          <p:cNvPicPr/>
          <p:nvPr/>
        </p:nvPicPr>
        <p:blipFill>
          <a:blip r:embed="rId1"/>
          <a:stretch/>
        </p:blipFill>
        <p:spPr>
          <a:xfrm>
            <a:off x="684360" y="147600"/>
            <a:ext cx="7704000" cy="662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763640" y="6093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Verkau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856"/>
          <p:cNvPicPr/>
          <p:nvPr/>
        </p:nvPicPr>
        <p:blipFill>
          <a:blip r:embed="rId1"/>
          <a:stretch/>
        </p:blipFill>
        <p:spPr>
          <a:xfrm>
            <a:off x="179280" y="301680"/>
            <a:ext cx="8964720" cy="6556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7164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rbe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858"/>
          <p:cNvPicPr/>
          <p:nvPr/>
        </p:nvPicPr>
        <p:blipFill>
          <a:blip r:embed="rId1"/>
          <a:stretch/>
        </p:blipFill>
        <p:spPr>
          <a:xfrm>
            <a:off x="250920" y="0"/>
            <a:ext cx="957564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539640" y="6093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ndwe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Изображение 094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484360" y="57340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eine  Sch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Изображение 070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692360" y="573408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11280" y="26028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Krankenh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Изображение 09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124000" y="5877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usiksch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Изображение 083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0:53:45Z</dcterms:created>
  <dc:creator>Your User Name</dc:creator>
  <dc:description/>
  <dc:language>en-US</dc:language>
  <cp:lastModifiedBy>User</cp:lastModifiedBy>
  <dcterms:modified xsi:type="dcterms:W3CDTF">2018-07-18T17:36:13Z</dcterms:modified>
  <cp:revision>6</cp:revision>
  <dc:subject/>
  <dc:title>Слайд 1</dc:title>
</cp:coreProperties>
</file>