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53B-366B-4ED6-85D2-1C111D04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005-C27C-4219-94B9-1E18579E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F5D-F62F-4358-A5B3-4093EF84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F75-87D0-42D1-99AC-06501518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485-32BA-4867-9C28-93C48F7E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40E-736D-43F1-B183-C5EBB84E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AD4-B79F-4ABB-BEE2-F15F68F6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15D-C197-460E-ABE7-370C3137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D21-15CD-4939-811B-23EFA9B6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F85-E8F8-4826-B503-26EA82C5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CEA-8A95-4C01-8E15-EA872609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9A70-CFFA-4C78-B181-CCBE3578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DFB9-EE34-4A29-8E16-BBF6F3B66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92904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И  ЗИМНИЕ ДРУЗ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143160" y="4724280"/>
            <a:ext cx="8099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ченко Анаста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ейся  1 «Б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Вязьма – Брянской СОШ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и Героя Российской Федера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В. Пуцыки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яземского района Смол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д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7160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C:\Documents and Settings\Admin\Рабочий стол\птички из ваты\DSC04623.JPG"/>
          <p:cNvPicPr/>
          <p:nvPr/>
        </p:nvPicPr>
        <p:blipFill>
          <a:blip r:embed="rId1"/>
          <a:stretch/>
        </p:blipFill>
        <p:spPr>
          <a:xfrm>
            <a:off x="5072040" y="214200"/>
            <a:ext cx="3214800" cy="378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\Рабочий стол\электр портфолио 2 кл\портфолио Волченко\DSC04675.JPG"/>
          <p:cNvPicPr/>
          <p:nvPr/>
        </p:nvPicPr>
        <p:blipFill>
          <a:blip r:embed="rId2"/>
          <a:srcRect l="10921" t="35274" r="0" b="3028"/>
          <a:stretch/>
        </p:blipFill>
        <p:spPr>
          <a:xfrm>
            <a:off x="714240" y="214200"/>
            <a:ext cx="35766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-3877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ьму кусочек ваты. «Растащу» в стороны. Получу прямоуголь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Admin\Рабочий стол\птички из ваты\DSC04604.JPG"/>
          <p:cNvPicPr/>
          <p:nvPr/>
        </p:nvPicPr>
        <p:blipFill>
          <a:blip r:embed="rId1"/>
          <a:stretch/>
        </p:blipFill>
        <p:spPr>
          <a:xfrm>
            <a:off x="1357200" y="207180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-3877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ругого кусочка ваты формирую ша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ложу шарик в верхний угол прямо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\Рабочий стол\птички из ваты\DSC04605.JPG"/>
          <p:cNvPicPr/>
          <p:nvPr/>
        </p:nvPicPr>
        <p:blipFill>
          <a:blip r:embed="rId1"/>
          <a:stretch/>
        </p:blipFill>
        <p:spPr>
          <a:xfrm>
            <a:off x="1143000" y="2357280"/>
            <a:ext cx="62514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8800" y="-387720"/>
            <a:ext cx="76960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кручиваю шарик ват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Рабочий стол\птички из ваты\DSC04607.JPG"/>
          <p:cNvPicPr/>
          <p:nvPr/>
        </p:nvPicPr>
        <p:blipFill>
          <a:blip r:embed="rId1"/>
          <a:stretch/>
        </p:blipFill>
        <p:spPr>
          <a:xfrm>
            <a:off x="1539720" y="1714680"/>
            <a:ext cx="6427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 изделия обкручу ниткой. Завяжу два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лся хвостик пт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Admin\Рабочий стол\птички из ваты\DSC04609.JPG"/>
          <p:cNvPicPr/>
          <p:nvPr/>
        </p:nvPicPr>
        <p:blipFill>
          <a:blip r:embed="rId1"/>
          <a:stretch/>
        </p:blipFill>
        <p:spPr>
          <a:xfrm>
            <a:off x="1428840" y="2000160"/>
            <a:ext cx="6107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тщипну» лишнюю вату с хв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Мокрыми пальчиками формирую острый клю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ичка гото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Admin\Рабочий стол\птички из ваты\DSC04611.JPG"/>
          <p:cNvPicPr/>
          <p:nvPr/>
        </p:nvPicPr>
        <p:blipFill>
          <a:blip r:embed="rId1"/>
          <a:srcRect l="0" t="15911" r="13256" b="0"/>
          <a:stretch/>
        </p:blipFill>
        <p:spPr>
          <a:xfrm>
            <a:off x="1604880" y="2428920"/>
            <a:ext cx="5967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аканчике сладкая вода с клеем П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уну птичку в раств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Documents and Settings\Admin\Рабочий стол\птички из ваты\DSC04609.JPG"/>
          <p:cNvPicPr/>
          <p:nvPr/>
        </p:nvPicPr>
        <p:blipFill>
          <a:blip r:embed="rId1"/>
          <a:stretch/>
        </p:blipFill>
        <p:spPr>
          <a:xfrm>
            <a:off x="1428840" y="2000160"/>
            <a:ext cx="6107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имаю птичку и за нитки хвостика подвешиваю су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Admin\Рабочий стол\птички из ваты\DSC04615.JPG"/>
          <p:cNvPicPr/>
          <p:nvPr/>
        </p:nvPicPr>
        <p:blipFill>
          <a:blip r:embed="rId1"/>
          <a:srcRect l="6817" t="15908" r="28409" b="6248"/>
          <a:stretch/>
        </p:blipFill>
        <p:spPr>
          <a:xfrm>
            <a:off x="1285920" y="1500120"/>
            <a:ext cx="61563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680" y="-387720"/>
            <a:ext cx="80532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два дня разукрашу снегирей и синичек акварелью или гуаш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Admin\Рабочий стол\птички из ваты\DSC04616.JPG"/>
          <p:cNvPicPr/>
          <p:nvPr/>
        </p:nvPicPr>
        <p:blipFill>
          <a:blip r:embed="rId1"/>
          <a:srcRect l="12877" t="0" r="20453" b="39768"/>
          <a:stretch/>
        </p:blipFill>
        <p:spPr>
          <a:xfrm>
            <a:off x="1000080" y="1928880"/>
            <a:ext cx="6945480" cy="418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42920" y="614376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ЕЛА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ПЕХО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БО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07:01:15Z</dcterms:created>
  <dc:creator>User</dc:creator>
  <dc:description/>
  <dc:language>en-US</dc:language>
  <cp:lastModifiedBy>Admin</cp:lastModifiedBy>
  <dcterms:modified xsi:type="dcterms:W3CDTF">2018-07-18T10:19:59Z</dcterms:modified>
  <cp:revision>28</cp:revision>
  <dc:subject/>
  <dc:title>Слайд 1</dc:title>
</cp:coreProperties>
</file>