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3CA7-FA0B-4670-9ACB-1B8B12664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5B20-4F66-421F-95CB-F7D1C718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D616-ABB2-4A65-9B46-923ADF14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6395-1727-4DE3-BE05-70BB71644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826D-6808-4631-B622-89E391F94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C6C8-1A45-41C5-B613-800D9189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B1B6-AEC6-429F-880D-34EC9B7E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47E0-2C82-49B7-AB1D-69B34592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3321-6614-4A30-AA44-8B8AC51D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A309-39D5-4E3E-A4D2-E681410A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68A1-02C6-4409-8CEC-12EB069F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270F-4CDF-493F-8E0E-B771CFF3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ECAD-9873-4A8F-BB11-838F2B1B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4D41-8F8B-4842-AE87-D4CD648D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0136-F97C-4BDD-8293-0BBAE930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980B-D630-4E6C-8F1F-BD51372D9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9E97-BC15-454C-86E6-84E2F851B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C9D1-5E59-4746-A7EF-6494298A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9AB0-77ED-4E50-B5C2-1E585B33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9C18-0553-4507-BC8D-49EF45C8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0D7E-EF33-4BA4-B811-75B1C419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A920-CF77-43AA-950C-F24BCE53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E208-8056-4F18-AF42-D49C74CB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251A-FE90-4A23-8F76-285A1BD1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4B1CFC-E88C-40E8-9CF9-1DD4F52410CA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Образец заголовка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Третий уровень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E1D281-C48B-4B0D-85B4-73EA46AF6480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C:/Users/&#1055;&#1086;&#1083;&#1100;&#1079;&#1086;&#1074;&#1072;&#1090;&#1077;&#1083;&#1100;/Desktop/&#1053;&#1072;%20&#1076;&#1072;&#1083;&#1077;&#1082;&#1086;&#1081;%20&#1040;&#1084;&#1072;&#1079;&#1086;&#1085;&#1082;&#1077;%20-%20&#1057;&#1077;&#1088;&#1075;&#1077;&#1081;%20&#1053;&#1080;&#1082;&#1080;&#1090;&#1080;&#1085;%20from%20backingtracks-mp3.com.mp3" TargetMode="External"/><Relationship Id="rId2" Type="http://schemas.microsoft.com/office/2007/relationships/media" Target="file:///C:/Users/&#1055;&#1086;&#1083;&#1100;&#1079;&#1086;&#1074;&#1072;&#1090;&#1077;&#1083;&#1100;/Desktop/&#1053;&#1072;%20&#1076;&#1072;&#1083;&#1077;&#1082;&#1086;&#1081;%20&#1040;&#1084;&#1072;&#1079;&#1086;&#1085;&#1082;&#1077;%20-%20&#1057;&#1077;&#1088;&#1075;&#1077;&#1081;%20&#1053;&#1080;&#1082;&#1080;&#1090;&#1080;&#1085;%20from%20backingtracks-mp3.com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video" Target="file:///F:/&#1059;&#1088;&#1086;&#1082;%20&#1052;&#1086;&#1085;&#1072;&#1093;&#1086;&#1074;&#1072;/&#1057;&#1090;&#1080;&#1093;&#1086;&#1090;&#1074;&#1086;&#1088;&#1077;&#1085;&#1080;&#1077;%20&#1056;&#1086;&#1073;&#1077;&#1088;&#1090;&#1072;%20&#1041;&#1105;&#1088;&#1085;&#1089;&#1072;-%20&#1042;%20&#1075;&#1086;&#1088;&#1072;&#1093;%20&#1084;&#1086;&#1077;%20&#1089;&#1077;&#1088;&#1076;&#1094;&#1077;.mp4" TargetMode="External"/><Relationship Id="rId2" Type="http://schemas.microsoft.com/office/2007/relationships/media" Target="file:///F:/&#1059;&#1088;&#1086;&#1082;%20&#1052;&#1086;&#1085;&#1072;&#1093;&#1086;&#1074;&#1072;/&#1057;&#1090;&#1080;&#1093;&#1086;&#1090;&#1074;&#1086;&#1088;&#1077;&#1085;&#1080;&#1077;%20&#1056;&#1086;&#1073;&#1077;&#1088;&#1090;&#1072;%20&#1041;&#1105;&#1088;&#1085;&#1089;&#1072;-%20&#1042;%20&#1075;&#1086;&#1088;&#1072;&#1093;%20&#1084;&#1086;&#1077;%20&#1089;&#1077;&#1088;&#1076;&#1094;&#1077;.mp4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Стрелка вправо 1"/>
          <p:cNvSpPr/>
          <p:nvPr/>
        </p:nvSpPr>
        <p:spPr>
          <a:xfrm>
            <a:off x="571320" y="714240"/>
            <a:ext cx="12139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83" name="Стрелка вправо 4"/>
          <p:cNvSpPr/>
          <p:nvPr/>
        </p:nvSpPr>
        <p:spPr>
          <a:xfrm>
            <a:off x="3857760" y="714240"/>
            <a:ext cx="12139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84" name="Стрелка вправо 5"/>
          <p:cNvSpPr/>
          <p:nvPr/>
        </p:nvSpPr>
        <p:spPr>
          <a:xfrm rot="5400000">
            <a:off x="6858360" y="714240"/>
            <a:ext cx="12139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85" name="Стрелка вправо 7"/>
          <p:cNvSpPr/>
          <p:nvPr/>
        </p:nvSpPr>
        <p:spPr>
          <a:xfrm rot="5400000">
            <a:off x="6894000" y="3535920"/>
            <a:ext cx="12139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86" name="Стрелка вправо 8"/>
          <p:cNvSpPr/>
          <p:nvPr/>
        </p:nvSpPr>
        <p:spPr>
          <a:xfrm rot="10800000">
            <a:off x="6787080" y="6215400"/>
            <a:ext cx="12139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87" name="Стрелка вправо 9"/>
          <p:cNvSpPr/>
          <p:nvPr/>
        </p:nvSpPr>
        <p:spPr>
          <a:xfrm rot="10800000">
            <a:off x="3858120" y="6143760"/>
            <a:ext cx="12139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88" name="Стрелка вправо 10"/>
          <p:cNvSpPr/>
          <p:nvPr/>
        </p:nvSpPr>
        <p:spPr>
          <a:xfrm rot="10800000">
            <a:off x="786240" y="6143760"/>
            <a:ext cx="12139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89" name="Стрелка вправо 11"/>
          <p:cNvSpPr/>
          <p:nvPr/>
        </p:nvSpPr>
        <p:spPr>
          <a:xfrm rot="19626000">
            <a:off x="-28800" y="5939280"/>
            <a:ext cx="2058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90" name="Стрелка вправо 12"/>
          <p:cNvSpPr/>
          <p:nvPr/>
        </p:nvSpPr>
        <p:spPr>
          <a:xfrm rot="19478400">
            <a:off x="2220120" y="4556520"/>
            <a:ext cx="2058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91" name="Стрелка вправо 13"/>
          <p:cNvSpPr/>
          <p:nvPr/>
        </p:nvSpPr>
        <p:spPr>
          <a:xfrm rot="19538400">
            <a:off x="4298760" y="3044160"/>
            <a:ext cx="2058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92" name="Стрелка вправо 14"/>
          <p:cNvSpPr/>
          <p:nvPr/>
        </p:nvSpPr>
        <p:spPr>
          <a:xfrm rot="19204800">
            <a:off x="6584760" y="1400760"/>
            <a:ext cx="2058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93" name="Стрелка вправо 15"/>
          <p:cNvSpPr/>
          <p:nvPr/>
        </p:nvSpPr>
        <p:spPr>
          <a:xfrm rot="13200600">
            <a:off x="6755040" y="5612400"/>
            <a:ext cx="2058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94" name="Стрелка вправо 16"/>
          <p:cNvSpPr/>
          <p:nvPr/>
        </p:nvSpPr>
        <p:spPr>
          <a:xfrm rot="13200600">
            <a:off x="4611960" y="4041000"/>
            <a:ext cx="2058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95" name="Стрелка вправо 17"/>
          <p:cNvSpPr/>
          <p:nvPr/>
        </p:nvSpPr>
        <p:spPr>
          <a:xfrm rot="13200600">
            <a:off x="2254320" y="2326320"/>
            <a:ext cx="2058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96" name="Стрелка вправо 18"/>
          <p:cNvSpPr/>
          <p:nvPr/>
        </p:nvSpPr>
        <p:spPr>
          <a:xfrm rot="13200600">
            <a:off x="111240" y="612000"/>
            <a:ext cx="2058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pic>
        <p:nvPicPr>
          <p:cNvPr id="9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3579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7000"/>
                            </p:stCondLst>
                            <p:childTnLst>
                              <p:par>
                                <p:cTn id="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70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500"/>
                            </p:stCondLst>
                            <p:childTnLst>
                              <p:par>
                                <p:cTn id="3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-0.00509 L 0.00243 0.32824 E">
                                      <p:cBhvr>
                                        <p:cTn id="3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9500"/>
                            </p:stCondLst>
                            <p:childTnLst>
                              <p:par>
                                <p:cTn id="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5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5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4500"/>
                            </p:stCondLst>
                            <p:childTnLst>
                              <p:par>
                                <p:cTn id="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45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6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7000"/>
                            </p:stCondLst>
                            <p:childTnLst>
                              <p:par>
                                <p:cTn id="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70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7500"/>
                            </p:stCondLst>
                            <p:childTnLst>
                              <p:par>
                                <p:cTn id="7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25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7" dur="25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8" dur="25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9" dur="25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0"/>
                            </p:stCondLst>
                            <p:childTnLst>
                              <p:par>
                                <p:cTn id="8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80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8500"/>
                            </p:stCondLst>
                            <p:childTnLst>
                              <p:par>
                                <p:cTn id="8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250" autoRev="1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90" dur="250" autoRev="1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1" dur="250" autoRev="1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2" dur="250" autoRev="1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9000"/>
                            </p:stCondLst>
                            <p:childTnLst>
                              <p:par>
                                <p:cTn id="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9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9500"/>
                            </p:stCondLst>
                            <p:childTnLst>
                              <p:par>
                                <p:cTn id="10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25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03" dur="25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4" dur="25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05" dur="25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16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7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8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1500"/>
                            </p:stCondLst>
                            <p:childTnLst>
                              <p:par>
                                <p:cTn id="12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25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29" dur="25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0" dur="25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1" dur="25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2500"/>
                            </p:stCondLst>
                            <p:childTnLst>
                              <p:par>
                                <p:cTn id="14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250" autoRev="1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42" dur="250" autoRev="1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3" dur="250" autoRev="1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4" dur="250" autoRev="1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3500"/>
                            </p:stCondLst>
                            <p:childTnLst>
                              <p:par>
                                <p:cTn id="15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250" autoRev="1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55" dur="250" autoRev="1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6" dur="250" autoRev="1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7" dur="250" autoRev="1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4000"/>
                            </p:stCondLst>
                            <p:childTnLst>
                              <p:par>
                                <p:cTn id="1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40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4500"/>
                            </p:stCondLst>
                            <p:childTnLst>
                              <p:par>
                                <p:cTn id="16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25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68" dur="25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9" dur="25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70" dur="25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0"/>
                            </p:stCondLst>
                            <p:childTnLst>
                              <p:par>
                                <p:cTn id="1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delay="0" evt="onClick">
                    <p:tgtEl>
                      <p:spTgt spid="97"/>
                    </p:tgtEl>
                  </p:cond>
                </p:stCondLst>
                <p:childTnLst>
                  <p:par>
                    <p:cTn id="175" fill="hold">
                      <p:stCondLst>
                        <p:cond delay="0"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ru-RU" sz="4100" spc="-1" strike="noStrike">
              <a:solidFill>
                <a:srgbClr val="e9d596"/>
              </a:solidFill>
              <a:latin typeface="Lucida Sans"/>
            </a:endParaRPr>
          </a:p>
        </p:txBody>
      </p:sp>
      <p:pic>
        <p:nvPicPr>
          <p:cNvPr id="99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restart="whenNotActive" nodeType="interactiveSeq" fill="hold">
                <p:stCondLst>
                  <p:cond delay="0" evt="onClick">
                    <p:tgtEl>
                      <p:spTgt spid="99"/>
                    </p:tgtEl>
                  </p:cond>
                </p:stCondLst>
                <p:childTnLst>
                  <p:par>
                    <p:cTn id="181" fill="hold">
                      <p:stCondLst>
                        <p:cond delay="0"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4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video>
              <p:cMediaNode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</p:endCondLst>
                </p:cTn>
                <p:tgtEl>
                  <p:spTgt spid="99"/>
                </p:tgtEl>
              </p:cMediaNode>
            </p:vide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5400" spc="-1" strike="noStrike">
                <a:solidFill>
                  <a:srgbClr val="ffff00"/>
                </a:solidFill>
                <a:latin typeface="Lucida Sans"/>
              </a:rPr>
              <a:t>Маршак - переводчик</a:t>
            </a:r>
            <a:endParaRPr b="0" lang="ru-RU" sz="5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1" name="Рисунок 4" descr="948885.jpg"/>
          <p:cNvPicPr/>
          <p:nvPr/>
        </p:nvPicPr>
        <p:blipFill>
          <a:blip r:embed="rId1"/>
          <a:stretch/>
        </p:blipFill>
        <p:spPr>
          <a:xfrm>
            <a:off x="4429080" y="3357720"/>
            <a:ext cx="2142720" cy="32144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oz119624.jpg"/>
          <p:cNvPicPr/>
          <p:nvPr/>
        </p:nvPicPr>
        <p:blipFill>
          <a:blip r:embed="rId2"/>
          <a:stretch/>
        </p:blipFill>
        <p:spPr>
          <a:xfrm>
            <a:off x="2357280" y="1285920"/>
            <a:ext cx="2142720" cy="3214440"/>
          </a:xfrm>
          <a:prstGeom prst="rect">
            <a:avLst/>
          </a:prstGeom>
          <a:ln w="0">
            <a:noFill/>
          </a:ln>
        </p:spPr>
      </p:pic>
      <p:pic>
        <p:nvPicPr>
          <p:cNvPr id="103" name="Содержимое 3" descr="25000308927.jpg"/>
          <p:cNvPicPr/>
          <p:nvPr/>
        </p:nvPicPr>
        <p:blipFill>
          <a:blip r:embed="rId3"/>
          <a:stretch/>
        </p:blipFill>
        <p:spPr>
          <a:xfrm>
            <a:off x="6500880" y="1285920"/>
            <a:ext cx="2161800" cy="32317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8" descr="англ. поэзия в переводе маршака.jpg"/>
          <p:cNvPicPr/>
          <p:nvPr/>
        </p:nvPicPr>
        <p:blipFill>
          <a:blip r:embed="rId4"/>
          <a:stretch/>
        </p:blipFill>
        <p:spPr>
          <a:xfrm>
            <a:off x="285840" y="3357720"/>
            <a:ext cx="2095200" cy="32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Апекс">
  <a:themeElements>
    <a:clrScheme name="Другая 10">
      <a:dk1>
        <a:srgbClr val="000000"/>
      </a:dk1>
      <a:lt1>
        <a:srgbClr val="ffffff"/>
      </a:lt1>
      <a:dk2>
        <a:srgbClr val="00b0f0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пекс">
  <a:themeElements>
    <a:clrScheme name="Другая 10">
      <a:dk1>
        <a:srgbClr val="000000"/>
      </a:dk1>
      <a:lt1>
        <a:srgbClr val="ffffff"/>
      </a:lt1>
      <a:dk2>
        <a:srgbClr val="00b0f0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pex</Template>
  <TotalTime>286</TotalTime>
  <Application>LibreOffice/7.4.7.2$Linux_X86_64 LibreOffice_project/40$Build-2</Application>
  <AppVersion>15.0000</AppVersion>
  <Words>3</Words>
  <Paragraphs>1</Paragraphs>
  <Company>WareZ Provider 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16:11:02Z</dcterms:created>
  <dc:creator>www.PHILka.RU</dc:creator>
  <dc:description/>
  <dc:language>en-US</dc:language>
  <cp:lastModifiedBy>Пользователь</cp:lastModifiedBy>
  <dcterms:modified xsi:type="dcterms:W3CDTF">2017-03-15T07:52:40Z</dcterms:modified>
  <cp:revision>14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2</vt:r8>
  </property>
  <property fmtid="{D5CDD505-2E9C-101B-9397-08002B2CF9AE}" pid="3" name="PresentationFormat">
    <vt:lpwstr>Экран (4:3)</vt:lpwstr>
  </property>
  <property fmtid="{D5CDD505-2E9C-101B-9397-08002B2CF9AE}" pid="4" name="Slides">
    <vt:r8>3</vt:r8>
  </property>
</Properties>
</file>