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D81-54D9-47AD-903C-CD48AD6B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089-3BD7-4911-A35D-9DAB451A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79E5-A080-4056-BEFC-75FA3CCF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C6AF-420A-4741-9504-FF3E5A8C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7A9A-C21B-4346-87F9-7DF7BD6C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167A-5200-4B03-B5DF-D5DE1272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B457-EE65-4C1E-A055-C4569908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55B1-7B58-46F0-A304-5A2C9EBD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A580-0885-406B-AAAA-8485CDB0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674F-8E42-4C24-881A-9946565B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B11C-51E0-477D-81D2-6CB7548B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1B1-8940-4F32-A00D-DBBC402F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CD5C-7195-4553-91C6-B1503921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790B-E34A-4316-8813-E7B69EB9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A8AF-0930-40EA-9453-8885BFAC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7B3F-C03E-4E9C-8774-1E58F39A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4B14-01A5-4D4B-8B34-227EFDBB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2D7-AAAA-4899-9054-3B725441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D40B-1349-44A5-B257-A0741CE8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9E5D-1C3D-4681-991B-2A8305FE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80C-CA69-4A30-A0AD-FDE9C69C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806-C185-4A55-999D-3DC332E7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268-31A8-47C3-B6DA-123340B0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556-AF17-49FF-97B3-8523FF14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91BFEC-A3DA-41D6-8D71-E5588A53D67E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C15EF3-4A16-40BC-86B9-D57C31E477BE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C:/Users/&#1055;&#1086;&#1083;&#1100;&#1079;&#1086;&#1074;&#1072;&#1090;&#1077;&#1083;&#1100;/Desktop/&#1053;&#1072;%20&#1076;&#1072;&#1083;&#1077;&#1082;&#1086;&#1081;%20&#1040;&#1084;&#1072;&#1079;&#1086;&#1085;&#1082;&#1077;%20-%20&#1057;&#1077;&#1088;&#1075;&#1077;&#1081;%20&#1053;&#1080;&#1082;&#1080;&#1090;&#1080;&#1085;%20from%20backingtracks-mp3.com.mp3" TargetMode="External"/><Relationship Id="rId2" Type="http://schemas.microsoft.com/office/2007/relationships/media" Target="file:///C:/Users/&#1055;&#1086;&#1083;&#1100;&#1079;&#1086;&#1074;&#1072;&#1090;&#1077;&#1083;&#1100;/Desktop/&#1053;&#1072;%20&#1076;&#1072;&#1083;&#1077;&#1082;&#1086;&#1081;%20&#1040;&#1084;&#1072;&#1079;&#1086;&#1085;&#1082;&#1077;%20-%20&#1057;&#1077;&#1088;&#1075;&#1077;&#1081;%20&#1053;&#1080;&#1082;&#1080;&#1090;&#1080;&#1085;%20from%20backingtracks-mp3.com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F:/&#1059;&#1088;&#1086;&#1082;%20&#1052;&#1086;&#1085;&#1072;&#1093;&#1086;&#1074;&#1072;/&#1057;&#1090;&#1080;&#1093;&#1086;&#1090;&#1074;&#1086;&#1088;&#1077;&#1085;&#1080;&#1077;%20&#1056;&#1086;&#1073;&#1077;&#1088;&#1090;&#1072;%20&#1041;&#1105;&#1088;&#1085;&#1089;&#1072;-%20&#1042;%20&#1075;&#1086;&#1088;&#1072;&#1093;%20&#1084;&#1086;&#1077;%20&#1089;&#1077;&#1088;&#1076;&#1094;&#1077;.mp4" TargetMode="External"/><Relationship Id="rId2" Type="http://schemas.microsoft.com/office/2007/relationships/media" Target="file:///F:/&#1059;&#1088;&#1086;&#1082;%20&#1052;&#1086;&#1085;&#1072;&#1093;&#1086;&#1074;&#1072;/&#1057;&#1090;&#1080;&#1093;&#1086;&#1090;&#1074;&#1086;&#1088;&#1077;&#1085;&#1080;&#1077;%20&#1056;&#1086;&#1073;&#1077;&#1088;&#1090;&#1072;%20&#1041;&#1105;&#1088;&#1085;&#1089;&#1072;-%20&#1042;%20&#1075;&#1086;&#1088;&#1072;&#1093;%20&#1084;&#1086;&#1077;%20&#1089;&#1077;&#1088;&#1076;&#1094;&#1077;.mp4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трелка вправо 1"/>
          <p:cNvSpPr/>
          <p:nvPr/>
        </p:nvSpPr>
        <p:spPr>
          <a:xfrm>
            <a:off x="571320" y="714240"/>
            <a:ext cx="12139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83" name="Стрелка вправо 4"/>
          <p:cNvSpPr/>
          <p:nvPr/>
        </p:nvSpPr>
        <p:spPr>
          <a:xfrm>
            <a:off x="3857760" y="714240"/>
            <a:ext cx="12139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84" name="Стрелка вправо 5"/>
          <p:cNvSpPr/>
          <p:nvPr/>
        </p:nvSpPr>
        <p:spPr>
          <a:xfrm rot="5400000">
            <a:off x="6858360" y="714240"/>
            <a:ext cx="12139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85" name="Стрелка вправо 7"/>
          <p:cNvSpPr/>
          <p:nvPr/>
        </p:nvSpPr>
        <p:spPr>
          <a:xfrm rot="5400000">
            <a:off x="6894000" y="3535920"/>
            <a:ext cx="12139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86" name="Стрелка вправо 8"/>
          <p:cNvSpPr/>
          <p:nvPr/>
        </p:nvSpPr>
        <p:spPr>
          <a:xfrm rot="10800000">
            <a:off x="6787080" y="6215400"/>
            <a:ext cx="12139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87" name="Стрелка вправо 9"/>
          <p:cNvSpPr/>
          <p:nvPr/>
        </p:nvSpPr>
        <p:spPr>
          <a:xfrm rot="10800000">
            <a:off x="3858120" y="6143760"/>
            <a:ext cx="12139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88" name="Стрелка вправо 10"/>
          <p:cNvSpPr/>
          <p:nvPr/>
        </p:nvSpPr>
        <p:spPr>
          <a:xfrm rot="10800000">
            <a:off x="786240" y="6143760"/>
            <a:ext cx="12139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89" name="Стрелка вправо 11"/>
          <p:cNvSpPr/>
          <p:nvPr/>
        </p:nvSpPr>
        <p:spPr>
          <a:xfrm rot="19626000">
            <a:off x="-28800" y="5939280"/>
            <a:ext cx="2058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90" name="Стрелка вправо 12"/>
          <p:cNvSpPr/>
          <p:nvPr/>
        </p:nvSpPr>
        <p:spPr>
          <a:xfrm rot="19478400">
            <a:off x="2220120" y="4556520"/>
            <a:ext cx="2058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91" name="Стрелка вправо 13"/>
          <p:cNvSpPr/>
          <p:nvPr/>
        </p:nvSpPr>
        <p:spPr>
          <a:xfrm rot="19538400">
            <a:off x="4298760" y="3044160"/>
            <a:ext cx="2058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92" name="Стрелка вправо 14"/>
          <p:cNvSpPr/>
          <p:nvPr/>
        </p:nvSpPr>
        <p:spPr>
          <a:xfrm rot="19204800">
            <a:off x="6584760" y="1400760"/>
            <a:ext cx="2058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93" name="Стрелка вправо 15"/>
          <p:cNvSpPr/>
          <p:nvPr/>
        </p:nvSpPr>
        <p:spPr>
          <a:xfrm rot="13200600">
            <a:off x="6755040" y="5612400"/>
            <a:ext cx="2058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94" name="Стрелка вправо 16"/>
          <p:cNvSpPr/>
          <p:nvPr/>
        </p:nvSpPr>
        <p:spPr>
          <a:xfrm rot="13200600">
            <a:off x="4611960" y="4041000"/>
            <a:ext cx="2058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95" name="Стрелка вправо 17"/>
          <p:cNvSpPr/>
          <p:nvPr/>
        </p:nvSpPr>
        <p:spPr>
          <a:xfrm rot="13200600">
            <a:off x="2254320" y="2326320"/>
            <a:ext cx="2058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96" name="Стрелка вправо 18"/>
          <p:cNvSpPr/>
          <p:nvPr/>
        </p:nvSpPr>
        <p:spPr>
          <a:xfrm rot="13200600">
            <a:off x="111240" y="612000"/>
            <a:ext cx="2058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3579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5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-0.00509 L 0.00243 0.32824 E"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50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5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500"/>
                            </p:stCondLst>
                            <p:childTnLst>
                              <p:par>
                                <p:cTn id="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7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8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8500"/>
                            </p:stCondLst>
                            <p:childTnLst>
                              <p:par>
                                <p:cTn id="8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900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9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6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7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8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9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0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4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3500"/>
                            </p:stCondLst>
                            <p:childTnLst>
                              <p:par>
                                <p:cTn id="1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5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5" dur="25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6" dur="25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" dur="25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0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delay="0" evt="onClick">
                    <p:tgtEl>
                      <p:spTgt spid="97"/>
                    </p:tgtEl>
                  </p:cond>
                </p:stCondLst>
                <p:childTnLst>
                  <p:par>
                    <p:cTn id="175" fill="hold">
                      <p:stCondLst>
                        <p:cond delay="0"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pic>
        <p:nvPicPr>
          <p:cNvPr id="9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delay="0" evt="onClick">
                    <p:tgtEl>
                      <p:spTgt spid="99"/>
                    </p:tgtEl>
                  </p:cond>
                </p:stCondLst>
                <p:childTnLst>
                  <p:par>
                    <p:cTn id="181" fill="hold">
                      <p:stCondLst>
                        <p:cond delay="0"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4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99"/>
                </p:tgtEl>
              </p:cMediaNode>
            </p:vide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" strike="noStrike">
                <a:solidFill>
                  <a:srgbClr val="ffff00"/>
                </a:solidFill>
                <a:latin typeface="Lucida Sans"/>
              </a:rPr>
              <a:t>Маршак - переводчик</a:t>
            </a:r>
            <a:endParaRPr b="0" lang="ru-RU" sz="5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Рисунок 4" descr="948885.jpg"/>
          <p:cNvPicPr/>
          <p:nvPr/>
        </p:nvPicPr>
        <p:blipFill>
          <a:blip r:embed="rId1"/>
          <a:stretch/>
        </p:blipFill>
        <p:spPr>
          <a:xfrm>
            <a:off x="4429080" y="3357720"/>
            <a:ext cx="2142720" cy="32144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oz119624.jpg"/>
          <p:cNvPicPr/>
          <p:nvPr/>
        </p:nvPicPr>
        <p:blipFill>
          <a:blip r:embed="rId2"/>
          <a:stretch/>
        </p:blipFill>
        <p:spPr>
          <a:xfrm>
            <a:off x="2357280" y="1285920"/>
            <a:ext cx="2142720" cy="321444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3" descr="25000308927.jpg"/>
          <p:cNvPicPr/>
          <p:nvPr/>
        </p:nvPicPr>
        <p:blipFill>
          <a:blip r:embed="rId3"/>
          <a:stretch/>
        </p:blipFill>
        <p:spPr>
          <a:xfrm>
            <a:off x="6500880" y="1285920"/>
            <a:ext cx="2161800" cy="32317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англ. поэзия в переводе маршака.jpg"/>
          <p:cNvPicPr/>
          <p:nvPr/>
        </p:nvPicPr>
        <p:blipFill>
          <a:blip r:embed="rId4"/>
          <a:stretch/>
        </p:blipFill>
        <p:spPr>
          <a:xfrm>
            <a:off x="285840" y="3357720"/>
            <a:ext cx="2095200" cy="32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пекс">
  <a:themeElements>
    <a:clrScheme name="Другая 10">
      <a:dk1>
        <a:srgbClr val="000000"/>
      </a:dk1>
      <a:lt1>
        <a:srgbClr val="ffffff"/>
      </a:lt1>
      <a:dk2>
        <a:srgbClr val="00b0f0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Другая 10">
      <a:dk1>
        <a:srgbClr val="000000"/>
      </a:dk1>
      <a:lt1>
        <a:srgbClr val="ffffff"/>
      </a:lt1>
      <a:dk2>
        <a:srgbClr val="00b0f0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286</TotalTime>
  <Application>LibreOffice/7.4.7.2$Linux_X86_64 LibreOffice_project/40$Build-2</Application>
  <AppVersion>15.0000</AppVersion>
  <Words>3</Words>
  <Paragraphs>1</Paragraphs>
  <Company>WareZ Provider 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6:11:02Z</dcterms:created>
  <dc:creator>www.PHILka.RU</dc:creator>
  <dc:description/>
  <dc:language>en-US</dc:language>
  <cp:lastModifiedBy>Пользователь</cp:lastModifiedBy>
  <dcterms:modified xsi:type="dcterms:W3CDTF">2017-03-15T07:52:40Z</dcterms:modified>
  <cp:revision>1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3</vt:r8>
  </property>
</Properties>
</file>