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E7DDE-16C7-4C43-A654-70776E6B6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15224-3EF2-498E-B873-EED29ADC9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69EAA-9DF7-4C49-9ACF-965C83D8B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0CAE7-DE34-4365-9F00-847EC558D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518C7-D2D7-44B3-8C48-0E6DC02D4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06755-FF75-4365-AE59-FE0779358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376BC-ED23-4A51-BB8D-53DAC9E99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2D00C-E230-4FEC-B7FA-7AC9A0179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803CD-4864-490B-AA26-D8D50045F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74FAD-E7D0-49D2-AF31-C019838F9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46B09-BE06-4D6C-842E-305DC008B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7DF39-8414-476D-ABCA-0708EF2CC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5481E-70D0-4F43-A30D-DF55B257B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44EBF-B943-4408-8F98-5EC84ADB5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4DFDC-738F-451A-BF67-1D274E49B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EC8F3-D55B-4E34-9645-035A5C725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43090-0229-4C00-9D1D-2A0ED1CDE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46915-B236-49E7-A788-E7597D750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A4AD0-02A6-4F32-9ACB-86CD5EED5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D0DE2-CAE4-4560-904C-EBC869E7C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F0C2F-616D-41C1-B7EF-C22510799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0072F-798D-4CD9-B213-534A27D6C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821D6-9738-4EB2-89CE-D462F5DF5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D3497-3D98-412E-BCA2-FADE90B69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7720" y="65880"/>
                    <a:ext cx="42840" cy="572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8640" y="53280"/>
                    <a:ext cx="64800" cy="3780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8120" y="103320"/>
                    <a:ext cx="23760" cy="6192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prstGeom prst="pie">
              <a:avLst/>
            </a:pr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prstGeom prst="pie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prstGeom prst="pie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A703F-30DE-4EE1-B517-DEF4ED6CDA7E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-360"/>
            <a:ext cx="9159840" cy="6870600"/>
            <a:chOff x="0" y="-360"/>
            <a:chExt cx="9159840" cy="687060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00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6120"/>
              <a:ext cx="8078760" cy="1998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6120"/>
              <a:ext cx="1203120" cy="685152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-360"/>
              <a:ext cx="1295280" cy="6310440"/>
              <a:chOff x="7848720" y="-360"/>
              <a:chExt cx="1295280" cy="631044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-360"/>
                <a:ext cx="762120" cy="2275560"/>
                <a:chOff x="8381880" y="-360"/>
                <a:chExt cx="762120" cy="227556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13800" y="-360"/>
                  <a:ext cx="279360" cy="276120"/>
                  <a:chOff x="8713800" y="-360"/>
                  <a:chExt cx="279360" cy="27612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13800" y="-360"/>
                    <a:ext cx="279360" cy="276120"/>
                    <a:chOff x="8713800" y="-360"/>
                    <a:chExt cx="279360" cy="27612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52680" y="-39240"/>
                      <a:ext cx="201600" cy="279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62040" y="92520"/>
                      <a:ext cx="141120" cy="225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33320" y="13536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67080" y="72000"/>
                    <a:ext cx="42840" cy="572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38000" y="59400"/>
                    <a:ext cx="64800" cy="3780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907480" y="109080"/>
                    <a:ext cx="23760" cy="6192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33320" y="197640"/>
                    <a:ext cx="63360" cy="266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81840" y="172800"/>
                    <a:ext cx="37800" cy="410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3472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347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928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980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4348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2436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488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50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4880"/>
                <a:ext cx="828720" cy="4705200"/>
                <a:chOff x="7848720" y="1604880"/>
                <a:chExt cx="828720" cy="470520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488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94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820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644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87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328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960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64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784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836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696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136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520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800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85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80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90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6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10400"/>
              <a:ext cx="1190520" cy="193788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59640"/>
              <a:ext cx="1219320" cy="199800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21320"/>
              <a:ext cx="1231920" cy="4033080"/>
            </a:xfrm>
            <a:prstGeom prst="pie">
              <a:avLst/>
            </a:pr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41320"/>
              <a:ext cx="979560" cy="2182320"/>
            </a:xfrm>
            <a:prstGeom prst="pie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32720"/>
              <a:ext cx="914400" cy="5043240"/>
            </a:xfrm>
            <a:prstGeom prst="pie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68200"/>
              <a:ext cx="909720" cy="306828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6120"/>
              <a:ext cx="576360" cy="334944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7560"/>
              <a:ext cx="300240" cy="334980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7560"/>
              <a:ext cx="88920" cy="685152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29800"/>
              <a:ext cx="1165320" cy="61848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7200" y="3319200"/>
              <a:ext cx="6851520" cy="22536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B44DB-07A0-4293-9CB8-E177BFEFD039}" type="slidenum">
              <a:rPr b="0" lang="ru-RU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-360" y="188640"/>
            <a:ext cx="8001000" cy="21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7d47d"/>
                </a:solidFill>
                <a:latin typeface="Arial"/>
              </a:rPr>
              <a:t>НЕ СИДИТСЯ МНЕ НА МЕСТЕ-</a:t>
            </a:r>
            <a:br>
              <a:rPr sz="4000"/>
            </a:br>
            <a:r>
              <a:rPr b="1" i="1" lang="ru-RU" sz="4000" spc="-1" strike="noStrike">
                <a:solidFill>
                  <a:srgbClr val="f7d47d"/>
                </a:solidFill>
                <a:latin typeface="Arial"/>
              </a:rPr>
              <a:t> ПОСТОЯННО РУКИ В ТЕСТЕ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Text Box 8"/>
          <p:cNvSpPr/>
          <p:nvPr/>
        </p:nvSpPr>
        <p:spPr>
          <a:xfrm>
            <a:off x="7407360" y="63086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4" name="Прямоугольник 10"/>
          <p:cNvSpPr/>
          <p:nvPr/>
        </p:nvSpPr>
        <p:spPr>
          <a:xfrm>
            <a:off x="2357280" y="4286160"/>
            <a:ext cx="50007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зентация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Якутова Василия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чащегося 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ласса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БОУ Вязьма – Брянской СОШ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мени Героя Российской Федерации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. В. Пуцыкина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Вяземского района Смоленской области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8920" y="226800"/>
            <a:ext cx="5761080" cy="183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7d47d"/>
                </a:solidFill>
                <a:latin typeface="Arial"/>
              </a:rPr>
              <a:t>Панно «Птички – невелички»</a:t>
            </a:r>
            <a:endParaRPr b="0" lang="en-US" sz="48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714240" y="2079360"/>
            <a:ext cx="64296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2f1311"/>
                </a:solidFill>
                <a:latin typeface="Arial"/>
              </a:rPr>
              <a:t>Насыпаю в миску муку, соль. Добавляю воду и замешиваю густое тесто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468360" y="4943520"/>
            <a:ext cx="72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263520" y="1213920"/>
            <a:ext cx="7386480" cy="271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9" name="Picture 10" descr="C:\Documents and Settings\Admin\Рабочий стол\фото дерево из темта 2014\DSC04556.JPG"/>
          <p:cNvPicPr/>
          <p:nvPr/>
        </p:nvPicPr>
        <p:blipFill>
          <a:blip r:embed="rId2"/>
          <a:srcRect l="3789" t="0" r="3789" b="0"/>
          <a:stretch/>
        </p:blipFill>
        <p:spPr>
          <a:xfrm>
            <a:off x="163440" y="3714840"/>
            <a:ext cx="3995640" cy="288288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11" descr="C:\Documents and Settings\Admin\Рабочий стол\фото дерево из темта 2014\DSC04557.JPG"/>
          <p:cNvPicPr/>
          <p:nvPr/>
        </p:nvPicPr>
        <p:blipFill>
          <a:blip r:embed="rId3"/>
          <a:srcRect l="3786" t="0" r="3786" b="0"/>
          <a:stretch/>
        </p:blipFill>
        <p:spPr>
          <a:xfrm>
            <a:off x="4214880" y="3735360"/>
            <a:ext cx="4000320" cy="28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960"/>
                            </p:stCondLst>
                            <p:childTnLst>
                              <p:par>
                                <p:cTn id="1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960"/>
                            </p:stCondLst>
                            <p:childTnLst>
                              <p:par>
                                <p:cTn id="25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3785760" y="1412640"/>
            <a:ext cx="395460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1.Отщипну небольшой кусочек теста.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2.Скатываю из него шарик.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3.Формирую в верхней части голову птички. 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2" name="Rectangle 5"/>
          <p:cNvSpPr/>
          <p:nvPr/>
        </p:nvSpPr>
        <p:spPr>
          <a:xfrm>
            <a:off x="1000080" y="299160"/>
            <a:ext cx="666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1" i="1" lang="ru-RU" sz="4000" spc="-1" strike="noStrike">
                <a:solidFill>
                  <a:srgbClr val="2f1311"/>
                </a:solidFill>
                <a:latin typeface="Arial"/>
              </a:rPr>
              <a:t>Изготовление птички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3" name="Picture 6" descr="C:\Documents and Settings\Admin\Рабочий стол\фото дерево из темта 2014\DSC04565.JPG"/>
          <p:cNvPicPr/>
          <p:nvPr/>
        </p:nvPicPr>
        <p:blipFill>
          <a:blip r:embed="rId1"/>
          <a:srcRect l="3787" t="5680" r="7573" b="0"/>
          <a:stretch/>
        </p:blipFill>
        <p:spPr>
          <a:xfrm>
            <a:off x="152280" y="1508040"/>
            <a:ext cx="3546720" cy="2517840"/>
          </a:xfrm>
          <a:prstGeom prst="rect">
            <a:avLst/>
          </a:prstGeom>
          <a:ln w="0">
            <a:noFill/>
          </a:ln>
        </p:spPr>
      </p:pic>
      <p:sp>
        <p:nvSpPr>
          <p:cNvPr id="204" name="PlaceHolder 2"/>
          <p:cNvSpPr>
            <a:spLocks noGrp="1"/>
          </p:cNvSpPr>
          <p:nvPr>
            <p:ph type="title"/>
          </p:nvPr>
        </p:nvSpPr>
        <p:spPr>
          <a:xfrm>
            <a:off x="218880" y="761760"/>
            <a:ext cx="74768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05" name="Picture 8" descr="C:\Documents and Settings\Admin\Рабочий стол\фото дерево из темта 2014\DSC04567.JPG"/>
          <p:cNvPicPr/>
          <p:nvPr/>
        </p:nvPicPr>
        <p:blipFill>
          <a:blip r:embed="rId2"/>
          <a:srcRect l="3790" t="5680" r="7572" b="0"/>
          <a:stretch/>
        </p:blipFill>
        <p:spPr>
          <a:xfrm>
            <a:off x="150840" y="4178160"/>
            <a:ext cx="354636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4000320" y="1052280"/>
            <a:ext cx="3649320" cy="46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4.Формирую клюв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288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птички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288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288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5. Из отдельного кусочка теста леплю колбаску- хвост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288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288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6. Примазываю хвост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08" name="Picture 5" descr="C:\Documents and Settings\Admin\Рабочий стол\фото дерево из темта 2014\DSC04569.JPG"/>
          <p:cNvPicPr/>
          <p:nvPr/>
        </p:nvPicPr>
        <p:blipFill>
          <a:blip r:embed="rId1"/>
          <a:srcRect l="0" t="15906" r="0" b="14017"/>
          <a:stretch/>
        </p:blipFill>
        <p:spPr>
          <a:xfrm>
            <a:off x="285840" y="490680"/>
            <a:ext cx="3000240" cy="315252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6" descr="C:\Documents and Settings\Admin\Рабочий стол\фото дерево из темта 2014\DSC04572.JPG"/>
          <p:cNvPicPr/>
          <p:nvPr/>
        </p:nvPicPr>
        <p:blipFill>
          <a:blip r:embed="rId2"/>
          <a:srcRect l="4168" t="0" r="6816" b="0"/>
          <a:stretch/>
        </p:blipFill>
        <p:spPr>
          <a:xfrm>
            <a:off x="285840" y="3786120"/>
            <a:ext cx="3751200" cy="28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50920" y="333000"/>
            <a:ext cx="7694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1" name="Rectangle 5"/>
          <p:cNvSpPr/>
          <p:nvPr/>
        </p:nvSpPr>
        <p:spPr>
          <a:xfrm>
            <a:off x="214200" y="367200"/>
            <a:ext cx="3892680" cy="23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2f1311"/>
                </a:solidFill>
                <a:latin typeface="Arial"/>
              </a:rPr>
              <a:t>7.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Птичек кладу набок и «заглаживаю» влажными руками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2" name="Rectangle 7"/>
          <p:cNvSpPr/>
          <p:nvPr/>
        </p:nvSpPr>
        <p:spPr>
          <a:xfrm>
            <a:off x="3571920" y="5505120"/>
            <a:ext cx="4167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8.Наношу шилом и  стекой узор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2643120" y="1598400"/>
            <a:ext cx="5006880" cy="61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4" name="Picture 13" descr="C:\Documents and Settings\Admin\Рабочий стол\фото дерево из темта 2014\DSC04574.JPG"/>
          <p:cNvPicPr/>
          <p:nvPr/>
        </p:nvPicPr>
        <p:blipFill>
          <a:blip r:embed="rId2"/>
          <a:srcRect l="0" t="32194" r="0" b="1512"/>
          <a:stretch/>
        </p:blipFill>
        <p:spPr>
          <a:xfrm>
            <a:off x="4071960" y="357120"/>
            <a:ext cx="3602160" cy="358164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14" descr="C:\Documents and Settings\Admin\Рабочий стол\фото дерево из темта 2014\DSC04582.JPG"/>
          <p:cNvPicPr/>
          <p:nvPr/>
        </p:nvPicPr>
        <p:blipFill>
          <a:blip r:embed="rId3"/>
          <a:srcRect l="13635" t="11364" r="5302" b="0"/>
          <a:stretch/>
        </p:blipFill>
        <p:spPr>
          <a:xfrm>
            <a:off x="285840" y="2786040"/>
            <a:ext cx="356076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1000"/>
                            </p:stCondLst>
                            <p:childTnLst>
                              <p:par>
                                <p:cTn id="9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4071600" y="1412640"/>
            <a:ext cx="36687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9. Добавляю мелкие детали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10. «Заглаживаю» влажной кисточкой всю птичку.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7" name="Rectangle 5"/>
          <p:cNvSpPr/>
          <p:nvPr/>
        </p:nvSpPr>
        <p:spPr>
          <a:xfrm>
            <a:off x="4357800" y="297360"/>
            <a:ext cx="330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title"/>
          </p:nvPr>
        </p:nvSpPr>
        <p:spPr>
          <a:xfrm>
            <a:off x="218880" y="1297800"/>
            <a:ext cx="74768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19" name="Picture 2" descr="C:\Documents and Settings\Admin\Рабочий стол\фото дерево из темта 2014\DSC04585.JPG"/>
          <p:cNvPicPr/>
          <p:nvPr/>
        </p:nvPicPr>
        <p:blipFill>
          <a:blip r:embed="rId1"/>
          <a:srcRect l="23104" t="12501" r="11363" b="5685"/>
          <a:stretch/>
        </p:blipFill>
        <p:spPr>
          <a:xfrm>
            <a:off x="214200" y="214200"/>
            <a:ext cx="3816360" cy="317844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3" descr="C:\Documents and Settings\Admin\Рабочий стол\фото дерево из темта 2014\DSC04587.JPG"/>
          <p:cNvPicPr/>
          <p:nvPr/>
        </p:nvPicPr>
        <p:blipFill>
          <a:blip r:embed="rId2"/>
          <a:srcRect l="12123" t="0" r="3031" b="0"/>
          <a:stretch/>
        </p:blipFill>
        <p:spPr>
          <a:xfrm>
            <a:off x="214200" y="3643200"/>
            <a:ext cx="3759480" cy="29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8T07:48:54Z</dcterms:created>
  <dc:creator>Паша</dc:creator>
  <dc:description/>
  <dc:language>en-US</dc:language>
  <cp:lastModifiedBy>Admin</cp:lastModifiedBy>
  <dcterms:modified xsi:type="dcterms:W3CDTF">2018-07-18T10:31:30Z</dcterms:modified>
  <cp:revision>42</cp:revision>
  <dc:subject/>
  <dc:title>Модульные изделия</dc:title>
</cp:coreProperties>
</file>