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450F-CA36-4E5E-BE01-B43619296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0B66-12EA-473A-946B-D36A6A99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AB53-89D2-4E63-A89B-A83B1139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F96B-F5D7-457C-A8A4-114FE6B1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C0D1-3601-4E50-98AF-0C62FBD6E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294C-2CC0-47D1-B1AD-EFC9E537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69BA-F3C4-4C0A-AF5E-3C39BCC4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49B3-93AC-44FB-89B4-5072E576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C97C-504A-4837-845D-22B7ACCF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DBA9-4BB5-4B5F-835E-5AAFDFDF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2701-C3BE-464E-B567-8CC5C319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9B67-9B11-49EF-B228-0BBCBF7F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AF2D-C72D-49F1-B5D1-DE47E348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B998-C0FE-47C0-A3BA-A835E3D1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B4FD-04B9-4F0E-8F89-1812283F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7D75-A42D-4FB2-9032-E3AD0AEE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602F-B606-4E26-BBC9-1E63EF3E9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ADAC-9C08-41A8-A21F-9CF9A46F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6789-6BEB-42F4-9F07-9B3AE902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16AB-3E42-49B1-9D35-847E1805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2413-5E47-4296-9B7A-37199807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E053-1BC9-4B59-BF81-94946329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6841-6398-4100-88B1-8EAE973C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B2FA-0987-469C-8D93-1ED92682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588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328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332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E6F0-9378-42A2-84EF-25069270DD9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600"/>
            <a:chOff x="0" y="-36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612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6120"/>
              <a:ext cx="1203120" cy="685152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440"/>
              <a:chOff x="7848720" y="-360"/>
              <a:chExt cx="1295280" cy="631044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5560"/>
                <a:chOff x="8381880" y="-360"/>
                <a:chExt cx="762120" cy="22755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3800" y="-360"/>
                  <a:ext cx="279360" cy="276120"/>
                  <a:chOff x="871380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3800" y="-360"/>
                    <a:ext cx="279360" cy="276120"/>
                    <a:chOff x="871380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52680" y="-39240"/>
                      <a:ext cx="20160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6204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3320" y="13536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7080" y="7200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800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7480" y="1090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3320" y="19764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81840" y="17280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4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47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92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9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3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4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4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5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4880"/>
                <a:ext cx="828720" cy="4705200"/>
                <a:chOff x="7848720" y="1604880"/>
                <a:chExt cx="828720" cy="47052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48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9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8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64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87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32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9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6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78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8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6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3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5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80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85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10400"/>
              <a:ext cx="1190520" cy="19378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9640"/>
              <a:ext cx="1219320" cy="199800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1320"/>
              <a:ext cx="1231920" cy="403308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1320"/>
              <a:ext cx="979560" cy="218232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32720"/>
              <a:ext cx="914400" cy="504324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8200"/>
              <a:ext cx="909720" cy="306828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6120"/>
              <a:ext cx="576360" cy="33494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7560"/>
              <a:ext cx="300240" cy="334980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7560"/>
              <a:ext cx="88920" cy="68515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800"/>
              <a:ext cx="1165320" cy="61848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7200" y="3319200"/>
              <a:ext cx="685152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467D-1593-4502-92F0-B39AE9E868DA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001000" cy="21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7d47d"/>
                </a:solidFill>
                <a:latin typeface="Arial"/>
              </a:rPr>
              <a:t>НЕ СИДИТСЯ МНЕ НА МЕСТЕ-</a:t>
            </a:r>
            <a:br>
              <a:rPr sz="4000"/>
            </a:br>
            <a:r>
              <a:rPr b="1" i="1" lang="ru-RU" sz="4000" spc="-1" strike="noStrike">
                <a:solidFill>
                  <a:srgbClr val="f7d47d"/>
                </a:solidFill>
                <a:latin typeface="Arial"/>
              </a:rPr>
              <a:t> ПОСТОЯННО РУКИ В ТЕСТ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7407360" y="630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Прямоугольник 10"/>
          <p:cNvSpPr/>
          <p:nvPr/>
        </p:nvSpPr>
        <p:spPr>
          <a:xfrm>
            <a:off x="2357280" y="4286160"/>
            <a:ext cx="5000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зентация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кутова Васили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щегося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Вязьма – Брянской СОШ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ени Героя Российской Федерации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 В. Пуцыкин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яземского района Смоленской област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8920" y="226800"/>
            <a:ext cx="5761080" cy="18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7d47d"/>
                </a:solidFill>
                <a:latin typeface="Arial"/>
              </a:rPr>
              <a:t>Панно «Птички – невелички»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714240" y="2079360"/>
            <a:ext cx="64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Насыпаю в миску муку, соль. Добавляю воду и замешиваю густое тесто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68360" y="494352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63520" y="1213920"/>
            <a:ext cx="738648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Picture 10" descr="C:\Documents and Settings\Admin\Рабочий стол\фото дерево из темта 2014\DSC04556.JPG"/>
          <p:cNvPicPr/>
          <p:nvPr/>
        </p:nvPicPr>
        <p:blipFill>
          <a:blip r:embed="rId2"/>
          <a:srcRect l="3789" t="0" r="3789" b="0"/>
          <a:stretch/>
        </p:blipFill>
        <p:spPr>
          <a:xfrm>
            <a:off x="163440" y="3714840"/>
            <a:ext cx="3995640" cy="2882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C:\Documents and Settings\Admin\Рабочий стол\фото дерево из темта 2014\DSC04557.JPG"/>
          <p:cNvPicPr/>
          <p:nvPr/>
        </p:nvPicPr>
        <p:blipFill>
          <a:blip r:embed="rId3"/>
          <a:srcRect l="3786" t="0" r="3786" b="0"/>
          <a:stretch/>
        </p:blipFill>
        <p:spPr>
          <a:xfrm>
            <a:off x="4214880" y="3735360"/>
            <a:ext cx="400032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60"/>
                            </p:stCondLst>
                            <p:childTnLst>
                              <p:par>
                                <p:cTn id="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960"/>
                            </p:stCondLst>
                            <p:childTnLst>
                              <p:par>
                                <p:cTn id="2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785760" y="1412640"/>
            <a:ext cx="3954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.Отщипну небольшой кусочек теста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.Скатываю из него шарик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.Формирую в верхней части голову птички.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1000080" y="299160"/>
            <a:ext cx="666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2f1311"/>
                </a:solidFill>
                <a:latin typeface="Arial"/>
              </a:rPr>
              <a:t>Изготовление птички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Picture 6" descr="C:\Documents and Settings\Admin\Рабочий стол\фото дерево из темта 2014\DSC04565.JPG"/>
          <p:cNvPicPr/>
          <p:nvPr/>
        </p:nvPicPr>
        <p:blipFill>
          <a:blip r:embed="rId1"/>
          <a:srcRect l="3787" t="5680" r="7573" b="0"/>
          <a:stretch/>
        </p:blipFill>
        <p:spPr>
          <a:xfrm>
            <a:off x="152280" y="1508040"/>
            <a:ext cx="3546720" cy="25178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218880" y="761760"/>
            <a:ext cx="7476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Picture 8" descr="C:\Documents and Settings\Admin\Рабочий стол\фото дерево из темта 2014\DSC04567.JPG"/>
          <p:cNvPicPr/>
          <p:nvPr/>
        </p:nvPicPr>
        <p:blipFill>
          <a:blip r:embed="rId2"/>
          <a:srcRect l="3790" t="5680" r="7572" b="0"/>
          <a:stretch/>
        </p:blipFill>
        <p:spPr>
          <a:xfrm>
            <a:off x="150840" y="4178160"/>
            <a:ext cx="35463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000320" y="1052280"/>
            <a:ext cx="364932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4.Формирую клю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тичк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5. Из отдельного кусочка теста леплю колбаску- хвос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6. Примазываю хвос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8" name="Picture 5" descr="C:\Documents and Settings\Admin\Рабочий стол\фото дерево из темта 2014\DSC04569.JPG"/>
          <p:cNvPicPr/>
          <p:nvPr/>
        </p:nvPicPr>
        <p:blipFill>
          <a:blip r:embed="rId1"/>
          <a:srcRect l="0" t="15906" r="0" b="14017"/>
          <a:stretch/>
        </p:blipFill>
        <p:spPr>
          <a:xfrm>
            <a:off x="285840" y="490680"/>
            <a:ext cx="3000240" cy="31525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C:\Documents and Settings\Admin\Рабочий стол\фото дерево из темта 2014\DSC04572.JPG"/>
          <p:cNvPicPr/>
          <p:nvPr/>
        </p:nvPicPr>
        <p:blipFill>
          <a:blip r:embed="rId2"/>
          <a:srcRect l="4168" t="0" r="6816" b="0"/>
          <a:stretch/>
        </p:blipFill>
        <p:spPr>
          <a:xfrm>
            <a:off x="285840" y="3786120"/>
            <a:ext cx="37512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69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214200" y="367200"/>
            <a:ext cx="389268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7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тичек кладу набок и «заглаживаю» влажными рукам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3571920" y="5505120"/>
            <a:ext cx="416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8.Наношу шилом и  стекой узор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643120" y="1598400"/>
            <a:ext cx="5006880" cy="6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Picture 13" descr="C:\Documents and Settings\Admin\Рабочий стол\фото дерево из темта 2014\DSC04574.JPG"/>
          <p:cNvPicPr/>
          <p:nvPr/>
        </p:nvPicPr>
        <p:blipFill>
          <a:blip r:embed="rId2"/>
          <a:srcRect l="0" t="32194" r="0" b="1512"/>
          <a:stretch/>
        </p:blipFill>
        <p:spPr>
          <a:xfrm>
            <a:off x="4071960" y="357120"/>
            <a:ext cx="3602160" cy="3581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C:\Documents and Settings\Admin\Рабочий стол\фото дерево из темта 2014\DSC04582.JPG"/>
          <p:cNvPicPr/>
          <p:nvPr/>
        </p:nvPicPr>
        <p:blipFill>
          <a:blip r:embed="rId3"/>
          <a:srcRect l="13635" t="11364" r="5302" b="0"/>
          <a:stretch/>
        </p:blipFill>
        <p:spPr>
          <a:xfrm>
            <a:off x="285840" y="2786040"/>
            <a:ext cx="356076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071600" y="1412640"/>
            <a:ext cx="36687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9. Добавляю мелкие детал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0. «Заглаживаю» влажной кисточкой всю птичку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4357800" y="297360"/>
            <a:ext cx="33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218880" y="1297800"/>
            <a:ext cx="7476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Picture 2" descr="C:\Documents and Settings\Admin\Рабочий стол\фото дерево из темта 2014\DSC04585.JPG"/>
          <p:cNvPicPr/>
          <p:nvPr/>
        </p:nvPicPr>
        <p:blipFill>
          <a:blip r:embed="rId1"/>
          <a:srcRect l="23104" t="12501" r="11363" b="5685"/>
          <a:stretch/>
        </p:blipFill>
        <p:spPr>
          <a:xfrm>
            <a:off x="214200" y="214200"/>
            <a:ext cx="3816360" cy="3178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C:\Documents and Settings\Admin\Рабочий стол\фото дерево из темта 2014\DSC04587.JPG"/>
          <p:cNvPicPr/>
          <p:nvPr/>
        </p:nvPicPr>
        <p:blipFill>
          <a:blip r:embed="rId2"/>
          <a:srcRect l="12123" t="0" r="3031" b="0"/>
          <a:stretch/>
        </p:blipFill>
        <p:spPr>
          <a:xfrm>
            <a:off x="214200" y="3643200"/>
            <a:ext cx="375948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48:54Z</dcterms:created>
  <dc:creator>Паша</dc:creator>
  <dc:description/>
  <dc:language>en-US</dc:language>
  <cp:lastModifiedBy>Admin</cp:lastModifiedBy>
  <dcterms:modified xsi:type="dcterms:W3CDTF">2018-07-18T10:31:30Z</dcterms:modified>
  <cp:revision>42</cp:revision>
  <dc:subject/>
  <dc:title>Модульные изделия</dc:title>
</cp:coreProperties>
</file>