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116-4435-437B-B5E2-6A5078F6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7C0-6960-4AA7-A375-28D80833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27F-9929-4D2F-ADE0-A605B116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EB7-4FA5-4356-8D0E-FD48EFE7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1601-DBE5-4184-937C-C71FAF4F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B26-F598-4690-9022-0DEDB25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B247-E9D6-4D72-B639-09268AE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2A5-F704-4147-A02E-E50B4192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07B-3CB8-4691-809A-86B2081B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4282-3C8B-4E45-A36E-48EBAA34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C9F7-F8E8-4DBC-8EFF-6F88BAA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97B-8482-45AE-B225-9C112A0A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24EF-70C2-4B0E-A77F-F6E0616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3A6A-6554-4BF9-BB10-72ACD0B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CF7-4DCB-462A-84B5-6A7126FE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DA4D-852D-4FCE-90BA-C1FD2C2E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D968-E7C0-4366-956E-C40B3A97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C40-8A65-4C19-A660-3D3896B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5D6-FA9A-4DEC-AC88-18993DE7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8B8-F54F-4B32-B2B2-0BC08BFC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EA3-3F37-4C59-9345-C3092945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924-73EB-4513-A9A4-FD8B3A22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465-C84D-43B5-9D58-BE1BECE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402-A929-4481-A25A-D5AEA7A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94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68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68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20C6-8BF3-4179-9648-FE8C2B876C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404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4040"/>
              <a:ext cx="1203120" cy="68436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10440"/>
              <a:chOff x="7848720" y="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80240"/>
                <a:chOff x="8381880" y="360"/>
                <a:chExt cx="762120" cy="228024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0280" y="360"/>
                  <a:ext cx="279360" cy="275400"/>
                  <a:chOff x="872028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0280" y="360"/>
                    <a:ext cx="279360" cy="275400"/>
                    <a:chOff x="872028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916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852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9800" y="1422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356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448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396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9800" y="2041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8320" y="17928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2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2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6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6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0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08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1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0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1000"/>
                <a:ext cx="828720" cy="4699800"/>
                <a:chOff x="7848720" y="1611000"/>
                <a:chExt cx="828720" cy="4699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52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3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1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34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39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0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19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02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80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0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2560"/>
              <a:ext cx="1190520" cy="19357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800"/>
              <a:ext cx="1219320" cy="19958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6000"/>
              <a:ext cx="1231920" cy="40284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5280"/>
              <a:ext cx="979560" cy="21798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0280"/>
              <a:ext cx="914400" cy="5037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5760"/>
              <a:ext cx="909720" cy="30650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4040"/>
              <a:ext cx="576360" cy="33454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5480"/>
              <a:ext cx="300240" cy="33458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5480"/>
              <a:ext cx="88920" cy="68436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520"/>
              <a:ext cx="1165320" cy="6177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1160" y="3323160"/>
              <a:ext cx="68436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5869-59AE-49CA-B769-A930DAD7BD5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0010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НЕ СИДИТСЯ МНЕ НА МЕСТЕ-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 ПОСТОЯННО РУКИ В ТЕС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40736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2357280" y="42861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кутова Васил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егося 3 «В» класс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929040" y="1412640"/>
            <a:ext cx="3811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части теста скатываю «колбаску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дам ей изгиб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плюсну её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несу узор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714240" y="299160"/>
            <a:ext cx="69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2f1311"/>
                </a:solidFill>
                <a:latin typeface="Arial"/>
              </a:rPr>
              <a:t>Изготовление   веточек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Picture 2" descr="C:\Documents and Settings\Admin\Рабочий стол\фото дерево из темта 2014\DSC04600.JPG"/>
          <p:cNvPicPr/>
          <p:nvPr/>
        </p:nvPicPr>
        <p:blipFill>
          <a:blip r:embed="rId1"/>
          <a:srcRect l="60223" t="7951" r="14392" b="4543"/>
          <a:stretch/>
        </p:blipFill>
        <p:spPr>
          <a:xfrm>
            <a:off x="285840" y="1785960"/>
            <a:ext cx="3357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4280" y="226800"/>
            <a:ext cx="607248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7d47d"/>
                </a:solidFill>
                <a:latin typeface="Arial"/>
              </a:rPr>
              <a:t>Панно «Яблонька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14200" y="1733760"/>
            <a:ext cx="4286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части теста скатываю «колбаску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плюсну её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твол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4943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3786120"/>
            <a:ext cx="738648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2" descr="C:\Documents and Settings\Admin\Рабочий стол\фото дерево из темта 2014\DSC04560.JPG"/>
          <p:cNvPicPr/>
          <p:nvPr/>
        </p:nvPicPr>
        <p:blipFill>
          <a:blip r:embed="rId2"/>
          <a:srcRect l="17610" t="0" r="5683" b="0"/>
          <a:stretch/>
        </p:blipFill>
        <p:spPr>
          <a:xfrm>
            <a:off x="5143680" y="1500120"/>
            <a:ext cx="2411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4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4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64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64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286160" y="1412640"/>
            <a:ext cx="3454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Аналогично изготовлю веточ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Соединяю детали вмес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. Заглаживаю влажными руками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8880" y="76176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4" descr="C:\Documents and Settings\Admin\Рабочий стол\фото дерево из темта 2014\DSC04563.JPG"/>
          <p:cNvPicPr/>
          <p:nvPr/>
        </p:nvPicPr>
        <p:blipFill>
          <a:blip r:embed="rId1"/>
          <a:srcRect l="12498" t="0" r="7578" b="0"/>
          <a:stretch/>
        </p:blipFill>
        <p:spPr>
          <a:xfrm>
            <a:off x="214200" y="714240"/>
            <a:ext cx="35719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000400" y="1052280"/>
            <a:ext cx="26492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Из шариков формирую лист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. Стекой наношу жилки ли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218880" y="226080"/>
            <a:ext cx="7476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Picture 2" descr="C:\Documents and Settings\Admin\Рабочий стол\фото дерево из темта 2014\DSC04590.JPG"/>
          <p:cNvPicPr/>
          <p:nvPr/>
        </p:nvPicPr>
        <p:blipFill>
          <a:blip r:embed="rId1"/>
          <a:srcRect l="23866" t="11362" r="0" b="13640"/>
          <a:stretch/>
        </p:blipFill>
        <p:spPr>
          <a:xfrm>
            <a:off x="214200" y="428760"/>
            <a:ext cx="456732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Admin\Рабочий стол\фото дерево из темта 2014\DSC04593.JPG"/>
          <p:cNvPicPr/>
          <p:nvPr/>
        </p:nvPicPr>
        <p:blipFill>
          <a:blip r:embed="rId2"/>
          <a:srcRect l="13259" t="0" r="4547" b="0"/>
          <a:stretch/>
        </p:blipFill>
        <p:spPr>
          <a:xfrm>
            <a:off x="714240" y="3571920"/>
            <a:ext cx="35546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14200" y="362520"/>
            <a:ext cx="38926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 шариков делаю ябло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5840" y="536220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.Делаю шилом углубление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43120" y="1598400"/>
            <a:ext cx="50068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C:\Documents and Settings\Admin\Рабочий стол\фото дерево из темта 2014\DSC04592.JPG"/>
          <p:cNvPicPr/>
          <p:nvPr/>
        </p:nvPicPr>
        <p:blipFill>
          <a:blip r:embed="rId2"/>
          <a:srcRect l="37875" t="0" r="4544" b="9654"/>
          <a:stretch/>
        </p:blipFill>
        <p:spPr>
          <a:xfrm>
            <a:off x="3429000" y="785880"/>
            <a:ext cx="4143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Выкладываю изделие из теста на противень и запекаю 5 мину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180324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После того, как изделия остынут, отделяю их от бумаги. Сушу 2-3 дня. Затем наклеиваю на подготовленную основ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39640" y="47242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осле высыхания изделие покрою лак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9" descr="C:\Documents and Settings\Admin\Рабочий стол\фото дерево из темта 2014\DSC04597.JPG"/>
          <p:cNvPicPr/>
          <p:nvPr/>
        </p:nvPicPr>
        <p:blipFill>
          <a:blip r:embed="rId2"/>
          <a:srcRect l="4923" t="0" r="0" b="0"/>
          <a:stretch/>
        </p:blipFill>
        <p:spPr>
          <a:xfrm>
            <a:off x="142920" y="185724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C:\Documents and Settings\Admin\Рабочий стол\фото дерево из темта 2014\DSC04602.JPG"/>
          <p:cNvPicPr/>
          <p:nvPr/>
        </p:nvPicPr>
        <p:blipFill>
          <a:blip r:embed="rId3"/>
          <a:stretch/>
        </p:blipFill>
        <p:spPr>
          <a:xfrm>
            <a:off x="4214880" y="1785960"/>
            <a:ext cx="353844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4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СПАСИБО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ЗА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НИМАНИЕ!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571760"/>
            <a:ext cx="8094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За работу взялся я отважно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Ловкие пальчики! Как это важно!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Не думал, что столько поделок отличных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f1311"/>
                </a:solidFill>
                <a:latin typeface="Arial"/>
              </a:rPr>
              <a:t>Выйдет из солёного теста обычного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48:54Z</dcterms:created>
  <dc:creator>Паша</dc:creator>
  <dc:description/>
  <dc:language>en-US</dc:language>
  <cp:lastModifiedBy>Admin</cp:lastModifiedBy>
  <dcterms:modified xsi:type="dcterms:W3CDTF">2018-07-18T10:43:06Z</dcterms:modified>
  <cp:revision>46</cp:revision>
  <dc:subject/>
  <dc:title>Модульные изделия</dc:title>
</cp:coreProperties>
</file>