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F97-22AE-43A9-8CA6-FDD8FA95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5D2-CBC8-4856-9715-8A0876CF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7CC-88A9-4C0D-AAB1-2CECDF00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C19-C690-4FF3-A807-83ACCA7C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F74F-CDE7-4710-9395-C98BB913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EB62-93C5-425F-BFAC-900F46F2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E62D-4F52-4A2D-9987-55ED3A6A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AF5E-A104-4E41-9D64-346CAE1B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3086-BB1A-423F-8A48-C8F7581D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403F-0AD2-4BEC-A72F-90582B01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56B1-4D4A-4171-AEA0-5EE05BE1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FA1-53B2-484F-B1D1-73C026AA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6972-0D46-4EF1-AA94-14F0E5AC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B579-EFC6-44E6-B757-5DF0121E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6640-4CBA-4469-81CB-DB2BC234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A68D-71C2-4102-9973-EBB9354F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2C4E-C2B1-4BD5-87DE-C30E3490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AB9-0278-4D5D-AA62-3624D672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849-F619-4764-989D-D180B487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448-E11F-442B-B4DD-C286E1A6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B5F-D76F-49C0-8B61-3C665CB2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F46-0D56-440F-AF57-D3CF6BB0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F79-2F5D-4061-BD20-13AB82E3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6C1-D3B5-4FC1-9A5D-1EA6D77C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94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68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68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0C18-7D66-4F41-A9F7-43E20D0DA4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404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4040"/>
              <a:ext cx="1203120" cy="68436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10440"/>
              <a:chOff x="7848720" y="360"/>
              <a:chExt cx="1295280" cy="63104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80240"/>
                <a:chOff x="8381880" y="360"/>
                <a:chExt cx="762120" cy="228024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20280" y="360"/>
                  <a:ext cx="279360" cy="275400"/>
                  <a:chOff x="872028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20280" y="360"/>
                    <a:ext cx="279360" cy="275400"/>
                    <a:chOff x="872028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916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852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9800" y="14220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356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448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396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9800" y="2041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8320" y="17928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22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22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64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66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0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08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1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08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1000"/>
                <a:ext cx="828720" cy="4699800"/>
                <a:chOff x="7848720" y="1611000"/>
                <a:chExt cx="828720" cy="4699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1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52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32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14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34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7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39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0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1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19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02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9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80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0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06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2560"/>
              <a:ext cx="1190520" cy="19357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1800"/>
              <a:ext cx="1219320" cy="19958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6000"/>
              <a:ext cx="1231920" cy="402840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5280"/>
              <a:ext cx="979560" cy="21798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0280"/>
              <a:ext cx="914400" cy="50374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5760"/>
              <a:ext cx="909720" cy="30650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4040"/>
              <a:ext cx="576360" cy="33454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5480"/>
              <a:ext cx="300240" cy="33458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5480"/>
              <a:ext cx="88920" cy="68436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520"/>
              <a:ext cx="1165320" cy="6177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1160" y="3323160"/>
              <a:ext cx="68436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7A83-96D9-4A77-A590-C575D64D8776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001000" cy="21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НЕ СИДИТСЯ МНЕ НА МЕСТЕ-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 ПОСТОЯННО РУКИ В ТЕС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740736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Прямоугольник 10"/>
          <p:cNvSpPr/>
          <p:nvPr/>
        </p:nvSpPr>
        <p:spPr>
          <a:xfrm>
            <a:off x="2357280" y="4286160"/>
            <a:ext cx="500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утова Васил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егося 3 «В» класс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Вязьма – Брянской СОШ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и Героя Российской Федераци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. Пуцыки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яземского района Смоленской обла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6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929040" y="1412640"/>
            <a:ext cx="38116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 части теста скатываю «колбаску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дам ей изгиб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плюсну её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несу узор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714240" y="299160"/>
            <a:ext cx="69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2f1311"/>
                </a:solidFill>
                <a:latin typeface="Arial"/>
              </a:rPr>
              <a:t>Изготовление   веточек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18880" y="76176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Picture 2" descr="C:\Documents and Settings\Admin\Рабочий стол\фото дерево из темта 2014\DSC04600.JPG"/>
          <p:cNvPicPr/>
          <p:nvPr/>
        </p:nvPicPr>
        <p:blipFill>
          <a:blip r:embed="rId1"/>
          <a:srcRect l="60223" t="7951" r="14392" b="4543"/>
          <a:stretch/>
        </p:blipFill>
        <p:spPr>
          <a:xfrm>
            <a:off x="285840" y="1785960"/>
            <a:ext cx="3357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4280" y="226800"/>
            <a:ext cx="607248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Панно «Яблонька»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14200" y="1733760"/>
            <a:ext cx="4286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 части теста скатываю «колбаску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плюсну её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твол дере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49435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3786120"/>
            <a:ext cx="738648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2" descr="C:\Documents and Settings\Admin\Рабочий стол\фото дерево из темта 2014\DSC04560.JPG"/>
          <p:cNvPicPr/>
          <p:nvPr/>
        </p:nvPicPr>
        <p:blipFill>
          <a:blip r:embed="rId2"/>
          <a:srcRect l="17610" t="0" r="5683" b="0"/>
          <a:stretch/>
        </p:blipFill>
        <p:spPr>
          <a:xfrm>
            <a:off x="5143680" y="1500120"/>
            <a:ext cx="2411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4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64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64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640"/>
                            </p:stCondLst>
                            <p:childTnLst>
                              <p:par>
                                <p:cTn id="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286160" y="1412640"/>
            <a:ext cx="3454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Аналогично изготовлю веточ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Соединяю детали вмест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. Заглаживаю влажными руками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18880" y="76176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Picture 4" descr="C:\Documents and Settings\Admin\Рабочий стол\фото дерево из темта 2014\DSC04563.JPG"/>
          <p:cNvPicPr/>
          <p:nvPr/>
        </p:nvPicPr>
        <p:blipFill>
          <a:blip r:embed="rId1"/>
          <a:srcRect l="12498" t="0" r="7578" b="0"/>
          <a:stretch/>
        </p:blipFill>
        <p:spPr>
          <a:xfrm>
            <a:off x="214200" y="714240"/>
            <a:ext cx="35719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000400" y="1052280"/>
            <a:ext cx="26492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Из шариков формирую листи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. Стекой наношу жилки л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18880" y="22608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Picture 2" descr="C:\Documents and Settings\Admin\Рабочий стол\фото дерево из темта 2014\DSC04590.JPG"/>
          <p:cNvPicPr/>
          <p:nvPr/>
        </p:nvPicPr>
        <p:blipFill>
          <a:blip r:embed="rId1"/>
          <a:srcRect l="23866" t="11362" r="0" b="13640"/>
          <a:stretch/>
        </p:blipFill>
        <p:spPr>
          <a:xfrm>
            <a:off x="214200" y="428760"/>
            <a:ext cx="4567320" cy="300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Documents and Settings\Admin\Рабочий стол\фото дерево из темта 2014\DSC04593.JPG"/>
          <p:cNvPicPr/>
          <p:nvPr/>
        </p:nvPicPr>
        <p:blipFill>
          <a:blip r:embed="rId2"/>
          <a:srcRect l="13259" t="0" r="4547" b="0"/>
          <a:stretch/>
        </p:blipFill>
        <p:spPr>
          <a:xfrm>
            <a:off x="714240" y="3571920"/>
            <a:ext cx="35546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14200" y="362520"/>
            <a:ext cx="38926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7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 шариков делаю ябло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85840" y="536220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.Делаю шилом углубление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643120" y="1598400"/>
            <a:ext cx="50068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3" descr="C:\Documents and Settings\Admin\Рабочий стол\фото дерево из темта 2014\DSC04592.JPG"/>
          <p:cNvPicPr/>
          <p:nvPr/>
        </p:nvPicPr>
        <p:blipFill>
          <a:blip r:embed="rId2"/>
          <a:srcRect l="37875" t="0" r="4544" b="9654"/>
          <a:stretch/>
        </p:blipFill>
        <p:spPr>
          <a:xfrm>
            <a:off x="3429000" y="785880"/>
            <a:ext cx="4143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Выкладываю изделие из теста на противень и запекаю 5 минут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180324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После того, как изделия остынут, отделяю их от бумаги. Сушу 2-3 дня. Затем наклеиваю на подготовленную основ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39640" y="47242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осле высыхания изделие покрою лако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9" descr="C:\Documents and Settings\Admin\Рабочий стол\фото дерево из темта 2014\DSC04597.JPG"/>
          <p:cNvPicPr/>
          <p:nvPr/>
        </p:nvPicPr>
        <p:blipFill>
          <a:blip r:embed="rId2"/>
          <a:srcRect l="4923" t="0" r="0" b="0"/>
          <a:stretch/>
        </p:blipFill>
        <p:spPr>
          <a:xfrm>
            <a:off x="142920" y="1857240"/>
            <a:ext cx="3870360" cy="2786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C:\Documents and Settings\Admin\Рабочий стол\фото дерево из темта 2014\DSC04602.JPG"/>
          <p:cNvPicPr/>
          <p:nvPr/>
        </p:nvPicPr>
        <p:blipFill>
          <a:blip r:embed="rId3"/>
          <a:stretch/>
        </p:blipFill>
        <p:spPr>
          <a:xfrm>
            <a:off x="4214880" y="1785960"/>
            <a:ext cx="353844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4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4200" y="6426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СПАСИБО </a:t>
            </a: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ВНИМАНИЕ!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571760"/>
            <a:ext cx="8094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f1311"/>
                </a:solidFill>
                <a:latin typeface="Arial"/>
              </a:rPr>
              <a:t>За работу взялся я отважно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f1311"/>
                </a:solidFill>
                <a:latin typeface="Arial"/>
              </a:rPr>
              <a:t>Ловкие пальчики! Как это важно!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f1311"/>
                </a:solidFill>
                <a:latin typeface="Arial"/>
              </a:rPr>
              <a:t>Не думал, что столько поделок отличных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f1311"/>
                </a:solidFill>
                <a:latin typeface="Arial"/>
              </a:rPr>
              <a:t>Выйдет из солёного теста обычного.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48:54Z</dcterms:created>
  <dc:creator>Паша</dc:creator>
  <dc:description/>
  <dc:language>en-US</dc:language>
  <cp:lastModifiedBy>Admin</cp:lastModifiedBy>
  <dcterms:modified xsi:type="dcterms:W3CDTF">2018-07-18T10:43:06Z</dcterms:modified>
  <cp:revision>46</cp:revision>
  <dc:subject/>
  <dc:title>Модульные изделия</dc:title>
</cp:coreProperties>
</file>