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6C18-E741-43CA-B0FE-6FF1BF87D2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0685-C20B-4FE7-AFE5-257ADC7ACA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5708-DA2D-447E-8152-0E95B2FC88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112E-237C-4514-B5D1-0BBBD3DC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3743-ABC1-4803-B724-79A79637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8262-095C-47DC-9877-51936BB1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36FF-737B-4E9C-818A-3CB6C7367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FA05-EBA9-42E6-A020-4777F71E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2C6F-922D-4FFB-970A-809E6EB4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830D-DBBF-46E9-8775-CA7787D2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D915-8CD9-455C-B7C6-6AB50391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6D09-E69A-44B6-9958-B1F77A3B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47EC-95F4-4DA0-A7FC-8A5F3AAF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C9C6-36C1-47C9-9A85-BBC33B9E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7DFA-FE4F-47D9-90A0-D628F6F2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0B6C-F4AE-4059-AD89-F23355E60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31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Басня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И.А. Крылова. </a:t>
            </a:r>
            <a:br>
              <a:rPr sz="7200"/>
            </a:br>
            <a:r>
              <a:rPr b="1" lang="en-US" sz="7200" spc="-1" strike="noStrike">
                <a:solidFill>
                  <a:srgbClr val="cc0000"/>
                </a:solidFill>
                <a:latin typeface="Arial"/>
              </a:rPr>
              <a:t>"Два мальчика"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Увековечение имени</a:t>
            </a:r>
            <a:br>
              <a:rPr sz="36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507520" cy="521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онета ЦБ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анкт-Петербурге есть переулок Крыл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Липецке есть улица Крыл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г. Нижний Новгород есть улица Крыл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г. Тверь есть улица Крыл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г. Бобруйске есть улица Крыл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г. Йошкар-Ола есть улица Крыл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г. Харьков(Украина) есть улица Крыл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г. Саранск есть улица Крыл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. Сургут (ХМАО-Югра)есть улица Кры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г. Караганда есть улица Крыл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г. Гуково есть улица Крыл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г. Усть-Каменогорск есть улица Крыл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г. Казань есть улица Кры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436640"/>
            <a:ext cx="8261280" cy="2135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анкт-Петербурге сооружен памятник Крылову. На каждой стороне высокого постамента, на котором разместился памятник, – барельефные изображения персонажей наиболее известных басен Крылова.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амятник был возведён на деньги, которые собрали по всей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Содержимое 6" descr="4.jpg"/>
          <p:cNvPicPr/>
          <p:nvPr/>
        </p:nvPicPr>
        <p:blipFill>
          <a:blip r:embed="rId1"/>
          <a:stretch/>
        </p:blipFill>
        <p:spPr>
          <a:xfrm>
            <a:off x="4572000" y="285840"/>
            <a:ext cx="3833640" cy="4186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Letn_sad_po04c_www"/>
          <p:cNvPicPr/>
          <p:nvPr/>
        </p:nvPicPr>
        <p:blipFill>
          <a:blip r:embed="rId2"/>
          <a:stretch/>
        </p:blipFill>
        <p:spPr>
          <a:xfrm>
            <a:off x="539640" y="1125360"/>
            <a:ext cx="3571920" cy="269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4437000"/>
            <a:ext cx="561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ЗАПОМ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памят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И. А. Крылову и его героя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Бес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71380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Какова основная цель басни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Какие способы используют авторы басен для достижения своей цели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Вспомните признаки, которые характерны для басни как жанра эпос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Какие из басен вам знакомы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 rot="1023000">
            <a:off x="-2413080" y="620280"/>
            <a:ext cx="26575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74f9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Проверим себя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Какова основная цель басни?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Посмеяться над забавными героями, рассказать о своих переживаниях, указать на пороки люд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Какие способы используют авторы басен для достижения своей цели?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Обобщённые образы, которые являются носителями определённых пороков, недостатко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Признаки, которые характерны для басни как жанра эпоса (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Нравоучительное или сатирическое содержани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аллегория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чаще в стихотворной форме, часто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диалог, зачин и повторы, морал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Какие из басен вам знаком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Monotype Corsiva"/>
              </a:rPr>
              <a:t>БАСНЯ </a:t>
            </a:r>
            <a:r>
              <a:rPr b="1" lang="en-US" sz="4400" spc="-1" strike="noStrike">
                <a:solidFill>
                  <a:srgbClr val="800000"/>
                </a:solidFill>
                <a:latin typeface="Monotype Corsiva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короткий, рассказ в стихах или прозе, с моральным выво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713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ГЕРО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юди    животные   растения предм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«Лжец»               «Свинья»                «Колос»                «Меш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ОСОБ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иносказание  нравоучение   с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аллегор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763640" y="2492280"/>
            <a:ext cx="2664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27640" y="2492280"/>
            <a:ext cx="25207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419640" y="2492280"/>
            <a:ext cx="1008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2492280"/>
            <a:ext cx="86508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124000" y="4869000"/>
            <a:ext cx="2376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3280" y="4869000"/>
            <a:ext cx="2665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869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692280"/>
            <a:ext cx="3494160" cy="4032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987640" y="494172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0" t="3742" r="0" b="5688"/>
          <a:stretch/>
        </p:blipFill>
        <p:spPr>
          <a:xfrm>
            <a:off x="4211640" y="692280"/>
            <a:ext cx="4226040" cy="5689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0920" y="5373720"/>
            <a:ext cx="6192720" cy="1373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ПОРОК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тяжёлый предосудительный недостаток, позорящее свойство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Monotype Corsiva"/>
              </a:rPr>
              <a:t>«Люблю, где случай есть, пороки пощипать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 rot="5400000">
            <a:off x="914040" y="3270240"/>
            <a:ext cx="568944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РЕШИТЕ ЗАДАЧУ№1</a:t>
            </a:r>
            <a:endParaRPr b="0" lang="en-US" sz="1800" spc="1" strike="noStrike">
              <a:ln w="12600">
                <a:solidFill>
                  <a:srgbClr val="009999"/>
                </a:solidFill>
                <a:miter/>
              </a:ln>
              <a:solidFill>
                <a:srgbClr val="009999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 rot="5400000">
            <a:off x="5918040" y="3162240"/>
            <a:ext cx="56167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РЕШИТЕ ЗАДАЧУ№2</a:t>
            </a:r>
            <a:endParaRPr b="0" lang="en-US" sz="1800" spc="1" strike="noStrike">
              <a:ln w="12600">
                <a:solidFill>
                  <a:srgbClr val="009999"/>
                </a:solidFill>
                <a:miter/>
              </a:ln>
              <a:solidFill>
                <a:srgbClr val="009999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разительное чтение басни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«Два мальчика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и её анализ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 чём говорится в этой бас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Почему Сеня решил, что им не удастся добыть каштан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Кто из мальчиков придумал, как добыть кашта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Какое решение приняли мальчики? Прав ли был Фед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Как повёл себя Федя, оказавшись на дерев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Почему Федя не вспомнил о своём приятеле, оказавшись на дерев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О чём говорится в этой басне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 мальчика-одноклассника решили залезть на дерево и набрать себе каштанов. Придумал эту затею Федя. Мы видим, что он изобретателен и находчив, решителен и предприимчив. И сначала он нравится своей смелостью и энергией. Но потом наше отношение к мальчику меняется. Мы видим его жадность, стремление заботиться только о себе. Он думает, как добыть что-то себе, и ему безразличен товарищ, без которого он не смог бы получить плоды. Плохой товарищ и жадный человек потерял наше уважение своими поступкам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ня  пострадал от жадности и предприимчивости своего товарища, и мы ему сочувствуем. Так, скромный, добрый, доверчивый, наивный и нерешительный Сенюша вызывает нашу симпатию, а хитрый Федя перестает нам нравитьс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74f9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ff"/>
                </a:solidFill>
                <a:latin typeface="Arial"/>
              </a:rPr>
              <a:t>Выполним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Какими показывает автор своих героев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Есть ли в басне авторская оценка мальчиков? Чтобы ответить на этот вопрос ещё раз прочитаем басню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896472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9752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91520" cy="863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en-US" sz="5400" spc="-1" strike="noStrike">
                <a:solidFill>
                  <a:srgbClr val="cc00ff"/>
                </a:solidFill>
                <a:latin typeface="Arial"/>
              </a:rPr>
              <a:t>Проверим себя!!!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Какими показывает автор своих героев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(Мальчики разные. Федя не очень-то люби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учиться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Он бойкий, решительный, изобретательный, ловкий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Сеня робкий, рассудительный, нерешительный, доверчивый, наивный, он помогает товарищ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Есть ли в басне авторская оценк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м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альчиков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(Она в морали, см. конец басни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8560" y="448920"/>
            <a:ext cx="8605800" cy="62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Придумайте рассказы о том, как мальчики собирали каштаны, от лица Феди и от лица Сенюши. Могут ли ваши рассказы быть одинаковыми? Что, как вы думаете, будет их отличать?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Один ученик рассказал от имени Феди о сборе каштанов та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Во время перерыва я сообразил, что можно добыть себе каштанов. Для этого нужно было залезть на дерево. Я это сделал и наелся каштанов вволю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каз от лица Сени  может выглядеть так: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ене  было обидно, что не удалось попробовать каштанов, и при этом выяснилось: Федя — плохой товарищ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373960" cy="1366920"/>
          </a:xfrm>
          <a:prstGeom prst="rect">
            <a:avLst/>
          </a:prstGeom>
          <a:solidFill>
            <a:srgbClr val="74f9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4. Как вы думаете, какой диалог мог бы произойти между мальчиками, когда Федя, сытый и довольный, слез с каштана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5690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Можно выбрать один из вариантов отв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В первом случа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Сеня был обижен, и он мог просто не разговаривать с Фе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Второй вариан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Сеня высказал однокласснику свою обиду.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«Почему ты не принес и мне немного каштанов?», «Где же те каштаны, которые ты сорвал для меня?», «Как тебе не стыдно спускаться с каштана с пустыми руками!».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ff"/>
                </a:solidFill>
                <a:latin typeface="Arial"/>
              </a:rPr>
              <a:t>Подумаем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вы поняли мораль басни? Имеет ли она отношение к вашей школьной жизн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Arial"/>
              </a:rPr>
              <a:t>Проверь себя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сня осуждает эгоизм, стремление использовать чужой труд себе в пользу и не ответить на это благодарностью, осуждает жадность, то есть те качества, которые делают человека плохим товарищем.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енюш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страдал от жадности и предприимчивости своего товарища, и мы ему сочувствуем. Так, скромный, добрый, доверчивый, наивный и нерешительный Сенюша вызывает нашу симпатию, а хитрый Федя перестает нам нравиться.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МОРАЛ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омог человеку, не жди ,что он тебя отблагодарит. Есть люди,  которые думаю только о себе.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- Как вы думаете, это мораль относится только к детям?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18440" cy="720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Arial"/>
              </a:rPr>
              <a:t>Проверь себя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40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ак вы понимаете мораль бас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Баснописец осуждает таких мальчиков, как Федя, которые эгоистически пользуются дружеской помощ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ак вы думаете, это мораль относится только к детя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(Мораль относится ко всем людя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Это подчеркивается множественным числом имени, которое  приобретает  нарицательный смысл –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Федюши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Может быть, мораль относится в первую очередь к детям, чтобы передать опыт, предостеречь их от излишней доверчивости, показать нелепость подчинения чужой вол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569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Описание иллюстрации Е.М. Бё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. Описание иллюстрации Е.М. Бёма к басне И.А. Крылова </a:t>
            </a: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«Два мальчика»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(цветная вклейка, стр. 160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Arial"/>
              </a:rPr>
              <a:t>Домашнее зада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Выразитльное чтение басни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«Волк и Ягнёнок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тветы на вопросы стр. 6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Цели уро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ширить представления о  баснописце и жанре басн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развивать способность размышлять над нравственными вопроса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развивать навыки анализа текста, описывания  иллюстрации; составления тезис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воспитывать интерес к басне, способствовать воспитанию в учениках чувство справедливости, жалости к слабому и беззащитно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1"/>
          <a:stretch/>
        </p:blipFill>
        <p:spPr>
          <a:xfrm>
            <a:off x="781200" y="5522760"/>
            <a:ext cx="3797280" cy="8416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1 сл Крылов.jpg"/>
          <p:cNvPicPr/>
          <p:nvPr/>
        </p:nvPicPr>
        <p:blipFill>
          <a:blip r:embed="rId2"/>
          <a:stretch/>
        </p:blipFill>
        <p:spPr>
          <a:xfrm>
            <a:off x="179280" y="1341360"/>
            <a:ext cx="3754440" cy="42069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7"/>
          <p:cNvSpPr/>
          <p:nvPr/>
        </p:nvSpPr>
        <p:spPr>
          <a:xfrm>
            <a:off x="4500720" y="1700280"/>
            <a:ext cx="3786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Родился в Москве в семье бедного капитана. Образование получил скудное. Но обладал исключительным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пособностями, много читал с дет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8"/>
          <p:cNvSpPr/>
          <p:nvPr/>
        </p:nvSpPr>
        <p:spPr>
          <a:xfrm>
            <a:off x="3995640" y="1714680"/>
            <a:ext cx="4148280" cy="2653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астойчиво и упорно занимаясь самообразованием, он стал одним из самых просвещенных людей своего вр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928800" y="571680"/>
            <a:ext cx="753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entury"/>
              </a:rPr>
              <a:t>Крылов Иван Андрее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7"/>
          <p:cNvSpPr/>
          <p:nvPr/>
        </p:nvSpPr>
        <p:spPr>
          <a:xfrm>
            <a:off x="857160" y="928800"/>
            <a:ext cx="3714840" cy="3629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чился с детьми помещика, у которого прислуживал лакеем. Сам овладел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французским, немецким, итальянским языками. Увлекался математикой и  литературой, рисовал и играл на скрип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Users\Мила\Desktop\456px-Roman_Maximovich_Volkov_-_Ivan_Krylov.jpg"/>
          <p:cNvPicPr/>
          <p:nvPr/>
        </p:nvPicPr>
        <p:blipFill>
          <a:blip r:embed="rId1"/>
          <a:stretch/>
        </p:blipFill>
        <p:spPr>
          <a:xfrm>
            <a:off x="5504040" y="1197000"/>
            <a:ext cx="3474720" cy="453852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0"/>
          <p:cNvSpPr/>
          <p:nvPr/>
        </p:nvSpPr>
        <p:spPr>
          <a:xfrm>
            <a:off x="324000" y="404640"/>
            <a:ext cx="4968720" cy="3506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11 лет написал первую басню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Но баснописцем стал позже… 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К 20 годам Иван Крылов был известен как драматург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 1789 г. издает сатирические журналы, пишет трагедии и комед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25992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молодости Крылов был известен прежде всего как писатель-сатирик, издатель сатирического журнала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«Почта духов»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Крылов является автором более 200 басе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с 1809 по 1843 год, они вышли в свет в девяти частях и переиздавались очень большими по тем временам тиражам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0"/>
            <a:ext cx="685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нтересные фа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-то Крылов, дома, съев восемь пирожков, был поражён их дурным вкусом. Открыв кастрюлю, увидел, что она вся зелёная от плесени. Но решил, коли жив — можно доесть ещё и оставшиеся восемь пирожков в кастрю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 диваном в доме у Крылова висела «на честном слове» здоровая картина. Друзья просили его вбить ещё пару гвоздей, чтобы она не упала и не разбила ему голову. На это он отвечал, что всё рассчитал: картина будет падать по касательной и его не заде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жды, на обеде у царицы, Крылов сел за стол, и, не здороваясь, начал есть. Жуковский, удивлённо закричал: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«Прекрати, пусть царица тебя хотя бы попотчует.» «А вдруг не попотчует?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 испугался Кры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жды  на прогулке Иван Андреевич встретил молодёжь, и один из этой компании решил подшутить над телосложением писателя 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(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н его, скорее всего не знал) и сказал: «Смотрите! Какая туча идёт!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 Крылов  посмотрел на небо и добавил саркастично: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«Да, и вправду дождик собирается. То-то лягушки расквакалис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Users\1\Pictures\122px-Rus_Stamp-Krylov-1969.jpg"/>
          <p:cNvPicPr/>
          <p:nvPr/>
        </p:nvPicPr>
        <p:blipFill>
          <a:blip r:embed="rId1"/>
          <a:stretch/>
        </p:blipFill>
        <p:spPr>
          <a:xfrm>
            <a:off x="6826320" y="214200"/>
            <a:ext cx="2152440" cy="3000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1\Pictures\220px-Krylov_Grave_Summer.jpg"/>
          <p:cNvPicPr/>
          <p:nvPr/>
        </p:nvPicPr>
        <p:blipFill>
          <a:blip r:embed="rId2"/>
          <a:stretch/>
        </p:blipFill>
        <p:spPr>
          <a:xfrm>
            <a:off x="6813720" y="3571920"/>
            <a:ext cx="20905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-360" y="0"/>
            <a:ext cx="6659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следние г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нце жизни Крылов был обласкан властью. Имел чин статского советника, шеститысячный панси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ылов жил долго и своим привычкам не изменял ни в чём. В конце концов сжился с ролью добродушного чудака и  обжоры. Придуманный им образ пришёлся ко двору, и в конце жизни он мог позволить себе всё, что уго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се считали, что Крылов умер от заворота кишок вследствие переедания, а на самом деле — от двухстороннего воспаления лёгк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охороны были пышными. Граф Орлов — второй человек в государстве — отстранил одного из студентов и сам нёс гроб до дро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1\Pictures\230px-Krylov_summer_garden.jpg"/>
          <p:cNvPicPr/>
          <p:nvPr/>
        </p:nvPicPr>
        <p:blipFill>
          <a:blip r:embed="rId1"/>
          <a:stretch/>
        </p:blipFill>
        <p:spPr>
          <a:xfrm>
            <a:off x="6627960" y="333360"/>
            <a:ext cx="2516040" cy="3357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Users\1\Pictures\200px-RR5110-0002R.gif"/>
          <p:cNvPicPr/>
          <p:nvPr/>
        </p:nvPicPr>
        <p:blipFill>
          <a:blip r:embed="rId2"/>
          <a:stretch/>
        </p:blipFill>
        <p:spPr>
          <a:xfrm>
            <a:off x="6392880" y="3857760"/>
            <a:ext cx="25131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Monotype Corsiva"/>
              </a:rPr>
              <a:t>БАСНИ И. А. КРЫ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 rot="1023000">
            <a:off x="5940000" y="1628280"/>
            <a:ext cx="2657520" cy="4105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 rot="20074800">
            <a:off x="755280" y="1628640"/>
            <a:ext cx="2523960" cy="3949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987640" y="1125360"/>
            <a:ext cx="3146400" cy="4248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5516640"/>
            <a:ext cx="9144000" cy="19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Monotype Corsiva"/>
              </a:rPr>
              <a:t>«Басни Крылова … мудрость самого народа»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                                            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Н. В. Гого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24T13:16:31Z</dcterms:created>
  <dc:creator>админ</dc:creator>
  <dc:description/>
  <dc:language>en-US</dc:language>
  <cp:lastModifiedBy>админ</cp:lastModifiedBy>
  <dcterms:modified xsi:type="dcterms:W3CDTF">2018-07-19T08:11:13Z</dcterms:modified>
  <cp:revision>25</cp:revision>
  <dc:subject/>
  <dc:title>Басни  И.А. Крылова.  "Два мальчика"</dc:title>
</cp:coreProperties>
</file>