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63C3-F03B-4499-85A8-7228F1D4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CC3B-6DFA-4427-A9D6-72A75825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C79-4AE9-45CB-A9CA-70224CE4D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9E6C-4115-4840-9803-B2A30EE0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CBAD-7E65-4DCE-BD17-0C4DE26C2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CF75-1472-4412-932A-DF44A8F5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91F4-73A0-4DDE-9090-6E2C5C3E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3825-0EB2-4555-9E7B-5F0374396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1BC9-C03D-41F2-B720-67567DB1E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D094-84FC-48F2-A799-420F9693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46AB-4679-46C9-BCBC-7AA05BA3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AB02-3169-40B5-912A-7CE502C72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557A-D131-41E2-A785-BDF6B85C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D4BDA-F262-40C8-914B-AA0BC45C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E3CF6-6140-4F4D-8CA9-EF0B00A9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C0DA-1A78-43D4-8403-1062574F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CD80A-9B37-4910-8E12-071D8135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519A-82C5-4A42-829A-CD156C91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B6D0-5D75-4C3B-A2D3-7A411265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F56F-FA39-4249-9314-2A8FF3705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104F-740E-4C52-9B6C-8F2050E7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4D38-4CE4-4FD0-860C-D29EA217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562D-58A2-48A4-BD73-3419A641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C339-6E27-43FA-80EC-C4D19858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6984-E741-49F0-959C-42D2C66AE49D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6FFFF-CCFE-4C2D-8EF5-2E59816C7C6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Презентация для детей</a:t>
            </a:r>
            <a:br>
              <a:rPr sz="4400"/>
            </a:b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«Грибы»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Составила воспитатель ГБДОУ д/с 19 Красногвардейского района – Цензор О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914400" y="522360"/>
            <a:ext cx="77724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914400" y="531720"/>
            <a:ext cx="77724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14400" y="534960"/>
            <a:ext cx="77724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14400" y="527040"/>
            <a:ext cx="777240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14400" y="534960"/>
            <a:ext cx="77724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914400" y="531720"/>
            <a:ext cx="77724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531720"/>
            <a:ext cx="77724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14400" y="534960"/>
            <a:ext cx="77724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914400" y="531720"/>
            <a:ext cx="7772400" cy="53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23T20:56:09Z</dcterms:created>
  <dc:creator>user</dc:creator>
  <dc:description/>
  <dc:language>en-US</dc:language>
  <cp:lastModifiedBy>user</cp:lastModifiedBy>
  <dcterms:modified xsi:type="dcterms:W3CDTF">2017-07-23T21:03:2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