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AEDB-9716-4F3F-B02F-EAE6AD11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090C-D78A-44F2-A98A-75448B58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2B69-1837-497E-BEDA-191B2E8B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AEE-BA7D-460B-BD6D-0C2FFEEA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CB8B-A9B5-404C-9A93-05C14B28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A5AC7-155A-4DF1-9DD2-9F145B61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DBBD-991C-4791-82E9-A718B996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3770-8787-43EC-BB72-5A5C4BE12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C63D-D905-4BF4-B139-FA271BBB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3DE5-4D05-49A8-8044-78074DE2F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90BF0-5F3D-462F-921A-2F511CEC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9323-A8A0-4A82-8F51-44FD4C95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3241-FD15-42E3-86F4-5566F14A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C215-12CD-427E-9A37-A7110778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46F1-82C8-4D47-BB76-62909E6F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04F4-BD48-47CC-9B21-F3B62D516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14C1-1B6A-48DB-872B-DFF6A934A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66F6-347C-413E-91DD-EDDBAB967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C0B-2245-4CF7-9D4B-DBF5A6BA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7F7F-3210-4579-8D86-2A9886794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CBD2-F1F7-45A8-ACB6-D732CD70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7002-6245-4CD7-A110-AE9CBEE1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087E-78C5-4D96-8EEF-7A831EAB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0335-BB9A-4863-93EF-4D463AB3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D44A-6780-4BA6-A96E-54C8CD96AE7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C41B-BD7F-443C-B666-704ED2B43CC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Презентация для детей</a:t>
            </a:r>
            <a:br>
              <a:rPr sz="4400"/>
            </a:b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«Грибы»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оставила воспитатель ГБДОУ д/с 19 Красногвардейского района – Цензор О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522360"/>
            <a:ext cx="77724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531720"/>
            <a:ext cx="77724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534960"/>
            <a:ext cx="777240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527040"/>
            <a:ext cx="77724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534960"/>
            <a:ext cx="777240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14400" y="531720"/>
            <a:ext cx="77724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531720"/>
            <a:ext cx="77724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534960"/>
            <a:ext cx="777240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531720"/>
            <a:ext cx="77724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23T20:56:09Z</dcterms:created>
  <dc:creator>user</dc:creator>
  <dc:description/>
  <dc:language>en-US</dc:language>
  <cp:lastModifiedBy>user</cp:lastModifiedBy>
  <dcterms:modified xsi:type="dcterms:W3CDTF">2017-07-23T21:03:2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