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F318-963B-4DD0-81B7-552374F1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9912-C005-4FAE-948B-5B2847708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9083-95B5-44B8-8B4F-93C8DA3A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5557-6395-441D-A586-BCC11237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27A-9721-48EE-BAA3-3DCDC7B1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14A4-F670-4B6A-835C-02FDDB70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74DF5-3960-438C-BEB7-FF691FAD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C40F-3E28-4F1A-851E-83B66ABF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70DA-86C4-4F2B-AB20-2ADFB88B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4DAA-A045-4ABD-8105-D62DAB07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9E81-3E6D-420C-9462-1BE798EC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C6C0-2722-4FFF-8662-90EB4AA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DD4A3-C8DE-48FF-8DED-046CCFCD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4D88-EF48-4923-8690-2677B727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65D7-562D-49D6-8962-5FE60D8E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0321-AE9B-4BDD-B208-7D9B903F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9095-CE20-4B28-8A2C-A138530E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CB4A-4C00-423F-9ABC-E0D66B413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FF5E-FF30-4CFF-B64F-0E356E42A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B5874-ADFC-4358-A194-8B3647AD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CE2C9-CC5D-4B97-9BB5-FF2F9DB1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A8647-FA8F-4481-B89B-83B97FC3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4079-7A68-44BD-A09F-EFEE6BAC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4B2FF-0D38-4D54-A6FA-F319327C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E0C58-1085-455B-B3B3-26078A59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73489-053D-4AD5-B7B0-F9C963C5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18F6-58EF-40D7-BAA2-C3951C07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CC3D9-0F17-4536-8E3E-6EF859BE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4CDD5-5A49-476D-B97C-014A8CAD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42A5-5E10-4209-948A-42F13B0BB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5AC286-1A27-407F-B768-2DEF19202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400870-2154-4638-B6EB-3283C578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1710EE-FFD7-461E-A079-748ECCC9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3317-F1F8-461F-AE77-C33C54E0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EF99C1-E938-4ECD-B0D0-E78CDAEF3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3A9C51-AEE9-4E6A-B6B9-7498C78BF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A8BD2-A342-4FE6-BA28-8A148D11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A447FC-A2DF-487D-BDC7-8F20270F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196BE7-BC40-4F99-9DC5-45CFA654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FA7E91-0C10-47F3-8351-0BCD6664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60223-438B-44FE-A427-B6E035F2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6C2507-762B-434C-8583-B831D883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BD2C0-2EBE-4D7F-B562-4D7BEEB0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4EEA-1B70-419E-A1B8-7990B679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DB1-404E-4F4A-8B78-2817C0DA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993-1C20-4CE6-9BDF-7DDA824F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5CD7-C3AD-4E73-A26B-BCDB3205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F452-4A78-4F4A-B86E-69A9FF7A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>
                <a:gd name="textAreaLeft" fmla="*/ 0 w 3991680"/>
                <a:gd name="textAreaRight" fmla="*/ 3992040 w 3991680"/>
                <a:gd name="textAreaTop" fmla="*/ 0 h 3126240"/>
                <a:gd name="textAreaBottom" fmla="*/ 3126600 h 312624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>
                <a:gd name="textAreaLeft" fmla="*/ 0 w 3351960"/>
                <a:gd name="textAreaRight" fmla="*/ 3352320 w 3351960"/>
                <a:gd name="textAreaTop" fmla="*/ 0 h 2545560"/>
                <a:gd name="textAreaBottom" fmla="*/ 2545920 h 254556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>
                <a:gd name="textAreaLeft" fmla="*/ 0 w 5821920"/>
                <a:gd name="textAreaRight" fmla="*/ 5821920 w 582192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>
                <a:gd name="textAreaLeft" fmla="*/ 0 w 4079160"/>
                <a:gd name="textAreaRight" fmla="*/ 4079520 w 4079160"/>
                <a:gd name="textAreaTop" fmla="*/ 0 h 3596400"/>
                <a:gd name="textAreaBottom" fmla="*/ 3596760 h 359640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2393280"/>
                <a:gd name="textAreaBottom" fmla="*/ 2393280 h 239328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279080"/>
                <a:gd name="textAreaBottom" fmla="*/ 1279440 h 12790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>
                <a:gd name="textAreaLeft" fmla="*/ 0 w 5050440"/>
                <a:gd name="textAreaRight" fmla="*/ 5050800 w 50504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>
                <a:gd name="textAreaLeft" fmla="*/ 0 w 5059800"/>
                <a:gd name="textAreaRight" fmla="*/ 5060160 w 505980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>
                <a:gd name="textAreaLeft" fmla="*/ 0 w 3402720"/>
                <a:gd name="textAreaRight" fmla="*/ 3403080 w 3402720"/>
                <a:gd name="textAreaTop" fmla="*/ 0 h 2835720"/>
                <a:gd name="textAreaBottom" fmla="*/ 2836080 h 283572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>
                <a:gd name="textAreaLeft" fmla="*/ 0 w 4488840"/>
                <a:gd name="textAreaRight" fmla="*/ 4489200 w 4488840"/>
                <a:gd name="textAreaTop" fmla="*/ 0 h 3754800"/>
                <a:gd name="textAreaBottom" fmla="*/ 3755160 h 37548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>
                <a:gd name="textAreaLeft" fmla="*/ 0 w 3431520"/>
                <a:gd name="textAreaRight" fmla="*/ 3431880 w 3431520"/>
                <a:gd name="textAreaTop" fmla="*/ 0 h 3069000"/>
                <a:gd name="textAreaBottom" fmla="*/ 3069360 h 30690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6C5802-83BE-453B-A140-E9C17A6C3BF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>
                <a:gd name="textAreaLeft" fmla="*/ 0 w 3991680"/>
                <a:gd name="textAreaRight" fmla="*/ 3992040 w 3991680"/>
                <a:gd name="textAreaTop" fmla="*/ 0 h 3126240"/>
                <a:gd name="textAreaBottom" fmla="*/ 3126600 h 312624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>
                <a:gd name="textAreaLeft" fmla="*/ 0 w 3351960"/>
                <a:gd name="textAreaRight" fmla="*/ 3352320 w 3351960"/>
                <a:gd name="textAreaTop" fmla="*/ 0 h 2545560"/>
                <a:gd name="textAreaBottom" fmla="*/ 2545920 h 254556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>
                <a:gd name="textAreaLeft" fmla="*/ 0 w 5821920"/>
                <a:gd name="textAreaRight" fmla="*/ 5821920 w 582192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>
                <a:gd name="textAreaLeft" fmla="*/ 0 w 4079160"/>
                <a:gd name="textAreaRight" fmla="*/ 4079520 w 4079160"/>
                <a:gd name="textAreaTop" fmla="*/ 0 h 3596400"/>
                <a:gd name="textAreaBottom" fmla="*/ 3596760 h 359640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2393280"/>
                <a:gd name="textAreaBottom" fmla="*/ 2393280 h 239328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279080"/>
                <a:gd name="textAreaBottom" fmla="*/ 1279440 h 12790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>
                <a:gd name="textAreaLeft" fmla="*/ 0 w 5050440"/>
                <a:gd name="textAreaRight" fmla="*/ 5050800 w 50504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>
                <a:gd name="textAreaLeft" fmla="*/ 0 w 5059800"/>
                <a:gd name="textAreaRight" fmla="*/ 5060160 w 505980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>
                <a:gd name="textAreaLeft" fmla="*/ 0 w 3402720"/>
                <a:gd name="textAreaRight" fmla="*/ 3403080 w 3402720"/>
                <a:gd name="textAreaTop" fmla="*/ 0 h 2835720"/>
                <a:gd name="textAreaBottom" fmla="*/ 2836080 h 283572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>
                <a:gd name="textAreaLeft" fmla="*/ 0 w 4488840"/>
                <a:gd name="textAreaRight" fmla="*/ 4489200 w 4488840"/>
                <a:gd name="textAreaTop" fmla="*/ 0 h 3754800"/>
                <a:gd name="textAreaBottom" fmla="*/ 3755160 h 37548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>
                <a:gd name="textAreaLeft" fmla="*/ 0 w 3431520"/>
                <a:gd name="textAreaRight" fmla="*/ 3431880 w 3431520"/>
                <a:gd name="textAreaTop" fmla="*/ 0 h 3069000"/>
                <a:gd name="textAreaBottom" fmla="*/ 3069360 h 30690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5EDCF3-6FAD-4AAF-BDE6-D8017F7DA06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0" y="0"/>
            <a:ext cx="9142560" cy="6856200"/>
            <a:chOff x="0" y="0"/>
            <a:chExt cx="9142560" cy="6856200"/>
          </a:xfrm>
        </p:grpSpPr>
        <p:sp>
          <p:nvSpPr>
            <p:cNvPr id="121" name="Freeform 2"/>
            <p:cNvSpPr/>
            <p:nvPr/>
          </p:nvSpPr>
          <p:spPr>
            <a:xfrm>
              <a:off x="0" y="4875840"/>
              <a:ext cx="9142560" cy="19803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"/>
            <p:cNvSpPr/>
            <p:nvPr/>
          </p:nvSpPr>
          <p:spPr>
            <a:xfrm>
              <a:off x="0" y="0"/>
              <a:ext cx="9142560" cy="4875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840"/>
                <a:gd name="textAreaBottom" fmla="*/ 4876200 h 487584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0" y="6019920"/>
            <a:ext cx="7846560" cy="855360"/>
            <a:chOff x="0" y="6019920"/>
            <a:chExt cx="7846560" cy="855360"/>
          </a:xfrm>
        </p:grpSpPr>
        <p:sp>
          <p:nvSpPr>
            <p:cNvPr id="125" name="Freeform 6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7"/>
            <p:cNvGrpSpPr/>
            <p:nvPr/>
          </p:nvGrpSpPr>
          <p:grpSpPr>
            <a:xfrm>
              <a:off x="3946680" y="6019920"/>
              <a:ext cx="3899880" cy="855360"/>
              <a:chOff x="3946680" y="6019920"/>
              <a:chExt cx="3899880" cy="855360"/>
            </a:xfrm>
          </p:grpSpPr>
          <p:sp>
            <p:nvSpPr>
              <p:cNvPr id="127" name="Freeform 8"/>
              <p:cNvSpPr/>
              <p:nvPr/>
            </p:nvSpPr>
            <p:spPr>
              <a:xfrm>
                <a:off x="6266520" y="6030720"/>
                <a:ext cx="1580040" cy="844560"/>
              </a:xfrm>
              <a:custGeom>
                <a:avLst/>
                <a:gdLst>
                  <a:gd name="textAreaLeft" fmla="*/ 0 w 1580040"/>
                  <a:gd name="textAreaRight" fmla="*/ 1580400 w 158004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9"/>
              <p:cNvSpPr/>
              <p:nvPr/>
            </p:nvSpPr>
            <p:spPr>
              <a:xfrm>
                <a:off x="4249440" y="6019920"/>
                <a:ext cx="294840" cy="62604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6040"/>
                  <a:gd name="textAreaBottom" fmla="*/ 626400 h 62604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>
                <a:off x="4809240" y="6179760"/>
                <a:ext cx="599760" cy="42912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1"/>
              <p:cNvSpPr/>
              <p:nvPr/>
            </p:nvSpPr>
            <p:spPr>
              <a:xfrm>
                <a:off x="5758200" y="6136920"/>
                <a:ext cx="245880" cy="11700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946680" y="6125760"/>
                <a:ext cx="66240" cy="1281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134" name="Freeform 15"/>
            <p:cNvSpPr/>
            <p:nvPr/>
          </p:nvSpPr>
          <p:spPr>
            <a:xfrm>
              <a:off x="1898280" y="6021360"/>
              <a:ext cx="579240" cy="4608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3083760" y="6078240"/>
              <a:ext cx="3226320" cy="790560"/>
            </a:xfrm>
            <a:custGeom>
              <a:avLst/>
              <a:gdLst>
                <a:gd name="textAreaLeft" fmla="*/ 0 w 3226320"/>
                <a:gd name="textAreaRight" fmla="*/ 3226680 w 32263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904480" y="6068520"/>
              <a:ext cx="112320" cy="96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1356840" y="6098760"/>
              <a:ext cx="255240" cy="2595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1120320" y="6117840"/>
              <a:ext cx="93240" cy="96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627120" y="6049440"/>
              <a:ext cx="388440" cy="32796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CA3338-3899-415C-95FD-DC7F11737215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"/>
          <p:cNvGrpSpPr/>
          <p:nvPr/>
        </p:nvGrpSpPr>
        <p:grpSpPr>
          <a:xfrm>
            <a:off x="-6480" y="20520"/>
            <a:ext cx="9142560" cy="6856200"/>
            <a:chOff x="-6480" y="20520"/>
            <a:chExt cx="9142560" cy="6856200"/>
          </a:xfrm>
        </p:grpSpPr>
        <p:sp>
          <p:nvSpPr>
            <p:cNvPr id="182" name="Freeform 2"/>
            <p:cNvSpPr/>
            <p:nvPr/>
          </p:nvSpPr>
          <p:spPr>
            <a:xfrm>
              <a:off x="-6480" y="4896360"/>
              <a:ext cx="9142560" cy="19803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3"/>
            <p:cNvSpPr/>
            <p:nvPr/>
          </p:nvSpPr>
          <p:spPr>
            <a:xfrm>
              <a:off x="-6480" y="20520"/>
              <a:ext cx="9142560" cy="4875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840"/>
                <a:gd name="textAreaBottom" fmla="*/ 4876200 h 487584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Freeform 4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-1440" y="6033960"/>
            <a:ext cx="7843320" cy="849600"/>
            <a:chOff x="-1440" y="6033960"/>
            <a:chExt cx="7843320" cy="849600"/>
          </a:xfrm>
        </p:grpSpPr>
        <p:sp>
          <p:nvSpPr>
            <p:cNvPr id="186" name="Freeform 6"/>
            <p:cNvSpPr/>
            <p:nvPr/>
          </p:nvSpPr>
          <p:spPr>
            <a:xfrm>
              <a:off x="2360520" y="6033960"/>
              <a:ext cx="5143680" cy="849600"/>
            </a:xfrm>
            <a:custGeom>
              <a:avLst/>
              <a:gdLst>
                <a:gd name="textAreaLeft" fmla="*/ 0 w 5143680"/>
                <a:gd name="textAreaRight" fmla="*/ 5143680 w 514368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3944880" y="6033960"/>
              <a:ext cx="3897000" cy="847800"/>
              <a:chOff x="3944880" y="6033960"/>
              <a:chExt cx="3897000" cy="847800"/>
            </a:xfrm>
          </p:grpSpPr>
          <p:sp>
            <p:nvSpPr>
              <p:cNvPr id="188" name="Freeform 8"/>
              <p:cNvSpPr/>
              <p:nvPr/>
            </p:nvSpPr>
            <p:spPr>
              <a:xfrm>
                <a:off x="6264720" y="6044760"/>
                <a:ext cx="1577160" cy="837000"/>
              </a:xfrm>
              <a:custGeom>
                <a:avLst/>
                <a:gdLst>
                  <a:gd name="textAreaLeft" fmla="*/ 0 w 1577160"/>
                  <a:gd name="textAreaRight" fmla="*/ 1577520 w 1577160"/>
                  <a:gd name="textAreaTop" fmla="*/ 0 h 837000"/>
                  <a:gd name="textAreaBottom" fmla="*/ 837360 h 83700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9"/>
              <p:cNvSpPr/>
              <p:nvPr/>
            </p:nvSpPr>
            <p:spPr>
              <a:xfrm>
                <a:off x="4247640" y="6033960"/>
                <a:ext cx="295200" cy="6249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0"/>
              <p:cNvSpPr/>
              <p:nvPr/>
            </p:nvSpPr>
            <p:spPr>
              <a:xfrm>
                <a:off x="4808160" y="6193800"/>
                <a:ext cx="599760" cy="4284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1"/>
              <p:cNvSpPr/>
              <p:nvPr/>
            </p:nvSpPr>
            <p:spPr>
              <a:xfrm>
                <a:off x="5757120" y="6150960"/>
                <a:ext cx="245880" cy="1166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2"/>
              <p:cNvSpPr/>
              <p:nvPr/>
            </p:nvSpPr>
            <p:spPr>
              <a:xfrm>
                <a:off x="3944880" y="6139800"/>
                <a:ext cx="66240" cy="1278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Freeform 13"/>
            <p:cNvSpPr/>
            <p:nvPr/>
          </p:nvSpPr>
          <p:spPr>
            <a:xfrm>
              <a:off x="-1440" y="6033960"/>
              <a:ext cx="6311880" cy="84816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195" name="Freeform 15"/>
            <p:cNvSpPr/>
            <p:nvPr/>
          </p:nvSpPr>
          <p:spPr>
            <a:xfrm>
              <a:off x="1898280" y="6021360"/>
              <a:ext cx="579240" cy="4608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3083760" y="6078240"/>
              <a:ext cx="3226320" cy="790560"/>
            </a:xfrm>
            <a:custGeom>
              <a:avLst/>
              <a:gdLst>
                <a:gd name="textAreaLeft" fmla="*/ 0 w 3226320"/>
                <a:gd name="textAreaRight" fmla="*/ 3226680 w 32263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2904480" y="6068520"/>
              <a:ext cx="112320" cy="96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1356840" y="6098760"/>
              <a:ext cx="255240" cy="2595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1120320" y="6117840"/>
              <a:ext cx="93240" cy="96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627120" y="6049440"/>
              <a:ext cx="388440" cy="32796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31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930B06-B69E-4CBA-A302-6F07F776BE28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186920"/>
            <a:ext cx="777096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нновации в обучении связанные с подготовкой проектов учеников по предмету.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1619280" y="4680000"/>
            <a:ext cx="64008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Хотим всё знат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9280" y="179280"/>
            <a:ext cx="82263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ловиями успешности проектной деятельности являю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четкость и конкретность постановки цели проек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определение планируемых результа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констатация исходных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859280" y="360036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81000"/>
            <a:ext cx="8224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;sans-serif"/>
                <a:ea typeface="Lucida Sans Unicode"/>
              </a:rPr>
              <a:t>УМК «Школа России»</a:t>
            </a:r>
            <a:r>
              <a:rPr b="0" lang="ru-RU" sz="2000" spc="-1" strike="noStrike">
                <a:solidFill>
                  <a:srgbClr val="ffffff"/>
                </a:solidFill>
                <a:latin typeface="Helvetica;Arial"/>
                <a:ea typeface="Lucida Sans Unicode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;sans-serif"/>
                <a:ea typeface="Lucida Sans Unicode"/>
              </a:rPr>
              <a:t>(под редакцией А.А. Плешакова)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900000"/>
            <a:ext cx="822492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;sans-serif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Arial;sans-serif"/>
              </a:rPr>
              <a:t>Учебники комплекта ориентированы, прежде всего, на развитие у детей доброты, ответственности, способности сопереживать, готовности помогать друг другу. Обучение строится на основе постоянной поддержки творческого начала ученика, поэтому при организации работы предпочтение отдается проблемно-поисковому подход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4500720"/>
            <a:ext cx="822492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30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60480" y="4500720"/>
            <a:ext cx="3898800" cy="23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95440" y="1801440"/>
            <a:ext cx="82245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e3e3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sans-serif;Arial"/>
              </a:rPr>
              <a:t>Иннова́ция (англ. </a:t>
            </a:r>
            <a:r>
              <a:rPr b="1" i="1" lang="en-US" sz="2800" spc="-1" strike="noStrike">
                <a:solidFill>
                  <a:srgbClr val="feec94"/>
                </a:solidFill>
                <a:latin typeface="sans-serif;Arial"/>
              </a:rPr>
              <a:t>innovation</a:t>
            </a:r>
            <a:r>
              <a:rPr b="1" lang="en-US" sz="2800" spc="-1" strike="noStrike">
                <a:solidFill>
                  <a:srgbClr val="feec94"/>
                </a:solidFill>
                <a:latin typeface="sans-serif;Arial"/>
              </a:rPr>
              <a:t>) — это внедрённое новшество, обеспечивающее качественный рост эффективности процессов или продукции, востребованное рынком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0760" y="5580000"/>
            <a:ext cx="8589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ans-serif;Arial"/>
              </a:rPr>
              <a:t>Материал из Википедии — свободной энциклопед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899640"/>
            <a:ext cx="8228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ddb057"/>
                </a:solidFill>
                <a:latin typeface="Times New Roman"/>
              </a:rPr>
              <a:t>Цель образования состоит в том, чтобы заменить пустой ум открытым разумом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4680000"/>
            <a:ext cx="822816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112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кольм Форбо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3e3ff"/>
                </a:solidFill>
                <a:latin typeface="Arial CYR"/>
                <a:ea typeface="Arial CYR"/>
              </a:rPr>
              <a:t>Исследовательские проекты в практике обучения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89964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;sans-serif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;sans-serif"/>
              </a:rPr>
              <a:t>Сегодня образ выпускника школы становится ориентиром для проектирования процессов и условий получения образовательных результатов, главным инструментом развития школы и педагогического коллекти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;sans-serif"/>
              </a:rPr>
              <a:t>     У выпускника современной школы должны быть сформированы, готовность и способность творчески мыслить, находить нестандартные решения, проявлять инициативу, т.е. выпускник должен быть конкурентоспособным. Эти личностные качества определят инвестиционную привлекательность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1120" y="-17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Исследовательские проекты в практике обучения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Исследовательский проект как элемент творчества учащихся сегодня  рассматривается как органичная составная часть современных педагогических технологий. Введение в педагогические технологии элементов исследовательской деятельности учащихся позволяет педагогу не только и не столько учить, сколько помогать ребенку учиться,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CYR"/>
                <a:ea typeface="Arial CYR"/>
              </a:rPr>
              <a:t>направлять его познавательную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6840" y="178920"/>
            <a:ext cx="8226360" cy="64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Исследовательский проект учащегося может быть по содержанию монопредметным (выполняется на материале конкретного предмета), межпредметным (интегрируется смежная тематика нескольких предметов, например, история, литература и МХК); надпредметным (например, проект «Дом, в котором я хочу жить»), который выполняется в ходе факультативных занятий, изучения интегрированных курсов, работы в творческих мастерских. Проект может быть итоговым, когда по результатам его выполнения оценивается освоение учащимся определенного учебного материала, и текущим - в этом случае на самообразование и проектную деятельность из учебного курса выносится часть содержания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1079280"/>
            <a:ext cx="82263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Самым сложным моментом при введении в учебный процесс исследовательских проектов является организация этой деятельности, а особенно - подготовительный этап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80000" y="3600360"/>
            <a:ext cx="42591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6840" y="900000"/>
            <a:ext cx="822492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Учащийся должен иметь возможность выбрать тему проекта, организационную форму его выполнения (индивидуальный и групповой), оценить степень сложности проектировоч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959280" y="2879640"/>
            <a:ext cx="485928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3:34:08Z</dcterms:created>
  <dc:creator>Игрок</dc:creator>
  <dc:description/>
  <dc:language>en-US</dc:language>
  <cp:lastModifiedBy>RePack by SPecialiST</cp:lastModifiedBy>
  <dcterms:modified xsi:type="dcterms:W3CDTF">2018-07-19T10:19:59Z</dcterms:modified>
  <cp:revision>5</cp:revision>
  <dc:subject/>
  <dc:title>Всезнайка.</dc:title>
</cp:coreProperties>
</file>