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EC6B-4E68-4A6B-BBB9-24CB4DADF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489D-A98D-470B-B4E2-AD072C29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1E2D-38B4-42FE-9F2D-9E65486B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BE8A-EAC0-4BAC-9F65-29A1CF06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1462-9D66-4B59-B72B-9C9C9A98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B7CE-18A4-4C5A-B4B1-60D8AA2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8F8D-61C7-4EB3-B73C-1A45BE22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C4A54-6E39-4A95-AC6A-C26EE5C1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3A8D-36CF-444A-8222-605A4212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86AD-BAB9-4813-9D3F-BD6196BB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DAA49-3944-4E30-97ED-A431E736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5D6F-96DC-402D-8C60-3C3D77320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06CE-0489-4C67-A54D-8CBC5799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2199-76BE-445C-8DC4-9927AE24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81F2-F06D-4721-93EC-C29A8CEA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6E95B-F7C6-46F2-A8EC-3F3520E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1C97-DD3E-40B4-AAC9-6DAA85559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AEA42-2F79-4CF7-915E-8F8062AF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BCF34-1BFC-4EEF-83D6-969852DD4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203B-9258-4D21-A48B-CFFD15C3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200655-70BE-4E04-A355-D0715258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83F55-0E28-4420-A265-9C860F9C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E33-87B1-4AC1-B62C-12553C91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E752D-A637-479F-9C49-97577BA8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AAF281-1959-4788-83D6-134AEA24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2D53-B92A-4895-99B6-F897AA25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27759-19B0-4A16-A079-7143150B9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1663B-3A0C-43A5-AB1F-8D6C001CE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28423-BFDA-493E-8630-3C549DAF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ABF49-90B7-4268-AD08-F25466B17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1FB227-2904-496A-BCA2-EB968EA50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F6A57A-9246-4A57-9641-4738A2AC9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BD090-6F10-4DD2-8447-8CD35A43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3E6E-52F7-4507-9939-136C57339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2B84DC-8937-4FA2-B375-1746928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CE4600-CE87-435D-B6D3-4D9F3B9D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033985-59DD-40D3-AC13-85F80778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83A39E-115F-4A5E-8370-B53D3E6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A6A16A-39A5-4B33-BDFB-8F3CB790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BF81C-B701-4F44-9F15-D9D0A74D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79ADE-D50A-47C9-ADEE-206063C0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B14B8C6-93AD-4C2D-8964-B970A323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748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17760" y="159984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748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17760" y="3944880"/>
            <a:ext cx="264744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D2F902-4895-43BE-9AB0-FA867CC4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B468-4453-461B-956E-A080EBCA9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82440"/>
            <a:ext cx="822312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D580-3CEB-4012-986C-EAEC4C15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59C-2A3F-4E3C-A2D0-2BB03D73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0640" y="394488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0A7F-4BA0-4F95-971F-B71E931D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0640" y="1599840"/>
            <a:ext cx="401256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44880"/>
            <a:ext cx="8223120" cy="21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036-BC22-446D-A8A8-619581A8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31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BA460AE-C126-4C67-8484-586C0465E38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1"/>
          <p:cNvGrpSpPr/>
          <p:nvPr/>
        </p:nvGrpSpPr>
        <p:grpSpPr>
          <a:xfrm>
            <a:off x="0" y="0"/>
            <a:ext cx="9142560" cy="6932160"/>
            <a:chOff x="0" y="0"/>
            <a:chExt cx="9142560" cy="6932160"/>
          </a:xfrm>
        </p:grpSpPr>
        <p:sp>
          <p:nvSpPr>
            <p:cNvPr id="61" name="Freeform 2"/>
            <p:cNvSpPr/>
            <p:nvPr/>
          </p:nvSpPr>
          <p:spPr>
            <a:xfrm>
              <a:off x="0" y="3504240"/>
              <a:ext cx="3991680" cy="3126240"/>
            </a:xfrm>
            <a:custGeom>
              <a:avLst/>
              <a:gdLst>
                <a:gd name="textAreaLeft" fmla="*/ 0 w 3991680"/>
                <a:gd name="textAreaRight" fmla="*/ 3992040 w 3991680"/>
                <a:gd name="textAreaTop" fmla="*/ 0 h 3126240"/>
                <a:gd name="textAreaBottom" fmla="*/ 3126600 h 312624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3"/>
            <p:cNvSpPr/>
            <p:nvPr/>
          </p:nvSpPr>
          <p:spPr>
            <a:xfrm>
              <a:off x="0" y="3961440"/>
              <a:ext cx="3351960" cy="2545560"/>
            </a:xfrm>
            <a:custGeom>
              <a:avLst/>
              <a:gdLst>
                <a:gd name="textAreaLeft" fmla="*/ 0 w 3351960"/>
                <a:gd name="textAreaRight" fmla="*/ 3352320 w 3351960"/>
                <a:gd name="textAreaTop" fmla="*/ 0 h 2545560"/>
                <a:gd name="textAreaBottom" fmla="*/ 2545920 h 254556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20280" y="5131080"/>
              <a:ext cx="5821920" cy="1496160"/>
            </a:xfrm>
            <a:custGeom>
              <a:avLst/>
              <a:gdLst>
                <a:gd name="textAreaLeft" fmla="*/ 0 w 5821920"/>
                <a:gd name="textAreaRight" fmla="*/ 5821920 w 5821920"/>
                <a:gd name="textAreaTop" fmla="*/ 0 h 1496160"/>
                <a:gd name="textAreaBottom" fmla="*/ 1496520 h 149616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0" y="831600"/>
              <a:ext cx="1544400" cy="1896120"/>
            </a:xfrm>
            <a:custGeom>
              <a:avLst/>
              <a:gdLst>
                <a:gd name="textAreaLeft" fmla="*/ 0 w 1544400"/>
                <a:gd name="textAreaRight" fmla="*/ 1544760 w 1544400"/>
                <a:gd name="textAreaTop" fmla="*/ 0 h 1896120"/>
                <a:gd name="textAreaBottom" fmla="*/ 1896480 h 189612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5059800" y="1080"/>
              <a:ext cx="4079160" cy="3596400"/>
            </a:xfrm>
            <a:custGeom>
              <a:avLst/>
              <a:gdLst>
                <a:gd name="textAreaLeft" fmla="*/ 0 w 4079160"/>
                <a:gd name="textAreaRight" fmla="*/ 4079520 w 4079160"/>
                <a:gd name="textAreaTop" fmla="*/ 0 h 3596400"/>
                <a:gd name="textAreaBottom" fmla="*/ 3596760 h 359640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5594760" y="1080"/>
              <a:ext cx="3468240" cy="2393280"/>
            </a:xfrm>
            <a:custGeom>
              <a:avLst/>
              <a:gdLst>
                <a:gd name="textAreaLeft" fmla="*/ 0 w 3468240"/>
                <a:gd name="textAreaRight" fmla="*/ 3468600 w 3468240"/>
                <a:gd name="textAreaTop" fmla="*/ 0 h 2393280"/>
                <a:gd name="textAreaBottom" fmla="*/ 2393280 h 239328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0" y="1029960"/>
              <a:ext cx="1294920" cy="1279080"/>
            </a:xfrm>
            <a:custGeom>
              <a:avLst/>
              <a:gdLst>
                <a:gd name="textAreaLeft" fmla="*/ 0 w 1294920"/>
                <a:gd name="textAreaRight" fmla="*/ 1295280 w 1294920"/>
                <a:gd name="textAreaTop" fmla="*/ 0 h 1279080"/>
                <a:gd name="textAreaBottom" fmla="*/ 1279440 h 127908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0" y="2451960"/>
              <a:ext cx="1209240" cy="169560"/>
            </a:xfrm>
            <a:custGeom>
              <a:avLst/>
              <a:gdLst>
                <a:gd name="textAreaLeft" fmla="*/ 0 w 1209240"/>
                <a:gd name="textAreaRight" fmla="*/ 1209600 w 1209240"/>
                <a:gd name="textAreaTop" fmla="*/ 0 h 169560"/>
                <a:gd name="textAreaBottom" fmla="*/ 169560 h 16956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672720" y="5445360"/>
              <a:ext cx="5050440" cy="1182240"/>
            </a:xfrm>
            <a:custGeom>
              <a:avLst/>
              <a:gdLst>
                <a:gd name="textAreaLeft" fmla="*/ 0 w 5050440"/>
                <a:gd name="textAreaRight" fmla="*/ 5050800 w 5050440"/>
                <a:gd name="textAreaTop" fmla="*/ 0 h 1182240"/>
                <a:gd name="textAreaBottom" fmla="*/ 1182600 h 118224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1"/>
            <p:cNvSpPr/>
            <p:nvPr/>
          </p:nvSpPr>
          <p:spPr>
            <a:xfrm>
              <a:off x="304560" y="20124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2"/>
            <p:cNvSpPr/>
            <p:nvPr/>
          </p:nvSpPr>
          <p:spPr>
            <a:xfrm>
              <a:off x="323640" y="207720"/>
              <a:ext cx="1080" cy="108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720" bIns="-4572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0" y="639900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0" y="6399000"/>
              <a:ext cx="9142560" cy="5331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0" y="0"/>
              <a:ext cx="9142560" cy="456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6"/>
            <p:cNvSpPr/>
            <p:nvPr/>
          </p:nvSpPr>
          <p:spPr>
            <a:xfrm>
              <a:off x="807840" y="363240"/>
              <a:ext cx="5059800" cy="3211920"/>
            </a:xfrm>
            <a:custGeom>
              <a:avLst/>
              <a:gdLst>
                <a:gd name="textAreaLeft" fmla="*/ 0 w 5059800"/>
                <a:gd name="textAreaRight" fmla="*/ 5060160 w 5059800"/>
                <a:gd name="textAreaTop" fmla="*/ 0 h 3211920"/>
                <a:gd name="textAreaBottom" fmla="*/ 3212280 h 321192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2133360" y="464760"/>
              <a:ext cx="3402720" cy="2835720"/>
            </a:xfrm>
            <a:custGeom>
              <a:avLst/>
              <a:gdLst>
                <a:gd name="textAreaLeft" fmla="*/ 0 w 3402720"/>
                <a:gd name="textAreaRight" fmla="*/ 3403080 w 3402720"/>
                <a:gd name="textAreaTop" fmla="*/ 0 h 2835720"/>
                <a:gd name="textAreaBottom" fmla="*/ 2836080 h 283572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4653360" y="2742480"/>
              <a:ext cx="4488840" cy="3754800"/>
            </a:xfrm>
            <a:custGeom>
              <a:avLst/>
              <a:gdLst>
                <a:gd name="textAreaLeft" fmla="*/ 0 w 4488840"/>
                <a:gd name="textAreaRight" fmla="*/ 4489200 w 4488840"/>
                <a:gd name="textAreaTop" fmla="*/ 0 h 3754800"/>
                <a:gd name="textAreaBottom" fmla="*/ 3755160 h 375480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50000">
                  <a:srgbClr val="bb5f03"/>
                </a:gs>
                <a:gs pos="100000">
                  <a:srgbClr val="9933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5015520" y="2951640"/>
              <a:ext cx="3431520" cy="3069000"/>
            </a:xfrm>
            <a:custGeom>
              <a:avLst/>
              <a:gdLst>
                <a:gd name="textAreaLeft" fmla="*/ 0 w 3431520"/>
                <a:gd name="textAreaRight" fmla="*/ 3431880 w 3431520"/>
                <a:gd name="textAreaTop" fmla="*/ 0 h 3069000"/>
                <a:gd name="textAreaBottom" fmla="*/ 3069360 h 306900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65920" cy="17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06BFA3-28BA-429B-B7DF-B3F765052A5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1"/>
          <p:cNvGrpSpPr/>
          <p:nvPr/>
        </p:nvGrpSpPr>
        <p:grpSpPr>
          <a:xfrm>
            <a:off x="0" y="0"/>
            <a:ext cx="9142560" cy="6856200"/>
            <a:chOff x="0" y="0"/>
            <a:chExt cx="9142560" cy="6856200"/>
          </a:xfrm>
        </p:grpSpPr>
        <p:sp>
          <p:nvSpPr>
            <p:cNvPr id="121" name="Freeform 2"/>
            <p:cNvSpPr/>
            <p:nvPr/>
          </p:nvSpPr>
          <p:spPr>
            <a:xfrm>
              <a:off x="0" y="4875840"/>
              <a:ext cx="9142560" cy="19803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Freeform 3"/>
            <p:cNvSpPr/>
            <p:nvPr/>
          </p:nvSpPr>
          <p:spPr>
            <a:xfrm>
              <a:off x="0" y="0"/>
              <a:ext cx="9142560" cy="4875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840"/>
                <a:gd name="textAreaBottom" fmla="*/ 4876200 h 487584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Freeform 4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Group 5"/>
          <p:cNvGrpSpPr/>
          <p:nvPr/>
        </p:nvGrpSpPr>
        <p:grpSpPr>
          <a:xfrm>
            <a:off x="0" y="6019920"/>
            <a:ext cx="7846560" cy="855360"/>
            <a:chOff x="0" y="6019920"/>
            <a:chExt cx="7846560" cy="855360"/>
          </a:xfrm>
        </p:grpSpPr>
        <p:sp>
          <p:nvSpPr>
            <p:cNvPr id="125" name="Freeform 6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>
                <a:gd name="textAreaLeft" fmla="*/ 0 w 5143320"/>
                <a:gd name="textAreaRight" fmla="*/ 5143680 w 514332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" name="Group 7"/>
            <p:cNvGrpSpPr/>
            <p:nvPr/>
          </p:nvGrpSpPr>
          <p:grpSpPr>
            <a:xfrm>
              <a:off x="3946680" y="6019920"/>
              <a:ext cx="3899880" cy="855360"/>
              <a:chOff x="3946680" y="6019920"/>
              <a:chExt cx="3899880" cy="855360"/>
            </a:xfrm>
          </p:grpSpPr>
          <p:sp>
            <p:nvSpPr>
              <p:cNvPr id="127" name="Freeform 8"/>
              <p:cNvSpPr/>
              <p:nvPr/>
            </p:nvSpPr>
            <p:spPr>
              <a:xfrm>
                <a:off x="6266520" y="6030720"/>
                <a:ext cx="1580040" cy="844560"/>
              </a:xfrm>
              <a:custGeom>
                <a:avLst/>
                <a:gdLst>
                  <a:gd name="textAreaLeft" fmla="*/ 0 w 1580040"/>
                  <a:gd name="textAreaRight" fmla="*/ 1580400 w 1580040"/>
                  <a:gd name="textAreaTop" fmla="*/ 0 h 844560"/>
                  <a:gd name="textAreaBottom" fmla="*/ 844920 h 844560"/>
                </a:gdLst>
                <a:ahLst/>
                <a:rect l="textAreaLeft" t="textAreaTop" r="textAreaRight" b="textAreaBottom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Freeform 9"/>
              <p:cNvSpPr/>
              <p:nvPr/>
            </p:nvSpPr>
            <p:spPr>
              <a:xfrm>
                <a:off x="4249440" y="6019920"/>
                <a:ext cx="294840" cy="62604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6040"/>
                  <a:gd name="textAreaBottom" fmla="*/ 626400 h 62604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10"/>
              <p:cNvSpPr/>
              <p:nvPr/>
            </p:nvSpPr>
            <p:spPr>
              <a:xfrm>
                <a:off x="4809240" y="6179760"/>
                <a:ext cx="599760" cy="42912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11"/>
              <p:cNvSpPr/>
              <p:nvPr/>
            </p:nvSpPr>
            <p:spPr>
              <a:xfrm>
                <a:off x="5758200" y="6136920"/>
                <a:ext cx="245880" cy="11700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12"/>
              <p:cNvSpPr/>
              <p:nvPr/>
            </p:nvSpPr>
            <p:spPr>
              <a:xfrm>
                <a:off x="3946680" y="6125760"/>
                <a:ext cx="66240" cy="12816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160"/>
                  <a:gd name="textAreaBottom" fmla="*/ 128520 h 12816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" name="Freeform 13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34" name="Freeform 15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6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>
                <a:gd name="textAreaLeft" fmla="*/ 0 w 3226320"/>
                <a:gd name="textAreaRight" fmla="*/ 3226680 w 3226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7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8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9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20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312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312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234FF80-EFD3-4CF3-B9CB-CA2E0E344BFB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1"/>
          <p:cNvGrpSpPr/>
          <p:nvPr/>
        </p:nvGrpSpPr>
        <p:grpSpPr>
          <a:xfrm>
            <a:off x="-6480" y="20520"/>
            <a:ext cx="9142560" cy="6856200"/>
            <a:chOff x="-6480" y="20520"/>
            <a:chExt cx="9142560" cy="6856200"/>
          </a:xfrm>
        </p:grpSpPr>
        <p:sp>
          <p:nvSpPr>
            <p:cNvPr id="182" name="Freeform 2"/>
            <p:cNvSpPr/>
            <p:nvPr/>
          </p:nvSpPr>
          <p:spPr>
            <a:xfrm>
              <a:off x="-6480" y="4896360"/>
              <a:ext cx="9142560" cy="198036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33cccc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3"/>
            <p:cNvSpPr/>
            <p:nvPr/>
          </p:nvSpPr>
          <p:spPr>
            <a:xfrm>
              <a:off x="-6480" y="20520"/>
              <a:ext cx="9142560" cy="4875840"/>
            </a:xfrm>
            <a:custGeom>
              <a:avLst/>
              <a:gdLst>
                <a:gd name="textAreaLeft" fmla="*/ 0 w 9142560"/>
                <a:gd name="textAreaRight" fmla="*/ 9142920 w 9142560"/>
                <a:gd name="textAreaTop" fmla="*/ 0 h 4875840"/>
                <a:gd name="textAreaBottom" fmla="*/ 4876200 h 487584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Freeform 4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5" name="Group 5"/>
          <p:cNvGrpSpPr/>
          <p:nvPr/>
        </p:nvGrpSpPr>
        <p:grpSpPr>
          <a:xfrm>
            <a:off x="-1440" y="6033960"/>
            <a:ext cx="7843320" cy="849600"/>
            <a:chOff x="-1440" y="6033960"/>
            <a:chExt cx="7843320" cy="849600"/>
          </a:xfrm>
        </p:grpSpPr>
        <p:sp>
          <p:nvSpPr>
            <p:cNvPr id="186" name="Freeform 6"/>
            <p:cNvSpPr/>
            <p:nvPr/>
          </p:nvSpPr>
          <p:spPr>
            <a:xfrm>
              <a:off x="2360520" y="6033960"/>
              <a:ext cx="5143680" cy="849600"/>
            </a:xfrm>
            <a:custGeom>
              <a:avLst/>
              <a:gdLst>
                <a:gd name="textAreaLeft" fmla="*/ 0 w 5143680"/>
                <a:gd name="textAreaRight" fmla="*/ 5143680 w 514368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7"/>
            <p:cNvGrpSpPr/>
            <p:nvPr/>
          </p:nvGrpSpPr>
          <p:grpSpPr>
            <a:xfrm>
              <a:off x="3944880" y="6033960"/>
              <a:ext cx="3897000" cy="847800"/>
              <a:chOff x="3944880" y="6033960"/>
              <a:chExt cx="3897000" cy="847800"/>
            </a:xfrm>
          </p:grpSpPr>
          <p:sp>
            <p:nvSpPr>
              <p:cNvPr id="188" name="Freeform 8"/>
              <p:cNvSpPr/>
              <p:nvPr/>
            </p:nvSpPr>
            <p:spPr>
              <a:xfrm>
                <a:off x="6264720" y="6044760"/>
                <a:ext cx="1577160" cy="837000"/>
              </a:xfrm>
              <a:custGeom>
                <a:avLst/>
                <a:gdLst>
                  <a:gd name="textAreaLeft" fmla="*/ 0 w 1577160"/>
                  <a:gd name="textAreaRight" fmla="*/ 1577520 w 1577160"/>
                  <a:gd name="textAreaTop" fmla="*/ 0 h 837000"/>
                  <a:gd name="textAreaBottom" fmla="*/ 837360 h 83700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9"/>
              <p:cNvSpPr/>
              <p:nvPr/>
            </p:nvSpPr>
            <p:spPr>
              <a:xfrm>
                <a:off x="4247640" y="6033960"/>
                <a:ext cx="295200" cy="6249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624960"/>
                  <a:gd name="textAreaBottom" fmla="*/ 625320 h 62496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Freeform 10"/>
              <p:cNvSpPr/>
              <p:nvPr/>
            </p:nvSpPr>
            <p:spPr>
              <a:xfrm>
                <a:off x="4808160" y="6193800"/>
                <a:ext cx="599760" cy="4284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28400"/>
                  <a:gd name="textAreaBottom" fmla="*/ 428760 h 4284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Freeform 11"/>
              <p:cNvSpPr/>
              <p:nvPr/>
            </p:nvSpPr>
            <p:spPr>
              <a:xfrm>
                <a:off x="5757120" y="6150960"/>
                <a:ext cx="245880" cy="11664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6640"/>
                  <a:gd name="textAreaBottom" fmla="*/ 117000 h 11664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Freeform 12"/>
              <p:cNvSpPr/>
              <p:nvPr/>
            </p:nvSpPr>
            <p:spPr>
              <a:xfrm>
                <a:off x="3944880" y="6139800"/>
                <a:ext cx="66240" cy="12780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7800"/>
                  <a:gd name="textAreaBottom" fmla="*/ 128160 h 12780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Freeform 13"/>
            <p:cNvSpPr/>
            <p:nvPr/>
          </p:nvSpPr>
          <p:spPr>
            <a:xfrm>
              <a:off x="-1440" y="6033960"/>
              <a:ext cx="6311880" cy="848160"/>
            </a:xfrm>
            <a:custGeom>
              <a:avLst/>
              <a:gdLst>
                <a:gd name="textAreaLeft" fmla="*/ 0 w 6311880"/>
                <a:gd name="textAreaRight" fmla="*/ 6312240 w 631188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4" name="Group 14"/>
          <p:cNvGrpSpPr/>
          <p:nvPr/>
        </p:nvGrpSpPr>
        <p:grpSpPr>
          <a:xfrm>
            <a:off x="627120" y="6021360"/>
            <a:ext cx="5682960" cy="847440"/>
            <a:chOff x="627120" y="6021360"/>
            <a:chExt cx="5682960" cy="847440"/>
          </a:xfrm>
        </p:grpSpPr>
        <p:sp>
          <p:nvSpPr>
            <p:cNvPr id="195" name="Freeform 15"/>
            <p:cNvSpPr/>
            <p:nvPr/>
          </p:nvSpPr>
          <p:spPr>
            <a:xfrm>
              <a:off x="1898280" y="6021360"/>
              <a:ext cx="579240" cy="460800"/>
            </a:xfrm>
            <a:custGeom>
              <a:avLst/>
              <a:gdLst>
                <a:gd name="textAreaLeft" fmla="*/ 0 w 579240"/>
                <a:gd name="textAreaRight" fmla="*/ 579600 w 579240"/>
                <a:gd name="textAreaTop" fmla="*/ 0 h 460800"/>
                <a:gd name="textAreaBottom" fmla="*/ 461160 h 46080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16"/>
            <p:cNvSpPr/>
            <p:nvPr/>
          </p:nvSpPr>
          <p:spPr>
            <a:xfrm>
              <a:off x="3083760" y="6078240"/>
              <a:ext cx="3226320" cy="790560"/>
            </a:xfrm>
            <a:custGeom>
              <a:avLst/>
              <a:gdLst>
                <a:gd name="textAreaLeft" fmla="*/ 0 w 3226320"/>
                <a:gd name="textAreaRight" fmla="*/ 3226680 w 3226320"/>
                <a:gd name="textAreaTop" fmla="*/ 0 h 790560"/>
                <a:gd name="textAreaBottom" fmla="*/ 790920 h 79056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7"/>
            <p:cNvSpPr/>
            <p:nvPr/>
          </p:nvSpPr>
          <p:spPr>
            <a:xfrm>
              <a:off x="2904480" y="6068520"/>
              <a:ext cx="112320" cy="9648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18"/>
            <p:cNvSpPr/>
            <p:nvPr/>
          </p:nvSpPr>
          <p:spPr>
            <a:xfrm>
              <a:off x="1356840" y="6098760"/>
              <a:ext cx="255240" cy="259560"/>
            </a:xfrm>
            <a:custGeom>
              <a:avLst/>
              <a:gdLst>
                <a:gd name="textAreaLeft" fmla="*/ 0 w 255240"/>
                <a:gd name="textAreaRight" fmla="*/ 255600 w 255240"/>
                <a:gd name="textAreaTop" fmla="*/ 0 h 259560"/>
                <a:gd name="textAreaBottom" fmla="*/ 259920 h 25956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19"/>
            <p:cNvSpPr/>
            <p:nvPr/>
          </p:nvSpPr>
          <p:spPr>
            <a:xfrm>
              <a:off x="1120320" y="6117840"/>
              <a:ext cx="93240" cy="96480"/>
            </a:xfrm>
            <a:custGeom>
              <a:avLst/>
              <a:gdLst>
                <a:gd name="textAreaLeft" fmla="*/ 0 w 93240"/>
                <a:gd name="textAreaRight" fmla="*/ 93600 w 9324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627120" y="6049440"/>
              <a:ext cx="388440" cy="327960"/>
            </a:xfrm>
            <a:custGeom>
              <a:avLst/>
              <a:gdLst>
                <a:gd name="textAreaLeft" fmla="*/ 0 w 388440"/>
                <a:gd name="textAreaRight" fmla="*/ 388800 w 388440"/>
                <a:gd name="textAreaTop" fmla="*/ 0 h 327960"/>
                <a:gd name="textAreaBottom" fmla="*/ 328320 h 32796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3120" cy="173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272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E88D38-1AFD-4DC9-8211-A0F92C6283C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186920"/>
            <a:ext cx="777096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Инновации в обучении связанные с подготовкой проектов учеников по предмету.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2" name="Text Box 2"/>
          <p:cNvSpPr/>
          <p:nvPr/>
        </p:nvSpPr>
        <p:spPr>
          <a:xfrm>
            <a:off x="1619280" y="4680000"/>
            <a:ext cx="6400800" cy="9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imes New Roman"/>
              </a:rPr>
              <a:t>Хотим всё знать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539280" y="179280"/>
            <a:ext cx="822636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словиями успешности проектной деятельности являются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четкость и конкретность постановки цели проект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определение планируемых результа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• </a:t>
            </a:r>
            <a:r>
              <a:rPr b="0" lang="ru-RU" sz="3200" spc="-1" strike="noStrike">
                <a:solidFill>
                  <a:srgbClr val="ffffff"/>
                </a:solidFill>
                <a:latin typeface="Arial CYR"/>
              </a:rPr>
              <a:t>констатация исходных данны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4859280" y="3600360"/>
            <a:ext cx="4140360" cy="30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81000"/>
            <a:ext cx="82249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;sans-serif"/>
                <a:ea typeface="Lucida Sans Unicode"/>
              </a:rPr>
              <a:t>УМК «Школа России»</a:t>
            </a:r>
            <a:r>
              <a:rPr b="0" lang="ru-RU" sz="2000" spc="-1" strike="noStrike">
                <a:solidFill>
                  <a:srgbClr val="ffffff"/>
                </a:solidFill>
                <a:latin typeface="Helvetica;Arial"/>
                <a:ea typeface="Lucida Sans Unicode"/>
              </a:rPr>
              <a:t> </a:t>
            </a:r>
            <a:r>
              <a:rPr b="0" lang="ru-RU" sz="2000" spc="-1" strike="noStrike">
                <a:solidFill>
                  <a:srgbClr val="ffffff"/>
                </a:solidFill>
                <a:latin typeface="Arial;sans-serif"/>
                <a:ea typeface="Lucida Sans Unicode"/>
              </a:rPr>
              <a:t>(под редакцией А.А. Плешакова) 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900000"/>
            <a:ext cx="82249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Arial;sans-serif"/>
              </a:rPr>
              <a:t>         </a:t>
            </a:r>
            <a:r>
              <a:rPr b="0" lang="ru-RU" sz="2600" spc="-1" strike="noStrike">
                <a:solidFill>
                  <a:srgbClr val="ffffff"/>
                </a:solidFill>
                <a:latin typeface="Arial;sans-serif"/>
              </a:rPr>
              <a:t>Учебники комплекта ориентированы, прежде всего, на развитие у детей доброты, ответственности, способности сопереживать, готовности помогать друг другу. Обучение строится на основе постоянной поддержки творческого начала ученика, поэтому при организации работы предпочтение отдается проблемно-поисковому подход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6840" y="4500720"/>
            <a:ext cx="8224920" cy="159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3007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60480" y="4500720"/>
            <a:ext cx="3898800" cy="233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95440" y="1801440"/>
            <a:ext cx="82245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278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sans-serif;Arial"/>
              </a:rPr>
              <a:t>Иннова́ция (англ. </a:t>
            </a:r>
            <a:r>
              <a:rPr b="1" i="1" lang="en-US" sz="2800" spc="-1" strike="noStrike">
                <a:solidFill>
                  <a:srgbClr val="feec94"/>
                </a:solidFill>
                <a:latin typeface="sans-serif;Arial"/>
              </a:rPr>
              <a:t>innovation</a:t>
            </a:r>
            <a:r>
              <a:rPr b="1" lang="en-US" sz="2800" spc="-1" strike="noStrike">
                <a:solidFill>
                  <a:srgbClr val="feec94"/>
                </a:solidFill>
                <a:latin typeface="sans-serif;Arial"/>
              </a:rPr>
              <a:t>) — это внедрённое новшество, обеспечивающее качественный рост эффективности процессов или продукции, востребованное рынком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10760" y="5580000"/>
            <a:ext cx="85899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sans-serif;Arial"/>
              </a:rPr>
              <a:t>Материал из Википедии — свободной энциклопедии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603360"/>
                <a:tab algn="l" pos="708120"/>
                <a:tab algn="l" pos="1157400"/>
                <a:tab algn="l" pos="1606680"/>
                <a:tab algn="l" pos="2055960"/>
                <a:tab algn="l" pos="2505240"/>
                <a:tab algn="l" pos="2954160"/>
                <a:tab algn="l" pos="3403440"/>
                <a:tab algn="l" pos="3852720"/>
                <a:tab algn="l" pos="4302000"/>
                <a:tab algn="l" pos="4751280"/>
                <a:tab algn="l" pos="5200560"/>
                <a:tab algn="l" pos="5649840"/>
                <a:tab algn="l" pos="6099120"/>
                <a:tab algn="l" pos="6548400"/>
                <a:tab algn="l" pos="6997680"/>
                <a:tab algn="l" pos="7446960"/>
                <a:tab algn="l" pos="7896240"/>
                <a:tab algn="l" pos="8345520"/>
                <a:tab algn="l" pos="8794800"/>
                <a:tab algn="l" pos="9244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4285">
                                          <p:val>
                                            <p:strVal val="#ppt_h/2"/>
                                          </p:val>
                                        </p:tav>
                                        <p:tav tm="28571">
                                          <p:val>
                                            <p:strVal val="#ppt_h"/>
                                          </p:val>
                                        </p:tav>
                                        <p:tav tm="42857">
                                          <p:val>
                                            <p:strVal val="#ppt_h/2"/>
                                          </p:val>
                                        </p:tav>
                                        <p:tav tm="57142">
                                          <p:val>
                                            <p:strVal val="#ppt_h"/>
                                          </p:val>
                                        </p:tav>
                                        <p:tav tm="71428">
                                          <p:val>
                                            <p:strVal val="#ppt_h/2"/>
                                          </p:val>
                                        </p:tav>
                                        <p:tav tm="85714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2500">
                                          <p:val>
                                            <p:strVal val="#ppt_y-.2"/>
                                          </p:val>
                                        </p:tav>
                                        <p:tav tm="25000">
                                          <p:val>
                                            <p:strVal val="#ppt_y"/>
                                          </p:val>
                                        </p:tav>
                                        <p:tav tm="375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2500">
                                          <p:val>
                                            <p:strVal val="#ppt_y-.1"/>
                                          </p:val>
                                        </p:tav>
                                        <p:tav tm="75000">
                                          <p:val>
                                            <p:strVal val="#ppt_y"/>
                                          </p:val>
                                        </p:tav>
                                        <p:tav tm="875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899640"/>
            <a:ext cx="822816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ddb057"/>
                </a:solidFill>
                <a:latin typeface="Times New Roman"/>
              </a:rPr>
              <a:t>Цель образования состоит в том, чтобы заменить пустой ум открытым разумом.</a:t>
            </a:r>
            <a:endParaRPr b="1" lang="en-US" sz="3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4680000"/>
            <a:ext cx="822816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1120" indent="-681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112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алкольм Форбо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e3e3ff"/>
                </a:solidFill>
                <a:latin typeface="Arial CYR"/>
                <a:ea typeface="Arial CYR"/>
              </a:rPr>
              <a:t>Исследовательские проекты в практике обучения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89964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Сегодня образ выпускника школы становится ориентиром для проектирования процессов и условий получения образовательных результатов, главным инструментом развития школы и педагогического коллектива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;sans-serif"/>
              </a:rPr>
              <a:t>     У выпускника современной школы должны быть сформированы, готовность и способность творчески мыслить, находить нестандартные решения, проявлять инициативу, т.е. выпускник должен быть конкурентоспособным. Эти личностные качества определят инвестиционную привлекательность образова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11120" y="-17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е проекты в практике обучения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60360" y="72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336600"/>
                <a:tab algn="l" pos="441360"/>
                <a:tab algn="l" pos="890640"/>
                <a:tab algn="l" pos="1339920"/>
                <a:tab algn="l" pos="1789200"/>
                <a:tab algn="l" pos="2238480"/>
                <a:tab algn="l" pos="2687760"/>
                <a:tab algn="l" pos="3137040"/>
                <a:tab algn="l" pos="3586320"/>
                <a:tab algn="l" pos="4035600"/>
                <a:tab algn="l" pos="4484520"/>
                <a:tab algn="l" pos="4933800"/>
                <a:tab algn="l" pos="5383080"/>
                <a:tab algn="l" pos="5832360"/>
                <a:tab algn="l" pos="6281640"/>
                <a:tab algn="l" pos="6730920"/>
                <a:tab algn="l" pos="7180200"/>
                <a:tab algn="l" pos="7629480"/>
                <a:tab algn="l" pos="8078760"/>
                <a:tab algn="l" pos="8528040"/>
                <a:tab algn="l" pos="89773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й проект как элемент творчества учащихся сегодня  рассматривается как органичная составная часть современных педагогических технологий. Введение в педагогические технологии элементов исследовательской деятельности учащихся позволяет педагогу не только и не столько учить, сколько помогать ребенку учиться, </a:t>
            </a: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 CYR"/>
                <a:ea typeface="Arial CYR"/>
              </a:rPr>
              <a:t>направлять его познавательную деятельнос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456840" y="178920"/>
            <a:ext cx="8226360" cy="64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CYR"/>
                <a:ea typeface="Arial CYR"/>
              </a:rPr>
              <a:t>Исследовательский проект учащегося может быть по содержанию монопредметным (выполняется на материале конкретного предмета), межпредметным (интегрируется смежная тематика нескольких предметов, например, история, литература и МХК); надпредметным (например, проект «Дом, в котором я хочу жить»), который выполняется в ходе факультативных занятий, изучения интегрированных курсов, работы в творческих мастерских. Проект может быть итоговым, когда по результатам его выполнения оценивается освоение учащимся определенного учебного материала, и текущим - в этом случае на самообразование и проектную деятельность из учебного курса выносится часть содержания обуче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56840" y="1079280"/>
            <a:ext cx="822636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Самым сложным моментом при введении в учебный процесс исследовательских проектов является организация этой деятельности, а особенно - подготовительный этап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680000" y="3600360"/>
            <a:ext cx="425916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6840" y="900000"/>
            <a:ext cx="822492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        </a:t>
            </a:r>
            <a:r>
              <a:rPr b="0" lang="ru-RU" sz="2800" spc="-1" strike="noStrike">
                <a:solidFill>
                  <a:srgbClr val="ffffff"/>
                </a:solidFill>
                <a:latin typeface="Arial CYR"/>
                <a:ea typeface="Arial CYR"/>
              </a:rPr>
              <a:t>Учащийся должен иметь возможность выбрать тему проекта, организационную форму его выполнения (индивидуальный и групповой), оценить степень сложности проектировочной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3959280" y="2879640"/>
            <a:ext cx="4859280" cy="36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1"/>
          <a:stretch/>
        </p:blipFill>
        <p:spPr>
          <a:xfrm>
            <a:off x="179280" y="179280"/>
            <a:ext cx="88203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5T13:34:08Z</dcterms:created>
  <dc:creator>Игрок</dc:creator>
  <dc:description/>
  <dc:language>en-US</dc:language>
  <cp:lastModifiedBy>RePack by SPecialiST</cp:lastModifiedBy>
  <dcterms:modified xsi:type="dcterms:W3CDTF">2018-07-19T10:19:59Z</dcterms:modified>
  <cp:revision>5</cp:revision>
  <dc:subject/>
  <dc:title>Всезнайка.</dc:title>
</cp:coreProperties>
</file>