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2BA3-408F-478F-A798-5CC5579CF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6ED-AD6D-4548-B051-4C9548B7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EF10-7183-4E66-9AC4-E56B66E52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5560-8E2D-4180-BCEE-9679FAC9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3242-C1E4-40B6-85B3-DA91C1952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70D7-953B-4F39-9EEA-61C50722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1CA4-125B-4A7E-B7A1-A06EE4EE7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F2FDF-50DB-40DD-8403-5912E9EE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5D9AA-8078-4365-9665-264B253BE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F66A-E323-49F3-A952-DE125764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495FC-DA0B-4C9F-9F8D-CDEAB970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61A1-5825-42E6-B5EA-81FD8697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E8725-1635-4083-8CDB-17040A9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4C89-7DBB-4CD9-A8B0-32549848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AA06-D279-49B2-87AE-7E78CC06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95324-E961-40C8-B017-16FB79E28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7E05-8581-4623-A2CF-39B894E67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D326-F2FA-4C1E-9601-96FD68D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7EE7-157B-4643-AE13-1087AC0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0DBE-7ED9-4B1F-A6AD-4FDD67B8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276B-8A60-481C-BDF7-97D39D35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222B-880C-41CF-A33B-FCD7F4872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19A-D6C9-49B5-9AF1-0B08C42E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2E29-D18C-4148-914D-41328F74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E8DD-A444-445B-A351-F8BD859D20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2608-EED0-406B-A4D0-EFA8B7332DE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064360" cy="1008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Художественные особенности поэмы «Василий Теркин»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3200400" cy="41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Лирические отступлени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В четырёх авторских главах-отступлениях — рассуждения о войне, нелёгкой солдатской доле и намёки на то, как шла работа над книгой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Пафос поэм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785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Первая глава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"От автора"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В ней Твардовский определил пафос поэмы: изображение правды, какой бы она ни был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... А всего иного пущ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е прожить наверняка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Без чего? Без правды сущ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равды, прямо в душу бью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Да была б она погущ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ак бы ни была горь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Что сказано в поэме о войн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овествование поэмы не связано с ходом военной кампании 1941—1945 годов, но в нём присутствует хронологическая последовательность; упоминаются и угадываются конкретные сражения и операции Великой Отечественной войны: начальный период отступления 1941—1942 года, битва у Волги, переправа через Днепр, взятие Берлина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cc"/>
                </a:solidFill>
                <a:latin typeface="Tahoma"/>
              </a:rPr>
              <a:t>Бой идет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еоднократно в поэме звучит мысль, что война — это труд. Тяжелый, смертельно опасный, но необходимый и почетн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Бой идет святой и правы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Смертный бой не ради славы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Ради жизни на земл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вязь времен в поэм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91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Единство поэме придает общая тематика — жизнь русского солдата, человека, обычного, земного, но и “чудо-человека”, не теряющего веры в себя и товарищей, в побед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Тем путем идут суровым,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Что и двести лет назад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Проходил с ружьем кремневым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Русский труженик-солдат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42200" cy="1446120"/>
          </a:xfrm>
          <a:prstGeom prst="rect">
            <a:avLst/>
          </a:prstGeom>
          <a:ln w="0">
            <a:noFill/>
          </a:ln>
        </p:spPr>
      </p:pic>
      <p:pic>
        <p:nvPicPr>
          <p:cNvPr id="119" name="Содержимое 6" descr="памятник в Орехово-Зуеве.jpg"/>
          <p:cNvPicPr/>
          <p:nvPr/>
        </p:nvPicPr>
        <p:blipFill>
          <a:blip r:embed="rId2"/>
          <a:stretch/>
        </p:blipFill>
        <p:spPr>
          <a:xfrm>
            <a:off x="3206880" y="2279520"/>
            <a:ext cx="3060720" cy="408492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теркин-2.jpg"/>
          <p:cNvPicPr/>
          <p:nvPr/>
        </p:nvPicPr>
        <p:blipFill>
          <a:blip r:embed="rId3"/>
          <a:stretch/>
        </p:blipFill>
        <p:spPr>
          <a:xfrm rot="20951400">
            <a:off x="425160" y="1700280"/>
            <a:ext cx="2448000" cy="3247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21" name="Picture 2" descr="G:\по Твардовскому\col_sselin_or.jpg"/>
          <p:cNvPicPr/>
          <p:nvPr/>
        </p:nvPicPr>
        <p:blipFill>
          <a:blip r:embed="rId4"/>
          <a:stretch/>
        </p:blipFill>
        <p:spPr>
          <a:xfrm rot="404400">
            <a:off x="6468840" y="1697040"/>
            <a:ext cx="2334960" cy="325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2" name="TextBox 16"/>
          <p:cNvSpPr/>
          <p:nvPr/>
        </p:nvSpPr>
        <p:spPr>
          <a:xfrm>
            <a:off x="3500280" y="5643720"/>
            <a:ext cx="2500560" cy="642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Arial"/>
              </a:rPr>
              <a:t>Памятник Теркину в Орехово-Зуев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Заголовок 1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8686800" cy="1158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G:\по Твардовскому\index_pic13.jpeg"/>
          <p:cNvPicPr/>
          <p:nvPr/>
        </p:nvPicPr>
        <p:blipFill>
          <a:blip r:embed="rId2"/>
          <a:stretch/>
        </p:blipFill>
        <p:spPr>
          <a:xfrm>
            <a:off x="971640" y="1773360"/>
            <a:ext cx="7345440" cy="4751280"/>
          </a:xfrm>
          <a:prstGeom prst="rect">
            <a:avLst/>
          </a:prstGeom>
          <a:ln w="76320">
            <a:solidFill>
              <a:srgbClr val="d00000"/>
            </a:solidFill>
            <a:miter/>
          </a:ln>
        </p:spPr>
      </p:pic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Обыкновенны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496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асилий Тёркин — балагур и весельчак, душа своего подразделения. В бою — пример для всех, находчивый воин, который не растеряется в самой сложной ситуации. На привале вокруг него всегда собирается компания — Тёркин споёт и сыграет на гармони, не полезет в карман за острым слов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Настоящи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Раненый, на волоске от смерти </a:t>
            </a:r>
            <a:r>
              <a:rPr b="1" lang="en-US" sz="3600" spc="-1" strike="noStrike">
                <a:solidFill>
                  <a:srgbClr val="00ffcc"/>
                </a:solidFill>
                <a:latin typeface="Tahoma"/>
              </a:rPr>
              <a:t>(глава «Смерть и воин»),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он находит силы собраться и вступить в схватку со Смертью, из которой выходит победителем. При встрече с мирным населением ведёт себя скромно и с достоинством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Тёркин - бывалый солдат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8120"/>
            <a:ext cx="8229600" cy="44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ркин предстаёт  как бывалый солдат, для которого жизнь — это оставшийся от отца дом, находящийся в опасности. Он — работник, хозяин и защитник этого до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ркин привлекает душевной силой, стойкостью, умением подниматься после каждого удара. Он шуткой смягчает рассказ о трех "сабантуях"; он ест "со смаком" солдатскую пищу; невозмутимо укладывается на сырой земле под дождем, укрывшись "одной шинелькой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68360" y="0"/>
            <a:ext cx="8254800" cy="1446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G:\по Твардовскому\image5.PNG"/>
          <p:cNvPicPr/>
          <p:nvPr/>
        </p:nvPicPr>
        <p:blipFill>
          <a:blip r:embed="rId2"/>
          <a:stretch/>
        </p:blipFill>
        <p:spPr>
          <a:xfrm>
            <a:off x="3144960" y="1401840"/>
            <a:ext cx="3292200" cy="531000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3" descr="гармонь-2.jpg"/>
          <p:cNvPicPr/>
          <p:nvPr/>
        </p:nvPicPr>
        <p:blipFill>
          <a:blip r:embed="rId3"/>
          <a:stretch/>
        </p:blipFill>
        <p:spPr>
          <a:xfrm rot="615600">
            <a:off x="6877080" y="1773360"/>
            <a:ext cx="1881000" cy="134928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9" descr="два солдата.jpg"/>
          <p:cNvPicPr/>
          <p:nvPr/>
        </p:nvPicPr>
        <p:blipFill>
          <a:blip r:embed="rId4"/>
          <a:stretch/>
        </p:blipFill>
        <p:spPr>
          <a:xfrm rot="20889600">
            <a:off x="611280" y="2492280"/>
            <a:ext cx="1785960" cy="124956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5" descr="бой.jpg"/>
          <p:cNvPicPr/>
          <p:nvPr/>
        </p:nvPicPr>
        <p:blipFill>
          <a:blip r:embed="rId5"/>
          <a:stretch/>
        </p:blipFill>
        <p:spPr>
          <a:xfrm rot="744000">
            <a:off x="6876720" y="3715920"/>
            <a:ext cx="1346040" cy="1776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Солдат-богатырь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Теркин живет как бы в двух измерениях: с одной стороны, это вполне реальный солдат, боец Советской Армии. С другой стороны, это русский сказочный солдат-богатырь, который в огне не горит и в воде не тонет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гатырь не тот, что в сказке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еззаботный великан,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А в походной запояск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Человек простой закваски.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 муках тверд и в горе горд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         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еркин жив и весел, черт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Любимый герой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85071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асилий Теркин стал любимым героем; он раньше автора, создавшего его, был воплощен в скульптуру, установленную на Смоленщине. Твардовский нигде не описал внешность Теркина, но этот боец узнава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То серьезный, то потешн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ипочем, что дождь, что снег, —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В бой, вперед, в огонь кромешны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Он идет, святой и грешны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Русский чудо-человек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74680"/>
            <a:ext cx="836280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Памятник А.Твардовскому и Василию Теркину в Смоленске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965760" cy="428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Заголовок 1" descr=""/>
          <p:cNvPicPr/>
          <p:nvPr/>
        </p:nvPicPr>
        <p:blipFill>
          <a:blip r:embed="rId1"/>
          <a:stretch/>
        </p:blipFill>
        <p:spPr>
          <a:xfrm>
            <a:off x="169920" y="260280"/>
            <a:ext cx="8974080" cy="1182600"/>
          </a:xfrm>
          <a:prstGeom prst="rect">
            <a:avLst/>
          </a:prstGeom>
          <a:ln w="0">
            <a:noFill/>
          </a:ln>
        </p:spPr>
      </p:pic>
      <p:pic>
        <p:nvPicPr>
          <p:cNvPr id="95" name="Содержимое 4" descr="а.твард.западный фронт.1943г. фото в.и.аркашева.jpg"/>
          <p:cNvPicPr/>
          <p:nvPr/>
        </p:nvPicPr>
        <p:blipFill>
          <a:blip r:embed="rId2"/>
          <a:stretch/>
        </p:blipFill>
        <p:spPr>
          <a:xfrm>
            <a:off x="165240" y="2451240"/>
            <a:ext cx="3473280" cy="4485960"/>
          </a:xfrm>
          <a:prstGeom prst="rect">
            <a:avLst/>
          </a:prstGeom>
          <a:ln w="0">
            <a:noFill/>
          </a:ln>
        </p:spPr>
      </p:pic>
      <p:pic>
        <p:nvPicPr>
          <p:cNvPr id="96" name="Содержимое 7" descr="а.т.выступ. на митинге по случаю освобожд.г.смоленска.2 окт. 1943г.аркаш..jpg"/>
          <p:cNvPicPr/>
          <p:nvPr/>
        </p:nvPicPr>
        <p:blipFill>
          <a:blip r:embed="rId3"/>
          <a:stretch/>
        </p:blipFill>
        <p:spPr>
          <a:xfrm>
            <a:off x="5924520" y="2554200"/>
            <a:ext cx="3024360" cy="43340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1" descr="теркин-11.bmp"/>
          <p:cNvPicPr/>
          <p:nvPr/>
        </p:nvPicPr>
        <p:blipFill>
          <a:blip r:embed="rId4"/>
          <a:stretch/>
        </p:blipFill>
        <p:spPr>
          <a:xfrm>
            <a:off x="3382920" y="1262160"/>
            <a:ext cx="2743200" cy="3730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4920" y="285480"/>
            <a:ext cx="8497800" cy="63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История создания поэ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Твардовского "Василий Теркин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Вася Теркин, любимый многими герой военных лет, появился во фронтовой печати еще до Великой Отечественной – </a:t>
            </a:r>
            <a:r>
              <a:rPr b="1" lang="en-US" sz="2400" spc="-1" strike="noStrike">
                <a:solidFill>
                  <a:srgbClr val="00ffcc"/>
                </a:solidFill>
                <a:latin typeface="Tahoma"/>
              </a:rPr>
              <a:t>в 1939–1940 годах, во время войны с Финляндией</a:t>
            </a:r>
            <a:r>
              <a:rPr b="1" lang="en-US" sz="2400" spc="-1" strike="noStrike" baseline="30000">
                <a:solidFill>
                  <a:srgbClr val="00ffcc"/>
                </a:solidFill>
                <a:latin typeface="Tahoma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. Создан он был коллективом авторов, среди которых был и Твардовский. Это был удачливый и веселый боец, всегда побеждающий врагов. Герой этот напоминал персонажей комиксов или серий карикатур: "Человек он сам собой / Необыкновенный... / Богатырь, сажень в плечах... / И врагов на штык берет, / Как снопы на вилы" и т.п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250560" y="214200"/>
            <a:ext cx="8713800" cy="638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История создания поэм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00"/>
                </a:solidFill>
                <a:uFillTx/>
                <a:latin typeface="Tahoma"/>
              </a:rPr>
              <a:t>Твардовского "Василий Теркин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После завершения финской кампании Твардовский начал работу над поэмой, герой которой – Вася Теркин – был участником прошедшей войны. Предполагалось, что летом 1941(!) года поэма будет завершен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С началом войны Твардовский был назначен на должность "писателя" в газету "Красная Армия" Киевского военного округа и выехал на фронт. В первые, самые тяжелые, месяцы войны Твардовскому было не до поэмы: вместе с армией он прошел всю войну, выходил из окружения в 1941 году. К мысли о "Теркине" поэт вернулся в июне 1942 года, только это была уже поэма о новой войне и, по сути, о новом герое – прежде балагуре и весельчак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9936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История создания поэмы </a:t>
            </a:r>
            <a:br>
              <a:rPr sz="2800"/>
            </a:b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Твардовского "Василий Теркин"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то был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е "Вася Теркин", а "Василий Теркин".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Сменилось имя, сменилась концепция героя: ничего не осталось теперь от квадратного подбородка, автор сосредоточился на характере Теркина, на его фронтовой (и не только фронтовой) философии, на его роли в судьбах других людей – персонажей поэмы.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Новое название поэмы было объявлено в творческом отчете Твардовского 22 июня 1942 года – "Василий Теркин"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3840" y="28584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Поэма создавалась в течение всей войны, следовала за ее ходом.  Первые главы были опубликованы летом 1942 года, после тяжелого и длительного (казалось, бесконечного) отступления наших войск к Волге и Северному Кавказу, в тяжелейшее, непредсказуемое для дальнейшего хода войны время. Все были охвачены тревогой: что дальше; удастся ли остановить немцев? Вряд ли тогда было "до литературы", "до поэзии". Но поэма сразу же стала знаменитой (как это ни удивительно – задолго до своего завершения), газеты с главами поэмы, как свидетельствуют очевидцы, с нетерпением ожидались читателями, передавались из рук в рук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Иван Бунин о поэме: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3848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Это поистине редкая книга: какая свобода, какая чудесная удаль, какая меткость, точность во всем и какой необыкновенный народный солдатский язык — ни сучка ни задоринки, ни единого фальшивого, готового, то есть литературно-пошлого слова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3454560" cy="42228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Композиция поэмы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эма состоит </a:t>
            </a:r>
            <a:r>
              <a:rPr b="1" lang="en-US" sz="3200" spc="-1" strike="noStrike">
                <a:solidFill>
                  <a:srgbClr val="00ffcc"/>
                </a:solidFill>
                <a:latin typeface="Tahoma"/>
              </a:rPr>
              <a:t>из 30 глав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, пролога и эпилога, условно разделяясь на три ча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ждая глава — небольшая новелла об эпизоде из фронтовой жизни Тёркина, не связанная с другими каким-либо общим сюжетом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6:31:42Z</dcterms:created>
  <dc:creator>Юля</dc:creator>
  <dc:description/>
  <dc:language>en-US</dc:language>
  <cp:lastModifiedBy>админ</cp:lastModifiedBy>
  <dcterms:modified xsi:type="dcterms:W3CDTF">2018-07-19T06:17:54Z</dcterms:modified>
  <cp:revision>36</cp:revision>
  <dc:subject/>
  <dc:title>Поэма «Василий Теркин»</dc:title>
</cp:coreProperties>
</file>