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58CA-7D80-42A1-99E0-93308796F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6A79-9745-42AA-BE4F-BBA6E85D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C87-D16E-4DA4-A339-58875ACB9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1A35-650A-4D2D-8DBB-8318F526C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75BB-3F2F-4E33-85F1-B7411417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7FBA-2420-43DA-AA7B-C8ECB85EE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CE08-6A31-4131-9F4F-87BE2E1D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DE01A-8E74-443A-9190-3122D69B0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D40D-E318-4172-A5EF-9A8C5C55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D479-CE05-4433-8C1C-1542CF4E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D03A-E154-4F08-95BE-C946B3FE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146-AE8F-4281-8117-A683F5B80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2670-2FCF-4107-9F64-1AC4B6B1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289C1-D8EC-4E00-9C0F-33330C2AA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C7FCD-2143-4643-9F71-2EB466AB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3E5F-2F80-4FEB-876D-67803160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32AB-503C-4CB1-9D0A-5F5E5372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381-329C-46D8-864D-D4C28253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0CCB-08E6-405A-AC79-F7AB3F30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92FE-B553-4AB8-8C7C-4E995ECE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061-B2EC-4198-AA89-3BDBEB58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EB19-4165-48D8-A3C6-4728D5A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CC75-F302-4944-83C3-64DFF8C7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A6AD-7044-4818-8C4A-77A1A059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DA63-CAED-43E7-BA3D-85C2EACFCB46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73E44-841C-4421-BBAA-96A299FC8EC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64360" cy="100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Художественные особенности поэмы «Василий Теркин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320040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Лирические отступле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четырёх авторских главах-отступлениях — рассуждения о войне, нелёгкой солдатской доле и намёки на то, как шла работа над книг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афос поэм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ая гла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"От автора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 ней Твардовский определил пафос поэмы: изображение правды, какой бы она ни бы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.. А всего иного пущ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е прожить наверняка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Без чего? Без правды сущ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равды, прямо в душу бью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а была б она погущ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ак бы ни была горь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Что сказано в поэме о войн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вествование поэмы не связано с ходом военной кампании 1941—1945 годов, но в нём присутствует хронологическая последовательность; упоминаются и угадываются конкретные сражения и операции Великой Отечественной войны: начальный период отступления 1941—1942 года, битва у Волги, переправа через Днепр, взятие Берлин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Бой идет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однократно в поэме звучит мысль, что война — это труд. Тяжелый, смертельно опасный, но необходимый и почетн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ой идет святой и прав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мертный бой не ради слав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Ради жизни на зем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вязь времен в поэм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динство поэме придает общая тематика — жизнь русского солдата, человека, обычного, земного, но и “чудо-человека”, не теряющего веры в себя и товарищей, в побе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Тем путем идут суровым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Что и двести лет назад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роходил с ружьем кремневы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Русский труженик-солд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242200" cy="144612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6" descr="памятник в Орехово-Зуеве.jpg"/>
          <p:cNvPicPr/>
          <p:nvPr/>
        </p:nvPicPr>
        <p:blipFill>
          <a:blip r:embed="rId2"/>
          <a:stretch/>
        </p:blipFill>
        <p:spPr>
          <a:xfrm>
            <a:off x="3206880" y="2279520"/>
            <a:ext cx="3060720" cy="4084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теркин-2.jpg"/>
          <p:cNvPicPr/>
          <p:nvPr/>
        </p:nvPicPr>
        <p:blipFill>
          <a:blip r:embed="rId3"/>
          <a:stretch/>
        </p:blipFill>
        <p:spPr>
          <a:xfrm rot="20951400">
            <a:off x="425160" y="1700280"/>
            <a:ext cx="2448000" cy="32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2" descr="G:\по Твардовскому\col_sselin_or.jpg"/>
          <p:cNvPicPr/>
          <p:nvPr/>
        </p:nvPicPr>
        <p:blipFill>
          <a:blip r:embed="rId4"/>
          <a:stretch/>
        </p:blipFill>
        <p:spPr>
          <a:xfrm rot="404400">
            <a:off x="6468840" y="1697040"/>
            <a:ext cx="2334960" cy="32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TextBox 16"/>
          <p:cNvSpPr/>
          <p:nvPr/>
        </p:nvSpPr>
        <p:spPr>
          <a:xfrm>
            <a:off x="3500280" y="5643720"/>
            <a:ext cx="250056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амятник Теркину в Орехово-Зуе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8680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G:\по Твардовскому\index_pic13.jpeg"/>
          <p:cNvPicPr/>
          <p:nvPr/>
        </p:nvPicPr>
        <p:blipFill>
          <a:blip r:embed="rId2"/>
          <a:stretch/>
        </p:blipFill>
        <p:spPr>
          <a:xfrm>
            <a:off x="971640" y="1773360"/>
            <a:ext cx="7345440" cy="4751280"/>
          </a:xfrm>
          <a:prstGeom prst="rect">
            <a:avLst/>
          </a:prstGeom>
          <a:ln w="76320">
            <a:solidFill>
              <a:srgbClr val="d00000"/>
            </a:solidFill>
            <a:miter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быкновенный солда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асилий Тёркин — балагур и весельчак, душа своего подразделения. В бою — пример для всех, находчивый воин, который не растеряется в самой сложной ситуации. На привале вокруг него всегда собирается компания — Тёркин споёт и сыграет на гармони, не полезет в карман за острым слов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астоящий солда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аненый, на волоске от смерти </a:t>
            </a:r>
            <a:r>
              <a:rPr b="1" lang="en-US" sz="3600" spc="-1" strike="noStrike">
                <a:solidFill>
                  <a:srgbClr val="00ffcc"/>
                </a:solidFill>
                <a:latin typeface="Tahoma"/>
              </a:rPr>
              <a:t>(глава «Смерть и воин»)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он находит силы собраться и вступить в схватку со Смертью, из которой выходит победителем. При встрече с мирным населением ведёт себя скромно и с достоинств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ёркин - бывалый солда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ркин предстаёт  как бывалый солдат, для которого жизнь — это оставшийся от отца дом, находящийся в опасности. Он — работник, хозяин и защитник этого д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ркин привлекает душевной силой, стойкостью, умением подниматься после каждого удара. Он шуткой смягчает рассказ о трех "сабантуях"; он ест "со смаком" солдатскую пищу; невозмутимо укладывается на сырой земле под дождем, укрывшись "одной шинелькой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G:\по Твардовскому\image5.PNG"/>
          <p:cNvPicPr/>
          <p:nvPr/>
        </p:nvPicPr>
        <p:blipFill>
          <a:blip r:embed="rId2"/>
          <a:stretch/>
        </p:blipFill>
        <p:spPr>
          <a:xfrm>
            <a:off x="3144960" y="1401840"/>
            <a:ext cx="3292200" cy="5310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гармонь-2.jpg"/>
          <p:cNvPicPr/>
          <p:nvPr/>
        </p:nvPicPr>
        <p:blipFill>
          <a:blip r:embed="rId3"/>
          <a:stretch/>
        </p:blipFill>
        <p:spPr>
          <a:xfrm rot="615600">
            <a:off x="6877080" y="1773360"/>
            <a:ext cx="1881000" cy="1349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два солдата.jpg"/>
          <p:cNvPicPr/>
          <p:nvPr/>
        </p:nvPicPr>
        <p:blipFill>
          <a:blip r:embed="rId4"/>
          <a:stretch/>
        </p:blipFill>
        <p:spPr>
          <a:xfrm rot="20889600">
            <a:off x="611280" y="2492280"/>
            <a:ext cx="1785960" cy="1249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бой.jpg"/>
          <p:cNvPicPr/>
          <p:nvPr/>
        </p:nvPicPr>
        <p:blipFill>
          <a:blip r:embed="rId5"/>
          <a:stretch/>
        </p:blipFill>
        <p:spPr>
          <a:xfrm rot="744000">
            <a:off x="6876720" y="3715920"/>
            <a:ext cx="1346040" cy="1776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олдат-богатырь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ркин живет как бы в двух измерениях: с одной стороны, это вполне реальный солдат, боец Советской Армии. С другой стороны, это русский сказочный солдат-богатырь, который в огне не горит и в воде не то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гатырь не тот, что в сказке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еззаботный великан,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 в походной запояс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Человек простой закваски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муках тверд и в горе гор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еркин жив и весел, чер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Любимый геро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0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асилий Теркин стал любимым героем; он раньше автора, создавшего его, был воплощен в скульптуру, установленную на Смоленщине. Твардовский нигде не описал внешность Теркина, но этот боец узнава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о серьезный, то потешн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Нипочем, что дождь, что снег,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В бой, вперед, в огонь кромешн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Он идет, святой и грешн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Русский чудо-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амятник А.Твардовскому и Василию Теркину в Смоленск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965760" cy="428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69920" y="260280"/>
            <a:ext cx="8974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а.твард.западный фронт.1943г. фото в.и.аркашева.jpg"/>
          <p:cNvPicPr/>
          <p:nvPr/>
        </p:nvPicPr>
        <p:blipFill>
          <a:blip r:embed="rId2"/>
          <a:stretch/>
        </p:blipFill>
        <p:spPr>
          <a:xfrm>
            <a:off x="165240" y="2451240"/>
            <a:ext cx="3473280" cy="448596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а.т.выступ. на митинге по случаю освобожд.г.смоленска.2 окт. 1943г.аркаш..jpg"/>
          <p:cNvPicPr/>
          <p:nvPr/>
        </p:nvPicPr>
        <p:blipFill>
          <a:blip r:embed="rId3"/>
          <a:stretch/>
        </p:blipFill>
        <p:spPr>
          <a:xfrm>
            <a:off x="5924520" y="2554200"/>
            <a:ext cx="3024360" cy="4334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теркин-11.bmp"/>
          <p:cNvPicPr/>
          <p:nvPr/>
        </p:nvPicPr>
        <p:blipFill>
          <a:blip r:embed="rId4"/>
          <a:stretch/>
        </p:blipFill>
        <p:spPr>
          <a:xfrm>
            <a:off x="3382920" y="1262160"/>
            <a:ext cx="2743200" cy="3730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4920" y="285480"/>
            <a:ext cx="84978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История создания поэ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Твардовского "Василий Теркин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ася Теркин, любимый многими герой военных лет, появился во фронтовой печати еще до Великой Отечественной –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в 1939–1940 годах, во время войны с Финляндией</a:t>
            </a:r>
            <a:r>
              <a:rPr b="1" lang="en-US" sz="2400" spc="-1" strike="noStrike" baseline="30000">
                <a:solidFill>
                  <a:srgbClr val="00ffcc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Создан он был коллективом авторов, среди которых был и Твардовский. Это был удачливый и веселый боец, всегда побеждающий врагов. Герой этот напоминал персонажей комиксов или серий карикатур: "Человек он сам собой / Необыкновенный... / Богатырь, сажень в плечах... / И врагов на штык берет, / Как снопы на вилы" и т.п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560" y="214200"/>
            <a:ext cx="87138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История создания поэ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Твардовского "Василий Теркин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е завершения финской кампании Твардовский начал работу над поэмой, герой которой – Вася Теркин – был участником прошедшей войны. Предполагалось, что летом 1941(!) года поэма будет заверш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 началом войны Твардовский был назначен на должность "писателя" в газету "Красная Армия" Киевского военного округа и выехал на фронт. В первые, самые тяжелые, месяцы войны Твардовскому было не до поэмы: вместе с армией он прошел всю войну, выходил из окружения в 1941 году. К мысли о "Теркине" поэт вернулся в июне 1942 года, только это была уже поэма о новой войне и, по сути, о новом герое – прежде балагуре и весельча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История создания поэмы </a:t>
            </a:r>
            <a:br>
              <a:rPr sz="28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Твардовского "Василий Теркин"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был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не "Вася Теркин", а "Василий Теркин"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Сменилось имя, сменилась концепция героя: ничего не осталось теперь от квадратного подбородка, автор сосредоточился на характере Теркина, на его фронтовой (и не только фронтовой) философии, на его роли в судьбах других людей – персонажей поэмы.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Новое название поэмы было объявлено в творческом отчете Твардовского 22 июня 1942 года – "Василий Теркин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3840" y="28584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эма создавалась в течение всей войны, следовала за ее ходом.  Первые главы были опубликованы летом 1942 года, после тяжелого и длительного (казалось, бесконечного) отступления наших войск к Волге и Северному Кавказу, в тяжелейшее, непредсказуемое для дальнейшего хода войны время. Все были охвачены тревогой: что дальше; удастся ли остановить немцев? Вряд ли тогда было "до литературы", "до поэзии". Но поэма сразу же стала знаменитой (как это ни удивительно – задолго до своего завершения), газеты с главами поэмы, как свидетельствуют очевидцы, с нетерпением ожидались читателями, передавались из рук в ру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Иван Бунин о поэме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поистине редкая книга: какая свобода, какая чудесная удаль, какая меткость, точность во всем и какой необыкновенный народный солдатский язык — ни сучка ни задоринки, ни единого фальшивого, готового, то есть литературно-пошлого сло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454560" cy="4222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мпозиция поэм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эма состоит </a:t>
            </a:r>
            <a:r>
              <a:rPr b="1" lang="en-US" sz="3200" spc="-1" strike="noStrike">
                <a:solidFill>
                  <a:srgbClr val="00ffcc"/>
                </a:solidFill>
                <a:latin typeface="Tahoma"/>
              </a:rPr>
              <a:t>из 30 гла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олога и эпилога, условно разделяясь на три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ждая глава — небольшая новелла об эпизоде из фронтовой жизни Тёркина, не связанная с другими каким-либо общим сюжет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31:42Z</dcterms:created>
  <dc:creator>Юля</dc:creator>
  <dc:description/>
  <dc:language>en-US</dc:language>
  <cp:lastModifiedBy>админ</cp:lastModifiedBy>
  <dcterms:modified xsi:type="dcterms:W3CDTF">2018-07-19T06:17:54Z</dcterms:modified>
  <cp:revision>36</cp:revision>
  <dc:subject/>
  <dc:title>Поэма «Василий Теркин»</dc:title>
</cp:coreProperties>
</file>