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8.jpeg" ContentType="image/jpe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AE7F-755D-4125-AFB0-23370913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F9B6-21B8-4DC4-A175-BDED2966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8CD6-538D-4A40-9452-FE3E81BF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EAF8-2CFE-4790-AEF0-094F21CD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077-3F1D-4AC7-B0ED-DFE1CF3F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1ECC-3096-4070-A532-3FF9D231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4AF7-176E-4BD7-A5C3-CF2C847F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1728-6993-4DDE-B9F8-E325D0EE5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8E4-4BFB-4469-9DFA-6F22A712C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73D-EF32-4790-AF04-CF71B538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7303-EF04-4758-B620-30F20707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F7A-F084-4D6F-9037-3A9AA296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E071-3CAA-4C13-B9C3-FFC0345BF1A1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buchonok.ru/metody" TargetMode="External"/><Relationship Id="rId2" Type="http://schemas.openxmlformats.org/officeDocument/2006/relationships/hyperlink" Target="http://obuchonok.ru/metody" TargetMode="External"/><Relationship Id="rId3" Type="http://schemas.openxmlformats.org/officeDocument/2006/relationships/hyperlink" Target="http://obuchonok.ru/cel-raboty" TargetMode="External"/><Relationship Id="rId4" Type="http://schemas.openxmlformats.org/officeDocument/2006/relationships/hyperlink" Target="http://obuchonok.ru/zadachi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95960" y="866520"/>
            <a:ext cx="42991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ТРАНИЦЫ ИСТОРИИ МАЛОЙ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68920" y="5656320"/>
            <a:ext cx="483552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. Красный Текстильщ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1054080" y="762120"/>
            <a:ext cx="4876920" cy="30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Хмелёвка\фотки о хмелёвке\Изображение 014.jpg"/>
          <p:cNvPicPr/>
          <p:nvPr/>
        </p:nvPicPr>
        <p:blipFill>
          <a:blip r:embed="rId2"/>
          <a:stretch/>
        </p:blipFill>
        <p:spPr>
          <a:xfrm>
            <a:off x="1776240" y="3672000"/>
            <a:ext cx="3402360" cy="25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0320" y="742680"/>
            <a:ext cx="49068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вятодуховское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19960" y="442800"/>
            <a:ext cx="4744800" cy="5564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49560" y="1306080"/>
            <a:ext cx="46198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запрошлом веке Хмелевка была центром притяжения округи. Именно в этом селе в 1817 году была построена большая каменная церковь. Сюда собирались в праздничные дни на богомолье обитатели Багаевки, Буркина Буерака и Колотова Буерака. Она была разрушена в 1937 году. Постепенно  кирпичи растащили, а в последние годы это место оказалось под дачными постройками. По-видимому, оно обладает особой энергетикой. Ходят легенды, что жители слышали звон колокола или хоровое пение уже после взрыва церкв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здесь в 1871 году была основана земская  школа. Учебный период продолжался с сентября по ию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92240" y="1911240"/>
            <a:ext cx="4408560" cy="36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495468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Шко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52360"/>
            <a:ext cx="4500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0 году в Хмелёвке начала работу школа, преобразованная впоследствии в земскую.  Учебный период продолжался с сентября по ию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был только 1 преподаватель и 30 учащихся мальчиков. Имелось 5 учебных досок, 1 счёты  и  38 учебников. Было только 2 стола, поэтому большинство детей сидело на по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проводилось по 3-х годичной программе, в которую входили предметы: Закон Божий, Русское и Славянское чтение, первые 4 правила арифметики, письмо и чт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Похожее изображение"/>
          <p:cNvPicPr/>
          <p:nvPr/>
        </p:nvPicPr>
        <p:blipFill>
          <a:blip r:embed="rId1"/>
          <a:srcRect l="8175" t="0" r="3697" b="0"/>
          <a:stretch/>
        </p:blipFill>
        <p:spPr>
          <a:xfrm>
            <a:off x="6792840" y="760320"/>
            <a:ext cx="4465800" cy="3360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6649920" y="43401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шина Елена Викторовна с учениками с. Хмелевка, Саратовской обл.,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2800" y="248760"/>
            <a:ext cx="50878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Борисов-Мус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68480" y="4738320"/>
            <a:ext cx="4690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2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, хмелевские корни имеются у известного русского художника Виктора Эльпидифоровича Борисова-Мусатова. Его предки – Мусатовы, по преданию крещеные татары, издавна жили в селе Хмелев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71840" y="5159520"/>
            <a:ext cx="518148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C:\Users\Администратор\Desktop\download.jpg"/>
          <p:cNvPicPr/>
          <p:nvPr/>
        </p:nvPicPr>
        <p:blipFill>
          <a:blip r:embed="rId1"/>
          <a:stretch/>
        </p:blipFill>
        <p:spPr>
          <a:xfrm>
            <a:off x="7800840" y="3457440"/>
            <a:ext cx="3453120" cy="291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Администратор\Desktop\images.jpg"/>
          <p:cNvPicPr/>
          <p:nvPr/>
        </p:nvPicPr>
        <p:blipFill>
          <a:blip r:embed="rId2"/>
          <a:stretch/>
        </p:blipFill>
        <p:spPr>
          <a:xfrm>
            <a:off x="1249200" y="1163520"/>
            <a:ext cx="2625840" cy="345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Администратор\Desktop\download.jpg"/>
          <p:cNvPicPr/>
          <p:nvPr/>
        </p:nvPicPr>
        <p:blipFill>
          <a:blip r:embed="rId3"/>
          <a:stretch/>
        </p:blipFill>
        <p:spPr>
          <a:xfrm>
            <a:off x="6719760" y="450720"/>
            <a:ext cx="1984680" cy="2916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8839080" y="59688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ий 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922360" y="5878440"/>
            <a:ext cx="163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2200" y="364680"/>
            <a:ext cx="51832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Хмеле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440" y="374760"/>
            <a:ext cx="48956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Легенды старого с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2174760"/>
            <a:ext cx="5386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495840" y="1341000"/>
            <a:ext cx="4738680" cy="13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ину жители села разводили хмель в своих огородах. Это их занятие носило промысловый характер. Поэтому сельчан прозвали хмелеводами, а село стало называться Хмелёв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92360" y="2174760"/>
            <a:ext cx="5389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640560" y="2612880"/>
            <a:ext cx="4476600" cy="31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:\OLD\диск Е\Новая папка\Документы 2009-2010 уч год\ПРОЕКТЫ\2018\Краеведение\последний\IMG_20180325_133540.jpg"/>
          <p:cNvPicPr/>
          <p:nvPr/>
        </p:nvPicPr>
        <p:blipFill>
          <a:blip r:embed="rId2"/>
          <a:stretch/>
        </p:blipFill>
        <p:spPr>
          <a:xfrm>
            <a:off x="1081080" y="2216160"/>
            <a:ext cx="4591080" cy="388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F:\OLD\диск Е\Новая папка\Документы 2009-2010 уч год\ПРОЕКТЫ\2018\Краеведение\последний\IMG_20180325_133658.jpg"/>
          <p:cNvPicPr/>
          <p:nvPr/>
        </p:nvPicPr>
        <p:blipFill>
          <a:blip r:embed="rId3"/>
          <a:stretch/>
        </p:blipFill>
        <p:spPr>
          <a:xfrm>
            <a:off x="4267080" y="1182600"/>
            <a:ext cx="154800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52243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аратовская мануфак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oldsaratov.ru/sites/default/files/styles/post_image/public/photos/gubernia/2015-06/hmelyovka.jpg?itok=cDxndLPn"/>
          <p:cNvPicPr/>
          <p:nvPr/>
        </p:nvPicPr>
        <p:blipFill>
          <a:blip r:embed="rId1"/>
          <a:stretch/>
        </p:blipFill>
        <p:spPr>
          <a:xfrm>
            <a:off x="2325600" y="1092240"/>
            <a:ext cx="3243240" cy="2435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6543720" y="63504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1912 года. Более подробные данные -1910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oldsaratov.ru/sites/default/files/attachs/bezymyannyy-98_0.jpg"/>
          <p:cNvPicPr/>
          <p:nvPr/>
        </p:nvPicPr>
        <p:blipFill>
          <a:blip r:embed="rId2"/>
          <a:stretch/>
        </p:blipFill>
        <p:spPr>
          <a:xfrm>
            <a:off x="6602400" y="1441440"/>
            <a:ext cx="4608360" cy="976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http://oldsaratov.ru/sites/default/files/attachs/1910_0.jpg"/>
          <p:cNvPicPr/>
          <p:nvPr/>
        </p:nvPicPr>
        <p:blipFill>
          <a:blip r:embed="rId3"/>
          <a:stretch/>
        </p:blipFill>
        <p:spPr>
          <a:xfrm>
            <a:off x="6545160" y="2803680"/>
            <a:ext cx="4772160" cy="2908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oldsaratov.ru/sites/default/files/photos/gubernia/2013-12/y2d3c84fe.jpg"/>
          <p:cNvPicPr/>
          <p:nvPr/>
        </p:nvPicPr>
        <p:blipFill>
          <a:blip r:embed="rId4"/>
          <a:stretch/>
        </p:blipFill>
        <p:spPr>
          <a:xfrm>
            <a:off x="1293840" y="3773520"/>
            <a:ext cx="4314960" cy="2422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1389240" y="32893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sadservie.ru/images/post/text/6c1b692454437971bcb0812c2250a99d.jpg"/>
          <p:cNvPicPr/>
          <p:nvPr/>
        </p:nvPicPr>
        <p:blipFill>
          <a:blip r:embed="rId1"/>
          <a:stretch/>
        </p:blipFill>
        <p:spPr>
          <a:xfrm>
            <a:off x="7037280" y="3848040"/>
            <a:ext cx="3776760" cy="251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sadservie.ru/images/post/text/5c03f0099fc8d8b4e5840ed503c6345d.jpg"/>
          <p:cNvPicPr/>
          <p:nvPr/>
        </p:nvPicPr>
        <p:blipFill>
          <a:blip r:embed="rId2"/>
          <a:stretch/>
        </p:blipFill>
        <p:spPr>
          <a:xfrm>
            <a:off x="7043760" y="1249200"/>
            <a:ext cx="3647880" cy="2432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44520"/>
            <a:ext cx="5087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. Хмелё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Прямоугольник 8" descr=""/>
          <p:cNvPicPr/>
          <p:nvPr/>
        </p:nvPicPr>
        <p:blipFill>
          <a:blip r:embed="rId3"/>
          <a:stretch/>
        </p:blipFill>
        <p:spPr>
          <a:xfrm>
            <a:off x="6504120" y="493560"/>
            <a:ext cx="4736880" cy="5176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9"/>
          <p:cNvSpPr/>
          <p:nvPr/>
        </p:nvSpPr>
        <p:spPr>
          <a:xfrm>
            <a:off x="2035800" y="31845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. Хмелё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F:\OLD\диск Е\Е\Мои рисунки\троица в хмелёвке\IMG_4419.jpg"/>
          <p:cNvPicPr/>
          <p:nvPr/>
        </p:nvPicPr>
        <p:blipFill>
          <a:blip r:embed="rId4"/>
          <a:stretch/>
        </p:blipFill>
        <p:spPr>
          <a:xfrm>
            <a:off x="1650960" y="3784680"/>
            <a:ext cx="3218040" cy="241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F:\Хмелёвка\фотки о хмелёвке\Изображение 143.jpg"/>
          <p:cNvPicPr/>
          <p:nvPr/>
        </p:nvPicPr>
        <p:blipFill>
          <a:blip r:embed="rId5"/>
          <a:stretch/>
        </p:blipFill>
        <p:spPr>
          <a:xfrm>
            <a:off x="1690560" y="996840"/>
            <a:ext cx="2987640" cy="224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606600"/>
            <a:ext cx="46004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258920" y="1610640"/>
            <a:ext cx="425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человека есть своя малая родина. Это место где человек родился, вырос. Для меня малая Родина – мой посёлок с таким интересным названием Хмелёв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над темой, я с большим интересом познавала историю своей малой Родины. Исследовательская работа оказалась увлекательным и познавательным делом. Своими исследованиями я готова поделиться со своими однокласс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6912000" y="816120"/>
            <a:ext cx="406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гипотез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дилась. Действительно, все три населённых пункта связаны между собой, потому что имеют одни корни. Село Хмелёвка является прародительницей п.Хмелёвский и п.Красный Текстильщик. Как мать и два сына они живут бок о бо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91720" y="320760"/>
            <a:ext cx="5087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вед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694560" y="857160"/>
            <a:ext cx="4357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Гипотез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будем знать историю своей малой Родины, мы будем бережно относится к каждому её уго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Методы исслед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бобщение литературных источников, интернет ресурс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ров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27080" y="1103040"/>
            <a:ext cx="48816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Цель исследовательск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трёх рядом стоящих населённых пунктов, с.Хмелёвка, п. Хмелёвский и п. Красный Текстильщик Рассказать своим одноклассникам на уроке краеведения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Задачи исследовательск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 анкетирование учащихся клас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  историческое прошлое малой Род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историей о знаменитых личност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 историю интересных событ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ать интересную информацию в книгах в ресурсах интерн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  информацию из газет «Ворошиловец», «Большая Волга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 получен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364680"/>
            <a:ext cx="508788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очка на карте</a:t>
            </a:r>
            <a:br>
              <a:rPr sz="3200"/>
            </a:br>
            <a:br>
              <a:rPr sz="3200"/>
            </a:b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ело Хмелёвка, посёлок Хмелёвский </a:t>
            </a:r>
            <a:br>
              <a:rPr sz="1800"/>
            </a:b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 посёлок Красный Текстильщ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OLD\диск Е\Новая папка\Документы 2009-2010 уч год\ПРОЕКТЫ\2018\Краеведение\карта 3.PNG"/>
          <p:cNvPicPr/>
          <p:nvPr/>
        </p:nvPicPr>
        <p:blipFill>
          <a:blip r:embed="rId1"/>
          <a:stretch/>
        </p:blipFill>
        <p:spPr>
          <a:xfrm>
            <a:off x="6715080" y="2692440"/>
            <a:ext cx="4052880" cy="33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85840" y="2401920"/>
            <a:ext cx="4322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alt"/>
          <p:cNvPicPr/>
          <p:nvPr/>
        </p:nvPicPr>
        <p:blipFill>
          <a:blip r:embed="rId2"/>
          <a:stretch/>
        </p:blipFill>
        <p:spPr>
          <a:xfrm>
            <a:off x="1023840" y="2703600"/>
            <a:ext cx="4476960" cy="2830320"/>
          </a:xfrm>
          <a:prstGeom prst="rect">
            <a:avLst/>
          </a:prstGeom>
          <a:ln w="0">
            <a:noFill/>
          </a:ln>
        </p:spPr>
      </p:pic>
      <p:sp>
        <p:nvSpPr>
          <p:cNvPr id="52" name="Блок-схема: узел 13"/>
          <p:cNvSpPr/>
          <p:nvPr/>
        </p:nvSpPr>
        <p:spPr>
          <a:xfrm>
            <a:off x="2803680" y="3673440"/>
            <a:ext cx="177480" cy="166680"/>
          </a:xfrm>
          <a:prstGeom prst="flowChartConnector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551640" y="395280"/>
            <a:ext cx="4543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селённые пункты находятся близко друг к другу, тесно взаимодействуют на протяжении многих лет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 них общего? Какая у них история ? Какие знаменитые личности жили в этой местности? Какие  интересные события происходили на этой территории? Были ли у них другие названия, и что повлияло на их переименова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5" descr=""/>
          <p:cNvPicPr/>
          <p:nvPr/>
        </p:nvPicPr>
        <p:blipFill>
          <a:blip r:embed="rId1"/>
          <a:stretch/>
        </p:blipFill>
        <p:spPr>
          <a:xfrm>
            <a:off x="0" y="1692360"/>
            <a:ext cx="4687920" cy="4145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826560"/>
            <a:ext cx="52722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Анкета «А знаешь ли ты историю своего родного края? »</a:t>
            </a:r>
            <a:br>
              <a:rPr sz="4000"/>
            </a:b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1225440"/>
            <a:ext cx="5018040" cy="414360"/>
          </a:xfrm>
          <a:prstGeom prst="rect">
            <a:avLst/>
          </a:prstGeom>
          <a:ln w="0">
            <a:noFill/>
          </a:ln>
        </p:spPr>
      </p:pic>
      <p:pic>
        <p:nvPicPr>
          <p:cNvPr id="57" name="Диаграмма 12" descr=""/>
          <p:cNvPicPr/>
          <p:nvPr/>
        </p:nvPicPr>
        <p:blipFill>
          <a:blip r:embed="rId3"/>
          <a:stretch/>
        </p:blipFill>
        <p:spPr>
          <a:xfrm>
            <a:off x="6159600" y="317520"/>
            <a:ext cx="5137200" cy="616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4" descr=""/>
          <p:cNvPicPr/>
          <p:nvPr/>
        </p:nvPicPr>
        <p:blipFill>
          <a:blip r:embed="rId1"/>
          <a:stretch/>
        </p:blipFill>
        <p:spPr>
          <a:xfrm>
            <a:off x="830160" y="689040"/>
            <a:ext cx="4680000" cy="562608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7" descr=""/>
          <p:cNvPicPr/>
          <p:nvPr/>
        </p:nvPicPr>
        <p:blipFill>
          <a:blip r:embed="rId2"/>
          <a:stretch/>
        </p:blipFill>
        <p:spPr>
          <a:xfrm>
            <a:off x="6267600" y="276120"/>
            <a:ext cx="5056200" cy="620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1" descr=""/>
          <p:cNvPicPr/>
          <p:nvPr/>
        </p:nvPicPr>
        <p:blipFill>
          <a:blip r:embed="rId1"/>
          <a:stretch/>
        </p:blipFill>
        <p:spPr>
          <a:xfrm>
            <a:off x="946080" y="668160"/>
            <a:ext cx="4986360" cy="5521680"/>
          </a:xfrm>
          <a:prstGeom prst="rect">
            <a:avLst/>
          </a:prstGeom>
          <a:ln w="0">
            <a:noFill/>
          </a:ln>
        </p:spPr>
      </p:pic>
      <p:pic>
        <p:nvPicPr>
          <p:cNvPr id="61" name="Диаграмма 2" descr=""/>
          <p:cNvPicPr/>
          <p:nvPr/>
        </p:nvPicPr>
        <p:blipFill>
          <a:blip r:embed="rId2"/>
          <a:stretch/>
        </p:blipFill>
        <p:spPr>
          <a:xfrm>
            <a:off x="6432480" y="668160"/>
            <a:ext cx="4727520" cy="552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Диаграмма 1" descr=""/>
          <p:cNvPicPr/>
          <p:nvPr/>
        </p:nvPicPr>
        <p:blipFill>
          <a:blip r:embed="rId1"/>
          <a:stretch/>
        </p:blipFill>
        <p:spPr>
          <a:xfrm>
            <a:off x="890640" y="668160"/>
            <a:ext cx="4987800" cy="5521680"/>
          </a:xfrm>
          <a:prstGeom prst="rect">
            <a:avLst/>
          </a:prstGeom>
          <a:ln w="0">
            <a:noFill/>
          </a:ln>
        </p:spPr>
      </p:pic>
      <p:pic>
        <p:nvPicPr>
          <p:cNvPr id="63" name="Диаграмма 2" descr=""/>
          <p:cNvPicPr/>
          <p:nvPr/>
        </p:nvPicPr>
        <p:blipFill>
          <a:blip r:embed="rId2"/>
          <a:stretch/>
        </p:blipFill>
        <p:spPr>
          <a:xfrm>
            <a:off x="6418440" y="453960"/>
            <a:ext cx="4863960" cy="5884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6510240" y="490104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полученных данных, делаю вывод о необходимости моего  исследования. Что бы не быть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ами, не помнящими своего род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500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еоретическая знач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671880" y="1802880"/>
            <a:ext cx="4560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520" indent="4939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ей исследовательской работы состоит в том, что её в дальнейшем  смогут использовать ученики как дополнительную информацию для расширения своего кругозора, для подготовки к уроку, для создания викторин.  Так же материал можно использовать для оформления информационного стенда в сельской библиотеке, школе, клубе, а так же для создания небольшого видеофильм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520" indent="49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17080" y="1825200"/>
            <a:ext cx="4605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49356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значим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оего проекта заключается в том, что она  важна не только для меня, но и для моих сверстников, так как в школе мы проходим курс «Краеведение»,  мы просто обязаны, не только получать готовые знания от учителя, а самостоятельно находить и узнавать что-то новое о своём родном крае. Думаю у моих одноклассников появиться живой интерес и  желание продолжить мои исследования в области изучения своего кр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40" indent="493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Прямоугольник 5"/>
          <p:cNvGrpSpPr/>
          <p:nvPr/>
        </p:nvGrpSpPr>
        <p:grpSpPr>
          <a:xfrm>
            <a:off x="6576840" y="517680"/>
            <a:ext cx="4608720" cy="1231920"/>
            <a:chOff x="6576840" y="517680"/>
            <a:chExt cx="4608720" cy="123192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6576840" y="517680"/>
              <a:ext cx="46087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599160" y="534960"/>
              <a:ext cx="457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3152"/>
                  </a:solidFill>
                  <a:latin typeface="Times New Roman"/>
                  <a:ea typeface="Times New Roman"/>
                </a:rPr>
                <a:t>Практическая значимость</a:t>
              </a:r>
              <a:r>
                <a:rPr b="0" lang="ru-RU" sz="3600" spc="-1" strike="noStrike">
                  <a:solidFill>
                    <a:srgbClr val="403152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1840" y="388440"/>
            <a:ext cx="50882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История села Шахмат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7" descr="http://library.sgu.ru/elcol/chaxmatov.jpg"/>
          <p:cNvPicPr/>
          <p:nvPr/>
        </p:nvPicPr>
        <p:blipFill>
          <a:blip r:embed="rId1"/>
          <a:stretch/>
        </p:blipFill>
        <p:spPr>
          <a:xfrm>
            <a:off x="7029360" y="971640"/>
            <a:ext cx="3378240" cy="39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"/>
          <p:cNvSpPr txBox="1"/>
          <p:nvPr/>
        </p:nvSpPr>
        <p:spPr>
          <a:xfrm>
            <a:off x="6098760" y="930240"/>
            <a:ext cx="508788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Александрович Шахматов (1864 – 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C:\Users\Администратор\Desktop\проект краевед\p0484.jpg"/>
          <p:cNvPicPr/>
          <p:nvPr/>
        </p:nvPicPr>
        <p:blipFill>
          <a:blip r:embed="rId2"/>
          <a:stretch/>
        </p:blipFill>
        <p:spPr>
          <a:xfrm>
            <a:off x="1784520" y="2076480"/>
            <a:ext cx="3373200" cy="36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09:14:47Z</dcterms:created>
  <dc:creator>User</dc:creator>
  <dc:description/>
  <dc:language>en-US</dc:language>
  <cp:lastModifiedBy>1</cp:lastModifiedBy>
  <dcterms:modified xsi:type="dcterms:W3CDTF">2018-07-19T19:21:35Z</dcterms:modified>
  <cp:revision>115</cp:revision>
  <dc:subject/>
  <dc:title>Презентация PowerPoint</dc:title>
</cp:coreProperties>
</file>