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4.jpeg" ContentType="image/jpeg"/>
  <Override PartName="/ppt/media/image23.png" ContentType="image/png"/>
  <Override PartName="/ppt/media/image21.jpeg" ContentType="image/jpeg"/>
  <Override PartName="/ppt/media/image28.jpeg" ContentType="image/jpeg"/>
  <Override PartName="/ppt/media/image11.png" ContentType="image/png"/>
  <Override PartName="/ppt/media/image32.png" ContentType="image/png"/>
  <Override PartName="/ppt/media/image7.png" ContentType="image/png"/>
  <Override PartName="/ppt/media/image34.jpeg" ContentType="image/jpeg"/>
  <Override PartName="/ppt/media/image18.png" ContentType="image/png"/>
  <Override PartName="/ppt/media/image12.png" ContentType="image/png"/>
  <Override PartName="/ppt/media/image20.jpeg" ContentType="image/jpeg"/>
  <Override PartName="/ppt/media/image8.png" ContentType="image/png"/>
  <Override PartName="/ppt/media/image13.png" ContentType="image/png"/>
  <Override PartName="/ppt/media/image30.jpeg" ContentType="image/jpeg"/>
  <Override PartName="/ppt/media/image31.jpeg" ContentType="image/jpeg"/>
  <Override PartName="/ppt/media/image4.jpeg" ContentType="image/jpeg"/>
  <Override PartName="/ppt/media/image19.jpeg" ContentType="image/jpeg"/>
  <Override PartName="/ppt/media/image25.png" ContentType="image/png"/>
  <Override PartName="/ppt/media/image22.jpeg" ContentType="image/jpeg"/>
  <Override PartName="/ppt/media/image9.png" ContentType="image/png"/>
  <Override PartName="/ppt/media/image33.jpeg" ContentType="image/jpeg"/>
  <Override PartName="/ppt/media/image10.png" ContentType="image/png"/>
  <Override PartName="/ppt/media/image27.jpeg" ContentType="image/jpeg"/>
  <Override PartName="/ppt/media/image6.png" ContentType="image/png"/>
  <Override PartName="/ppt/media/image5.png" ContentType="image/png"/>
  <Override PartName="/ppt/media/image29.jpeg" ContentType="image/jpeg"/>
  <Override PartName="/ppt/media/image3.png" ContentType="image/png"/>
  <Override PartName="/ppt/media/image2.jpeg" ContentType="image/jpeg"/>
  <Override PartName="/ppt/media/image1.png" ContentType="image/png"/>
  <Override PartName="/ppt/media/image14.png" ContentType="image/png"/>
  <Override PartName="/ppt/media/image15.jpeg" ContentType="image/jpeg"/>
  <Override PartName="/ppt/media/image16.jpeg" ContentType="image/jpeg"/>
  <Override PartName="/ppt/media/image1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F0FF6-96DA-476C-BE55-D9D385F42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C0288-215B-4122-9433-BEF8973B8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DE8F6-B5F2-4963-879F-273A94AB8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D0469-97C6-429A-A0ED-D7DAAE6D1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8C18C-45C8-46C0-A43C-241466A68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C718C-9FCC-44A4-885B-35D9B3C60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E1549-8A18-4F97-8364-0520A87C5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32EDA-2605-4C38-8C5F-BF8C8EDC6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AA0E9-60A5-40D4-ACBF-73BE6FA40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66C7F-7576-411B-909E-05FD2B28F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A6F4E-4E10-4B06-9763-13EB50D7F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53620-BB1F-44D6-BEF5-3040E30D8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4580C-38FF-4999-8137-DB9E4433063A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png"/><Relationship Id="rId4" Type="http://schemas.openxmlformats.org/officeDocument/2006/relationships/image" Target="../media/image33.jpeg"/><Relationship Id="rId5" Type="http://schemas.openxmlformats.org/officeDocument/2006/relationships/image" Target="../media/image34.jpe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obuchonok.ru/metody" TargetMode="External"/><Relationship Id="rId2" Type="http://schemas.openxmlformats.org/officeDocument/2006/relationships/hyperlink" Target="http://obuchonok.ru/metody" TargetMode="External"/><Relationship Id="rId3" Type="http://schemas.openxmlformats.org/officeDocument/2006/relationships/hyperlink" Target="http://obuchonok.ru/cel-raboty" TargetMode="External"/><Relationship Id="rId4" Type="http://schemas.openxmlformats.org/officeDocument/2006/relationships/hyperlink" Target="http://obuchonok.ru/zadachi" TargetMode="External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095960" y="866520"/>
            <a:ext cx="4299120" cy="151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04a7b"/>
                </a:solidFill>
                <a:latin typeface="Times New Roman"/>
                <a:ea typeface="Times New Roman"/>
              </a:rPr>
              <a:t>СТРАНИЦЫ ИСТОРИИ МАЛОЙ РОДИН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568920" y="5656320"/>
            <a:ext cx="4835520" cy="806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п. Красный Текстильщик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2018 год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Прямоугольник 3" descr=""/>
          <p:cNvPicPr/>
          <p:nvPr/>
        </p:nvPicPr>
        <p:blipFill>
          <a:blip r:embed="rId1"/>
          <a:stretch/>
        </p:blipFill>
        <p:spPr>
          <a:xfrm>
            <a:off x="1054080" y="762120"/>
            <a:ext cx="4876920" cy="30607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F:\Хмелёвка\фотки о хмелёвке\Изображение 014.jpg"/>
          <p:cNvPicPr/>
          <p:nvPr/>
        </p:nvPicPr>
        <p:blipFill>
          <a:blip r:embed="rId2"/>
          <a:stretch/>
        </p:blipFill>
        <p:spPr>
          <a:xfrm>
            <a:off x="1776240" y="3672000"/>
            <a:ext cx="3402360" cy="2550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30320" y="742680"/>
            <a:ext cx="4906800" cy="1050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04a7b"/>
                </a:solidFill>
                <a:latin typeface="Times New Roman"/>
                <a:ea typeface="Times New Roman"/>
              </a:rPr>
              <a:t>Святодуховское</a:t>
            </a:r>
            <a:br>
              <a:rPr sz="2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6519960" y="442800"/>
            <a:ext cx="4744800" cy="556416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649560" y="1306080"/>
            <a:ext cx="4619880" cy="476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озапрошлом веке Хмелевка была центром притяжения округи. Именно в этом селе в 1817 году была построена большая каменная церковь. Сюда собирались в праздничные дни на богомолье обитатели Багаевки, Буркина Буерака и Колотова Буерака. Она была разрушена в 1937 году. Постепенно  кирпичи растащили, а в последние годы это место оказалось под дачными постройками. По-видимому, оно обладает особой энергетикой. Ходят легенды, что жители слышали звон колокола или хоровое пение уже после взрыва церкви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же здесь в 1871 году была основана земская  школа. Учебный период продолжался с сентября по июн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2" descr=""/>
          <p:cNvPicPr/>
          <p:nvPr/>
        </p:nvPicPr>
        <p:blipFill>
          <a:blip r:embed="rId2"/>
          <a:stretch/>
        </p:blipFill>
        <p:spPr>
          <a:xfrm>
            <a:off x="1092240" y="1911240"/>
            <a:ext cx="4408560" cy="3625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4954680" cy="52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04a7b"/>
                </a:solidFill>
                <a:latin typeface="Calibri"/>
              </a:rPr>
              <a:t>Школа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0" y="1152360"/>
            <a:ext cx="4500720" cy="48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1850 году в Хмелёвке начала работу школа, преобразованная впоследствии в земскую.  Учебный период продолжался с сентября по июнь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м был только 1 преподаватель и 30 учащихся мальчиков. Имелось 5 учебных досок, 1 счёты  и  38 учебников. Было только 2 стола, поэтому большинство детей сидело на полу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подавание проводилось по 3-х годичной программе, в которую входили предметы: Закон Божий, Русское и Славянское чтение, первые 4 правила арифметики, письмо и чтени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2" descr="Похожее изображение"/>
          <p:cNvPicPr/>
          <p:nvPr/>
        </p:nvPicPr>
        <p:blipFill>
          <a:blip r:embed="rId1"/>
          <a:srcRect l="8175" t="0" r="3697" b="0"/>
          <a:stretch/>
        </p:blipFill>
        <p:spPr>
          <a:xfrm>
            <a:off x="6792840" y="760320"/>
            <a:ext cx="4465800" cy="3360960"/>
          </a:xfrm>
          <a:prstGeom prst="rect">
            <a:avLst/>
          </a:prstGeom>
          <a:ln w="0">
            <a:noFill/>
          </a:ln>
        </p:spPr>
      </p:pic>
      <p:sp>
        <p:nvSpPr>
          <p:cNvPr id="82" name="Прямоугольник 5"/>
          <p:cNvSpPr/>
          <p:nvPr/>
        </p:nvSpPr>
        <p:spPr>
          <a:xfrm>
            <a:off x="6649920" y="4340160"/>
            <a:ext cx="46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игошина Елена Викторовна с учениками с. Хмелевка, Саратовской обл., 19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02800" y="248760"/>
            <a:ext cx="5087880" cy="114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04a7b"/>
                </a:solidFill>
                <a:latin typeface="Calibri"/>
              </a:rPr>
              <a:t>Борисов-Мусат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1068480" y="4738320"/>
            <a:ext cx="4690800" cy="16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44280" algn="just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азывается, хмелевские корни имеются у известного русского художника Виктора Эльпидифоровича Борисова-Мусатова. Его предки – Мусатовы, по преданию крещеные татары, издавна жили в селе Хмелевка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6171840" y="5159520"/>
            <a:ext cx="5181480" cy="101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                              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1" descr="C:\Users\Администратор\Desktop\download.jpg"/>
          <p:cNvPicPr/>
          <p:nvPr/>
        </p:nvPicPr>
        <p:blipFill>
          <a:blip r:embed="rId1"/>
          <a:stretch/>
        </p:blipFill>
        <p:spPr>
          <a:xfrm>
            <a:off x="7800840" y="3457440"/>
            <a:ext cx="3453120" cy="29149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C:\Users\Администратор\Desktop\images.jpg"/>
          <p:cNvPicPr/>
          <p:nvPr/>
        </p:nvPicPr>
        <p:blipFill>
          <a:blip r:embed="rId2"/>
          <a:stretch/>
        </p:blipFill>
        <p:spPr>
          <a:xfrm>
            <a:off x="1249200" y="1163520"/>
            <a:ext cx="2625840" cy="34560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3" descr="C:\Users\Администратор\Desktop\download.jpg"/>
          <p:cNvPicPr/>
          <p:nvPr/>
        </p:nvPicPr>
        <p:blipFill>
          <a:blip r:embed="rId3"/>
          <a:stretch/>
        </p:blipFill>
        <p:spPr>
          <a:xfrm>
            <a:off x="6719760" y="450720"/>
            <a:ext cx="1984680" cy="2916360"/>
          </a:xfrm>
          <a:prstGeom prst="rect">
            <a:avLst/>
          </a:prstGeom>
          <a:ln w="0">
            <a:noFill/>
          </a:ln>
        </p:spPr>
      </p:pic>
      <p:sp>
        <p:nvSpPr>
          <p:cNvPr id="89" name="Прямоугольник 7"/>
          <p:cNvSpPr/>
          <p:nvPr/>
        </p:nvSpPr>
        <p:spPr>
          <a:xfrm>
            <a:off x="8839080" y="596880"/>
            <a:ext cx="236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енний моти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8"/>
          <p:cNvSpPr/>
          <p:nvPr/>
        </p:nvSpPr>
        <p:spPr>
          <a:xfrm>
            <a:off x="5922360" y="5878440"/>
            <a:ext cx="16300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доё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172200" y="364680"/>
            <a:ext cx="5183280" cy="787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04a7b"/>
                </a:solidFill>
                <a:latin typeface="Calibri"/>
              </a:rPr>
              <a:t>Хмелевод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82440" y="374760"/>
            <a:ext cx="4895640" cy="823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03152"/>
                </a:solidFill>
                <a:latin typeface="Times New Roman"/>
                <a:ea typeface="Times New Roman"/>
              </a:rPr>
              <a:t>Легенды старого сел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09120" y="2174760"/>
            <a:ext cx="53866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6495840" y="1341000"/>
            <a:ext cx="4738680" cy="1319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тарину жители села разводили хмель в своих огородах. Это их занятие носило промысловый характер. Поэтому сельчан прозвали хмелеводами, а село стало называться Хмелёвко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6192360" y="2174760"/>
            <a:ext cx="538956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6640560" y="2612880"/>
            <a:ext cx="4476600" cy="31813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" descr="F:\OLD\диск Е\Новая папка\Документы 2009-2010 уч год\ПРОЕКТЫ\2018\Краеведение\последний\IMG_20180325_133540.jpg"/>
          <p:cNvPicPr/>
          <p:nvPr/>
        </p:nvPicPr>
        <p:blipFill>
          <a:blip r:embed="rId2"/>
          <a:stretch/>
        </p:blipFill>
        <p:spPr>
          <a:xfrm>
            <a:off x="1081080" y="2216160"/>
            <a:ext cx="4591080" cy="38829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3" descr="F:\OLD\диск Е\Новая папка\Документы 2009-2010 уч год\ПРОЕКТЫ\2018\Краеведение\последний\IMG_20180325_133658.jpg"/>
          <p:cNvPicPr/>
          <p:nvPr/>
        </p:nvPicPr>
        <p:blipFill>
          <a:blip r:embed="rId3"/>
          <a:stretch/>
        </p:blipFill>
        <p:spPr>
          <a:xfrm>
            <a:off x="4267080" y="1182600"/>
            <a:ext cx="1548000" cy="16639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9040" y="260280"/>
            <a:ext cx="5224320" cy="106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04a7b"/>
                </a:solidFill>
                <a:latin typeface="Times New Roman"/>
                <a:ea typeface="Times New Roman"/>
              </a:rPr>
              <a:t>Саратовская мануфактур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2" descr="http://oldsaratov.ru/sites/default/files/styles/post_image/public/photos/gubernia/2015-06/hmelyovka.jpg?itok=cDxndLPn"/>
          <p:cNvPicPr/>
          <p:nvPr/>
        </p:nvPicPr>
        <p:blipFill>
          <a:blip r:embed="rId1"/>
          <a:stretch/>
        </p:blipFill>
        <p:spPr>
          <a:xfrm>
            <a:off x="2325600" y="1092240"/>
            <a:ext cx="3243240" cy="2435040"/>
          </a:xfrm>
          <a:prstGeom prst="rect">
            <a:avLst/>
          </a:prstGeom>
          <a:ln w="0">
            <a:noFill/>
          </a:ln>
        </p:spPr>
      </p:pic>
      <p:sp>
        <p:nvSpPr>
          <p:cNvPr id="101" name="Прямоугольник 8"/>
          <p:cNvSpPr/>
          <p:nvPr/>
        </p:nvSpPr>
        <p:spPr>
          <a:xfrm>
            <a:off x="6543720" y="635040"/>
            <a:ext cx="445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равочник 1912 года. Более подробные данные -1910 го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4" descr="http://oldsaratov.ru/sites/default/files/attachs/bezymyannyy-98_0.jpg"/>
          <p:cNvPicPr/>
          <p:nvPr/>
        </p:nvPicPr>
        <p:blipFill>
          <a:blip r:embed="rId2"/>
          <a:stretch/>
        </p:blipFill>
        <p:spPr>
          <a:xfrm>
            <a:off x="6602400" y="1441440"/>
            <a:ext cx="4608360" cy="976320"/>
          </a:xfrm>
          <a:prstGeom prst="rect">
            <a:avLst/>
          </a:prstGeom>
          <a:ln w="0">
            <a:noFill/>
          </a:ln>
        </p:spPr>
      </p:pic>
      <p:pic>
        <p:nvPicPr>
          <p:cNvPr id="103" name="Рисунок 10" descr="http://oldsaratov.ru/sites/default/files/attachs/1910_0.jpg"/>
          <p:cNvPicPr/>
          <p:nvPr/>
        </p:nvPicPr>
        <p:blipFill>
          <a:blip r:embed="rId3"/>
          <a:stretch/>
        </p:blipFill>
        <p:spPr>
          <a:xfrm>
            <a:off x="6545160" y="2803680"/>
            <a:ext cx="4772160" cy="29080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" descr="http://oldsaratov.ru/sites/default/files/photos/gubernia/2013-12/y2d3c84fe.jpg"/>
          <p:cNvPicPr/>
          <p:nvPr/>
        </p:nvPicPr>
        <p:blipFill>
          <a:blip r:embed="rId4"/>
          <a:stretch/>
        </p:blipFill>
        <p:spPr>
          <a:xfrm>
            <a:off x="1293840" y="3773520"/>
            <a:ext cx="4314960" cy="2422440"/>
          </a:xfrm>
          <a:prstGeom prst="rect">
            <a:avLst/>
          </a:prstGeom>
          <a:ln w="0">
            <a:noFill/>
          </a:ln>
        </p:spPr>
      </p:pic>
      <p:sp>
        <p:nvSpPr>
          <p:cNvPr id="105" name="TextBox 12"/>
          <p:cNvSpPr/>
          <p:nvPr/>
        </p:nvSpPr>
        <p:spPr>
          <a:xfrm>
            <a:off x="1389240" y="328932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910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http://sadservie.ru/images/post/text/6c1b692454437971bcb0812c2250a99d.jpg"/>
          <p:cNvPicPr/>
          <p:nvPr/>
        </p:nvPicPr>
        <p:blipFill>
          <a:blip r:embed="rId1"/>
          <a:stretch/>
        </p:blipFill>
        <p:spPr>
          <a:xfrm>
            <a:off x="7037280" y="3848040"/>
            <a:ext cx="3776760" cy="25178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4" descr="http://sadservie.ru/images/post/text/5c03f0099fc8d8b4e5840ed503c6345d.jpg"/>
          <p:cNvPicPr/>
          <p:nvPr/>
        </p:nvPicPr>
        <p:blipFill>
          <a:blip r:embed="rId2"/>
          <a:stretch/>
        </p:blipFill>
        <p:spPr>
          <a:xfrm>
            <a:off x="7043760" y="1249200"/>
            <a:ext cx="3647880" cy="243216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-360" y="344520"/>
            <a:ext cx="5087880" cy="96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04a7b"/>
                </a:solidFill>
                <a:latin typeface="Times New Roman"/>
                <a:ea typeface="Times New Roman"/>
              </a:rPr>
              <a:t>с. Хмелёв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Прямоугольник 8" descr=""/>
          <p:cNvPicPr/>
          <p:nvPr/>
        </p:nvPicPr>
        <p:blipFill>
          <a:blip r:embed="rId3"/>
          <a:stretch/>
        </p:blipFill>
        <p:spPr>
          <a:xfrm>
            <a:off x="6504120" y="493560"/>
            <a:ext cx="4736880" cy="517680"/>
          </a:xfrm>
          <a:prstGeom prst="rect">
            <a:avLst/>
          </a:prstGeom>
          <a:ln w="0">
            <a:noFill/>
          </a:ln>
        </p:spPr>
      </p:pic>
      <p:sp>
        <p:nvSpPr>
          <p:cNvPr id="110" name="Прямоугольник 9"/>
          <p:cNvSpPr/>
          <p:nvPr/>
        </p:nvSpPr>
        <p:spPr>
          <a:xfrm>
            <a:off x="2035800" y="3184560"/>
            <a:ext cx="253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3152"/>
                </a:solidFill>
                <a:latin typeface="Times New Roman"/>
                <a:ea typeface="Times New Roman"/>
              </a:rPr>
              <a:t>п. Хмелёвск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1" descr="F:\OLD\диск Е\Е\Мои рисунки\троица в хмелёвке\IMG_4419.jpg"/>
          <p:cNvPicPr/>
          <p:nvPr/>
        </p:nvPicPr>
        <p:blipFill>
          <a:blip r:embed="rId4"/>
          <a:stretch/>
        </p:blipFill>
        <p:spPr>
          <a:xfrm>
            <a:off x="1650960" y="3784680"/>
            <a:ext cx="3218040" cy="24145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2" descr="F:\Хмелёвка\фотки о хмелёвке\Изображение 143.jpg"/>
          <p:cNvPicPr/>
          <p:nvPr/>
        </p:nvPicPr>
        <p:blipFill>
          <a:blip r:embed="rId5"/>
          <a:stretch/>
        </p:blipFill>
        <p:spPr>
          <a:xfrm>
            <a:off x="1690560" y="996840"/>
            <a:ext cx="2987640" cy="22417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6120" y="606600"/>
            <a:ext cx="4600440" cy="8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04a7b"/>
                </a:solidFill>
                <a:latin typeface="Calibri"/>
              </a:rPr>
              <a:t>Заключе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Rectangle 1"/>
          <p:cNvSpPr/>
          <p:nvPr/>
        </p:nvSpPr>
        <p:spPr>
          <a:xfrm>
            <a:off x="1258920" y="1610640"/>
            <a:ext cx="42512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каждого человека есть своя малая родина. Это место где человек родился, вырос. Для меня малая Родина – мой посёлок с таким интересным названием Хмелёвски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ая над темой, я с большим интересом познавала историю своей малой Родины. Исследовательская работа оказалась увлекательным и познавательным делом. Своими исследованиями я готова поделиться со своими одноклассник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3"/>
          <p:cNvSpPr/>
          <p:nvPr/>
        </p:nvSpPr>
        <p:spPr>
          <a:xfrm>
            <a:off x="6912000" y="816120"/>
            <a:ext cx="40608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я гипотеза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твердилась. Действительно, все три населённых пункта связаны между собой, потому что имеют одни корни. Село Хмелёвка является прародительницей п.Хмелёвский и п.Красный Текстильщик. Как мать и два сына они живут бок о бок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91720" y="320760"/>
            <a:ext cx="508788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604a7b"/>
                </a:solidFill>
                <a:latin typeface="Times New Roman"/>
                <a:ea typeface="Times New Roman"/>
              </a:rPr>
              <a:t>Введение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6694560" y="857160"/>
            <a:ext cx="435744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47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1"/>
              </a:rPr>
              <a:t>Гипотеза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47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мы будем знать историю своей малой Родины, мы будем бережно относится к каждому её уголку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47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47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47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47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2"/>
              </a:rPr>
              <a:t>Методы исследован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47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учение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47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иск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47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из и обобщение литературных источников, интернет ресурсов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47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рвью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47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кетирование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47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ботка информации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47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тографирование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1027080" y="1103040"/>
            <a:ext cx="4881600" cy="504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3"/>
              </a:rPr>
              <a:t>Цель исследовательской работ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учить историю возникновения трёх рядом стоящих населённых пунктов, с.Хмелёвка, п. Хмелёвский и п. Красный Текстильщик Рассказать своим одноклассникам на уроке краеведения 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4"/>
              </a:rPr>
              <a:t>Задачи исследовательской работ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сти анкетирование учащихся класса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учить  историческое прошлое малой Родины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накомиться с историей о знаменитых личностях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знать историю интересных событий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искать интересную информацию в книгах в ресурсах интернет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брать  информацию из газет «Ворошиловец», «Большая Волга»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анализировать полученные результат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79040" y="364680"/>
            <a:ext cx="5087880" cy="1846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04a7b"/>
                </a:solidFill>
                <a:latin typeface="Times New Roman"/>
                <a:ea typeface="Times New Roman"/>
              </a:rPr>
              <a:t>Точка на карте</a:t>
            </a:r>
            <a:br>
              <a:rPr sz="3200"/>
            </a:br>
            <a:br>
              <a:rPr sz="3200"/>
            </a:br>
            <a:r>
              <a:rPr b="0" lang="ru-RU" sz="1800" spc="-1" strike="noStrike">
                <a:solidFill>
                  <a:srgbClr val="604a7b"/>
                </a:solidFill>
                <a:latin typeface="Times New Roman"/>
                <a:ea typeface="Times New Roman"/>
              </a:rPr>
              <a:t>Село Хмелёвка, посёлок Хмелёвский </a:t>
            </a:r>
            <a:br>
              <a:rPr sz="1800"/>
            </a:br>
            <a:r>
              <a:rPr b="0" lang="ru-RU" sz="1800" spc="-1" strike="noStrike">
                <a:solidFill>
                  <a:srgbClr val="604a7b"/>
                </a:solidFill>
                <a:latin typeface="Times New Roman"/>
                <a:ea typeface="Times New Roman"/>
              </a:rPr>
              <a:t>и посёлок Красный Текстильщик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F:\OLD\диск Е\Новая папка\Документы 2009-2010 уч год\ПРОЕКТЫ\2018\Краеведение\карта 3.PNG"/>
          <p:cNvPicPr/>
          <p:nvPr/>
        </p:nvPicPr>
        <p:blipFill>
          <a:blip r:embed="rId1"/>
          <a:stretch/>
        </p:blipFill>
        <p:spPr>
          <a:xfrm>
            <a:off x="6715080" y="2692440"/>
            <a:ext cx="4052880" cy="33224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 txBox="1"/>
          <p:nvPr/>
        </p:nvSpPr>
        <p:spPr>
          <a:xfrm>
            <a:off x="1185840" y="2401920"/>
            <a:ext cx="432288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ратовская област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5" descr="alt"/>
          <p:cNvPicPr/>
          <p:nvPr/>
        </p:nvPicPr>
        <p:blipFill>
          <a:blip r:embed="rId2"/>
          <a:stretch/>
        </p:blipFill>
        <p:spPr>
          <a:xfrm>
            <a:off x="1023840" y="2703600"/>
            <a:ext cx="4476960" cy="2830320"/>
          </a:xfrm>
          <a:prstGeom prst="rect">
            <a:avLst/>
          </a:prstGeom>
          <a:ln w="0">
            <a:noFill/>
          </a:ln>
        </p:spPr>
      </p:pic>
      <p:sp>
        <p:nvSpPr>
          <p:cNvPr id="52" name="Блок-схема: узел 13"/>
          <p:cNvSpPr/>
          <p:nvPr/>
        </p:nvSpPr>
        <p:spPr>
          <a:xfrm>
            <a:off x="2803680" y="3673440"/>
            <a:ext cx="177480" cy="166680"/>
          </a:xfrm>
          <a:prstGeom prst="flowChartConnector">
            <a:avLst/>
          </a:prstGeom>
          <a:solidFill>
            <a:srgbClr val="0070c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6"/>
          <p:cNvSpPr/>
          <p:nvPr/>
        </p:nvSpPr>
        <p:spPr>
          <a:xfrm>
            <a:off x="6551640" y="395280"/>
            <a:ext cx="454356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населённые пункты находятся близко друг к другу, тесно взаимодействуют на протяжении многих лет.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у них общего? Какая у них история ? Какие знаменитые личности жили в этой местности? Какие  интересные события происходили на этой территории? Были ли у них другие названия, и что повлияло на их переименование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Содержимое 5" descr=""/>
          <p:cNvPicPr/>
          <p:nvPr/>
        </p:nvPicPr>
        <p:blipFill>
          <a:blip r:embed="rId1"/>
          <a:stretch/>
        </p:blipFill>
        <p:spPr>
          <a:xfrm>
            <a:off x="0" y="1692360"/>
            <a:ext cx="4687920" cy="414504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826560"/>
            <a:ext cx="5272200" cy="1057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04a7b"/>
                </a:solidFill>
                <a:latin typeface="Times New Roman"/>
                <a:ea typeface="Times New Roman"/>
              </a:rPr>
              <a:t>Анкета «А знаешь ли ты историю своего родного края? »</a:t>
            </a:r>
            <a:br>
              <a:rPr sz="4000"/>
            </a:br>
            <a:r>
              <a:rPr b="0" lang="ru-RU" sz="4000" spc="-1" strike="noStrike">
                <a:solidFill>
                  <a:srgbClr val="604a7b"/>
                </a:solidFill>
                <a:latin typeface="Calibri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Прямоугольник 4" descr=""/>
          <p:cNvPicPr/>
          <p:nvPr/>
        </p:nvPicPr>
        <p:blipFill>
          <a:blip r:embed="rId2"/>
          <a:stretch/>
        </p:blipFill>
        <p:spPr>
          <a:xfrm>
            <a:off x="901800" y="1225440"/>
            <a:ext cx="5018040" cy="414360"/>
          </a:xfrm>
          <a:prstGeom prst="rect">
            <a:avLst/>
          </a:prstGeom>
          <a:ln w="0">
            <a:noFill/>
          </a:ln>
        </p:spPr>
      </p:pic>
      <p:pic>
        <p:nvPicPr>
          <p:cNvPr id="57" name="Диаграмма 12" descr=""/>
          <p:cNvPicPr/>
          <p:nvPr/>
        </p:nvPicPr>
        <p:blipFill>
          <a:blip r:embed="rId3"/>
          <a:stretch/>
        </p:blipFill>
        <p:spPr>
          <a:xfrm>
            <a:off x="6159600" y="317520"/>
            <a:ext cx="5137200" cy="61610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Диаграмма 4" descr=""/>
          <p:cNvPicPr/>
          <p:nvPr/>
        </p:nvPicPr>
        <p:blipFill>
          <a:blip r:embed="rId1"/>
          <a:stretch/>
        </p:blipFill>
        <p:spPr>
          <a:xfrm>
            <a:off x="830160" y="689040"/>
            <a:ext cx="4680000" cy="5626080"/>
          </a:xfrm>
          <a:prstGeom prst="rect">
            <a:avLst/>
          </a:prstGeom>
          <a:ln w="0">
            <a:noFill/>
          </a:ln>
        </p:spPr>
      </p:pic>
      <p:pic>
        <p:nvPicPr>
          <p:cNvPr id="59" name="Диаграмма 7" descr=""/>
          <p:cNvPicPr/>
          <p:nvPr/>
        </p:nvPicPr>
        <p:blipFill>
          <a:blip r:embed="rId2"/>
          <a:stretch/>
        </p:blipFill>
        <p:spPr>
          <a:xfrm>
            <a:off x="6267600" y="276120"/>
            <a:ext cx="5056200" cy="62024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Диаграмма 1" descr=""/>
          <p:cNvPicPr/>
          <p:nvPr/>
        </p:nvPicPr>
        <p:blipFill>
          <a:blip r:embed="rId1"/>
          <a:stretch/>
        </p:blipFill>
        <p:spPr>
          <a:xfrm>
            <a:off x="946080" y="668160"/>
            <a:ext cx="4986360" cy="5521680"/>
          </a:xfrm>
          <a:prstGeom prst="rect">
            <a:avLst/>
          </a:prstGeom>
          <a:ln w="0">
            <a:noFill/>
          </a:ln>
        </p:spPr>
      </p:pic>
      <p:pic>
        <p:nvPicPr>
          <p:cNvPr id="61" name="Диаграмма 2" descr=""/>
          <p:cNvPicPr/>
          <p:nvPr/>
        </p:nvPicPr>
        <p:blipFill>
          <a:blip r:embed="rId2"/>
          <a:stretch/>
        </p:blipFill>
        <p:spPr>
          <a:xfrm>
            <a:off x="6432480" y="668160"/>
            <a:ext cx="4727520" cy="55216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Диаграмма 1" descr=""/>
          <p:cNvPicPr/>
          <p:nvPr/>
        </p:nvPicPr>
        <p:blipFill>
          <a:blip r:embed="rId1"/>
          <a:stretch/>
        </p:blipFill>
        <p:spPr>
          <a:xfrm>
            <a:off x="890640" y="668160"/>
            <a:ext cx="4987800" cy="5521680"/>
          </a:xfrm>
          <a:prstGeom prst="rect">
            <a:avLst/>
          </a:prstGeom>
          <a:ln w="0">
            <a:noFill/>
          </a:ln>
        </p:spPr>
      </p:pic>
      <p:pic>
        <p:nvPicPr>
          <p:cNvPr id="63" name="Диаграмма 2" descr=""/>
          <p:cNvPicPr/>
          <p:nvPr/>
        </p:nvPicPr>
        <p:blipFill>
          <a:blip r:embed="rId2"/>
          <a:stretch/>
        </p:blipFill>
        <p:spPr>
          <a:xfrm>
            <a:off x="6418440" y="453960"/>
            <a:ext cx="4863960" cy="588492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1"/>
          <p:cNvSpPr/>
          <p:nvPr/>
        </p:nvSpPr>
        <p:spPr>
          <a:xfrm>
            <a:off x="6510240" y="4901040"/>
            <a:ext cx="485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ходя из полученных данных, делаю вывод о необходимости моего  исследования. Что бы не быть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Иванами, не помнящими своего родства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37800" y="500040"/>
            <a:ext cx="5087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04a7b"/>
                </a:solidFill>
                <a:latin typeface="Times New Roman"/>
                <a:ea typeface="Times New Roman"/>
              </a:rPr>
              <a:t>Теоретическая значимост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6671880" y="1802880"/>
            <a:ext cx="45608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7520" indent="493920" algn="just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ктическая значимость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оей исследовательской работы состоит в том, что её в дальнейшем  смогут использовать ученики как дополнительную информацию для расширения своего кругозора, для подготовки к уроку, для создания викторин.  Так же материал можно использовать для оформления информационного стенда в сельской библиотеке, школе, клубе, а так же для создания небольшого видеофильма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7520" indent="49392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1117080" y="1825200"/>
            <a:ext cx="46054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240" indent="493560"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оретическая значимость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моего проекта заключается в том, что она  важна не только для меня, но и для моих сверстников, так как в школе мы проходим курс «Краеведение»,  мы просто обязаны, не только получать готовые знания от учителя, а самостоятельно находить и узнавать что-то новое о своём родном крае. Думаю у моих одноклассников появиться живой интерес и  желание продолжить мои исследования в области изучения своего края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40" indent="4935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8" name="Прямоугольник 5"/>
          <p:cNvGrpSpPr/>
          <p:nvPr/>
        </p:nvGrpSpPr>
        <p:grpSpPr>
          <a:xfrm>
            <a:off x="6576840" y="517680"/>
            <a:ext cx="4608720" cy="1231920"/>
            <a:chOff x="6576840" y="517680"/>
            <a:chExt cx="4608720" cy="1231920"/>
          </a:xfrm>
        </p:grpSpPr>
        <p:pic>
          <p:nvPicPr>
            <p:cNvPr id="69" name="Прямоугольник 5" descr=""/>
            <p:cNvPicPr/>
            <p:nvPr/>
          </p:nvPicPr>
          <p:blipFill>
            <a:blip r:embed="rId1"/>
            <a:stretch/>
          </p:blipFill>
          <p:spPr>
            <a:xfrm>
              <a:off x="6576840" y="517680"/>
              <a:ext cx="4608720" cy="123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6599160" y="534960"/>
              <a:ext cx="4576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403152"/>
                  </a:solidFill>
                  <a:latin typeface="Times New Roman"/>
                  <a:ea typeface="Times New Roman"/>
                </a:rPr>
                <a:t>Практическая значимость</a:t>
              </a:r>
              <a:r>
                <a:rPr b="0" lang="ru-RU" sz="3600" spc="-1" strike="noStrike">
                  <a:solidFill>
                    <a:srgbClr val="403152"/>
                  </a:solidFill>
                  <a:latin typeface="Times New Roman"/>
                  <a:ea typeface="Times New Roman"/>
                </a:rPr>
                <a:t>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61840" y="388440"/>
            <a:ext cx="5088240" cy="132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04a7b"/>
                </a:solidFill>
                <a:latin typeface="Calibri"/>
              </a:rPr>
              <a:t>История села Шахматовк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Содержимое 7" descr="http://library.sgu.ru/elcol/chaxmatov.jpg"/>
          <p:cNvPicPr/>
          <p:nvPr/>
        </p:nvPicPr>
        <p:blipFill>
          <a:blip r:embed="rId1"/>
          <a:stretch/>
        </p:blipFill>
        <p:spPr>
          <a:xfrm>
            <a:off x="7029360" y="971640"/>
            <a:ext cx="3378240" cy="39621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73" name=""/>
          <p:cNvSpPr txBox="1"/>
          <p:nvPr/>
        </p:nvSpPr>
        <p:spPr>
          <a:xfrm>
            <a:off x="6098760" y="930240"/>
            <a:ext cx="5087880" cy="592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ексей Александрович Шахматов (1864 – 192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1" descr="C:\Users\Администратор\Desktop\проект краевед\p0484.jpg"/>
          <p:cNvPicPr/>
          <p:nvPr/>
        </p:nvPicPr>
        <p:blipFill>
          <a:blip r:embed="rId2"/>
          <a:stretch/>
        </p:blipFill>
        <p:spPr>
          <a:xfrm>
            <a:off x="1784520" y="2076480"/>
            <a:ext cx="3373200" cy="36910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1-15T09:14:47Z</dcterms:created>
  <dc:creator>User</dc:creator>
  <dc:description/>
  <dc:language>en-US</dc:language>
  <cp:lastModifiedBy>1</cp:lastModifiedBy>
  <dcterms:modified xsi:type="dcterms:W3CDTF">2018-07-19T19:21:35Z</dcterms:modified>
  <cp:revision>115</cp:revision>
  <dc:subject/>
  <dc:title>Презентация PowerPoint</dc:title>
</cp:coreProperties>
</file>