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8E7-441A-49B0-90F2-E9249EF6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85A-0CA3-4D46-864A-02FCACF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756-B2DC-4515-A9F3-F4C07F9E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7C7-F287-4EAA-911A-D4BEFD2F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A291-51AB-4832-BE60-D0B5AB03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4204-7230-47CC-BF18-7693EF42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4AFA-CDFD-47C0-8934-2E490F8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1F50-9B9B-42BC-B297-936B9A25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10BA-BF38-48F8-A1A0-415A9E1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531-352D-4EC8-A89A-44073280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4211-CF4F-4B02-9C04-F66A7AB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986-9B04-4FDD-805F-76D70B34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6110-FA70-4135-8287-87411CCC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7722-CD27-43CC-971F-E0BBAC8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506A-FC08-4AD9-916E-3D3EC998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3813-F8C4-42CA-A0EA-604C3D40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9066-F460-4130-9BA3-EFB10689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DA0F1-5B43-4B44-84AB-B2A53EDD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F1E3-1E14-4953-AC3F-9FBF7827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ECF0-F751-4024-ACCF-DF15F210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C3A3-BE9B-4D2C-97BB-C4FC2CC8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5929-C047-4DF7-B3BB-1AEDDA5F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40B-2DD4-481B-91B5-F5A12A70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FD10-4941-452C-BB8A-FA4BA5BE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B3E8-D255-432F-9012-3055324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3FEA-EB1C-4D2D-A8D3-C784C00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CDAD-AE82-4B61-A1BB-D0E6A65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56A5-769E-4D69-BE72-16002106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3977-D8E2-4642-9310-2BDE97AF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3E55-14ED-41E2-BB65-CA3F811E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0E850-0226-4A6D-B2E0-6EF7B36E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0A58-BF88-4321-8838-50F92A7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018C-8D50-4550-B3E5-E1E8B2D7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FDE-2D58-487D-AF23-BFC6FC5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4CEF-3B52-4365-82A2-B29AB109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6C5C-9835-4725-BF4E-54F2975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84D3-824E-4B0B-B0BF-9AE4CF2B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A6F0-6964-4A3D-86B1-D61CB1BE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1F92-1EB7-4544-92CC-CA6AD13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3C69-825E-4680-9564-416294F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9646-6426-45F0-8810-2772A81C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D946-1F3C-4B38-ABE2-D4388722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DF58-91A9-4D7B-B3D6-B89BB28D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FD3-FD6E-4335-9474-11FA7CF8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2FF-6A2A-4F82-BA25-2CB5AA7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926-CB7E-4B2A-81FA-58832A35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25A-D80D-4E5B-89CE-818EF078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1F7-0593-4927-A748-7D32A25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256C-DDAB-426C-94FC-3F5AFC9E1D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9AD-200D-445C-8001-A7154478FE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5D02-DC83-460E-ACEC-AD1A751A23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FBF4-B4A1-4758-B8A8-E4AC9737EE5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23800" y="450720"/>
            <a:ext cx="7821720" cy="3492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038120" y="5029200"/>
            <a:ext cx="42642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ыполнила: Паршина Наталь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чевые занят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аботе с детьми педагоги используют считалки, потешки, пальчиковые игры, рассказы и истории, картинки и диапозитив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alexei\Desktop\2015 ГОД\кОНТРОЛЬНЫЕ\Доу за рубежом\6f324ef0cc304d0a0990be27d7cac941.jpg"/>
          <p:cNvPicPr/>
          <p:nvPr/>
        </p:nvPicPr>
        <p:blipFill>
          <a:blip r:embed="rId1"/>
          <a:stretch/>
        </p:blipFill>
        <p:spPr>
          <a:xfrm>
            <a:off x="4267080" y="1905120"/>
            <a:ext cx="472464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десять часов – завтрак (стакан молока, бутерброд, кусок сыра); после этого прогул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Users\alexei\Desktop\2015 ГОД\кОНТРОЛЬНЫЕ\Доу за рубежом\0.jpg"/>
          <p:cNvPicPr/>
          <p:nvPr/>
        </p:nvPicPr>
        <p:blipFill>
          <a:blip r:embed="rId1"/>
          <a:stretch/>
        </p:blipFill>
        <p:spPr>
          <a:xfrm>
            <a:off x="4343400" y="1295280"/>
            <a:ext cx="464832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4479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 прогулки организуется работа в мастерских для малых групп по 15–30 минут, в зависимости от возраста (занятия рисованием, языком, нанизывание бус, аппликаци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C:\Users\alexei\Desktop\2015 ГОД\кОНТРОЛЬНЫЕ\Доу за рубежом\продленка.jpg"/>
          <p:cNvPicPr/>
          <p:nvPr/>
        </p:nvPicPr>
        <p:blipFill>
          <a:blip r:embed="rId1"/>
          <a:stretch/>
        </p:blipFill>
        <p:spPr>
          <a:xfrm>
            <a:off x="4648320" y="1752480"/>
            <a:ext cx="4343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торное воспит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игровом зале дети занимаются физкультурой, после чего обязательно отдыхают, лежа на коврика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C:\Users\alexei\Desktop\2015 ГОД\кОНТРОЛЬНЫЕ\Доу за рубежом\1452315ehe5a6hkqtkqao5.jpg"/>
          <p:cNvPicPr/>
          <p:nvPr/>
        </p:nvPicPr>
        <p:blipFill>
          <a:blip r:embed="rId1"/>
          <a:stretch/>
        </p:blipFill>
        <p:spPr>
          <a:xfrm>
            <a:off x="4419720" y="228600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зыкальные занят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ти слушают музыкальные записи. играют в игры с песнями, которые проводит воспитатель. Музыкальных руководителей н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едерникова, Л. В. Обучение в системе непрерывного образования во Франции / Л. В. Ведерникова. – Одесса : Аспект-пресс, 2003. – 156 с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ебзеева, В. А. Дошкольное образование за рубежом : история и современность / В. А. Зебзеева.  – М. : ТЦ Сфера, 2007. – 128 с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онга, Ж. Современные дошкольные учреждения Франции : организация и содержание работы / Ж. Малонга // Дошкольное воспитание. – 2002. – № 1. – С. 99-10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арамонова, А. А.  Дошкольное и начальное образование за     рубежом : история и современность / А. А. Парамонова, Е. Ю. Протасова. – М. : Академия,  2011. – 427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емина-Мак, Е. Как получаются французы. Личный опыт русской мамы, которая знает о французском воспитании все / Е. Семина-Мак. – М. : Эксмо, 2014. – 110 с. 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C:\Users\alexei\Desktop\2015 ГОД\кОНТРОЛЬНЫЕ\Доу за рубежом\Depositphotos_5774583_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581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держ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ед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Развитие дошкольных образовательных учреждений во Фран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Цели дошкольного образовательного учрежд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 Организация жизнедеятельности в дошкольном учрежде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люч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исок использованных источни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200"/>
            </a:br>
            <a:br>
              <a:rPr sz="22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школьное образование</a:t>
            </a:r>
            <a:br>
              <a:rPr sz="40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дошкольное воспитание во Франции  осуществляется в материнских школах (детских садах), а также в классах (или секциях) для малышей при начальных школах. Оно предназначается для детей 2–6 лет и не является обязательным, т.к. обязательное образование во Франции начинается с 6 лет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C:\Users\alexei\Desktop\2015 ГОД\кОНТРОЛЬНЫЕ\Доу за рубежом\57aeysw3b10.jpg"/>
          <p:cNvPicPr/>
          <p:nvPr/>
        </p:nvPicPr>
        <p:blipFill>
          <a:blip r:embed="rId1"/>
          <a:stretch/>
        </p:blipFill>
        <p:spPr>
          <a:xfrm>
            <a:off x="5943600" y="3809880"/>
            <a:ext cx="242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Материнская шко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п-Карпантье и                   П. Кергомар считаются организаторами нового типа дошкольных учреждений – «материнских школ» в которых должны были работать профессионально подготовленные педагоги, строя образовательный процесс на принципах уважения к ребен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alexei\Desktop\2015 ГОД\кОНТРОЛЬНЫЕ\Доу за рубежом\i.jpg"/>
          <p:cNvPicPr/>
          <p:nvPr/>
        </p:nvPicPr>
        <p:blipFill>
          <a:blip r:embed="rId1"/>
          <a:stretch/>
        </p:blipFill>
        <p:spPr>
          <a:xfrm>
            <a:off x="4648320" y="190512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11040" y="701640"/>
            <a:ext cx="8693280" cy="4181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752480" y="3048120"/>
            <a:ext cx="62485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Структура начальной школ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нутри начальной школы материнская школа объединяет детей 2– 5 лет (они разделены на младшую, среднюю и старшую группы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ти 5–7 лет посещают сначала подготовительный курс, а затем элементарный курс основ наук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расту 7–9 лет соответствуют три цикла обучения (средний курс, первый класс, второй класс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alexei\Desktop\2015 ГОД\кОНТРОЛЬНЫЕ\Доу за рубежом\bignews_113_1307710171309_789987.jpg"/>
          <p:cNvPicPr/>
          <p:nvPr/>
        </p:nvPicPr>
        <p:blipFill>
          <a:blip r:embed="rId1"/>
          <a:stretch/>
        </p:blipFill>
        <p:spPr>
          <a:xfrm>
            <a:off x="4419720" y="2209680"/>
            <a:ext cx="4647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дошкольных образовательных учреждени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ступени дошкольного воспитания образовательные цели заключаются в развитии физических, социальных, поведенческих и интеллектуальных навыков, необходимых для выработки умения справляться с разнообразными ситуациями, диктуемыми сложной повседневной жизн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подготовительном цикле дети должны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обрести моторные навы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иться самовыражаться в устной и письменной форм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владеть рисованием и основами других искусст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иматься основами наук и технической деятель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alexei\Desktop\2015 ГОД\кОНТРОЛЬНЫЕ\Доу за рубежом\174247037_5_644x461_razvivayuschie-zanyatiya-dlya-detey-brovary-kievskaya-oblast.jpg"/>
          <p:cNvPicPr/>
          <p:nvPr/>
        </p:nvPicPr>
        <p:blipFill>
          <a:blip r:embed="rId1"/>
          <a:stretch/>
        </p:blipFill>
        <p:spPr>
          <a:xfrm>
            <a:off x="4800600" y="4267080"/>
            <a:ext cx="3676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3716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нь у малышей начинается со свободных игр в специально оборудованных уголк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Users\alexei\Desktop\2015 ГОД\кОНТРОЛЬНЫЕ\Доу за рубежом\Preschool-Class.jpg"/>
          <p:cNvPicPr/>
          <p:nvPr/>
        </p:nvPicPr>
        <p:blipFill>
          <a:blip r:embed="rId1"/>
          <a:stretch/>
        </p:blipFill>
        <p:spPr>
          <a:xfrm>
            <a:off x="4419720" y="1828800"/>
            <a:ext cx="44956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3:31:56Z</dcterms:created>
  <dc:creator>alexei</dc:creator>
  <dc:description/>
  <dc:language>en-US</dc:language>
  <cp:lastModifiedBy>alexei</cp:lastModifiedBy>
  <dcterms:modified xsi:type="dcterms:W3CDTF">2015-12-09T17:11:21Z</dcterms:modified>
  <cp:revision>24</cp:revision>
  <dc:subject/>
  <dc:title>Тема:  Дошкольные образовательные учреждения во Франции</dc:title>
</cp:coreProperties>
</file>