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127-8C30-4E16-8B49-6F830AEE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D0A-5A9C-4AE0-A4AC-7CD0B635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13C-4F34-457B-A991-E1FFD8B6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D89-2C53-49AA-A27D-E54D121D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9022-9587-44EF-A6E6-9DF78D35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9812-05D1-4C78-AF6B-F0B2869A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825C-CEDD-4FF2-86D0-4681F4E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7AB-C749-46D7-8D53-8D147D1A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F8BC-9783-436D-9A30-AFB82D1A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B4CE-024F-44BE-94F3-DC4E3079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06ED-A7CE-4BB7-AD39-54302234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529-DF97-401D-B1F1-25248E0D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FC79-FFCF-46F8-A2E6-20D829E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59B5-4211-4A12-93AD-BAF4DB27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4ED0-6D19-4697-8E4E-EE53E65A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38AA-9011-4B32-9E6D-3CC2CE78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30E9-681B-4F43-9842-76F16D5F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4536-6F1D-40C5-BA0C-29CF8074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1CEC-49A0-4F77-B3AC-E452498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0F8D-22D2-461D-8829-DE25E01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2772-4863-4CE3-9437-BB9C12C6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016B-C1A4-4999-BE9B-3361AB93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9E0-7609-4870-8011-07D8193E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30D7-1867-41A9-8BCE-DCE48980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C17B-344E-4C31-A26C-79F8E09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F04E-4FD3-4A05-A33A-3CCEAAEA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ECF5-CF58-4A5C-B316-92665163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B1D5-27EF-4C6D-B938-D9072B0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01918-04C0-4462-89D2-AC4552AA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3EE1-C5F3-4433-AAB4-5C2B7189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7E0E-FBA3-48C1-ADE6-39DADFB7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014D-E2B8-415D-B8AE-5F5300D5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42BE7-79B8-4DBD-9552-2BA4C8D3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85C-2176-45C9-8BC0-BC38E8D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3C02-0AA1-4155-A6B2-8B03224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8462B-0C84-4C6A-A30B-8AC0F61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3214-5BDE-4B5E-8808-B371FE38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B5B5-C043-4877-9EE2-EFE768A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7BAB-4C8C-497F-B711-09DB447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B3A5-837E-4F7D-AC67-1EC36A70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EB61-484A-40FD-BB7C-289DF91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E639-A310-41AA-AC5F-068F73EB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B19A2-0D19-4BA3-A4F5-891D5B8F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F1C-FEAE-4016-8D8D-727BBDD0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FE8-582A-490A-A3BB-4A9D38D6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85F-610D-4B0F-9983-C4EEEBF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184-892D-4C41-8177-E8AE8E6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8BC-60F1-4B9D-86CB-EEFA8531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2FC4-56A2-443F-B264-DBA78AA0A2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41B5-D6E4-4917-AB76-0EBC5C34A71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B3E-FCEF-4D46-A0D6-1E828C43039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335D-78D4-4012-BAF8-146231611E7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23800" y="450720"/>
            <a:ext cx="7821720" cy="3492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038120" y="5029200"/>
            <a:ext cx="42642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ыполнила: Паршина Наталь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чевые занят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аботе с детьми педагоги используют считалки, потешки, пальчиковые игры, рассказы и истории, картинки и диапозитив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alexei\Desktop\2015 ГОД\кОНТРОЛЬНЫЕ\Доу за рубежом\6f324ef0cc304d0a0990be27d7cac941.jpg"/>
          <p:cNvPicPr/>
          <p:nvPr/>
        </p:nvPicPr>
        <p:blipFill>
          <a:blip r:embed="rId1"/>
          <a:stretch/>
        </p:blipFill>
        <p:spPr>
          <a:xfrm>
            <a:off x="4267080" y="1905120"/>
            <a:ext cx="472464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десять часов – завтрак (стакан молока, бутерброд, кусок сыра); после этого прогул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Users\alexei\Desktop\2015 ГОД\кОНТРОЛЬНЫЕ\Доу за рубежом\0.jpg"/>
          <p:cNvPicPr/>
          <p:nvPr/>
        </p:nvPicPr>
        <p:blipFill>
          <a:blip r:embed="rId1"/>
          <a:stretch/>
        </p:blipFill>
        <p:spPr>
          <a:xfrm>
            <a:off x="4343400" y="1295280"/>
            <a:ext cx="464832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4479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 прогулки организуется работа в мастерских для малых групп по 15–30 минут, в зависимости от возраста (занятия рисованием, языком, нанизывание бус, аппликаци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C:\Users\alexei\Desktop\2015 ГОД\кОНТРОЛЬНЫЕ\Доу за рубежом\продленка.jpg"/>
          <p:cNvPicPr/>
          <p:nvPr/>
        </p:nvPicPr>
        <p:blipFill>
          <a:blip r:embed="rId1"/>
          <a:stretch/>
        </p:blipFill>
        <p:spPr>
          <a:xfrm>
            <a:off x="4648320" y="1752480"/>
            <a:ext cx="4343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торное воспит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игровом зале дети занимаются физкультурой, после чего обязательно отдыхают, лежа на коврика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C:\Users\alexei\Desktop\2015 ГОД\кОНТРОЛЬНЫЕ\Доу за рубежом\1452315ehe5a6hkqtkqao5.jpg"/>
          <p:cNvPicPr/>
          <p:nvPr/>
        </p:nvPicPr>
        <p:blipFill>
          <a:blip r:embed="rId1"/>
          <a:stretch/>
        </p:blipFill>
        <p:spPr>
          <a:xfrm>
            <a:off x="4419720" y="228600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зыкальные занят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ти слушают музыкальные записи. играют в игры с песнями, которые проводит воспитатель. Музыкальных руководителей не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едерникова, Л. В. Обучение в системе непрерывного образования во Франции / Л. В. Ведерникова. – Одесса : Аспект-пресс, 2003. – 156 с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ебзеева, В. А. Дошкольное образование за рубежом : история и современность / В. А. Зебзеева.  – М. : ТЦ Сфера, 2007. – 128 с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онга, Ж. Современные дошкольные учреждения Франции : организация и содержание работы / Ж. Малонга // Дошкольное воспитание. – 2002. – № 1. – С. 99-103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арамонова, А. А.  Дошкольное и начальное образование за     рубежом : история и современность / А. А. Парамонова, Е. Ю. Протасова. – М. : Академия,  2011. – 427 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емина-Мак, Е. Как получаются французы. Личный опыт русской мамы, которая знает о французском воспитании все / Е. Семина-Мак. – М. : Эксмо, 2014. – 110 с. 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C:\Users\alexei\Desktop\2015 ГОД\кОНТРОЛЬНЫЕ\Доу за рубежом\Depositphotos_5774583_m.jpg"/>
          <p:cNvPicPr/>
          <p:nvPr/>
        </p:nvPicPr>
        <p:blipFill>
          <a:blip r:embed="rId1"/>
          <a:stretch/>
        </p:blipFill>
        <p:spPr>
          <a:xfrm>
            <a:off x="1523880" y="1905120"/>
            <a:ext cx="6581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держ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ед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Развитие дошкольных образовательных учреждений во Фран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Цели дошкольного образовательного учрежд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 Организация жизнедеятельности в дошкольном учрежде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люч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исок использованных источни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200"/>
            </a:br>
            <a:br>
              <a:rPr sz="22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ошкольное образование</a:t>
            </a:r>
            <a:br>
              <a:rPr sz="40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дошкольное воспитание во Франции  осуществляется в материнских школах (детских садах), а также в классах (или секциях) для малышей при начальных школах. Оно предназначается для детей 2–6 лет и не является обязательным, т.к. обязательное образование во Франции начинается с 6 лет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C:\Users\alexei\Desktop\2015 ГОД\кОНТРОЛЬНЫЕ\Доу за рубежом\57aeysw3b10.jpg"/>
          <p:cNvPicPr/>
          <p:nvPr/>
        </p:nvPicPr>
        <p:blipFill>
          <a:blip r:embed="rId1"/>
          <a:stretch/>
        </p:blipFill>
        <p:spPr>
          <a:xfrm>
            <a:off x="5943600" y="3809880"/>
            <a:ext cx="2421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Материнская школ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ап-Карпантье и                   П. Кергомар считаются организаторами нового типа дошкольных учреждений – «материнских школ» в которых должны были работать профессионально подготовленные педагоги, строя образовательный процесс на принципах уважения к ребен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alexei\Desktop\2015 ГОД\кОНТРОЛЬНЫЕ\Доу за рубежом\i.jpg"/>
          <p:cNvPicPr/>
          <p:nvPr/>
        </p:nvPicPr>
        <p:blipFill>
          <a:blip r:embed="rId1"/>
          <a:stretch/>
        </p:blipFill>
        <p:spPr>
          <a:xfrm>
            <a:off x="4648320" y="1905120"/>
            <a:ext cx="3886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311040" y="701640"/>
            <a:ext cx="8693280" cy="4181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752480" y="3048120"/>
            <a:ext cx="62485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Структура начальной школ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нутри начальной школы материнская школа объединяет детей 2– 5 лет (они разделены на младшую, среднюю и старшую группы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ти 5–7 лет посещают сначала подготовительный курс, а затем элементарный курс основ наук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расту 7–9 лет соответствуют три цикла обучения (средний курс, первый класс, второй класс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alexei\Desktop\2015 ГОД\кОНТРОЛЬНЫЕ\Доу за рубежом\bignews_113_1307710171309_789987.jpg"/>
          <p:cNvPicPr/>
          <p:nvPr/>
        </p:nvPicPr>
        <p:blipFill>
          <a:blip r:embed="rId1"/>
          <a:stretch/>
        </p:blipFill>
        <p:spPr>
          <a:xfrm>
            <a:off x="4419720" y="2209680"/>
            <a:ext cx="4647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дошкольных образовательных учреждени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ступени дошкольного воспитания образовательные цели заключаются в развитии физических, социальных, поведенческих и интеллектуальных навыков, необходимых для выработки умения справляться с разнообразными ситуациями, диктуемыми сложной повседневной жизн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подготовительном цикле дети должны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обрести моторные навы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иться самовыражаться в устной и письменной форм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владеть рисованием и основами других искусст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иматься основами наук и технической деятельнос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alexei\Desktop\2015 ГОД\кОНТРОЛЬНЫЕ\Доу за рубежом\174247037_5_644x461_razvivayuschie-zanyatiya-dlya-detey-brovary-kievskaya-oblast.jpg"/>
          <p:cNvPicPr/>
          <p:nvPr/>
        </p:nvPicPr>
        <p:blipFill>
          <a:blip r:embed="rId1"/>
          <a:stretch/>
        </p:blipFill>
        <p:spPr>
          <a:xfrm>
            <a:off x="4800600" y="4267080"/>
            <a:ext cx="3676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3716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нь у малышей начинается со свободных игр в специально оборудованных уголк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Users\alexei\Desktop\2015 ГОД\кОНТРОЛЬНЫЕ\Доу за рубежом\Preschool-Class.jpg"/>
          <p:cNvPicPr/>
          <p:nvPr/>
        </p:nvPicPr>
        <p:blipFill>
          <a:blip r:embed="rId1"/>
          <a:stretch/>
        </p:blipFill>
        <p:spPr>
          <a:xfrm>
            <a:off x="4419720" y="1828800"/>
            <a:ext cx="44956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13:31:56Z</dcterms:created>
  <dc:creator>alexei</dc:creator>
  <dc:description/>
  <dc:language>en-US</dc:language>
  <cp:lastModifiedBy>alexei</cp:lastModifiedBy>
  <dcterms:modified xsi:type="dcterms:W3CDTF">2015-12-09T17:11:21Z</dcterms:modified>
  <cp:revision>24</cp:revision>
  <dc:subject/>
  <dc:title>Тема:  Дошкольные образовательные учреждения во Франции</dc:title>
</cp:coreProperties>
</file>