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FF9B-B56D-423C-9F77-593E3789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548F-ABD1-4303-98C5-16F01DCD9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BBC-15C6-44B0-B1F9-3AF5F8ABA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F65-8C54-43FE-BFA1-DF282900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BE04-4A5C-4E26-83D3-1E13704B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68A4-EFD2-4752-A1D8-8CA04392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6FCE4-13C1-4596-BBB6-AE7E20E9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3D83-C9E0-44E9-8771-AC97E303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F9B2-9F19-452D-9D4E-0CE2B9600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F9DA8-19F9-4861-8FB4-7919D94C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CA61B-1262-4044-A691-64E20B25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9BB6-E061-429F-889E-A944C156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F9C5-1528-4464-AE2C-23180E437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D050-74B9-47C9-9C63-0994F138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34212-0B75-4F80-A052-56398974D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E3FE-D3EA-4AEE-A302-B4C5C231D7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3DE6-A2A3-4763-B085-7A4C4A2EA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ED059-848C-43C1-B5DD-AF4797899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04890-D419-45DB-9829-EFAF15A1C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74C64-E982-4534-84D4-7B35F0B19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32BB-15CC-488F-90B6-E426BE0B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7E32-2D86-4ADE-AE79-B3D77927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A22A-8117-4E40-93B5-9341CD09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6BD3E-A8E1-4CEC-9C62-F27A6922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42B0F-996C-47B7-90FF-F18CDA00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2111-B90E-47B9-A357-3DE9D7F1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2996B-F9BD-484A-BA39-C5DCA9501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32DCB1-56B6-403F-85E0-C18FCF27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96172-6C8A-4DD7-B3AD-096139D9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9209A-2190-4244-9BF3-D7AAE8895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A4B15-220E-4732-806D-E87B30CE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7EDE5-2079-40AD-B481-635D5F0DD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06DB4-D78E-43A9-A0BE-BF4ECDA4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53E-C0B8-4A77-98CA-6310AB27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42889-022A-4B6D-8717-A9920F0C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5E2B9-4A03-4A00-8F26-A943145D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1F59E-E70D-4751-96FA-1E127FDB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69514-5779-462D-8C69-19436678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F70377-7A20-4E43-A242-2B9C2D80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AFE51-EFD3-47B0-B64E-F3C62E5F3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CC54B-E290-4A3A-A4A1-48899F7B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C2632-A055-4826-88EA-FC63A20E9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78AAF-C4B2-41E1-BCA4-04097C9E0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0FA7-E2B7-4070-B5C5-F108F4A1B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BD97C-DC9D-4723-849A-96A56491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B255-0E1D-4046-B78E-4BEDEA11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869-4C7D-414A-B772-AA5BFD93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1643-4E16-41C7-B606-7FD8DA495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8CA7-2F10-4F32-9960-BC4E8CFCD5DC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BBBF3-9DD8-42DD-AC4C-1DC3BE22C2ED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4837E-71D3-48EA-BAFF-5E94BD1DB62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F5258-BA99-4267-86F8-463332B2A94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5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Подготовка к ВП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5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ишите предложение с прямой речью. (Знаки препинания не расставлены.) Расставьте необходимые знаки препинания. Составьте схему предложе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) 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«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жалуйста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вымойте за собой посуду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», -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попросила мам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905120" y="4876920"/>
            <a:ext cx="510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«П», - 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7391520" y="38862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191120" y="53341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6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ишите предложение, в котором необходимо поставить запятую/запятые. Напишите, на каком основании Вы сделали свой выбо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) А где же ты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Федя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лешего видал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(в предложении есть обращени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7238880" y="30481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4800600" y="44956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7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пишите предложение, в котором необходимо поставить запятую. Напишите, на каком основании Вы сделали свой выбор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Вода нам показалась очень холодной</a:t>
            </a: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и мы сразу замёрзл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(сложное предложение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7010280" y="2514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5181480" y="4114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ние 8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пределите и запишите основную мысль текста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Емеля пожалел оленёнка, потому что тот напомнил ему внука. «Беду грехом не лечат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731520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ние 9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кой факт, по мнению автора текста, свидетельствует о том, что Емеле нужно было добыть в лесу именно молодого телёнка? Запишите отве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Ослаб больно Гришутка‚ ему бы молодого мясца добыть.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731520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Calibri"/>
              </a:rPr>
              <a:t>Задание 10 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Определите, какой тип речи представлен в предложениях 13—14 текста.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13)Это был маленький прехорошенький оленёнок. (14)Он был с жёлтым пушком и тоненькими ножкам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ОПИС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731520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Задание 11 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едложениях 2—5 найдите слово со значением «тщетно, бесполезно, безрезультатно»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(2)Никак Гришутка с зимы поправиться не мог.(3)— Добудешь телёнка, дедко? — просит Гришутка.(4)— Добуду... — обещает старик.(5)Три дня бродил Емеля по лесу с собакой своей, Лыском, и всё напрасно: оленя с телёнком не попадалось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3300"/>
                </a:solidFill>
                <a:latin typeface="Constantia"/>
              </a:rPr>
              <a:t>НАПРАСНО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731520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Задание 12 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В предложениях 16—19 найдите антоним к слову «медленно» и выпишите его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16)И тут вдруг оленёнок поднял голову да как посмотрит прямо на Емелю. (17)А глаза у него, как у Гришутки, — большие, ясные. (18)Точно что оборвалось в груди у старого Емели. (19)Он опустил ружьё, быстро поднялся и свистнул — маленькое животное скрылось в кустах с быстротой молни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БЫСТР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731520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1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ИТОГО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5»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4»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3»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«2»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39-45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29-38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18-28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0-17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457200" y="38088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оре 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это одно из самых уд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ительных 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я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лений. Оно всегда новое и необычное. Иногда оно тихое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ясное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сп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ойное. В другой м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ент море станов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ся ярк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(1) и блестящ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. При сильн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 ветре оно похоже на в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хмаченную шерсть гиган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т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кого зверя. Когда надв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ается мощный ц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лон, море станов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ся почти ч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ё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ным. Шт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мовой ветер гон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 крупную зы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б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ь(4). По небу с криками л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ают ч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йки. В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аламученные волны тащ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 и ра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з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брасывают вдоль берега з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ёные водор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ли, похожие на щ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альца загадочных ч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овищ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о главное оч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ование моря заключа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ся в какой-то тайне(3), которую оно хр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ит в своих бе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крайних(2) просторах и никому чужому  не открыва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е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. Но каждый наст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ящий м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еход нос</a:t>
            </a:r>
            <a:r>
              <a:rPr b="0" lang="ru-RU" sz="28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т эту тайну в своей душе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0-1 ош. = 4 бал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ош. = 3 бал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-4 ош. = 2 бал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5 ош. =1 бал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6+ = 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48320" y="1920960"/>
            <a:ext cx="403848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0 = 3 бал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 ош. = 2 бал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 ош. = 1 балл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+ = 0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Line 4"/>
          <p:cNvSpPr/>
          <p:nvPr/>
        </p:nvSpPr>
        <p:spPr>
          <a:xfrm flipH="1">
            <a:off x="838080" y="914400"/>
            <a:ext cx="1526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7010280" y="914400"/>
            <a:ext cx="304920" cy="4572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8"/>
          <p:cNvSpPr/>
          <p:nvPr/>
        </p:nvSpPr>
        <p:spPr>
          <a:xfrm flipH="1">
            <a:off x="7314840" y="914400"/>
            <a:ext cx="152280" cy="4572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2362320" y="48769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+ 2 балла за списывание текс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(1) — фонетический разбор;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Р-КИМ – 5 букв, 6 звуко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Я – й – согл., сонор., мяг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а – глас., у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 – р – согл., сонор., твёр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 – к – согл., глух., мяг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 – и – гласн., безу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 – м – согл., сонорн., твёрд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7238880" y="5791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(2) — морфемный разбор;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СКРАЙНИ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10" name="Group 6"/>
          <p:cNvGrpSpPr/>
          <p:nvPr/>
        </p:nvGrpSpPr>
        <p:grpSpPr>
          <a:xfrm>
            <a:off x="914400" y="2133720"/>
            <a:ext cx="761760" cy="152280"/>
            <a:chOff x="914400" y="2133720"/>
            <a:chExt cx="761760" cy="152280"/>
          </a:xfrm>
        </p:grpSpPr>
        <p:sp>
          <p:nvSpPr>
            <p:cNvPr id="211" name="Line 4"/>
            <p:cNvSpPr/>
            <p:nvPr/>
          </p:nvSpPr>
          <p:spPr>
            <a:xfrm>
              <a:off x="914400" y="2133720"/>
              <a:ext cx="761760" cy="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5"/>
            <p:cNvSpPr/>
            <p:nvPr/>
          </p:nvSpPr>
          <p:spPr>
            <a:xfrm>
              <a:off x="1676160" y="2133720"/>
              <a:ext cx="0" cy="152280"/>
            </a:xfrm>
            <a:prstGeom prst="line">
              <a:avLst/>
            </a:prstGeom>
            <a:ln w="414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AutoShape 10"/>
          <p:cNvSpPr/>
          <p:nvPr/>
        </p:nvSpPr>
        <p:spPr>
          <a:xfrm>
            <a:off x="1752480" y="2057400"/>
            <a:ext cx="990720" cy="304920"/>
          </a:xfrm>
          <a:custGeom>
            <a:avLst/>
            <a:gdLst>
              <a:gd name="textAreaLeft" fmla="*/ 0 w 990720"/>
              <a:gd name="textAreaRight" fmla="*/ 991080 w 990720"/>
              <a:gd name="textAreaTop" fmla="*/ 0 h 304920"/>
              <a:gd name="textAreaBottom" fmla="*/ 108720 h 30492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lose/>
              </a:path>
            </a:pathLst>
          </a:cu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>
            <a:off x="2743200" y="1905120"/>
            <a:ext cx="304920" cy="380880"/>
          </a:xfrm>
          <a:prstGeom prst="triangle">
            <a:avLst>
              <a:gd name="adj" fmla="val 50000"/>
            </a:avLst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3048120" y="2209680"/>
            <a:ext cx="609480" cy="533520"/>
          </a:xfrm>
          <a:prstGeom prst="rect">
            <a:avLst/>
          </a:prstGeom>
          <a:solidFill>
            <a:srgbClr val="0f6fc6">
              <a:alpha val="1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7238880" y="5791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(3) — морфологический разбор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тайне –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щ, (в чём?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.Ф. – тайна, 1 скл., ж.р., ед.ч., П.п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 предложении является дополнением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7238880" y="5791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(4) — синтаксический разбор предложения.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Шт</a:t>
            </a:r>
            <a:r>
              <a:rPr b="0" lang="ru-RU" sz="4000" spc="-1" strike="noStrike">
                <a:solidFill>
                  <a:srgbClr val="ff3300"/>
                </a:solidFill>
                <a:latin typeface="Constantia"/>
              </a:rPr>
              <a:t>о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рмовой ветер гон</a:t>
            </a:r>
            <a:r>
              <a:rPr b="0" lang="ru-RU" sz="4000" spc="-1" strike="noStrike">
                <a:solidFill>
                  <a:srgbClr val="ff3300"/>
                </a:solidFill>
                <a:latin typeface="Constantia"/>
              </a:rPr>
              <a:t>и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т крупную зы</a:t>
            </a:r>
            <a:r>
              <a:rPr b="0" lang="ru-RU" sz="4000" spc="-1" strike="noStrike">
                <a:solidFill>
                  <a:srgbClr val="ff3300"/>
                </a:solidFill>
                <a:latin typeface="Constantia"/>
              </a:rPr>
              <a:t>б</a:t>
            </a: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ь(4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овеств., невоскл., простое, распростр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3733920" y="22860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5"/>
          <p:cNvSpPr/>
          <p:nvPr/>
        </p:nvSpPr>
        <p:spPr>
          <a:xfrm>
            <a:off x="5257800" y="22860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"/>
          <p:cNvSpPr/>
          <p:nvPr/>
        </p:nvSpPr>
        <p:spPr>
          <a:xfrm>
            <a:off x="5257800" y="243828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2895480" y="29718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9"/>
          <p:cNvSpPr/>
          <p:nvPr/>
        </p:nvSpPr>
        <p:spPr>
          <a:xfrm>
            <a:off x="838080" y="2197080"/>
            <a:ext cx="2743200" cy="24120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241200"/>
              <a:gd name="textAreaBottom" fmla="*/ 241560 h 241200"/>
            </a:gdLst>
            <a:ahLst/>
            <a:rect l="textAreaLeft" t="textAreaTop" r="textAreaRight" b="textAreaBottom"/>
            <a:pathLst>
              <a:path w="1728" h="152">
                <a:moveTo>
                  <a:pt x="0" y="104"/>
                </a:moveTo>
                <a:cubicBezTo>
                  <a:pt x="28" y="56"/>
                  <a:pt x="56" y="8"/>
                  <a:pt x="96" y="8"/>
                </a:cubicBezTo>
                <a:cubicBezTo>
                  <a:pt x="136" y="8"/>
                  <a:pt x="184" y="104"/>
                  <a:pt x="240" y="104"/>
                </a:cubicBezTo>
                <a:cubicBezTo>
                  <a:pt x="296" y="104"/>
                  <a:pt x="376" y="8"/>
                  <a:pt x="432" y="8"/>
                </a:cubicBezTo>
                <a:cubicBezTo>
                  <a:pt x="488" y="8"/>
                  <a:pt x="512" y="104"/>
                  <a:pt x="576" y="104"/>
                </a:cubicBezTo>
                <a:cubicBezTo>
                  <a:pt x="640" y="104"/>
                  <a:pt x="752" y="8"/>
                  <a:pt x="816" y="8"/>
                </a:cubicBezTo>
                <a:cubicBezTo>
                  <a:pt x="880" y="8"/>
                  <a:pt x="904" y="104"/>
                  <a:pt x="960" y="104"/>
                </a:cubicBezTo>
                <a:cubicBezTo>
                  <a:pt x="1016" y="104"/>
                  <a:pt x="1104" y="0"/>
                  <a:pt x="1152" y="8"/>
                </a:cubicBezTo>
                <a:cubicBezTo>
                  <a:pt x="1200" y="16"/>
                  <a:pt x="1200" y="152"/>
                  <a:pt x="1248" y="152"/>
                </a:cubicBezTo>
                <a:cubicBezTo>
                  <a:pt x="1296" y="152"/>
                  <a:pt x="1384" y="16"/>
                  <a:pt x="1440" y="8"/>
                </a:cubicBezTo>
                <a:cubicBezTo>
                  <a:pt x="1496" y="0"/>
                  <a:pt x="1536" y="96"/>
                  <a:pt x="1584" y="104"/>
                </a:cubicBezTo>
                <a:cubicBezTo>
                  <a:pt x="1632" y="112"/>
                  <a:pt x="1680" y="84"/>
                  <a:pt x="172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10"/>
          <p:cNvSpPr/>
          <p:nvPr/>
        </p:nvSpPr>
        <p:spPr>
          <a:xfrm>
            <a:off x="762120" y="2895480"/>
            <a:ext cx="2057400" cy="24156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1728" h="152">
                <a:moveTo>
                  <a:pt x="0" y="104"/>
                </a:moveTo>
                <a:cubicBezTo>
                  <a:pt x="28" y="56"/>
                  <a:pt x="56" y="8"/>
                  <a:pt x="96" y="8"/>
                </a:cubicBezTo>
                <a:cubicBezTo>
                  <a:pt x="136" y="8"/>
                  <a:pt x="184" y="104"/>
                  <a:pt x="240" y="104"/>
                </a:cubicBezTo>
                <a:cubicBezTo>
                  <a:pt x="296" y="104"/>
                  <a:pt x="376" y="8"/>
                  <a:pt x="432" y="8"/>
                </a:cubicBezTo>
                <a:cubicBezTo>
                  <a:pt x="488" y="8"/>
                  <a:pt x="512" y="104"/>
                  <a:pt x="576" y="104"/>
                </a:cubicBezTo>
                <a:cubicBezTo>
                  <a:pt x="640" y="104"/>
                  <a:pt x="752" y="8"/>
                  <a:pt x="816" y="8"/>
                </a:cubicBezTo>
                <a:cubicBezTo>
                  <a:pt x="880" y="8"/>
                  <a:pt x="904" y="104"/>
                  <a:pt x="960" y="104"/>
                </a:cubicBezTo>
                <a:cubicBezTo>
                  <a:pt x="1016" y="104"/>
                  <a:pt x="1104" y="0"/>
                  <a:pt x="1152" y="8"/>
                </a:cubicBezTo>
                <a:cubicBezTo>
                  <a:pt x="1200" y="16"/>
                  <a:pt x="1200" y="152"/>
                  <a:pt x="1248" y="152"/>
                </a:cubicBezTo>
                <a:cubicBezTo>
                  <a:pt x="1296" y="152"/>
                  <a:pt x="1384" y="16"/>
                  <a:pt x="1440" y="8"/>
                </a:cubicBezTo>
                <a:cubicBezTo>
                  <a:pt x="1496" y="0"/>
                  <a:pt x="1536" y="96"/>
                  <a:pt x="1584" y="104"/>
                </a:cubicBezTo>
                <a:cubicBezTo>
                  <a:pt x="1632" y="112"/>
                  <a:pt x="1680" y="84"/>
                  <a:pt x="1728" y="5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7238880" y="5791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Поставьте знак ударения в следующих словах 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Constantia"/>
              </a:rPr>
              <a:t>начали, повторим, каучук, углубить</a:t>
            </a:r>
            <a:r>
              <a:rPr b="0" lang="ru-RU" sz="60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Line 4"/>
          <p:cNvSpPr/>
          <p:nvPr/>
        </p:nvSpPr>
        <p:spPr>
          <a:xfrm flipV="1">
            <a:off x="1600200" y="2133720"/>
            <a:ext cx="228600" cy="3045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"/>
          <p:cNvSpPr/>
          <p:nvPr/>
        </p:nvSpPr>
        <p:spPr>
          <a:xfrm flipV="1">
            <a:off x="6858000" y="2209320"/>
            <a:ext cx="228600" cy="30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6"/>
          <p:cNvSpPr/>
          <p:nvPr/>
        </p:nvSpPr>
        <p:spPr>
          <a:xfrm flipV="1">
            <a:off x="2666880" y="3123720"/>
            <a:ext cx="228600" cy="30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7"/>
          <p:cNvSpPr/>
          <p:nvPr/>
        </p:nvSpPr>
        <p:spPr>
          <a:xfrm flipV="1">
            <a:off x="5867280" y="3200040"/>
            <a:ext cx="228600" cy="3049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7238880" y="579132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4.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д каждым словом напишите, какой частью речи оно является. Запишите, какие из известных Вам частей речи отсутствуют в предложении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Кусты дикой маслины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дрожали над пропастью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сутствуют: местоимения, наречия, числительные, союзы, частицы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990720" y="3048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5"/>
          <p:cNvSpPr/>
          <p:nvPr/>
        </p:nvSpPr>
        <p:spPr>
          <a:xfrm>
            <a:off x="990720" y="3124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6"/>
          <p:cNvSpPr/>
          <p:nvPr/>
        </p:nvSpPr>
        <p:spPr>
          <a:xfrm>
            <a:off x="5029200" y="3124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4952880" y="3962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ущ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8"/>
          <p:cNvSpPr/>
          <p:nvPr/>
        </p:nvSpPr>
        <p:spPr>
          <a:xfrm>
            <a:off x="2819520" y="31240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и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1371600" y="3886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Гла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2666880" y="39625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д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7391520" y="365760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3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7315200" y="59436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2 бал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1T12:00:12Z</dcterms:created>
  <dc:creator>Алесса</dc:creator>
  <dc:description/>
  <dc:language>en-US</dc:language>
  <cp:lastModifiedBy>RePack by SPecialiST</cp:lastModifiedBy>
  <dcterms:modified xsi:type="dcterms:W3CDTF">2018-07-19T13:09:36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