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9DE0-3B79-44CB-9085-BFAAF39D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0C86-BA9A-4642-9AED-F74C6ED8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6985-51F3-435F-9251-C14A8441A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595F-6B99-447E-AAA6-49FDA690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3F22E-5CDB-4D6C-AA99-E1F6F235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7AED-6065-4122-8596-6B7C88B2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46AC-91CA-4025-8451-DBA4EC33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2E36-D889-4D8E-9E3E-B92F8DB37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BEF-8412-4201-859B-36E4B9DD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03302-35D3-45AE-AE37-E1EAE6B67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859B-7CD6-40E8-8702-AF921C83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5C8-4661-45A2-BD2D-DFF6E0CB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11BF-1167-42EA-B62F-80B07CFC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9334-4C1E-4DE7-A086-908F94DF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75BE-C256-4F8C-8AB2-C7328353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5568-796F-48A3-84E6-D32F481D7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D543-87B4-4C09-835F-3BCF4395B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9544-91FB-402A-8A4A-D3EB2BC0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9A0DA-C6AA-4468-9DEA-39E7532A3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D1B8-C838-4D77-A030-251D17F7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66005-70B7-4602-9F8E-901C814A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2214-9D92-4E08-83DB-9C868F77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1777-6907-422C-B8B7-3D41D173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0B2D0-04D7-47C1-ADCD-41DB4938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81046-84C2-41D2-916D-53061FAE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3ED8E-E5D5-4663-9563-5F4BBA94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75899-1489-4363-B40F-26CB809F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B0E7-1809-4491-905B-D2E809F5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D2B38-9EB3-4269-B0C5-D2150876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AECC7-3340-4BFF-A5FA-DA3FF77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1AD1-7827-491C-AC59-7A468F1F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2B973-1823-4F88-A76C-A654D3D4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97646-3A3E-4A25-83F6-F8A444C0C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F848-CA89-49CB-9A41-CE7E6303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D184D-5762-40B3-9595-97BA567ED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E6CCF-7B01-4767-87B5-F9BA0B5E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BF27F-AD0A-4C4C-B870-D2666F4F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06CE2-53EE-4B09-9130-ACDA2D4F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A9C1A-8100-48BC-A1FA-835E9F3A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592BB-A0C7-4944-AA8E-408D47F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43D20-0ED9-43C9-B5FB-6FEF040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32F44-0B39-4F6E-8A99-524760A9A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C16FE-D9F2-4C28-B514-1BBE3DE5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0E0-04FE-44E8-A269-4033C0E9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25C-02B1-43D0-9814-58592621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4AC-8706-4241-9A83-8E794E145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496-433C-4B9C-BA2F-D324AF6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F9E1-ECB3-4990-9154-C2CF1619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5544-84FB-4E76-B437-EC5DCCE9D15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77B8-57E4-4177-9B66-E5830107E034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D0B3-3C51-453C-A3E0-C4C35A6ED28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635F4-736B-4DBE-A0F7-F39C285F95EF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ка к ВП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ишите предложение с прямой речью. (Знаки препинания не расставлены.) Расставьте необходимые знаки препинания. Составьте схему предл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жалуйста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ымойте за собой посуду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»,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просила ма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905120" y="48769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«П», - 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391520" y="38862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191120" y="5334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ишите предложение, в котором необходимо поставить запятую/запятые. Напишите, на каком основании Вы сделали свой выбо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А где же ты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Федя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лешего вида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(в предложении есть обращ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23888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800600" y="4495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ишите предложение, в котором необходимо поставить запятую. Напишите, на каком основании Вы сделали свой выбо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Вода нам показалась очень холодной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мы сразу замёрз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(сложное предлож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010280" y="2514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181480" y="4114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 8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е и запишите основную мысль текст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еля пожалел оленёнка, потому что тот напомнил ему внука. «Беду грехом не лечат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 9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факт, по мнению автора текста, свидетельствует о том, что Емеле нужно было добыть в лесу именно молодого телёнка? Запишите отв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слаб больно Гришутка‚ ему бы молодого мясца добыть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дание 10 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пределите, какой тип речи представлен в предложениях 13—14 текста.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3)Это был маленький прехорошенький оленёнок. (14)Он был с жёлтым пушком и тоненькими ножк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ПИС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 11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дложениях 2—5 найдите слово со значением «тщетно, бесполезно, безрезультатно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2)Никак Гришутка с зимы поправиться не мог.(3)— Добудешь телёнка, дедко? — просит Гришутка.(4)— Добуду... — обещает старик.(5)Три дня бродил Емеля по лесу с собакой своей, Лыском, и всё напрасно: оленя с телёнком не попадало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НАПРАСН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адание 12 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предложениях 16—19 найдите антоним к слову «медленно» и выпишите его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16)И тут вдруг оленёнок поднял голову да как посмотрит прямо на Емелю. (17)А глаза у него, как у Гришутки, — большие, ясные. (18)Точно что оборвалось в груди у старого Емели. (19)Он опустил ружьё, быстро поднялся и свистнул — маленькое животное скрылось в кустах с быстротой молн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БЫСТР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ОГ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5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4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3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2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39-4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29-3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18-2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0-1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3808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е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это одно из самых уд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ительных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лений. Оно всегда новое и необычное. Иногда оно тихое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ясное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сп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йное. В другой м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нт море стано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ся ярк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(1) и блестящ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. При сильн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 ветре оно похоже на 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хмаченную шерсть гиган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кого зверя. Когда над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ается мощный ц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лон, море стано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ся почти 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ным. Шт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мовой ветер гон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 крупную зы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ь(4). По небу с криками л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ют 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йки. 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аламученные волны тащ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 и ра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расывают вдоль берега з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ёные водор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ли, похожие на щ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альца загадочных 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вищ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о главное о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вание моря заключа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ся в какой-то тайне(3), которую оно хр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 в своих бе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райних(2) просторах и никому чужому  не открыва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. Но каждый наст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щий м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ход нос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 эту тайну в своей ду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0-1 ош. = 4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ош. = 3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4 ош. = 2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 ош. =1 бал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+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0 = 3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ош. = 2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ош. = 1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+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838080" y="91440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7010280" y="914400"/>
            <a:ext cx="304920" cy="45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7314840" y="914400"/>
            <a:ext cx="152280" cy="45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362320" y="4876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+ 2 балла за списывание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(1) — фонетический разбор;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Р-КИМ – 5 букв, 6 зву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– й – согл., сонор., мяг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а – глас., у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 – р – согл., сонор., твёр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– к – согл., глух., мяг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– и – гласн., безу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 – м – согл., сонорн., твёр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(2) — морфемный разбор;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СКРАЙН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914400" y="2133720"/>
            <a:ext cx="761760" cy="152280"/>
            <a:chOff x="914400" y="2133720"/>
            <a:chExt cx="761760" cy="152280"/>
          </a:xfrm>
        </p:grpSpPr>
        <p:sp>
          <p:nvSpPr>
            <p:cNvPr id="211" name="Line 4"/>
            <p:cNvSpPr/>
            <p:nvPr/>
          </p:nvSpPr>
          <p:spPr>
            <a:xfrm>
              <a:off x="914400" y="2133720"/>
              <a:ext cx="76176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676160" y="2133720"/>
              <a:ext cx="0" cy="1522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AutoShape 10"/>
          <p:cNvSpPr/>
          <p:nvPr/>
        </p:nvSpPr>
        <p:spPr>
          <a:xfrm>
            <a:off x="1752480" y="2057400"/>
            <a:ext cx="990720" cy="30492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920"/>
              <a:gd name="textAreaBottom" fmla="*/ 108720 h 3049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2743200" y="19051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048120" y="2209680"/>
            <a:ext cx="609480" cy="533520"/>
          </a:xfrm>
          <a:prstGeom prst="rect">
            <a:avLst/>
          </a:prstGeom>
          <a:solidFill>
            <a:srgbClr val="0f6fc6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3) — морфологический разбор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айне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, (в чём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.Ф. – тайна, 1 скл., ж.р., ед.ч., П.п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дложении является дополн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4) — синтаксический разбор предложения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Шт</a:t>
            </a:r>
            <a:r>
              <a:rPr b="0" lang="ru-RU" sz="40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мовой ветер гон</a:t>
            </a:r>
            <a:r>
              <a:rPr b="0" lang="ru-RU" sz="40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 крупную зы</a:t>
            </a:r>
            <a:r>
              <a:rPr b="0" lang="ru-RU" sz="4000" spc="-1" strike="noStrike">
                <a:solidFill>
                  <a:srgbClr val="ff3300"/>
                </a:solidFill>
                <a:latin typeface="Constantia"/>
              </a:rPr>
              <a:t>б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ь(4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веств., невоскл., простое, распростр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3733920" y="22860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5257800" y="22860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5257800" y="24382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2895480" y="29718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>
            <a:off x="838080" y="2197080"/>
            <a:ext cx="2743200" cy="2412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728" h="152">
                <a:moveTo>
                  <a:pt x="0" y="104"/>
                </a:moveTo>
                <a:cubicBezTo>
                  <a:pt x="28" y="56"/>
                  <a:pt x="56" y="8"/>
                  <a:pt x="96" y="8"/>
                </a:cubicBezTo>
                <a:cubicBezTo>
                  <a:pt x="136" y="8"/>
                  <a:pt x="184" y="104"/>
                  <a:pt x="240" y="104"/>
                </a:cubicBezTo>
                <a:cubicBezTo>
                  <a:pt x="296" y="104"/>
                  <a:pt x="376" y="8"/>
                  <a:pt x="432" y="8"/>
                </a:cubicBezTo>
                <a:cubicBezTo>
                  <a:pt x="488" y="8"/>
                  <a:pt x="512" y="104"/>
                  <a:pt x="576" y="104"/>
                </a:cubicBezTo>
                <a:cubicBezTo>
                  <a:pt x="640" y="104"/>
                  <a:pt x="752" y="8"/>
                  <a:pt x="816" y="8"/>
                </a:cubicBezTo>
                <a:cubicBezTo>
                  <a:pt x="880" y="8"/>
                  <a:pt x="904" y="104"/>
                  <a:pt x="960" y="104"/>
                </a:cubicBezTo>
                <a:cubicBezTo>
                  <a:pt x="1016" y="104"/>
                  <a:pt x="1104" y="0"/>
                  <a:pt x="1152" y="8"/>
                </a:cubicBezTo>
                <a:cubicBezTo>
                  <a:pt x="1200" y="16"/>
                  <a:pt x="1200" y="152"/>
                  <a:pt x="1248" y="152"/>
                </a:cubicBezTo>
                <a:cubicBezTo>
                  <a:pt x="1296" y="152"/>
                  <a:pt x="1384" y="16"/>
                  <a:pt x="1440" y="8"/>
                </a:cubicBezTo>
                <a:cubicBezTo>
                  <a:pt x="1496" y="0"/>
                  <a:pt x="1536" y="96"/>
                  <a:pt x="1584" y="104"/>
                </a:cubicBezTo>
                <a:cubicBezTo>
                  <a:pt x="1632" y="112"/>
                  <a:pt x="1680" y="84"/>
                  <a:pt x="172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"/>
          <p:cNvSpPr/>
          <p:nvPr/>
        </p:nvSpPr>
        <p:spPr>
          <a:xfrm>
            <a:off x="762120" y="2895480"/>
            <a:ext cx="2057400" cy="2415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728" h="152">
                <a:moveTo>
                  <a:pt x="0" y="104"/>
                </a:moveTo>
                <a:cubicBezTo>
                  <a:pt x="28" y="56"/>
                  <a:pt x="56" y="8"/>
                  <a:pt x="96" y="8"/>
                </a:cubicBezTo>
                <a:cubicBezTo>
                  <a:pt x="136" y="8"/>
                  <a:pt x="184" y="104"/>
                  <a:pt x="240" y="104"/>
                </a:cubicBezTo>
                <a:cubicBezTo>
                  <a:pt x="296" y="104"/>
                  <a:pt x="376" y="8"/>
                  <a:pt x="432" y="8"/>
                </a:cubicBezTo>
                <a:cubicBezTo>
                  <a:pt x="488" y="8"/>
                  <a:pt x="512" y="104"/>
                  <a:pt x="576" y="104"/>
                </a:cubicBezTo>
                <a:cubicBezTo>
                  <a:pt x="640" y="104"/>
                  <a:pt x="752" y="8"/>
                  <a:pt x="816" y="8"/>
                </a:cubicBezTo>
                <a:cubicBezTo>
                  <a:pt x="880" y="8"/>
                  <a:pt x="904" y="104"/>
                  <a:pt x="960" y="104"/>
                </a:cubicBezTo>
                <a:cubicBezTo>
                  <a:pt x="1016" y="104"/>
                  <a:pt x="1104" y="0"/>
                  <a:pt x="1152" y="8"/>
                </a:cubicBezTo>
                <a:cubicBezTo>
                  <a:pt x="1200" y="16"/>
                  <a:pt x="1200" y="152"/>
                  <a:pt x="1248" y="152"/>
                </a:cubicBezTo>
                <a:cubicBezTo>
                  <a:pt x="1296" y="152"/>
                  <a:pt x="1384" y="16"/>
                  <a:pt x="1440" y="8"/>
                </a:cubicBezTo>
                <a:cubicBezTo>
                  <a:pt x="1496" y="0"/>
                  <a:pt x="1536" y="96"/>
                  <a:pt x="1584" y="104"/>
                </a:cubicBezTo>
                <a:cubicBezTo>
                  <a:pt x="1632" y="112"/>
                  <a:pt x="1680" y="84"/>
                  <a:pt x="172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оставьте знак ударения в следующих словах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nstantia"/>
              </a:rPr>
              <a:t>начали, повторим, каучук, углубить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1600200" y="2133720"/>
            <a:ext cx="228600" cy="3045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6858000" y="2209320"/>
            <a:ext cx="22860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2666880" y="3123720"/>
            <a:ext cx="22860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5867280" y="3200040"/>
            <a:ext cx="22860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д каждым словом напишите, какой частью речи оно является. Запишите, какие из известных Вам частей речи отсутствуют в предложен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усты дикой маслины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рожали над пропасть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сутствуют: местоимения, наречия, числительные, союзы, частиц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990720" y="304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90720" y="3124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0292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9528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819520" y="3124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3716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6668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д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7391520" y="3657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2:00:12Z</dcterms:created>
  <dc:creator>Алесса</dc:creator>
  <dc:description/>
  <dc:language>en-US</dc:language>
  <cp:lastModifiedBy>RePack by SPecialiST</cp:lastModifiedBy>
  <dcterms:modified xsi:type="dcterms:W3CDTF">2018-07-19T13:09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