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CFB0-7C62-42A3-8823-91047EF9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A0E2-A12A-470B-92C8-7CA6F216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7E5E-0283-416E-8420-75456F38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355-51E3-42DA-AAF9-725D055A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DFEF2-E9AC-4210-B7F3-4EE3EC5B2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07C2-C331-4E2B-A4BA-342A1828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5605-CBD9-466A-B927-0FAFFE60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CCB39-67FD-4845-8F69-3E8D43EE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23CC-B7D6-45C1-8571-D9D1ECF7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3E83-B3D2-4CF2-BE96-1F8BE7095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0948-A4EF-438A-BFD6-4916E041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599-ACAC-4DD9-85B1-1F8EF432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5978-9A8D-41AC-8112-9734CFCB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6FC0-5516-4499-A80C-264BE93E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D8A3-5339-45F0-88CB-CDD440DB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A05B-DF7C-4503-9E47-DAB32BBD7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AB2F-FEA7-4656-A8E7-4675EE12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4BED-2AAE-4D2B-8A18-95164974E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1B09-572C-4CC4-A783-482A03E2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2AC8-BF8B-49C9-9F80-909C7ED7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7D1E-EAE5-4C32-A87C-65A9AE17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B753-2EF5-4AA7-BB5A-AC16136F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8B90-4AF3-49FA-98C8-1BEB8026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CD6-8CF3-47D0-9655-B987A238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0981-0675-4B33-B3E1-A7CED840F27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90D0-0B13-40D4-AC04-A2577D475E6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eed4soft.ru/uploads/taginator/Jul-2013/fon-prezentacii-skachat.jpg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2016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0000"/>
                </a:solidFill>
                <a:latin typeface="Comic Sans MS"/>
              </a:rPr>
              <a:t>Считаем в уме </a:t>
            </a:r>
            <a:br>
              <a:rPr sz="7000"/>
            </a:br>
            <a:r>
              <a:rPr b="0" lang="en-US" sz="7000" spc="-1" strike="noStrike">
                <a:solidFill>
                  <a:srgbClr val="ff0000"/>
                </a:solidFill>
                <a:latin typeface="Comic Sans MS"/>
              </a:rPr>
              <a:t>легко!</a:t>
            </a:r>
            <a:endParaRPr b="0" lang="en-US" sz="7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00360" y="5013000"/>
            <a:ext cx="3816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втор: Шапошник Татьяна Ивановн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учитель математики  МБОУ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«Ржевская СОШ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Шебекинского район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Белгородской области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924280"/>
            <a:ext cx="7772400" cy="72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Умножение на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412640"/>
            <a:ext cx="7986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се мы знаем, как быстро умножить число на 10: нужно лишь добавить ноль в конц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3 1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23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о знаете ли вы, как легко умножить двузначное число на 11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3141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озьмите двузначное число, которое нужно умножить на 11 и представьте между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го двумя цифрами место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                    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6_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перь сложите первую и вторую цифру этого числа и поместите в это место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                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6_(6+3)_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наш результат умножения готов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                 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63 11=69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851280" y="602136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числите самостоятельн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79280" y="2060640"/>
            <a:ext cx="6985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3  11 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omic Sans MS"/>
              <a:buAutoNum type="arabicPlain" startAt="5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1 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5  11 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omic Sans MS"/>
              <a:buAutoNum type="arabicPlain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1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omic Sans MS"/>
              <a:buAutoNum type="arabicPlain" startAt="7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1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8  11 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2349360"/>
            <a:ext cx="144720" cy="1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306864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78936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71640" y="450864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71640" y="530064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71640" y="602136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24360" y="2060640"/>
            <a:ext cx="971640" cy="561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924360" y="285264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924360" y="3573360"/>
            <a:ext cx="942840" cy="552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851280" y="4292640"/>
            <a:ext cx="1047600" cy="61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3924360" y="5013360"/>
            <a:ext cx="1000080" cy="542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3995640" y="5734080"/>
            <a:ext cx="2019240" cy="666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6300720" y="5734080"/>
            <a:ext cx="21146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58  11 = 5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??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ля таких случаев, когда сумма цифр двузначного числа больше 10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5+8=1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между цифрами вставляем не всю сумму, а только вторую цифру, а 1 прибавляем к первой цифре чис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8  11 = (5+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3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=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63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119700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8000" y="515772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01800" y="368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числите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2060640"/>
            <a:ext cx="64720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8  11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5  11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9  11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7  11=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4  11=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93  11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71640" y="2349360"/>
            <a:ext cx="144720" cy="1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306864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71640" y="378936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71640" y="450864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71640" y="530064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71640" y="602136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24360" y="2924280"/>
            <a:ext cx="1057320" cy="552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995640" y="3645000"/>
            <a:ext cx="962280" cy="542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995640" y="2133720"/>
            <a:ext cx="1009800" cy="523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3924360" y="4292640"/>
            <a:ext cx="1057320" cy="638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4067280" y="5013360"/>
            <a:ext cx="933480" cy="5713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4067280" y="5805360"/>
            <a:ext cx="11239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нтернет-ресурс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need4soft.ru/uploads/taginator/Jul-2013/fon-prezentacii-skachat.jp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http://gdepapa.ru/forum/dating/radost/topic3335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4T16:15:53Z</dcterms:created>
  <dc:creator>Андрей</dc:creator>
  <dc:description/>
  <dc:language>en-US</dc:language>
  <cp:lastModifiedBy>Андрей</cp:lastModifiedBy>
  <dcterms:modified xsi:type="dcterms:W3CDTF">2014-10-24T18:14:17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verageRating">
    <vt:lpwstr>5.00000000000000</vt:lpwstr>
  </property>
  <property fmtid="{D5CDD505-2E9C-101B-9397-08002B2CF9AE}" pid="3" name="RatedBy">
    <vt:lpwstr>1142;#Шапошник Т.И.</vt:lpwstr>
  </property>
  <property fmtid="{D5CDD505-2E9C-101B-9397-08002B2CF9AE}" pid="4" name="RatingCount">
    <vt:lpwstr>1</vt:lpwstr>
  </property>
  <property fmtid="{D5CDD505-2E9C-101B-9397-08002B2CF9AE}" pid="5" name="Ratings">
    <vt:lpwstr>5,</vt:lpwstr>
  </property>
  <property fmtid="{D5CDD505-2E9C-101B-9397-08002B2CF9AE}" pid="6" name="Status">
    <vt:lpwstr>Опубликован бесплатно</vt:lpwstr>
  </property>
  <property fmtid="{D5CDD505-2E9C-101B-9397-08002B2CF9AE}" pid="7" name="_docset_NoMedatataSyncRequired">
    <vt:lpwstr>False</vt:lpwstr>
  </property>
  <property fmtid="{D5CDD505-2E9C-101B-9397-08002B2CF9AE}" pid="8" name="display_urn:schemas-microsoft-com:office:office#RatedBy">
    <vt:lpwstr>Шапошник Т.И.</vt:lpwstr>
  </property>
</Properties>
</file>