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591D-FFBD-4AD2-AAD8-C8FFD18C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1188-0852-4BD6-95E3-28B5C3C3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370-76D8-4CCD-9BD6-4339FF08A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9BA9-31DA-4042-B152-EF0B4AB8A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B2EE-F4D1-4DE9-B36D-E2A8EFF86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5A3E-B364-4F2C-A1E0-8419B952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65601-B635-46E5-930F-AA135A13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F8BA4-A0D5-4269-9743-86B35595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5D24-C2A6-4E6A-ADF1-64B267640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7950-9E2B-4EEC-A5E1-6349EB7C4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61A9-8C87-4ADA-A65E-D4336FEF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9858-4A17-480B-B428-148F2D96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D41E-B173-48A7-B07B-649250150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1D01-E208-46C3-80C7-8B9041253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CC690-F3B1-4463-9C8B-01EBDD409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E9C2-3715-465C-AB0F-991E77BDD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BA6A-5175-4846-85D0-941F9295F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E41F-7BB2-45F5-9D18-871FC2B99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69F-2F79-4141-B10E-235433F3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4156-247E-408F-915B-7826493D7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295C-1D47-4B7C-84E5-CD67602A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464-11CE-4FCC-995C-B9D4AC8E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0FC0-EABB-441D-9D0F-6C26CB53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7E4E-5D49-46B6-BD33-69DD4D77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3586-F305-4F10-8037-FE949525890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5BC6A-E85C-4023-8AB4-D9FF0143C6E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eed4soft.ru/uploads/taginator/Jul-2013/fon-prezentacii-skachat.jpg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2016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Comic Sans MS"/>
              </a:rPr>
              <a:t>Считаем в уме </a:t>
            </a:r>
            <a:br>
              <a:rPr sz="7000"/>
            </a:br>
            <a:r>
              <a:rPr b="0" lang="en-US" sz="7000" spc="-1" strike="noStrike">
                <a:solidFill>
                  <a:srgbClr val="ff0000"/>
                </a:solidFill>
                <a:latin typeface="Comic Sans MS"/>
              </a:rPr>
              <a:t>легко!</a:t>
            </a:r>
            <a:endParaRPr b="0" lang="en-US" sz="7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00360" y="5013000"/>
            <a:ext cx="3816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втор: Шапошник Татьяна Ивановн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учитель математики  МБОУ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«Ржевская СОШ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Шебекинского район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Белгородской области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924280"/>
            <a:ext cx="7772400" cy="72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Умножение на 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412640"/>
            <a:ext cx="7986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е мы знаем, как быстро умножить число на 10: нужно лишь добавить ноль в конц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3 1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23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о знаете ли вы, как легко умножить двузначное число на 11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3141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озьмите двузначное число, которое нужно умножить на 11 и представьте между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го двумя цифрами место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                    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6_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еперь сложите первую и вторую цифру этого числа и поместите в это место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                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6_(6+3)_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 наш результат умножения готов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                  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63 11=69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851280" y="602136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числите самостоятель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979280" y="2060640"/>
            <a:ext cx="6985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3  11 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omic Sans MS"/>
              <a:buAutoNum type="arabicPlain" startAt="5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1 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5  11 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omic Sans MS"/>
              <a:buAutoNum type="arabicPlain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1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omic Sans MS"/>
              <a:buAutoNum type="arabicPlain" startAt="7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1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8  11 =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2349360"/>
            <a:ext cx="14472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700360" y="306864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78936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71640" y="450864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71640" y="530064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71640" y="602136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24360" y="2060640"/>
            <a:ext cx="971640" cy="5619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3924360" y="285264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3"/>
          <a:stretch/>
        </p:blipFill>
        <p:spPr>
          <a:xfrm>
            <a:off x="3924360" y="3573360"/>
            <a:ext cx="942840" cy="55260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851280" y="4292640"/>
            <a:ext cx="1047600" cy="619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3924360" y="5013360"/>
            <a:ext cx="1000080" cy="5428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3995640" y="5734080"/>
            <a:ext cx="2019240" cy="6667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6300720" y="5734080"/>
            <a:ext cx="211464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58  11 = 5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8 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??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3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Для таких случаев, когда сумма цифр двузначного числа больше 10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5+8=1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, между цифрами вставляем не всю сумму, а только вторую цифру, а 1 прибавляем к первой цифре числа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58  11 = (5+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3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8=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6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"/>
          <p:cNvSpPr/>
          <p:nvPr/>
        </p:nvSpPr>
        <p:spPr>
          <a:xfrm>
            <a:off x="2340000" y="119700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8000" y="515772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901800" y="368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числите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2060640"/>
            <a:ext cx="647208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8  1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5  11 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9  11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7  11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4  11=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93  11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71640" y="2349360"/>
            <a:ext cx="14472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306864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1640" y="378936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71640" y="450864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530064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71640" y="602136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924360" y="2924280"/>
            <a:ext cx="1057320" cy="552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3995640" y="3645000"/>
            <a:ext cx="962280" cy="5428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3995640" y="2133720"/>
            <a:ext cx="1009800" cy="5238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3924360" y="4292640"/>
            <a:ext cx="1057320" cy="6382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5"/>
          <a:stretch/>
        </p:blipFill>
        <p:spPr>
          <a:xfrm>
            <a:off x="4067280" y="5013360"/>
            <a:ext cx="933480" cy="571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6"/>
          <a:stretch/>
        </p:blipFill>
        <p:spPr>
          <a:xfrm>
            <a:off x="4067280" y="5805360"/>
            <a:ext cx="112392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нтернет-ресурс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need4soft.ru/uploads/taginator/Jul-2013/fon-prezentacii-skachat.jp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http://gdepapa.ru/forum/dating/radost/topic3335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4T16:15:53Z</dcterms:created>
  <dc:creator>Андрей</dc:creator>
  <dc:description/>
  <dc:language>en-US</dc:language>
  <cp:lastModifiedBy>Андрей</cp:lastModifiedBy>
  <dcterms:modified xsi:type="dcterms:W3CDTF">2014-10-24T18:14:17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verageRating">
    <vt:lpwstr>5.00000000000000</vt:lpwstr>
  </property>
  <property fmtid="{D5CDD505-2E9C-101B-9397-08002B2CF9AE}" pid="3" name="RatedBy">
    <vt:lpwstr>1142;#Шапошник Т.И.</vt:lpwstr>
  </property>
  <property fmtid="{D5CDD505-2E9C-101B-9397-08002B2CF9AE}" pid="4" name="RatingCount">
    <vt:lpwstr>1</vt:lpwstr>
  </property>
  <property fmtid="{D5CDD505-2E9C-101B-9397-08002B2CF9AE}" pid="5" name="Ratings">
    <vt:lpwstr>5,</vt:lpwstr>
  </property>
  <property fmtid="{D5CDD505-2E9C-101B-9397-08002B2CF9AE}" pid="6" name="Status">
    <vt:lpwstr>Опубликован бесплатно</vt:lpwstr>
  </property>
  <property fmtid="{D5CDD505-2E9C-101B-9397-08002B2CF9AE}" pid="7" name="_docset_NoMedatataSyncRequired">
    <vt:lpwstr>False</vt:lpwstr>
  </property>
  <property fmtid="{D5CDD505-2E9C-101B-9397-08002B2CF9AE}" pid="8" name="display_urn:schemas-microsoft-com:office:office#RatedBy">
    <vt:lpwstr>Шапошник Т.И.</vt:lpwstr>
  </property>
</Properties>
</file>