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5A38-8EC4-41DD-9F80-C01FF9DA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516D-70D2-446D-8DD8-07911BA0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CAA9-7724-4920-BA48-8F96656B2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184B-B67F-4BA0-8419-98C1C4FDB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57CC-42DC-4F54-ADAF-9F47DB2F3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C5E59-47EC-42C5-8CC5-B2E31F42B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65D0-AA1D-40A0-A0CF-66E3C33B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0E7D-C691-4C11-8549-728C21DF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0289-C4A0-4B86-920D-7B60F20C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37FA-AB32-47AC-A286-4C96C2C8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3B247-A9A3-46A4-82A5-616CFB7F0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1C36-05B8-40C5-A9DF-C5605784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99A1-06AA-45DF-8987-764685852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5CD9-18C8-4CF0-9879-FE9D3BE6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9EABC-D17D-4155-B9E2-C04DDBEF0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29F60-0A65-47AE-8540-FCE39F37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87BE-CBEA-4542-B943-0BCC80A2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EADB-E76C-4BF1-A148-1413765B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252-DE7B-4590-833A-5BC413E1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C13B-0B70-4CFB-9230-612CCE1EB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BD5C-DA71-4A9A-9E07-492D0190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F11-24A4-4F97-A352-9C58F3FF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D6C95-5672-4FCD-BA54-FCB454BA4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7923-884F-496B-895F-6E96BE95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3A08-3966-4D5C-9A3B-BFA9745BCC45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A284-EC62-4D9D-A7BF-6FA599099237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need4soft.ru/uploads/taginator/Jul-2013/fon-prezentacii-skachat.jpg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549360"/>
            <a:ext cx="7772400" cy="2016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Comic Sans MS"/>
              </a:rPr>
              <a:t>Считаем в уме </a:t>
            </a:r>
            <a:br>
              <a:rPr sz="7000"/>
            </a:br>
            <a:r>
              <a:rPr b="0" lang="en-US" sz="7000" spc="-1" strike="noStrike">
                <a:solidFill>
                  <a:srgbClr val="ff0000"/>
                </a:solidFill>
                <a:latin typeface="Comic Sans MS"/>
              </a:rPr>
              <a:t>легко!</a:t>
            </a:r>
            <a:endParaRPr b="0" lang="en-US" sz="7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00360" y="5013000"/>
            <a:ext cx="381636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Автор: Шапошник Татьяна Ивановна,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учитель математики  МБОУ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«Ржевская СОШ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Шебекинского райо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            Белгородской области»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684360" y="2924280"/>
            <a:ext cx="7772400" cy="72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Умножение на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94920" y="1412640"/>
            <a:ext cx="7986600" cy="40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Все мы знаем, как быстро умножить число на 10: нужно лишь добавить ноль в конце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45 1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0</a:t>
            </a: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=45</a:t>
            </a:r>
            <a:r>
              <a:rPr b="0" lang="en-US" sz="4800" spc="-1" strike="noStrike">
                <a:solidFill>
                  <a:srgbClr val="ff0000"/>
                </a:solidFill>
                <a:latin typeface="Comic Sans MS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о знаете ли вы, как легко умножить любое число на 5?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"/>
          <p:cNvSpPr/>
          <p:nvPr/>
        </p:nvSpPr>
        <p:spPr>
          <a:xfrm>
            <a:off x="3492360" y="3141720"/>
            <a:ext cx="71640" cy="71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0920" y="188640"/>
            <a:ext cx="864216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1 спосо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начала число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умножить на 10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а потом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разделить на 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потому что 5=10: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5  5=45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0: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=(45  10):2=450:2=22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Comic Sans MS"/>
              </a:rPr>
              <a:t>Тренируемся выполнять поэтапно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9  5= 39  10:2= (39  10):2= 390:2=19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84  5= 84  10:2= (84  10):2= 840:2=42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76  5= 76  10:2= (76  10):2= 760:2=38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7  5= 57  10:2= (57  10):2= 570:2=285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"/>
          <p:cNvSpPr/>
          <p:nvPr/>
        </p:nvSpPr>
        <p:spPr>
          <a:xfrm>
            <a:off x="900000" y="2060640"/>
            <a:ext cx="7164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2060640"/>
            <a:ext cx="7164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95640" y="2060640"/>
            <a:ext cx="7164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321300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86064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900000" y="443700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5013360"/>
            <a:ext cx="7164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68360" y="321300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268360" y="386064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68360" y="443700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68360" y="5013360"/>
            <a:ext cx="7164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84720" y="3213000"/>
            <a:ext cx="7128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284720" y="3860640"/>
            <a:ext cx="7128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84720" y="4437000"/>
            <a:ext cx="7128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84720" y="501336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3573360"/>
            <a:ext cx="194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19640" y="4149720"/>
            <a:ext cx="194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4724280"/>
            <a:ext cx="194436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619280" y="4724280"/>
            <a:ext cx="158436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19280" y="4149720"/>
            <a:ext cx="1584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580000" y="3645000"/>
            <a:ext cx="122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580000" y="4149720"/>
            <a:ext cx="122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0000" y="4724280"/>
            <a:ext cx="122400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2997360"/>
            <a:ext cx="1224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020000" y="2997360"/>
            <a:ext cx="863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020000" y="3573360"/>
            <a:ext cx="863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20000" y="4076640"/>
            <a:ext cx="86364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20000" y="4724280"/>
            <a:ext cx="863640" cy="64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числите самостоятельно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79280" y="2060640"/>
            <a:ext cx="69850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3  5 = 21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5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= 25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35  5 = 17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= 135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001"/>
              </a:spcBef>
              <a:buClr>
                <a:srgbClr val="000000"/>
              </a:buClr>
              <a:buFont typeface="Comic Sans MS"/>
              <a:buAutoNum type="arabicPlain" startAt="7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 = 36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8  5 = 290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"/>
          <p:cNvSpPr/>
          <p:nvPr/>
        </p:nvSpPr>
        <p:spPr>
          <a:xfrm>
            <a:off x="2771640" y="2349360"/>
            <a:ext cx="14472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0360" y="306864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71640" y="3789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71640" y="4508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71640" y="530064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771640" y="6021360"/>
            <a:ext cx="14472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80000" y="2133720"/>
            <a:ext cx="11523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80000" y="285264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780000" y="357336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851280" y="429264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780000" y="501336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780000" y="573408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1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2 способ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1042920" y="765000"/>
            <a:ext cx="6265800" cy="93528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ужно разделить число н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езульта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42920" y="2205000"/>
            <a:ext cx="3384720" cy="3240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Целое чис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К результату приписать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ноль в кон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48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48:2=6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Приписываем ноль: 6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48  5=62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88000" y="2205000"/>
            <a:ext cx="3384360" cy="3240000"/>
          </a:xfrm>
          <a:prstGeom prst="rect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Десятичная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У результата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гнорировать запят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1249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49:2=624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Игнорируем запятую  6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249  5=62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2700360" y="177336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076720" y="1773360"/>
            <a:ext cx="7905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63640" y="3500280"/>
            <a:ext cx="7164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92360" y="4869000"/>
            <a:ext cx="71280" cy="712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35640" y="5157720"/>
            <a:ext cx="7128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508720" y="3500280"/>
            <a:ext cx="71280" cy="7164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901800" y="368280"/>
            <a:ext cx="68706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Вычислите самостоятельн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627280" y="1916280"/>
            <a:ext cx="381636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48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2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505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25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207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0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670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33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784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39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120   5 = 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213372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708360" y="292428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08360" y="364500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08360" y="4365720"/>
            <a:ext cx="14436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708360" y="508464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5805360"/>
            <a:ext cx="144360" cy="14472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16360" y="1916280"/>
            <a:ext cx="1295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788000" y="2637000"/>
            <a:ext cx="12952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16360" y="3357720"/>
            <a:ext cx="1295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788000" y="4076640"/>
            <a:ext cx="12952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859280" y="4797360"/>
            <a:ext cx="12952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5516640"/>
            <a:ext cx="129564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9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2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54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Интернет-ресурсы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://www.need4soft.ru/uploads/taginator/Jul-2013/fon-prezentacii-skachat.jp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http://gdepapa.ru/forum/dating/radost/topic3335/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6:15:53Z</dcterms:created>
  <dc:creator>Андрей</dc:creator>
  <dc:description/>
  <dc:language>en-US</dc:language>
  <cp:lastModifiedBy>Андрей</cp:lastModifiedBy>
  <dcterms:modified xsi:type="dcterms:W3CDTF">2014-11-07T19:38:55Z</dcterms:modified>
  <cp:revision>10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tatus">
    <vt:lpwstr>Опубликован бесплатно</vt:lpwstr>
  </property>
  <property fmtid="{D5CDD505-2E9C-101B-9397-08002B2CF9AE}" pid="3" name="_docset_NoMedatataSyncRequired">
    <vt:lpwstr>False</vt:lpwstr>
  </property>
</Properties>
</file>