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8D7-4E79-47DB-8EB6-76EDE0C08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9507-497D-49EF-85D5-C109F87BF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CA4-BBF1-4B6B-8504-EC188535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372D-EC92-4076-A9EA-41ED37F87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F92-EF43-4A82-8E0D-6FC48F658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3491-C9C1-41D9-A160-286E6AF8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042E-53B2-4341-9371-24928198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5067-104E-4F58-BDAF-CD872D6C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1011-40D9-4834-8D98-FB6D6825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CC35-809E-47CC-A9A4-53D76FD8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E33E-BB31-4B7C-A532-BDC2008C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7367-1643-4E9F-8F46-D6DD1668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D521-A591-44CF-ABA7-8052DA3C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14C32-9992-40F5-8905-E3FC2260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A3309-BE09-4ED2-8353-2B704BC4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61616-39C3-4753-BE9D-E556802F1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5C04-80D2-4D5A-9428-73B7367A6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A92-5D8E-43CA-8867-49174BF4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976-9100-4D81-8A70-194C6BAD1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5300-42DC-4AC8-903B-DA85BD92B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67E3-254C-4D48-9B9A-D11CE968F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02F4-CDAD-4CA3-9ABE-5030D4F3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5D5E-DF65-4E54-94E3-76D589DA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9F0-3D50-4057-8FC7-734831A5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9AEF-90F5-4BC7-878B-5771E533468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67A-A2B1-4588-A522-B975F139C41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ed4soft.ru/uploads/taginator/Jul-2013/fon-prezentacii-skachat.j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201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Считаем в уме </a:t>
            </a:r>
            <a:br>
              <a:rPr sz="7000"/>
            </a:b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легко!</a:t>
            </a:r>
            <a:endParaRPr b="0" lang="en-US" sz="7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00360" y="501300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втор: Шапошник Татьяна Ивановн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учитель математики  МБО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«Ржевская СОШ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ебекинского райо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Белгородской области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924280"/>
            <a:ext cx="7772400" cy="72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Умножение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7986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 мы знаем, как быстро умножить число на 10: нужно лишь добавить ноль в конц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5 1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45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 знаете ли вы, как легко умножить любое число на 5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3141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 спосо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ачала число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множить на 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а потом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азделить на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потому что 5=10: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5  5=45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: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(45  10):2=450:2=22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Тренируемся выполнять поэтапн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9  5= 39  10:2= (39  10):2= 390:2=1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4  5= 84  10:2= (84  10):2= 840:2=4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6  5= 76  10:2= (76  10):2= 760:2=3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7  5= 57  10:2= (57  10):2= 570:2=28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06064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06064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321300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86064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43700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501336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321300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386064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443700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501336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21300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386064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443700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0133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3573360"/>
            <a:ext cx="194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4149720"/>
            <a:ext cx="194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4724280"/>
            <a:ext cx="19443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4724280"/>
            <a:ext cx="15843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4149720"/>
            <a:ext cx="158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3645000"/>
            <a:ext cx="122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4149720"/>
            <a:ext cx="122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724280"/>
            <a:ext cx="122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2997360"/>
            <a:ext cx="122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20000" y="2997360"/>
            <a:ext cx="8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20000" y="3573360"/>
            <a:ext cx="8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0000" y="4076640"/>
            <a:ext cx="8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4724280"/>
            <a:ext cx="86364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79280" y="2060640"/>
            <a:ext cx="6985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3  5 = 21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= 25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5  5 = 17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= 13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= 36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8  5 = 29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2349360"/>
            <a:ext cx="14472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06864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3789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4508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71640" y="5300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71640" y="6021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0" y="2133720"/>
            <a:ext cx="1152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80000" y="285264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357336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429264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501336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573408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2 спосо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765000"/>
            <a:ext cx="6265800" cy="93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разделить число н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зульта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2205000"/>
            <a:ext cx="3384720" cy="3240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 результату приписа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оль в ко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48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48:2=6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писываем ноль: 6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48  5=6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2205000"/>
            <a:ext cx="3384360" cy="3240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есятична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результата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гнорировать запя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49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49:2=624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гнорируем запятую  6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49  5=6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700360" y="177336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177336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350028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48690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515772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0028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1800" y="368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те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1916280"/>
            <a:ext cx="3816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05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25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7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0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70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33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84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39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0 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13372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92428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364500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436572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08360" y="508464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580536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1916280"/>
            <a:ext cx="1295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637000"/>
            <a:ext cx="1295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3357720"/>
            <a:ext cx="1295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88000" y="4076640"/>
            <a:ext cx="1295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4797360"/>
            <a:ext cx="1295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5516640"/>
            <a:ext cx="1295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need4soft.ru/uploads/taginator/Jul-2013/fon-prezentacii-skachat.jp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http://gdepapa.ru/forum/dating/radost/topic3335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6:15:53Z</dcterms:created>
  <dc:creator>Андрей</dc:creator>
  <dc:description/>
  <dc:language>en-US</dc:language>
  <cp:lastModifiedBy>Андрей</cp:lastModifiedBy>
  <dcterms:modified xsi:type="dcterms:W3CDTF">2014-11-07T19:38:5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tatus">
    <vt:lpwstr>Опубликован бесплатно</vt:lpwstr>
  </property>
  <property fmtid="{D5CDD505-2E9C-101B-9397-08002B2CF9AE}" pid="3" name="_docset_NoMedatataSyncRequired">
    <vt:lpwstr>False</vt:lpwstr>
  </property>
</Properties>
</file>