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CB8B-8995-4532-B9E9-50EA589BE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79BA-86C5-4D7E-B8A2-58E9B820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C50C-598F-466C-9A59-80BF2F101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333C-8016-4759-B135-609EE2AE2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B8B5E-D9FF-449E-8B73-A9B85A244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C6CB-6601-4D34-8C5C-A9384589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2128-71DD-4242-8C31-74E261DB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23B78-97E9-4D88-8D04-C049ACBF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44CF-B8A2-45A6-A484-AF591A26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B2AC-5327-4169-B3EF-E162F540D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4E75-65F1-43AC-BB64-E6AA737F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75CC-0ABB-4F8C-A8EA-42502AB68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D2185-B193-42AA-9438-AD87DE277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E51D-6230-4544-8B1F-0F177ED81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CDD39-7B2C-4976-8CE9-42C48E59F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D4E58-8BF3-469B-8D65-D4CA6458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EA20-BDA2-4C20-B5E5-06BE15A3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48D82-128C-48AA-9B81-004B3D86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85667-2D1C-4007-A509-7A2BD0F46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38F35-E78F-4464-9434-CFD19551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8DB8FB-E683-44EB-8222-E022D6D3D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A6644-1226-4140-9D12-9C6445C8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E23A-B168-4A6D-97D7-DCBBC267D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ECCB8-5440-47D5-AD0F-2FA86A2A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310CB-8105-4109-8825-A76A9350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E763FC-A709-4991-BB7C-1CF4023D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DD3E7-FBB0-447B-8CB8-8749F062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19187-6636-4E7C-96BD-58B4E1C3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70316-CCCA-49DA-A36A-FF954F54F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A57ED-4FE5-45CC-90D9-D5281CDC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17FFE-963D-4941-A819-E75806E4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0CE00-30D0-4FD2-AB4E-8629DBC0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92FEC5-9500-4D3B-A66E-D8FC98A18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FD3E-9BDB-4FDA-AA71-4E879A1E0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C2749-6F3F-491D-8A58-3A5D565F1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A2EC7-6D3C-4C93-8886-455D2951D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62798-F0C9-4DBA-9570-049D401D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2C9EE-44DF-4A99-8A09-8AA68172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6681F-90D5-4078-8AFF-D513B67B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D059F-832E-4157-A863-C494053F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97210-FDD6-4CC2-8DC4-64B1FEA8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62C09-8D30-4445-9BB8-C223995C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548615-5D9D-4A63-A43E-79480954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24F4A-5FFF-4CC9-8C33-964DCAC7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8A41-4DDD-4A4E-8106-9ADD58537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332F1-606D-4074-9AAB-1701182B7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152EB-1CB7-4777-809F-582C5C672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5CEA3-BBC0-4A34-A169-7B91C4CB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F1D7C-1DB5-4BAD-99C7-AFA67B92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1C18CD-EFD5-44A9-A07E-92DC244E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8767E-5A76-485A-A8E7-34ABB4DDC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FAF467-D38C-4F0E-BA07-F37353D3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5ACC3D-1BCA-41AD-81C7-3CA1B6D2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B2DFB-1402-4636-AF43-F39A0D9E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5ADC4-0FF9-41A8-81F4-D3B474C11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C10C-1B1E-4B1F-AE98-89BE339F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6C8A3-25B5-41C0-9A20-D945B5AD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D9D7-C8FB-46CD-B54D-2511A705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9B34-C43B-4B8B-9E64-621C9FA5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43DB-CB35-424F-9682-EE174F14A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52C6B-1BF5-4FFD-BD9B-4602C891912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EB6E-7BAF-4C92-94D7-5CE6847F9B3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3991E-4705-4E48-998F-3675C5652709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8400-982D-403A-B8C3-D33ED20DAAF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Cambr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DB92B-C6B9-47AB-A229-16CF07E31F0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Рисунок 4" descr="12584-1280x80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9" name="Прямоугольник 5" descr=""/>
          <p:cNvPicPr/>
          <p:nvPr/>
        </p:nvPicPr>
        <p:blipFill>
          <a:blip r:embed="rId2"/>
          <a:stretch/>
        </p:blipFill>
        <p:spPr>
          <a:xfrm>
            <a:off x="128520" y="1494000"/>
            <a:ext cx="4041720" cy="219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http://www.playcast.ru/uploads/2015/06/19/14037654.jpg"/>
          <p:cNvPicPr/>
          <p:nvPr/>
        </p:nvPicPr>
        <p:blipFill>
          <a:blip r:embed="rId1"/>
          <a:stretch/>
        </p:blipFill>
        <p:spPr>
          <a:xfrm>
            <a:off x="214200" y="214200"/>
            <a:ext cx="864396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http://s40.radikal.ru/i087/0811/cd/ab5e51e9f9c4t.jpg"/>
          <p:cNvPicPr/>
          <p:nvPr/>
        </p:nvPicPr>
        <p:blipFill>
          <a:blip r:embed="rId1"/>
          <a:srcRect l="0" t="0" r="0" b="7605"/>
          <a:stretch/>
        </p:blipFill>
        <p:spPr>
          <a:xfrm>
            <a:off x="857160" y="642960"/>
            <a:ext cx="69296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http://www.playcast.ru/uploads/2015/06/19/14037654.jpg"/>
          <p:cNvPicPr/>
          <p:nvPr/>
        </p:nvPicPr>
        <p:blipFill>
          <a:blip r:embed="rId1"/>
          <a:stretch/>
        </p:blipFill>
        <p:spPr>
          <a:xfrm>
            <a:off x="214200" y="214200"/>
            <a:ext cx="8643960" cy="62150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http://image.slidesharecdn.com/random-131225114534-phpapp02/95/-1-638.jpgcb1387971964"/>
          <p:cNvPicPr/>
          <p:nvPr/>
        </p:nvPicPr>
        <p:blipFill>
          <a:blip r:embed="rId2"/>
          <a:stretch/>
        </p:blipFill>
        <p:spPr>
          <a:xfrm>
            <a:off x="6424560" y="353880"/>
            <a:ext cx="229860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4" descr="http://crosti.ru/patterns/00/09/25/7ac42ea961/preview.jpg"/>
          <p:cNvPicPr/>
          <p:nvPr/>
        </p:nvPicPr>
        <p:blipFill>
          <a:blip r:embed="rId1"/>
          <a:stretch/>
        </p:blipFill>
        <p:spPr>
          <a:xfrm>
            <a:off x="357120" y="428760"/>
            <a:ext cx="860112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Лето радуга2 (online-video-cutter.com) (1).mp4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Рисунок 2" descr="4zzJ07Cly24.jpg"/>
          <p:cNvPicPr/>
          <p:nvPr/>
        </p:nvPicPr>
        <p:blipFill>
          <a:blip r:embed="rId1"/>
          <a:stretch/>
        </p:blipFill>
        <p:spPr>
          <a:xfrm>
            <a:off x="539640" y="404640"/>
            <a:ext cx="7920000" cy="4969080"/>
          </a:xfrm>
          <a:prstGeom prst="rect">
            <a:avLst/>
          </a:prstGeom>
          <a:ln w="0">
            <a:noFill/>
          </a:ln>
        </p:spPr>
      </p:pic>
      <p:sp>
        <p:nvSpPr>
          <p:cNvPr id="232" name="TextBox 3"/>
          <p:cNvSpPr/>
          <p:nvPr/>
        </p:nvSpPr>
        <p:spPr>
          <a:xfrm>
            <a:off x="900000" y="5732640"/>
            <a:ext cx="698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mbria"/>
              </a:rPr>
              <a:t>Редко, но все-таки встречается, когда на небе  появляется две радуги, а очень редко три или четыре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Рисунок 2" descr="zrzut_ekranu_01022011_14_03_58.png"/>
          <p:cNvPicPr/>
          <p:nvPr/>
        </p:nvPicPr>
        <p:blipFill>
          <a:blip r:embed="rId1"/>
          <a:srcRect l="34830" t="0" r="0" b="0"/>
          <a:stretch/>
        </p:blipFill>
        <p:spPr>
          <a:xfrm>
            <a:off x="1042920" y="404640"/>
            <a:ext cx="7129440" cy="4743720"/>
          </a:xfrm>
          <a:prstGeom prst="rect">
            <a:avLst/>
          </a:prstGeom>
          <a:ln w="0">
            <a:noFill/>
          </a:ln>
        </p:spPr>
      </p:pic>
      <p:sp>
        <p:nvSpPr>
          <p:cNvPr id="234" name="TextBox 3"/>
          <p:cNvSpPr/>
          <p:nvPr/>
        </p:nvSpPr>
        <p:spPr>
          <a:xfrm>
            <a:off x="826920" y="5445000"/>
            <a:ext cx="749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Cambria"/>
              </a:rPr>
              <a:t>С  радугой  у людей связано множество поверий и легенд.  В древние  люди считали,  радуга – это  мост между небом и землей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Рисунок 3" descr="1250062589_hiop.ru_1250000761_thumbs_regenboegen-sind-schoen_12.jpg"/>
          <p:cNvPicPr/>
          <p:nvPr/>
        </p:nvPicPr>
        <p:blipFill>
          <a:blip r:embed="rId1"/>
          <a:stretch/>
        </p:blipFill>
        <p:spPr>
          <a:xfrm>
            <a:off x="900000" y="476280"/>
            <a:ext cx="7272360" cy="4897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4"/>
          <p:cNvSpPr/>
          <p:nvPr/>
        </p:nvSpPr>
        <p:spPr>
          <a:xfrm>
            <a:off x="1042920" y="5589720"/>
            <a:ext cx="7129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mbria"/>
              </a:rPr>
              <a:t>Древние славяне считали, что радуга пьет воду из озер, рек и морей, которая затем проливается  на землю дождем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Рисунок 1" descr="6096836_118796414737637.jpg"/>
          <p:cNvPicPr/>
          <p:nvPr/>
        </p:nvPicPr>
        <p:blipFill>
          <a:blip r:embed="rId1"/>
          <a:srcRect l="0" t="0" r="0" b="8334"/>
          <a:stretch/>
        </p:blipFill>
        <p:spPr>
          <a:xfrm>
            <a:off x="468360" y="476280"/>
            <a:ext cx="4817880" cy="33130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2" descr="big.photo.jpg"/>
          <p:cNvPicPr/>
          <p:nvPr/>
        </p:nvPicPr>
        <p:blipFill>
          <a:blip r:embed="rId2"/>
          <a:stretch/>
        </p:blipFill>
        <p:spPr>
          <a:xfrm>
            <a:off x="3780000" y="3357720"/>
            <a:ext cx="4752720" cy="3246120"/>
          </a:xfrm>
          <a:prstGeom prst="rect">
            <a:avLst/>
          </a:prstGeom>
          <a:ln w="0">
            <a:noFill/>
          </a:ln>
        </p:spPr>
      </p:pic>
      <p:sp>
        <p:nvSpPr>
          <p:cNvPr id="239" name="TextBox 4"/>
          <p:cNvSpPr/>
          <p:nvPr/>
        </p:nvSpPr>
        <p:spPr>
          <a:xfrm>
            <a:off x="250920" y="4724280"/>
            <a:ext cx="331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mbria"/>
              </a:rPr>
              <a:t>Например, высокая радуга – к хорошей погоде, а низкая предвещает плохую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0" name="Прямоугольник 5"/>
          <p:cNvSpPr/>
          <p:nvPr/>
        </p:nvSpPr>
        <p:spPr>
          <a:xfrm>
            <a:off x="5357880" y="78588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Cambria"/>
              </a:rPr>
              <a:t>Радуга , считают люди, предсказывает погоду.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Рисунок 2" descr="0_29549_.jpg"/>
          <p:cNvPicPr/>
          <p:nvPr/>
        </p:nvPicPr>
        <p:blipFill>
          <a:blip r:embed="rId1"/>
          <a:stretch/>
        </p:blipFill>
        <p:spPr>
          <a:xfrm>
            <a:off x="755640" y="404640"/>
            <a:ext cx="7488360" cy="5112000"/>
          </a:xfrm>
          <a:prstGeom prst="rect">
            <a:avLst/>
          </a:prstGeom>
          <a:ln w="0">
            <a:noFill/>
          </a:ln>
        </p:spPr>
      </p:pic>
      <p:sp>
        <p:nvSpPr>
          <p:cNvPr id="242" name="TextBox 3"/>
          <p:cNvSpPr/>
          <p:nvPr/>
        </p:nvSpPr>
        <p:spPr>
          <a:xfrm>
            <a:off x="826920" y="5661000"/>
            <a:ext cx="7490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Cambria"/>
              </a:rPr>
              <a:t>Радугу  увидишь нечасто, поэтому люди всегда радуются когда ее видят. 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1" descr="0d0b3812bb6d.gif"/>
          <p:cNvPicPr/>
          <p:nvPr/>
        </p:nvPicPr>
        <p:blipFill>
          <a:blip r:embed="rId1"/>
          <a:stretch/>
        </p:blipFill>
        <p:spPr>
          <a:xfrm>
            <a:off x="285840" y="214200"/>
            <a:ext cx="8501040" cy="62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6" name="Picture 6" descr="http://kartik.ru/wp-content/uploads/2017/03/multyashnye-parovoziki-3176.jpg"/>
          <p:cNvPicPr/>
          <p:nvPr/>
        </p:nvPicPr>
        <p:blipFill>
          <a:blip r:embed="rId1"/>
          <a:srcRect l="0" t="0" r="0" b="5354"/>
          <a:stretch/>
        </p:blipFill>
        <p:spPr>
          <a:xfrm>
            <a:off x="642960" y="857160"/>
            <a:ext cx="814392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8T18:07:59Z</dcterms:created>
  <dc:creator>Андрей</dc:creator>
  <dc:description/>
  <dc:language>en-US</dc:language>
  <cp:lastModifiedBy>User</cp:lastModifiedBy>
  <dcterms:modified xsi:type="dcterms:W3CDTF">2018-06-21T17:29:52Z</dcterms:modified>
  <cp:revision>26</cp:revision>
  <dc:subject/>
  <dc:title>Слайд 1</dc:title>
</cp:coreProperties>
</file>