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9BA1-6B40-4275-A529-C84E2869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FD8-1568-470C-BA02-7D9D11117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2A9-7583-476D-B3C9-DF57A5B0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3034-6BBA-4329-A671-CC9EC320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166F-EC0F-4333-AF69-AD086EF4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F56E-6E49-4014-BFE8-0D3567C7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81DF-544F-4A88-9C32-F09C0FEB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8CC4-6853-4E99-AD91-12A05A724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24C0-CDB5-45CE-B2E6-39ADE304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44ED-E2D8-46AA-9212-E699E552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79151-FB67-48FF-A25D-70B4248A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9C6-4CEE-4F9B-BC7D-C8656C389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32BE-8952-4272-97CD-1C4A74F0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1B72-9487-421E-818B-C8163779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5326-374C-428B-909E-2A78E553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AA4A-886E-4124-B757-BF13329A7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6DD0-BD55-457A-AE75-72D60546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DC9BD-F550-4046-A9F0-D53AB7AD7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FB5EE-4055-4A5B-BDB0-76C0FC99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13EC7-C8B6-4A3C-98B6-36BDAC80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3813D-A8D8-45B4-8D51-1AE7372B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2CE79-3589-440C-8A5C-93075032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5FB6-5B1E-45D9-900A-4BA0C0D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674B-2EE2-4F40-A5DA-81E91A569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3D5E7-A5DA-40D3-ABF0-6E958168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2DFA-51DE-446E-A506-51184190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75D5A-C86F-4CD9-BC2B-22CB4D00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36D6A-69F2-4F60-A5B1-E6F9DB7F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DD64C-2563-4664-A937-3D85F0BB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06429-924C-43CA-8223-C87C0DD3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D2449-D4EE-44D9-B366-265163609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34BD2D-4DB4-4AD9-8733-B2047E00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03EAB-1BAA-4ED8-A357-23C6B4BA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357-6415-46FD-9BAB-A4933EFF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F4A7-4A15-42C7-A303-7E49F5263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F900F-A309-4874-B4A7-C3D53AFD9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B91C05-9C62-4557-A424-A29567EBC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FF0B2-9719-456F-8B21-5BAD6177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7FD16-957B-483A-9568-32887C5C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A8CBC-259C-48C3-A381-44510C10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43EF1-36DB-4A73-8911-CBCF9A99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2FA60-7095-4736-9579-98C041A3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45948-600D-4A33-ACAA-383A2576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AF0ED-D557-4511-AC53-71B41B32B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170-B4EC-4CF8-AD06-0B3AF70C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B42AB-13D0-45E7-9DD6-1B574A6A8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A21F-4998-42DD-8718-1533BD29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538E5-A62F-43FD-A36D-35A8EA1A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57822E-EBA2-4808-A2F6-956E90759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11884-3FF1-4A58-AC58-4B94680E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CA527-0F34-4A1F-8719-2FF4C1B5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5C91-7231-4F31-B9AD-5627C4A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ED00-DA0B-4416-BE6E-D35C6239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C9B5A-9AEC-47DE-9288-E7E20514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40787-326E-4167-85EB-F46FDE730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236-961D-4B67-86B6-AFD025C0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F95DB-521B-4651-AEA3-42078DE8B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642-F2E4-4CD3-81F6-4F4382B3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CD8-247B-4CA2-951F-A15ECAC7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364-E85F-4C74-AE57-C7FB572E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3BF5-1F81-48F2-A769-5E102000171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6F9C-104E-4586-B803-E9324A8B2B5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25CF-E90A-4588-89CB-C3B9B97870C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3361-FAB9-4313-89B4-BC4D1870378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8833-E8D2-4C95-A8B7-4B88BDFD97B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4" descr="12584-1280x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1494000"/>
            <a:ext cx="4041720" cy="21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www.playcast.ru/uploads/2015/06/19/14037654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s40.radikal.ru/i087/0811/cd/ab5e51e9f9c4t.jpg"/>
          <p:cNvPicPr/>
          <p:nvPr/>
        </p:nvPicPr>
        <p:blipFill>
          <a:blip r:embed="rId1"/>
          <a:srcRect l="0" t="0" r="0" b="7605"/>
          <a:stretch/>
        </p:blipFill>
        <p:spPr>
          <a:xfrm>
            <a:off x="857160" y="642960"/>
            <a:ext cx="69296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http://www.playcast.ru/uploads/2015/06/19/14037654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21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://image.slidesharecdn.com/random-131225114534-phpapp02/95/-1-638.jpgcb1387971964"/>
          <p:cNvPicPr/>
          <p:nvPr/>
        </p:nvPicPr>
        <p:blipFill>
          <a:blip r:embed="rId2"/>
          <a:stretch/>
        </p:blipFill>
        <p:spPr>
          <a:xfrm>
            <a:off x="6424560" y="353880"/>
            <a:ext cx="22986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http://crosti.ru/patterns/00/09/25/7ac42ea961/preview.jpg"/>
          <p:cNvPicPr/>
          <p:nvPr/>
        </p:nvPicPr>
        <p:blipFill>
          <a:blip r:embed="rId1"/>
          <a:stretch/>
        </p:blipFill>
        <p:spPr>
          <a:xfrm>
            <a:off x="357120" y="428760"/>
            <a:ext cx="8601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Лето радуга2 (online-video-cutter.com) (1).mp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4zzJ07Cly24.jpg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4969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900000" y="573264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Редко, но все-таки встречается, когда на небе  появляется две радуги, а очень редко три или четыре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zrzut_ekranu_01022011_14_03_58.png"/>
          <p:cNvPicPr/>
          <p:nvPr/>
        </p:nvPicPr>
        <p:blipFill>
          <a:blip r:embed="rId1"/>
          <a:srcRect l="34830" t="0" r="0" b="0"/>
          <a:stretch/>
        </p:blipFill>
        <p:spPr>
          <a:xfrm>
            <a:off x="1042920" y="404640"/>
            <a:ext cx="7129440" cy="47437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826920" y="5445000"/>
            <a:ext cx="749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С  радугой  у людей связано множество поверий и легенд.  В древние  люди считали,  радуга – это  мост между небом и землей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1250062589_hiop.ru_1250000761_thumbs_regenboegen-sind-schoen_12.jpg"/>
          <p:cNvPicPr/>
          <p:nvPr/>
        </p:nvPicPr>
        <p:blipFill>
          <a:blip r:embed="rId1"/>
          <a:stretch/>
        </p:blipFill>
        <p:spPr>
          <a:xfrm>
            <a:off x="900000" y="476280"/>
            <a:ext cx="7272360" cy="489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1042920" y="558972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Древние славяне считали, что радуга пьет воду из озер, рек и морей, которая затем проливается  на землю дождем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6096836_118796414737637.jpg"/>
          <p:cNvPicPr/>
          <p:nvPr/>
        </p:nvPicPr>
        <p:blipFill>
          <a:blip r:embed="rId1"/>
          <a:srcRect l="0" t="0" r="0" b="8334"/>
          <a:stretch/>
        </p:blipFill>
        <p:spPr>
          <a:xfrm>
            <a:off x="468360" y="476280"/>
            <a:ext cx="4817880" cy="33130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big.photo.jpg"/>
          <p:cNvPicPr/>
          <p:nvPr/>
        </p:nvPicPr>
        <p:blipFill>
          <a:blip r:embed="rId2"/>
          <a:stretch/>
        </p:blipFill>
        <p:spPr>
          <a:xfrm>
            <a:off x="3780000" y="3357720"/>
            <a:ext cx="4752720" cy="32461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50920" y="472428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Например, высокая радуга – к хорошей погоде, а низкая предвещает плохую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Прямоугольник 5"/>
          <p:cNvSpPr/>
          <p:nvPr/>
        </p:nvSpPr>
        <p:spPr>
          <a:xfrm>
            <a:off x="5357880" y="7858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mbria"/>
              </a:rPr>
              <a:t>Радуга , считают люди, предсказывает погоду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0_29549_.jpg"/>
          <p:cNvPicPr/>
          <p:nvPr/>
        </p:nvPicPr>
        <p:blipFill>
          <a:blip r:embed="rId1"/>
          <a:stretch/>
        </p:blipFill>
        <p:spPr>
          <a:xfrm>
            <a:off x="755640" y="404640"/>
            <a:ext cx="7488360" cy="5112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826920" y="566100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Радугу  увидишь нечасто, поэтому люди всегда радуются когда ее видят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0d0b3812bb6d.gif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6" descr="http://kartik.ru/wp-content/uploads/2017/03/multyashnye-parovoziki-3176.jpg"/>
          <p:cNvPicPr/>
          <p:nvPr/>
        </p:nvPicPr>
        <p:blipFill>
          <a:blip r:embed="rId1"/>
          <a:srcRect l="0" t="0" r="0" b="5354"/>
          <a:stretch/>
        </p:blipFill>
        <p:spPr>
          <a:xfrm>
            <a:off x="642960" y="857160"/>
            <a:ext cx="8143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07:59Z</dcterms:created>
  <dc:creator>Андрей</dc:creator>
  <dc:description/>
  <dc:language>en-US</dc:language>
  <cp:lastModifiedBy>User</cp:lastModifiedBy>
  <dcterms:modified xsi:type="dcterms:W3CDTF">2018-06-21T17:29:52Z</dcterms:modified>
  <cp:revision>26</cp:revision>
  <dc:subject/>
  <dc:title>Слайд 1</dc:title>
</cp:coreProperties>
</file>