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EE73-2CD5-4262-8310-71821673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FC6B-02CC-410F-9CEB-0EC570DF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86F-2749-4303-B152-ACC46AE84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7BB-5412-4FDD-89FA-9DD873641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25163-34F4-4E7B-ABA6-5FB5669BC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E107-99EC-442C-BB6C-17AAE975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F5E8C-E193-42D4-ABE5-4172C087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37C7-D59E-43EA-9E6E-CECA240C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979C-7E5C-45C3-A696-7188AEA9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CACD-7025-4CCD-9D59-22510E730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5330-CFFC-4B11-8770-2747E417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E78-901D-4B90-A5C0-BD771376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EF729-DF27-4086-8627-3FE73C7A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80DE-6E11-4122-8BBE-3C86FA27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A4D6-0D25-4CD9-9F90-E4B16A6B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5D03-B89B-40B7-B789-8813EF307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8AE21-42B1-4EE1-8087-CBD98175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03E8B-D771-4419-82F4-DCDB9CA3E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A2919-997C-4A4C-ABBD-39895D4B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A668C-AA17-4FDB-A7BA-179442BF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8BF51-5E01-419F-9E0C-FDCC2C63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B6200-2802-4440-9531-61F5D1EF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B901-8C2C-4784-AA62-35EDA29F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9DACD-DE4B-4833-A266-340A73F5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0F43F-55D5-4572-B3B3-F70C3317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D4990-D4C7-4956-8F9A-35421425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5ADD16-4FEC-4F43-BAAA-71FCD25B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A92E4-3AFD-4B78-9F4F-168B5C736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C748C-8839-4993-A1E6-611A5414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285E9-034F-4371-A884-6429C160B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0EF5-A08F-4C24-A706-7C7FEB179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9D3-68F7-4F0F-A6AD-997C37F9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F6AC-395D-427B-BBBB-B8BF9FCDE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3D2-A1F2-4F61-A258-FF2B16B60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9E5C-8423-4DD7-B78F-A319863A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F18F-72CE-4B3C-A2DD-8170D848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C17D-DF01-4E43-ADE9-88AFAF91807B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65BB-4061-488D-A543-0FC67FA705C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52A3-3829-416C-A81D-5C6856B52718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A1BE-1B64-4538-BFEF-FC0ED42033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7D1B2-D6A8-40E9-B708-6EB185F101EB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3E1F-4871-4F05-8562-33448C50E62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58C2F-8E63-471C-8E90-D822B4CDE54E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223120" cy="121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осударственное бюджетное профессиональное  образовательное учреждение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ердловской области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 «Екатеринбургский политехникум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2714760"/>
            <a:ext cx="857268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762120" indent="-7621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395280" y="2833560"/>
            <a:ext cx="820908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МИР В МАГНИТАХ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поддержке туристической компании «Колесница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сполнители: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Лещукова Виктория Андрее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Шеина Полина Алексеев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уководители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Лосева Л.Н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подаватель географи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мчиц С.Ф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еподаватель физики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Фотографии холодильников наших преподавателе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4ACC-2B25-46C6-A57A-6B502756C33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Содержимое 4" descr=""/>
          <p:cNvPicPr/>
          <p:nvPr/>
        </p:nvPicPr>
        <p:blipFill>
          <a:blip r:embed="rId1"/>
          <a:stretch/>
        </p:blipFill>
        <p:spPr>
          <a:xfrm>
            <a:off x="1071720" y="1714680"/>
            <a:ext cx="2857320" cy="428616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"/>
          <p:cNvPicPr/>
          <p:nvPr/>
        </p:nvPicPr>
        <p:blipFill>
          <a:blip r:embed="rId2"/>
          <a:stretch/>
        </p:blipFill>
        <p:spPr>
          <a:xfrm>
            <a:off x="5000760" y="1571760"/>
            <a:ext cx="3000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уизе Гринфарб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ллекция – 30 000 магнит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F:\физика\ПРОЕКТЫ\проект-мир в магнитах\3.jpg"/>
          <p:cNvPicPr/>
          <p:nvPr/>
        </p:nvPicPr>
        <p:blipFill>
          <a:blip r:embed="rId1"/>
          <a:stretch/>
        </p:blipFill>
        <p:spPr>
          <a:xfrm>
            <a:off x="1984320" y="1643040"/>
            <a:ext cx="50878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зготовление стенд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Номер слайда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A335-2095-4B53-91B1-EA7D1435C9F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2" name="Содержимое 5" descr=""/>
          <p:cNvPicPr/>
          <p:nvPr/>
        </p:nvPicPr>
        <p:blipFill>
          <a:blip r:embed="rId1"/>
          <a:stretch/>
        </p:blipFill>
        <p:spPr>
          <a:xfrm>
            <a:off x="566640" y="24145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163" name="Содержимое 6" descr=""/>
          <p:cNvPicPr/>
          <p:nvPr/>
        </p:nvPicPr>
        <p:blipFill>
          <a:blip r:embed="rId2"/>
          <a:stretch/>
        </p:blipFill>
        <p:spPr>
          <a:xfrm>
            <a:off x="4643280" y="241452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Изготовление стенд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Номер слайда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71D03-80E7-45B2-97F7-CBBC69B485C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Содержимое 9" descr=""/>
          <p:cNvPicPr/>
          <p:nvPr/>
        </p:nvPicPr>
        <p:blipFill>
          <a:blip r:embed="rId1"/>
          <a:stretch/>
        </p:blipFill>
        <p:spPr>
          <a:xfrm>
            <a:off x="566640" y="24145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167" name="Содержимое 10" descr=""/>
          <p:cNvPicPr/>
          <p:nvPr/>
        </p:nvPicPr>
        <p:blipFill>
          <a:blip r:embed="rId2"/>
          <a:stretch/>
        </p:blipFill>
        <p:spPr>
          <a:xfrm>
            <a:off x="4643280" y="2414520"/>
            <a:ext cx="39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ИТОГИ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628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Не популярные туристические направл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Ш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аны Европ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встрал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д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по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Южная Афри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Verdana"/>
              </a:rPr>
              <a:t>Популярные туристические направлени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анкт-Петербур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лгогра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зан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обольс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жевс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ры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B2877-94A9-43F6-B592-E9524AEAD87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 «МИР В МАГНИТАХ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иктория Лещукова     Полина Шеи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667B-3E7B-48C6-835E-BD2EF088A33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Содержимое 6" descr="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опулярный объект техникум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Номер слайда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32F5-1826-4F1C-A969-A94D6EF72C03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7" name="Содержимое 7" descr=""/>
          <p:cNvPicPr/>
          <p:nvPr/>
        </p:nvPicPr>
        <p:blipFill>
          <a:blip r:embed="rId1"/>
          <a:stretch/>
        </p:blipFill>
        <p:spPr>
          <a:xfrm>
            <a:off x="571680" y="2414520"/>
            <a:ext cx="3919320" cy="3300480"/>
          </a:xfrm>
          <a:prstGeom prst="rect">
            <a:avLst/>
          </a:prstGeom>
          <a:ln w="0">
            <a:noFill/>
          </a:ln>
        </p:spPr>
      </p:pic>
      <p:pic>
        <p:nvPicPr>
          <p:cNvPr id="178" name="Содержимое 8" descr="IMG_20180412_154343"/>
          <p:cNvPicPr/>
          <p:nvPr/>
        </p:nvPicPr>
        <p:blipFill>
          <a:blip r:embed="rId2"/>
          <a:stretch/>
        </p:blipFill>
        <p:spPr>
          <a:xfrm>
            <a:off x="4643280" y="2286000"/>
            <a:ext cx="3924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ект «МИР В МАГНИТАХ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Виктория Лещукова     Полина Шеин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3744-2C32-4EFF-A22B-B97F951955D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Содержимое 4" descr=""/>
          <p:cNvPicPr/>
          <p:nvPr/>
        </p:nvPicPr>
        <p:blipFill>
          <a:blip r:embed="rId1"/>
          <a:stretch/>
        </p:blipFill>
        <p:spPr>
          <a:xfrm>
            <a:off x="1722600" y="1752480"/>
            <a:ext cx="56894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Проект «Мир в магнитах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попытка интегрированной формой обучения  с помощью проектного метода углубить знания по двум дисциплинам: физика и географ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5CF3-BA17-41B9-AEAB-42AE6C90290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Хочешь прибрать на кухне –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сними магниты с холодильника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4" name="Picture 5" descr="F:\физика\ПРОЕКТЫ\проект-мир в магнитах\4.jpg"/>
          <p:cNvPicPr/>
          <p:nvPr/>
        </p:nvPicPr>
        <p:blipFill>
          <a:blip r:embed="rId1"/>
          <a:stretch/>
        </p:blipFill>
        <p:spPr>
          <a:xfrm>
            <a:off x="1857240" y="1714680"/>
            <a:ext cx="640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Гипотез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игинальная идея заинтересует не только студентов, но и преподавателей, в результате стенд «Мир в магнитах» будет популярным объектом техникума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учающиеся Екатеринбургского политехникума не посещали такие страны, как Австралия, США, мало кто был в Европ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пулярные туристические  места–  Крым и города Росс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Verdana"/>
              </a:rPr>
              <a:t>ЗАДАЧИ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вторить что такое магниты и их свойств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учить историю создания  магнитов как туристических сувенир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обрать и обобщить материал про различные государства и города, в соответствии с собранной коллекцией туристических магнито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лубленно изучить географическое положение стран, народонаселение,  развитие транспорт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делать выводы о том, какие страны и города более популярны для отдыха  студентов техникум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зготовить информационный стенд  «Мир в магнитах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едставить  проект в техникуме и  на  научно-практическую конференцию «Наука, творчество, молодежь – 2018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9725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МАГНИ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543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агнит - это объект, сделанный из определенного материала, который создает магнитное поле. Магниты состоят из миллионов молекул, объединенных в группы, которые называются доменами. Каждый домен ведет себя как минеральный магнит, имеющий северный и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южный полюс  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Номер слайда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3FD7-2DC8-4AAA-AACA-30C0BCABA47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Содержимое 6" descr=""/>
          <p:cNvPicPr/>
          <p:nvPr/>
        </p:nvPicPr>
        <p:blipFill>
          <a:blip r:embed="rId1"/>
          <a:stretch/>
        </p:blipFill>
        <p:spPr>
          <a:xfrm>
            <a:off x="4500720" y="1785960"/>
            <a:ext cx="404316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0438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ВОЙСТВА МАГНИТ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543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гниты обладают способностью притягивать предметы из железа или стали, никеля и некоторых других металлов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Форма и размер магнита влияет на его силу. Подковообразные магниты сильнее прямоугольных. Среди магнитов, имеющих одну форму, сильнее будет магнит большего размера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агниты притягивают даже на расстоянии. Чем больше магнит, тем больше сила притяжения и тем больше расстояние, на котором магнит оказывает свое воздействие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Номер слайда 4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599CC-1B50-4C11-985A-5F3D2002BE1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Содержимое 5" descr=""/>
          <p:cNvPicPr/>
          <p:nvPr/>
        </p:nvPicPr>
        <p:blipFill>
          <a:blip r:embed="rId1"/>
          <a:stretch/>
        </p:blipFill>
        <p:spPr>
          <a:xfrm>
            <a:off x="4286160" y="2071800"/>
            <a:ext cx="44006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чало 1970-х Уильям Циммерман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 Сент-Луиса, штат Миссур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2" descr="F:\физика\ПРОЕКТЫ\проект-мир в магнитах\1.jpeg"/>
          <p:cNvPicPr/>
          <p:nvPr/>
        </p:nvPicPr>
        <p:blipFill>
          <a:blip r:embed="rId1"/>
          <a:stretch/>
        </p:blipFill>
        <p:spPr>
          <a:xfrm>
            <a:off x="2000160" y="1928880"/>
            <a:ext cx="5000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ричины популярности магнит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агматичность — появление на гладкой поверхности мелких дефектов, таких как вмятины и царапины, которые на белом фоне очень бросаются в глаз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вычка оставлять записочки на видном месте для всех членов семьи была сформирована отсутствием полноценной телефон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ыкновенное человеческое желание украшать свой дом, и в этом плане холодильник — не исключение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6553080" y="6245280"/>
            <a:ext cx="19814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FA9ED-908A-46E7-A1FD-A1BA0FD24C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9T08:22:23Z</dcterms:created>
  <dc:creator>student</dc:creator>
  <dc:description/>
  <dc:language>en-US</dc:language>
  <cp:lastModifiedBy>ЕКПТ11</cp:lastModifiedBy>
  <dcterms:modified xsi:type="dcterms:W3CDTF">2018-05-23T04:36:22Z</dcterms:modified>
  <cp:revision>266</cp:revision>
  <dc:subject/>
  <dc:title>Слайд 1</dc:title>
</cp:coreProperties>
</file>