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3490-7276-4560-8BEB-71C3CD36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F80B-397D-453A-8500-BB12F4BE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2315-D376-40AE-BAB5-7367D4402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5166-E83D-4A32-AB6F-D1C5AEAE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F712F-BD51-46D4-8B1F-8A73D178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0966-2A54-4AAD-AC4F-67BAC6EB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7ADA6-8BD7-45DB-869D-2BEB8CA7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C1D7-837E-4D6A-AFD3-02AB1D6D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D940-CDAE-4635-AA9F-93FED42F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92E2-30F1-47A1-99C6-2C56B3BB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02EB-5C47-4F11-B6EB-0A0E32C5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5F4B-35B1-4CBD-B883-3254A95D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517B-30EF-4698-93DE-45BE1010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98FC-2F1B-444F-8986-E7B9DA4B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A7FE-1EDC-45F0-963C-26F6E0914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BE900-D28E-4B29-A6E5-2F62CC61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2303D-8D67-4F5A-BCB1-99618A9E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1BDCF-49B8-4FB4-88E5-F3D5AB2E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CBB50-4A59-4D70-849E-539880189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F64A1-22C4-4D86-98BD-BF1BBC10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2C19A-0E6E-4B72-B603-C1B60BD8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58BC5-7B36-4F7B-B41E-6B3D3D59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A19-7143-4A6A-BF45-2BD8C026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46527-504E-4620-BBF4-B63735C6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12219-6210-42E6-AD22-736D6988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2E419-6E47-4F69-8509-15B3D067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EE082-46B7-4DBA-B96B-AB65A4DC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D656-CBE9-43F3-AD58-0A155EEB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5A271-F3A0-4CD4-9BF7-34B788A6A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D3008-7B8F-4152-A0BC-CF3B73A6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E60-3751-4DF8-97C3-4E13C9EA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EB79-090A-45FE-9AA2-7D6A295E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D912-FB53-4B14-A313-1E4D9958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8D5-11C1-4452-9535-C95D82F29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9C90-058D-43B9-8C2F-9BE64908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98CF-51F8-4F20-A010-A8DEC5CF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FDEA-423F-44E0-9E48-E8E382A9AC49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43E3-58AC-43BE-BBBF-B11896ABCCE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3B15-28DD-41A0-B0CA-6DBBC211F762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0317-CBA4-4B9B-BBCC-2971BB8378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222A-4C92-4A75-9F56-7B0D11E8AEE3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97A6-6827-4C59-9AEE-AD2D35BF30D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9A43-2868-4B4A-85D6-990FA15A68F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223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осударственное бюджетное профессиональное  образовательное учреждение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ердловской област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«Екатеринбургский политехнику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2714760"/>
            <a:ext cx="857268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762120" indent="-76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95280" y="2833560"/>
            <a:ext cx="820908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МИР В МАГНИТА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поддержке туристической компании «Колесниц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нители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щукова Виктория Андрее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еина Полина Алексее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уководители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осева Л.Н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подаватель географ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мчиц С.Ф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подаватель физ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Фотографии холодильников наших преподавателе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3EED-9641-446D-A9F4-C4E28546B37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Содержимое 4" descr=""/>
          <p:cNvPicPr/>
          <p:nvPr/>
        </p:nvPicPr>
        <p:blipFill>
          <a:blip r:embed="rId1"/>
          <a:stretch/>
        </p:blipFill>
        <p:spPr>
          <a:xfrm>
            <a:off x="1071720" y="1714680"/>
            <a:ext cx="2857320" cy="42861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"/>
          <p:cNvPicPr/>
          <p:nvPr/>
        </p:nvPicPr>
        <p:blipFill>
          <a:blip r:embed="rId2"/>
          <a:stretch/>
        </p:blipFill>
        <p:spPr>
          <a:xfrm>
            <a:off x="5000760" y="1571760"/>
            <a:ext cx="3000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уизе Гринфарб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ллекция – 30 000 магни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4" descr="F:\физика\ПРОЕКТЫ\проект-мир в магнитах\3.jpg"/>
          <p:cNvPicPr/>
          <p:nvPr/>
        </p:nvPicPr>
        <p:blipFill>
          <a:blip r:embed="rId1"/>
          <a:stretch/>
        </p:blipFill>
        <p:spPr>
          <a:xfrm>
            <a:off x="1984320" y="1643040"/>
            <a:ext cx="50878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зготовление стенд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Номер слайда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C7C82-D237-43EA-BC92-B9B94A9FCC8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Содержимое 5" descr=""/>
          <p:cNvPicPr/>
          <p:nvPr/>
        </p:nvPicPr>
        <p:blipFill>
          <a:blip r:embed="rId1"/>
          <a:stretch/>
        </p:blipFill>
        <p:spPr>
          <a:xfrm>
            <a:off x="566640" y="24145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163" name="Содержимое 6" descr=""/>
          <p:cNvPicPr/>
          <p:nvPr/>
        </p:nvPicPr>
        <p:blipFill>
          <a:blip r:embed="rId2"/>
          <a:stretch/>
        </p:blipFill>
        <p:spPr>
          <a:xfrm>
            <a:off x="4643280" y="241452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зготовление стенд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Номер слайда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E695-BC92-4929-9D46-9E95F32AF300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Содержимое 9" descr=""/>
          <p:cNvPicPr/>
          <p:nvPr/>
        </p:nvPicPr>
        <p:blipFill>
          <a:blip r:embed="rId1"/>
          <a:stretch/>
        </p:blipFill>
        <p:spPr>
          <a:xfrm>
            <a:off x="566640" y="24145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167" name="Содержимое 10" descr=""/>
          <p:cNvPicPr/>
          <p:nvPr/>
        </p:nvPicPr>
        <p:blipFill>
          <a:blip r:embed="rId2"/>
          <a:stretch/>
        </p:blipFill>
        <p:spPr>
          <a:xfrm>
            <a:off x="4643280" y="241452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ИТОГ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Не популярные туристические направл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Ш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аны Европ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по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Южная Афр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Популярные туристические направл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анкт-Петербур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лгогра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зан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больс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жевс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ы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7AB6-6A7F-4FAB-9F56-16BCBFC91A1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 «МИР В МАГНИТАХ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иктория Лещукова     Полина Шеи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5F42-9204-4C33-B746-CD827C0B90E8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Содержимое 6" descr=""/>
          <p:cNvPicPr/>
          <p:nvPr/>
        </p:nvPicPr>
        <p:blipFill>
          <a:blip r:embed="rId1"/>
          <a:stretch/>
        </p:blipFill>
        <p:spPr>
          <a:xfrm>
            <a:off x="1722600" y="17524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пулярный объект техникум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Номер слайда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E872-18BC-4A8C-8779-4DAD703ED1F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Содержимое 7" descr=""/>
          <p:cNvPicPr/>
          <p:nvPr/>
        </p:nvPicPr>
        <p:blipFill>
          <a:blip r:embed="rId1"/>
          <a:stretch/>
        </p:blipFill>
        <p:spPr>
          <a:xfrm>
            <a:off x="571680" y="2414520"/>
            <a:ext cx="3919320" cy="3300480"/>
          </a:xfrm>
          <a:prstGeom prst="rect">
            <a:avLst/>
          </a:prstGeom>
          <a:ln w="0">
            <a:noFill/>
          </a:ln>
        </p:spPr>
      </p:pic>
      <p:pic>
        <p:nvPicPr>
          <p:cNvPr id="178" name="Содержимое 8" descr="IMG_20180412_154343"/>
          <p:cNvPicPr/>
          <p:nvPr/>
        </p:nvPicPr>
        <p:blipFill>
          <a:blip r:embed="rId2"/>
          <a:stretch/>
        </p:blipFill>
        <p:spPr>
          <a:xfrm>
            <a:off x="4643280" y="2286000"/>
            <a:ext cx="3924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 «МИР В МАГНИТАХ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иктория Лещукова     Полина Шеи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440D-F687-430C-A649-B522486CB87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Содержимое 4" descr=""/>
          <p:cNvPicPr/>
          <p:nvPr/>
        </p:nvPicPr>
        <p:blipFill>
          <a:blip r:embed="rId1"/>
          <a:stretch/>
        </p:blipFill>
        <p:spPr>
          <a:xfrm>
            <a:off x="1722600" y="17524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роект «Мир в магнитах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попытка интегрированной формой обучения  с помощью проектного метода углубить знания по двум дисциплинам: физика и географ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4A22-9D07-494E-B45B-36E99A22368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Хочешь прибрать на кухне –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сними магниты с холодильник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F:\физика\ПРОЕКТЫ\проект-мир в магнитах\4.jpg"/>
          <p:cNvPicPr/>
          <p:nvPr/>
        </p:nvPicPr>
        <p:blipFill>
          <a:blip r:embed="rId1"/>
          <a:stretch/>
        </p:blipFill>
        <p:spPr>
          <a:xfrm>
            <a:off x="1857240" y="171468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Гипотез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игинальная идея заинтересует не только студентов, но и преподавателей, в результате стенд «Мир в магнитах» будет популярным объектом техникум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ающиеся Екатеринбургского политехникума не посещали такие страны, как Австралия, США, мало кто был в Европ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пулярные туристические  места–  Крым и города Росс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ЗАДАЧ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вторить что такое магниты и их свой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учить историю создания  магнитов как туристических сувенир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брать и обобщить материал про различные государства и города, в соответствии с собранной коллекцией туристических магни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глубленно изучить географическое положение стран, народонаселение,  развитие транспор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делать выводы о том, какие страны и города более популярны для отдыха  студентов техникум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готовить информационный стенд  «Мир в магнитах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дставить  проект в техникуме и  на  научно-практическую конференцию «Наука, творчество, молодежь – 2018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9725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МАГНИ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543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агнит - это объект, сделанный из определенного материала, который создает магнитное поле. Магниты состоят из миллионов молекул, объединенных в группы, которые называются доменами. Каждый домен ведет себя как минеральный магнит, имеющий северный 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южный полюс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E892-0D55-4146-AC3F-697FF5212DD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Содержимое 6" descr=""/>
          <p:cNvPicPr/>
          <p:nvPr/>
        </p:nvPicPr>
        <p:blipFill>
          <a:blip r:embed="rId1"/>
          <a:stretch/>
        </p:blipFill>
        <p:spPr>
          <a:xfrm>
            <a:off x="4500720" y="1785960"/>
            <a:ext cx="40431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0438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ВОЙСТВА МАГНИТ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543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гниты обладают способностью притягивать предметы из железа или стали, никеля и некоторых других металл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рма и размер магнита влияет на его силу. Подковообразные магниты сильнее прямоугольных. Среди магнитов, имеющих одну форму, сильнее будет магнит большего разме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гниты притягивают даже на расстоянии. Чем больше магнит, тем больше сила притяжения и тем больше расстояние, на котором магнит оказывает свое воздейств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Номер слайда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10C0-5956-4303-9087-F34EF6F276D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Содержимое 5" descr=""/>
          <p:cNvPicPr/>
          <p:nvPr/>
        </p:nvPicPr>
        <p:blipFill>
          <a:blip r:embed="rId1"/>
          <a:stretch/>
        </p:blipFill>
        <p:spPr>
          <a:xfrm>
            <a:off x="4286160" y="2071800"/>
            <a:ext cx="44006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чало 1970-х Уильям Циммерман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Сент-Луиса, штат Миссур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" descr="F:\физика\ПРОЕКТЫ\проект-мир в магнитах\1.jpeg"/>
          <p:cNvPicPr/>
          <p:nvPr/>
        </p:nvPicPr>
        <p:blipFill>
          <a:blip r:embed="rId1"/>
          <a:stretch/>
        </p:blipFill>
        <p:spPr>
          <a:xfrm>
            <a:off x="2000160" y="1928880"/>
            <a:ext cx="5000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чины популярности магнит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гматичность — появление на гладкой поверхности мелких дефектов, таких как вмятины и царапины, которые на белом фоне очень бросаются в глаз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ычка оставлять записочки на видном месте для всех членов семьи была сформирована отсутствием полноценной телефон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ыкновенное человеческое желание украшать свой дом, и в этом плане холодильник — не исключени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F1DD-F3CB-4693-9753-14C52CCB276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8:22:23Z</dcterms:created>
  <dc:creator>student</dc:creator>
  <dc:description/>
  <dc:language>en-US</dc:language>
  <cp:lastModifiedBy>ЕКПТ11</cp:lastModifiedBy>
  <dcterms:modified xsi:type="dcterms:W3CDTF">2018-05-23T04:36:22Z</dcterms:modified>
  <cp:revision>266</cp:revision>
  <dc:subject/>
  <dc:title>Слайд 1</dc:title>
</cp:coreProperties>
</file>