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AA40-EC2B-48BB-854E-E50E335EDC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1A4B-71AE-4D59-9C62-2B1A8FA0D8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74E-95E9-4470-A012-336064FB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446C-EAE9-4411-B857-4EEC7324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711-923E-4A86-A660-019E780F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CB5-77BD-4B1A-83E0-F34EA55A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B39-C764-4A20-B1AA-3F8EB847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15A-BDD5-43E1-9CCB-75461390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C925-FE79-4F15-BB2A-EDC8B888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C95-46F5-45AA-9FB6-B177658C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1F38-6CEB-4EC6-B462-F0870986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2F5-67E0-419A-ADB6-E13C4D1A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078-A9BE-4A01-A529-00D97C26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F9A-D332-4138-8924-D951936C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5CB9-614D-42B1-BBF5-E86579B518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476280"/>
            <a:ext cx="8353440" cy="173988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b0589"/>
                </a:solidFill>
                <a:latin typeface="Arial"/>
                <a:ea typeface="Arial"/>
              </a:rPr>
              <a:t>               </a:t>
            </a:r>
            <a:r>
              <a:rPr b="1" i="1" lang="en-US" sz="5400" spc="-1" strike="noStrike">
                <a:solidFill>
                  <a:srgbClr val="9b0589"/>
                </a:solidFill>
                <a:latin typeface="Arial"/>
                <a:ea typeface="Arial"/>
              </a:rPr>
              <a:t>Тайны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b0589"/>
                </a:solidFill>
                <a:latin typeface="Arial"/>
                <a:ea typeface="Arial"/>
              </a:rPr>
              <a:t>русской орфограф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hello_html_67fce796.png"/>
          <p:cNvPicPr/>
          <p:nvPr/>
        </p:nvPicPr>
        <p:blipFill>
          <a:blip r:embed="rId1"/>
          <a:stretch/>
        </p:blipFill>
        <p:spPr>
          <a:xfrm>
            <a:off x="5651640" y="3284640"/>
            <a:ext cx="2028600" cy="2190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j0232104"/>
          <p:cNvPicPr/>
          <p:nvPr/>
        </p:nvPicPr>
        <p:blipFill>
          <a:blip r:embed="rId2"/>
          <a:stretch/>
        </p:blipFill>
        <p:spPr>
          <a:xfrm>
            <a:off x="826920" y="2637000"/>
            <a:ext cx="261324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9"/>
          <p:cNvSpPr/>
          <p:nvPr/>
        </p:nvSpPr>
        <p:spPr>
          <a:xfrm>
            <a:off x="2484360" y="404640"/>
            <a:ext cx="5832720" cy="420876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Если хочешь грамотн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Быстро очень ста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олжен ты истор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Языка узнат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Тайны орфограф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роются лишь в ней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Если отгадаешь их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мен будешь впол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Ты секреты э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ля себя открой 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 грамотность тог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ружна будет с тобо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12" descr="graduation09_fullsize_story1.jpg"/>
          <p:cNvPicPr/>
          <p:nvPr/>
        </p:nvPicPr>
        <p:blipFill>
          <a:blip r:embed="rId1"/>
          <a:stretch/>
        </p:blipFill>
        <p:spPr>
          <a:xfrm>
            <a:off x="2627280" y="5013360"/>
            <a:ext cx="1711440" cy="1282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Ольга\Documents\Рисунки с прозрачным фоном\Рисунок3 (2).png"/>
          <p:cNvPicPr/>
          <p:nvPr/>
        </p:nvPicPr>
        <p:blipFill>
          <a:blip r:embed="rId2"/>
          <a:stretch/>
        </p:blipFill>
        <p:spPr>
          <a:xfrm>
            <a:off x="395280" y="907920"/>
            <a:ext cx="1728720" cy="2274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324000" y="260280"/>
            <a:ext cx="4608360" cy="478728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Чем может быть интересна орфограф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0589"/>
                </a:solidFill>
                <a:latin typeface="Calibri"/>
              </a:rPr>
              <a:t>Это интересн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* Откуда появились правила </a:t>
            </a: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               правописа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* Зачем запоминать    прав</a:t>
            </a:r>
            <a:r>
              <a:rPr b="1" lang="en-US" sz="2400" spc="-1" strike="noStrike">
                <a:solidFill>
                  <a:srgbClr val="632523"/>
                </a:solidFill>
                <a:latin typeface="Arial"/>
              </a:rPr>
              <a:t>опи</a:t>
            </a: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сание стольких сло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6325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Отку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возникли чередования  в слова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219640" y="907920"/>
            <a:ext cx="2567160" cy="70380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0589"/>
                </a:solidFill>
                <a:latin typeface="Calibri"/>
              </a:rPr>
              <a:t>Ответы на некоторые вопрос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6" descr="4.png"/>
          <p:cNvPicPr/>
          <p:nvPr/>
        </p:nvPicPr>
        <p:blipFill>
          <a:blip r:embed="rId1"/>
          <a:stretch/>
        </p:blipFill>
        <p:spPr>
          <a:xfrm>
            <a:off x="2195640" y="5445000"/>
            <a:ext cx="1942920" cy="11098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LOGO.gif"/>
          <p:cNvPicPr/>
          <p:nvPr/>
        </p:nvPicPr>
        <p:blipFill>
          <a:blip r:embed="rId2"/>
          <a:stretch/>
        </p:blipFill>
        <p:spPr>
          <a:xfrm>
            <a:off x="5435640" y="2997360"/>
            <a:ext cx="2286000" cy="2766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4"/>
          <p:cNvSpPr/>
          <p:nvPr/>
        </p:nvSpPr>
        <p:spPr>
          <a:xfrm>
            <a:off x="468360" y="907920"/>
            <a:ext cx="7891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ая орфография менялась на протяжении более чем десятка веков в результате различных языковых процессов, реформ, преобразований. Но многие слова все-таки сохранили свое историческое написа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ая орфография интересна тем, что правильное написание слов в большинстве случаев зависит от их исторического значения, от положения орфограмм в словах, а также от сложившейся веками традиции напис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6" descr="4.png"/>
          <p:cNvPicPr/>
          <p:nvPr/>
        </p:nvPicPr>
        <p:blipFill>
          <a:blip r:embed="rId1"/>
          <a:stretch/>
        </p:blipFill>
        <p:spPr>
          <a:xfrm>
            <a:off x="3851280" y="5084640"/>
            <a:ext cx="1942920" cy="1109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250920" y="333360"/>
            <a:ext cx="5257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Чередования в слов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Такое явление в языке может быть обусловлено позицией звука в слове или традицией. Традиционные чередования называют еще и историческими, так как они возникли в результате различных языковых процессов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(ассимиляция, палатализация и др.) на протяжении всей истории язы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(см. А.А.Реформатский «Введение в языковедение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ная исторические чередования и соотношения слов, можно без труда писать грамотно те слова, где наблюдаются такие «чудесные явления»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5580000" y="3213000"/>
            <a:ext cx="3240000" cy="253332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руг – друзья – дружить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            (г//з//ж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ерево - древо (е//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какать - скачу (к//ч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Излагать – изложить (г//ж; а//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10"/>
          <p:cNvSpPr/>
          <p:nvPr/>
        </p:nvSpPr>
        <p:spPr>
          <a:xfrm flipH="1">
            <a:off x="6928920" y="4429080"/>
            <a:ext cx="71640" cy="71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516720" y="679320"/>
            <a:ext cx="1942920" cy="1714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"/>
          <p:cNvSpPr/>
          <p:nvPr/>
        </p:nvSpPr>
        <p:spPr>
          <a:xfrm>
            <a:off x="179280" y="1773360"/>
            <a:ext cx="3672000" cy="436284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результате таких исторических процессов и связанных с ними  чередований два слова: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«конец» и «начало»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разошлись в своих значениях. Но они однокоренные, имеющие общий исторический корень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"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kenti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"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 значении возникать, начинаться, грани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лове конец исторически корень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он- и -суффикс -ец (из ьць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995640" y="404640"/>
            <a:ext cx="48243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трудно доказать, что в звукосочетании –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ча-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в слове начало был носовой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[е];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достаточно проанализировать следующий ряд: начало - начинать начну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(ча// чин// ч(ь)н)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Звук (ч) появился в результате чередования со звуком [к] перед гласными переднего ряда (е и ь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едовательно, в этих антонимах корни -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н- и –ча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сторически равнозначны. Исторически корень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-кон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охранил свою смысловую близость к понятию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«начало чего-либо» в выражении испокон веку, искона в значении «издавна с незапамятных времён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1.jpeg"/>
          <p:cNvPicPr/>
          <p:nvPr/>
        </p:nvPicPr>
        <p:blipFill>
          <a:blip r:embed="rId1"/>
          <a:stretch/>
        </p:blipFill>
        <p:spPr>
          <a:xfrm>
            <a:off x="611280" y="260280"/>
            <a:ext cx="1428480" cy="1409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1979640" y="189000"/>
            <a:ext cx="2449440" cy="459720"/>
          </a:xfrm>
          <a:prstGeom prst="rect">
            <a:avLst/>
          </a:prstGeom>
          <a:solidFill>
            <a:srgbClr val="8f11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Это интерес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395280" y="333360"/>
            <a:ext cx="6192720" cy="131364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рфография русского языка подчиняется разным принципам,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главным из которых является морфологический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Следуя ему, все морфемы пишем по принципу единообраз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12" descr="051109.jpg"/>
          <p:cNvPicPr/>
          <p:nvPr/>
        </p:nvPicPr>
        <p:blipFill>
          <a:blip r:embed="rId1"/>
          <a:stretch/>
        </p:blipFill>
        <p:spPr>
          <a:xfrm>
            <a:off x="6443640" y="1916280"/>
            <a:ext cx="2265480" cy="26636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3"/>
          <p:cNvSpPr/>
          <p:nvPr/>
        </p:nvSpPr>
        <p:spPr>
          <a:xfrm>
            <a:off x="324000" y="1916280"/>
            <a:ext cx="576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Чтобы проверить правописание слова, необходимо поставить сомнительную букву 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( а точнее звук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в сильную позицию  и написать «сомнительное место» в слове по принципу единообрази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324000" y="476280"/>
            <a:ext cx="3816360" cy="283824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ля написания орфограмм в корне применяется морфологический принцип. В безударном положении употребляется та буква, которая пишется в том же слоге, когда она находится под ударени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468360" y="3573360"/>
            <a:ext cx="2786040" cy="1465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alibri"/>
              </a:rPr>
              <a:t>листок – ли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alibri"/>
              </a:rPr>
              <a:t>Позолота – золо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4"/>
          <p:cNvSpPr/>
          <p:nvPr/>
        </p:nvSpPr>
        <p:spPr>
          <a:xfrm flipH="1">
            <a:off x="2484000" y="3645000"/>
            <a:ext cx="73080" cy="1429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8"/>
          <p:cNvSpPr/>
          <p:nvPr/>
        </p:nvSpPr>
        <p:spPr>
          <a:xfrm flipV="1">
            <a:off x="1258920" y="3933720"/>
            <a:ext cx="241200" cy="50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Дуга 11"/>
          <p:cNvSpPr/>
          <p:nvPr/>
        </p:nvSpPr>
        <p:spPr>
          <a:xfrm>
            <a:off x="1187280" y="3645000"/>
            <a:ext cx="503280" cy="360360"/>
          </a:xfrm>
          <a:prstGeom prst="pie">
            <a:avLst/>
          </a:prstGeom>
          <a:noFill/>
          <a:ln w="25560">
            <a:solidFill>
              <a:srgbClr val="8064a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Дуга 12"/>
          <p:cNvSpPr/>
          <p:nvPr/>
        </p:nvSpPr>
        <p:spPr>
          <a:xfrm>
            <a:off x="2340000" y="3645000"/>
            <a:ext cx="504720" cy="296640"/>
          </a:xfrm>
          <a:prstGeom prst="pie">
            <a:avLst/>
          </a:prstGeom>
          <a:noFill/>
          <a:ln w="25560">
            <a:solidFill>
              <a:srgbClr val="8064a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4211640" y="260280"/>
            <a:ext cx="475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огда сомневаетесь,  какую сомнительную  согласную написать, </a:t>
            </a:r>
            <a:r>
              <a:rPr b="1" lang="en-US" sz="2400" spc="-1" strike="noStrike">
                <a:solidFill>
                  <a:srgbClr val="9b0589"/>
                </a:solidFill>
                <a:latin typeface="Calibri"/>
              </a:rPr>
              <a:t>нужно изменить слово или подобрать однокоренное таким образом, чтоб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8f117d"/>
                </a:solidFill>
                <a:latin typeface="Calibri"/>
              </a:rPr>
              <a:t>«подозрительная» согласная находилась пере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гласной или перед сонорными согласными –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л, м, н, р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то есть поставить ее в сильную пози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3635280" y="4292640"/>
            <a:ext cx="489744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alibri"/>
              </a:rPr>
              <a:t>дуб- дуб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alibri"/>
              </a:rPr>
              <a:t>просьба - прос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Дуга 15"/>
          <p:cNvSpPr/>
          <p:nvPr/>
        </p:nvSpPr>
        <p:spPr>
          <a:xfrm>
            <a:off x="5435640" y="4365720"/>
            <a:ext cx="431640" cy="287280"/>
          </a:xfrm>
          <a:prstGeom prst="pie">
            <a:avLst/>
          </a:prstGeom>
          <a:noFill/>
          <a:ln w="25560">
            <a:solidFill>
              <a:srgbClr val="8064a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Дуга 16"/>
          <p:cNvSpPr/>
          <p:nvPr/>
        </p:nvSpPr>
        <p:spPr>
          <a:xfrm>
            <a:off x="6084720" y="4365720"/>
            <a:ext cx="360360" cy="287280"/>
          </a:xfrm>
          <a:prstGeom prst="pie">
            <a:avLst/>
          </a:prstGeom>
          <a:noFill/>
          <a:ln w="25560">
            <a:solidFill>
              <a:srgbClr val="8064a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ая соединительная линия 20"/>
          <p:cNvSpPr/>
          <p:nvPr/>
        </p:nvSpPr>
        <p:spPr>
          <a:xfrm>
            <a:off x="5580000" y="4653000"/>
            <a:ext cx="144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21"/>
          <p:cNvSpPr/>
          <p:nvPr/>
        </p:nvSpPr>
        <p:spPr>
          <a:xfrm flipH="1">
            <a:off x="6084720" y="4653000"/>
            <a:ext cx="2145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Дуга 17"/>
          <p:cNvSpPr/>
          <p:nvPr/>
        </p:nvSpPr>
        <p:spPr>
          <a:xfrm>
            <a:off x="1428840" y="4143240"/>
            <a:ext cx="642960" cy="297000"/>
          </a:xfrm>
          <a:prstGeom prst="pie">
            <a:avLst/>
          </a:prstGeom>
          <a:noFill/>
          <a:ln w="25560">
            <a:solidFill>
              <a:srgbClr val="8064a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Дуга 18"/>
          <p:cNvSpPr/>
          <p:nvPr/>
        </p:nvSpPr>
        <p:spPr>
          <a:xfrm>
            <a:off x="2627280" y="4149720"/>
            <a:ext cx="642960" cy="297000"/>
          </a:xfrm>
          <a:prstGeom prst="pie">
            <a:avLst/>
          </a:prstGeom>
          <a:noFill/>
          <a:ln w="25560">
            <a:solidFill>
              <a:srgbClr val="8064a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ая соединительная линия 22"/>
          <p:cNvSpPr/>
          <p:nvPr/>
        </p:nvSpPr>
        <p:spPr>
          <a:xfrm flipV="1">
            <a:off x="1476360" y="4508280"/>
            <a:ext cx="241200" cy="46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ая соединительная линия 24"/>
          <p:cNvSpPr/>
          <p:nvPr/>
        </p:nvSpPr>
        <p:spPr>
          <a:xfrm flipH="1">
            <a:off x="2771280" y="4149720"/>
            <a:ext cx="71640" cy="144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25"/>
          <p:cNvSpPr/>
          <p:nvPr/>
        </p:nvSpPr>
        <p:spPr>
          <a:xfrm flipV="1">
            <a:off x="2627280" y="4508280"/>
            <a:ext cx="241200" cy="46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Дуга 38"/>
          <p:cNvSpPr/>
          <p:nvPr/>
        </p:nvSpPr>
        <p:spPr>
          <a:xfrm>
            <a:off x="5364000" y="4941720"/>
            <a:ext cx="642960" cy="287640"/>
          </a:xfrm>
          <a:prstGeom prst="pie">
            <a:avLst/>
          </a:prstGeom>
          <a:noFill/>
          <a:ln w="25560">
            <a:solidFill>
              <a:srgbClr val="8064a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Дуга 39"/>
          <p:cNvSpPr/>
          <p:nvPr/>
        </p:nvSpPr>
        <p:spPr>
          <a:xfrm>
            <a:off x="6659640" y="4869000"/>
            <a:ext cx="431640" cy="287280"/>
          </a:xfrm>
          <a:prstGeom prst="pie">
            <a:avLst/>
          </a:prstGeom>
          <a:noFill/>
          <a:ln w="25560">
            <a:solidFill>
              <a:srgbClr val="8064a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40"/>
          <p:cNvSpPr/>
          <p:nvPr/>
        </p:nvSpPr>
        <p:spPr>
          <a:xfrm>
            <a:off x="5651640" y="5229360"/>
            <a:ext cx="215640" cy="1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ая соединительная линия 42"/>
          <p:cNvSpPr/>
          <p:nvPr/>
        </p:nvSpPr>
        <p:spPr>
          <a:xfrm>
            <a:off x="6877080" y="5229360"/>
            <a:ext cx="285840" cy="1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826920" y="1413000"/>
            <a:ext cx="3600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50920" y="1052640"/>
            <a:ext cx="4105080" cy="4544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Столько приставок, которые не изменяются! И нам приходится запоминать их написание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А заче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            </a:t>
            </a: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Поступаем проще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се эти приставки можно поставить в сильную позицию проверить теми же способами, что безударные гласные или сомнительные согласные в корне и написать по принципу единообрази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572000" y="1500120"/>
            <a:ext cx="3714840" cy="161856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делать – содействов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Запеленать – запи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Надписать - надорв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ая соединительная линия 11"/>
          <p:cNvSpPr/>
          <p:nvPr/>
        </p:nvSpPr>
        <p:spPr>
          <a:xfrm flipH="1" flipV="1">
            <a:off x="6072120" y="1856880"/>
            <a:ext cx="2145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18"/>
          <p:cNvSpPr/>
          <p:nvPr/>
        </p:nvSpPr>
        <p:spPr>
          <a:xfrm flipH="1" flipV="1">
            <a:off x="4928760" y="1856880"/>
            <a:ext cx="1429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19"/>
          <p:cNvSpPr/>
          <p:nvPr/>
        </p:nvSpPr>
        <p:spPr>
          <a:xfrm flipH="1" flipV="1">
            <a:off x="5148000" y="2421000"/>
            <a:ext cx="214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20"/>
          <p:cNvSpPr/>
          <p:nvPr/>
        </p:nvSpPr>
        <p:spPr>
          <a:xfrm flipH="1" flipV="1">
            <a:off x="6876720" y="2421000"/>
            <a:ext cx="214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21"/>
          <p:cNvSpPr/>
          <p:nvPr/>
        </p:nvSpPr>
        <p:spPr>
          <a:xfrm flipH="1" flipV="1">
            <a:off x="5214600" y="3071880"/>
            <a:ext cx="214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22"/>
          <p:cNvSpPr/>
          <p:nvPr/>
        </p:nvSpPr>
        <p:spPr>
          <a:xfrm flipH="1" flipV="1">
            <a:off x="6572160" y="3071880"/>
            <a:ext cx="2145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324000" y="476280"/>
            <a:ext cx="3816360" cy="3751560"/>
          </a:xfrm>
          <a:prstGeom prst="rect">
            <a:avLst/>
          </a:prstGeom>
          <a:solidFill>
            <a:srgbClr val="a5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ончания сомнительных существительны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же пишутся по морфологическому принципу. Оказывается, их можно проверить ударени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верит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бедитесь сам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0" y="549360"/>
          <a:ext cx="4392720" cy="3564000"/>
        </p:xfrm>
        <a:graphic>
          <a:graphicData uri="http://schemas.openxmlformats.org/drawingml/2006/table">
            <a:tbl>
              <a:tblPr/>
              <a:tblGrid>
                <a:gridCol w="1182600"/>
                <a:gridCol w="1014480"/>
                <a:gridCol w="1096920"/>
                <a:gridCol w="109872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де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кло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a5f5f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a5f5f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a5f5f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a5f5f9">
                        <a:alpha val="20000"/>
                      </a:srgbClr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дите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чки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мь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чи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еп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4ee1f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чке - сес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4ee1f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4ee1f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чи - степи -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4ee1f0">
                        <a:alpha val="20000"/>
                      </a:srgbClr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лож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ручке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сестр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пенале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ст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ночи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 степ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4437000"/>
            <a:ext cx="2089440" cy="2057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2411280" y="1700280"/>
            <a:ext cx="2592360" cy="3457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9:44:49Z</dcterms:created>
  <dc:creator> Ученик</dc:creator>
  <dc:description/>
  <dc:language>en-US</dc:language>
  <cp:lastModifiedBy>админ</cp:lastModifiedBy>
  <dcterms:modified xsi:type="dcterms:W3CDTF">2018-07-20T09:32:57Z</dcterms:modified>
  <cp:revision>68</cp:revision>
  <dc:subject/>
  <dc:title>Слайд 1</dc:title>
</cp:coreProperties>
</file>