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3F03-24B4-406D-AA04-59CAA5CDB2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16FF-8C5E-4C92-BCDA-2CDB4F892F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241-2BBE-491C-8D11-F0970839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C44-A947-4563-A206-418B104F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F20-6A46-4D35-B084-C0C6B9A0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108-5623-4F8D-8949-0EC58740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09F-764C-4A93-A903-F6F50294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686-95BF-48EC-B06D-01D931B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C1A-2AA1-4424-8A60-B6C84B0D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86A-39D2-4413-A703-29A735CC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562-8A71-4BA2-949A-B3091ADB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91F-FEF3-4EE7-B130-D123AA5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B24-02A7-4DE7-B968-73957664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AE9-7C8A-4A45-9C9D-91D9316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824F-E3BD-4FC3-B812-E26C246DF8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476280"/>
            <a:ext cx="8353440" cy="173988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b0589"/>
                </a:solidFill>
                <a:latin typeface="Arial"/>
                <a:ea typeface="Arial"/>
              </a:rPr>
              <a:t>               </a:t>
            </a:r>
            <a:r>
              <a:rPr b="1" i="1" lang="en-US" sz="5400" spc="-1" strike="noStrike">
                <a:solidFill>
                  <a:srgbClr val="9b0589"/>
                </a:solidFill>
                <a:latin typeface="Arial"/>
                <a:ea typeface="Arial"/>
              </a:rPr>
              <a:t>Тайн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b0589"/>
                </a:solidFill>
                <a:latin typeface="Arial"/>
                <a:ea typeface="Arial"/>
              </a:rPr>
              <a:t>русской орфограф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hello_html_67fce796.png"/>
          <p:cNvPicPr/>
          <p:nvPr/>
        </p:nvPicPr>
        <p:blipFill>
          <a:blip r:embed="rId1"/>
          <a:stretch/>
        </p:blipFill>
        <p:spPr>
          <a:xfrm>
            <a:off x="5651640" y="3284640"/>
            <a:ext cx="2028600" cy="219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j0232104"/>
          <p:cNvPicPr/>
          <p:nvPr/>
        </p:nvPicPr>
        <p:blipFill>
          <a:blip r:embed="rId2"/>
          <a:stretch/>
        </p:blipFill>
        <p:spPr>
          <a:xfrm>
            <a:off x="826920" y="2637000"/>
            <a:ext cx="26132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9"/>
          <p:cNvSpPr/>
          <p:nvPr/>
        </p:nvSpPr>
        <p:spPr>
          <a:xfrm>
            <a:off x="2484360" y="404640"/>
            <a:ext cx="5832720" cy="420876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сли хочешь грамот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ыстро очень ста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олжен ты истор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Языка узн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айны орфограф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оются лишь в ней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сли отгадаешь и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 будешь впол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ы секреты э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ля себя открой 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 грамотность т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ружна будет с т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2" descr="graduation09_fullsize_story1.jpg"/>
          <p:cNvPicPr/>
          <p:nvPr/>
        </p:nvPicPr>
        <p:blipFill>
          <a:blip r:embed="rId1"/>
          <a:stretch/>
        </p:blipFill>
        <p:spPr>
          <a:xfrm>
            <a:off x="2627280" y="5013360"/>
            <a:ext cx="171144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Ольга\Documents\Рисунки с прозрачным фоном\Рисунок3 (2).png"/>
          <p:cNvPicPr/>
          <p:nvPr/>
        </p:nvPicPr>
        <p:blipFill>
          <a:blip r:embed="rId2"/>
          <a:stretch/>
        </p:blipFill>
        <p:spPr>
          <a:xfrm>
            <a:off x="395280" y="907920"/>
            <a:ext cx="1728720" cy="2274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324000" y="260280"/>
            <a:ext cx="4608360" cy="478728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Чем может быть интересна орфограф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0589"/>
                </a:solidFill>
                <a:latin typeface="Calibri"/>
              </a:rPr>
              <a:t>Это интерес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* Откуда появились правила 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               правописа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* Зачем запоминать    прав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опи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сание стольких сл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325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Отку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возникли чередования  в слов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219640" y="907920"/>
            <a:ext cx="2567160" cy="70380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0589"/>
                </a:solidFill>
                <a:latin typeface="Calibri"/>
              </a:rPr>
              <a:t>Ответы на некоторые вопрос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6" descr="4.png"/>
          <p:cNvPicPr/>
          <p:nvPr/>
        </p:nvPicPr>
        <p:blipFill>
          <a:blip r:embed="rId1"/>
          <a:stretch/>
        </p:blipFill>
        <p:spPr>
          <a:xfrm>
            <a:off x="2195640" y="5445000"/>
            <a:ext cx="1942920" cy="1109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LOGO.gif"/>
          <p:cNvPicPr/>
          <p:nvPr/>
        </p:nvPicPr>
        <p:blipFill>
          <a:blip r:embed="rId2"/>
          <a:stretch/>
        </p:blipFill>
        <p:spPr>
          <a:xfrm>
            <a:off x="5435640" y="2997360"/>
            <a:ext cx="228600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468360" y="907920"/>
            <a:ext cx="789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ая орфография менялась на протяжении более чем десятка веков в результате различных языковых процессов, реформ, преобразований. Но многие слова все-таки сохранили свое историческое написа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ая орфография интересна тем, что правильное написание слов в большинстве случаев зависит от их исторического значения, от положения орфограмм в словах, а также от сложившейся веками традиции напис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6" descr="4.png"/>
          <p:cNvPicPr/>
          <p:nvPr/>
        </p:nvPicPr>
        <p:blipFill>
          <a:blip r:embed="rId1"/>
          <a:stretch/>
        </p:blipFill>
        <p:spPr>
          <a:xfrm>
            <a:off x="3851280" y="5084640"/>
            <a:ext cx="1942920" cy="110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50920" y="333360"/>
            <a:ext cx="5257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Чередования в слов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кое явление в языке может быть обусловлено позицией звука в слове или традицией. Традиционные чередования называют еще и историческими, так как они возникли в результате различных языковых процессов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(ассимиляция, палатализация и др.) на протяжении всей истории язы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(см. А.А.Реформатский «Введение в языковедение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я исторические чередования и соотношения слов, можно без труда писать грамотно те слова, где наблюдаются такие «чудесные явления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580000" y="3213000"/>
            <a:ext cx="3240000" cy="253332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руг – друзья – дружить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(г//з//ж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ерево - древо (е//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какать - скачу (к//ч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злагать – изложить (г//ж; а//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10"/>
          <p:cNvSpPr/>
          <p:nvPr/>
        </p:nvSpPr>
        <p:spPr>
          <a:xfrm flipH="1">
            <a:off x="6928920" y="4429080"/>
            <a:ext cx="71640" cy="71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516720" y="679320"/>
            <a:ext cx="194292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179280" y="1773360"/>
            <a:ext cx="3672000" cy="436284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результате таких исторических процессов и связанных с ними  чередований два слова: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конец» и «начало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разошлись в своих значениях. Но они однокоренные, имеющие общий исторический корень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kenti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 значении возникать, начинаться, грани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лове конец исторически корень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н- и -суффикс -ец (из ьць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995640" y="404640"/>
            <a:ext cx="48243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трудно доказать, что в звукосочетании –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а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в слове начало был носов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[е]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остаточно проанализировать следующий ряд: начало - начинать начну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(ча// чин// ч(ь)н)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Звук (ч) появился в результате чередования со звуком [к] перед гласными переднего ряда (е и 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овательно, в этих антонимах корни -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- и –ча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сторически равнозначны. Исторически кор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-ко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охранил свою смысловую близость к понятию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«начало чего-либо» в выражении испокон веку, искона в значении «издавна с незапамятных времё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1.jpeg"/>
          <p:cNvPicPr/>
          <p:nvPr/>
        </p:nvPicPr>
        <p:blipFill>
          <a:blip r:embed="rId1"/>
          <a:stretch/>
        </p:blipFill>
        <p:spPr>
          <a:xfrm>
            <a:off x="611280" y="260280"/>
            <a:ext cx="1428480" cy="1409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1979640" y="189000"/>
            <a:ext cx="2449440" cy="459720"/>
          </a:xfrm>
          <a:prstGeom prst="rect">
            <a:avLst/>
          </a:prstGeom>
          <a:solidFill>
            <a:srgbClr val="8f11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Это интерес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395280" y="333360"/>
            <a:ext cx="6192720" cy="131364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фия русского языка подчиняется разным принципам,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главным из которых является морфологический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Следуя ему, все морфемы пишем по принципу единообраз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2" descr="051109.jpg"/>
          <p:cNvPicPr/>
          <p:nvPr/>
        </p:nvPicPr>
        <p:blipFill>
          <a:blip r:embed="rId1"/>
          <a:stretch/>
        </p:blipFill>
        <p:spPr>
          <a:xfrm>
            <a:off x="6443640" y="1916280"/>
            <a:ext cx="2265480" cy="2663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3"/>
          <p:cNvSpPr/>
          <p:nvPr/>
        </p:nvSpPr>
        <p:spPr>
          <a:xfrm>
            <a:off x="324000" y="1916280"/>
            <a:ext cx="576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тобы проверить правописание слова, необходимо поставить сомнительную букву 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( а точнее звук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в сильную позицию  и написать «сомнительное место» в слове по принципу единообрази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24000" y="476280"/>
            <a:ext cx="3816360" cy="283824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ля написания орфограмм в корне применяется морфологический принцип. В безударном положении употребляется та буква, которая пишется в том же слоге, когда она находится под удар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468360" y="3573360"/>
            <a:ext cx="2786040" cy="1465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alibri"/>
              </a:rPr>
              <a:t>листок – ли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alibri"/>
              </a:rPr>
              <a:t>Позолота – золо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4"/>
          <p:cNvSpPr/>
          <p:nvPr/>
        </p:nvSpPr>
        <p:spPr>
          <a:xfrm flipH="1">
            <a:off x="2484000" y="3645000"/>
            <a:ext cx="73080" cy="1429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V="1">
            <a:off x="1258920" y="3933720"/>
            <a:ext cx="241200" cy="50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уга 11"/>
          <p:cNvSpPr/>
          <p:nvPr/>
        </p:nvSpPr>
        <p:spPr>
          <a:xfrm>
            <a:off x="1187280" y="3645000"/>
            <a:ext cx="503280" cy="36036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уга 12"/>
          <p:cNvSpPr/>
          <p:nvPr/>
        </p:nvSpPr>
        <p:spPr>
          <a:xfrm>
            <a:off x="2340000" y="3645000"/>
            <a:ext cx="504720" cy="29664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4211640" y="260280"/>
            <a:ext cx="475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гда сомневаетесь,  какую сомнительную  согласную написать, </a:t>
            </a:r>
            <a:r>
              <a:rPr b="1" lang="en-US" sz="2400" spc="-1" strike="noStrike">
                <a:solidFill>
                  <a:srgbClr val="9b0589"/>
                </a:solidFill>
                <a:latin typeface="Calibri"/>
              </a:rPr>
              <a:t>нужно изменить слово или подобрать однокоренное таким образом, чтоб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8f117d"/>
                </a:solidFill>
                <a:latin typeface="Calibri"/>
              </a:rPr>
              <a:t>«подозрительная» согласная находилась пере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гласной или перед сонорными согласными –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л, м, н, р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то есть поставить ее в сильную пози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3635280" y="4292640"/>
            <a:ext cx="489744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alibri"/>
              </a:rPr>
              <a:t>дуб- ду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alibri"/>
              </a:rPr>
              <a:t>просьба - прос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уга 15"/>
          <p:cNvSpPr/>
          <p:nvPr/>
        </p:nvSpPr>
        <p:spPr>
          <a:xfrm>
            <a:off x="5435640" y="4365720"/>
            <a:ext cx="431640" cy="28728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уга 16"/>
          <p:cNvSpPr/>
          <p:nvPr/>
        </p:nvSpPr>
        <p:spPr>
          <a:xfrm>
            <a:off x="6084720" y="4365720"/>
            <a:ext cx="360360" cy="28728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20"/>
          <p:cNvSpPr/>
          <p:nvPr/>
        </p:nvSpPr>
        <p:spPr>
          <a:xfrm>
            <a:off x="5580000" y="4653000"/>
            <a:ext cx="144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21"/>
          <p:cNvSpPr/>
          <p:nvPr/>
        </p:nvSpPr>
        <p:spPr>
          <a:xfrm flipH="1">
            <a:off x="6084720" y="4653000"/>
            <a:ext cx="2145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уга 17"/>
          <p:cNvSpPr/>
          <p:nvPr/>
        </p:nvSpPr>
        <p:spPr>
          <a:xfrm>
            <a:off x="1428840" y="4143240"/>
            <a:ext cx="642960" cy="29700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уга 18"/>
          <p:cNvSpPr/>
          <p:nvPr/>
        </p:nvSpPr>
        <p:spPr>
          <a:xfrm>
            <a:off x="2627280" y="4149720"/>
            <a:ext cx="642960" cy="29700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22"/>
          <p:cNvSpPr/>
          <p:nvPr/>
        </p:nvSpPr>
        <p:spPr>
          <a:xfrm flipV="1">
            <a:off x="1476360" y="4508280"/>
            <a:ext cx="241200" cy="4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24"/>
          <p:cNvSpPr/>
          <p:nvPr/>
        </p:nvSpPr>
        <p:spPr>
          <a:xfrm flipH="1">
            <a:off x="2771280" y="4149720"/>
            <a:ext cx="71640" cy="144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25"/>
          <p:cNvSpPr/>
          <p:nvPr/>
        </p:nvSpPr>
        <p:spPr>
          <a:xfrm flipV="1">
            <a:off x="2627280" y="4508280"/>
            <a:ext cx="241200" cy="4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уга 38"/>
          <p:cNvSpPr/>
          <p:nvPr/>
        </p:nvSpPr>
        <p:spPr>
          <a:xfrm>
            <a:off x="5364000" y="4941720"/>
            <a:ext cx="642960" cy="28764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уга 39"/>
          <p:cNvSpPr/>
          <p:nvPr/>
        </p:nvSpPr>
        <p:spPr>
          <a:xfrm>
            <a:off x="6659640" y="4869000"/>
            <a:ext cx="431640" cy="28728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40"/>
          <p:cNvSpPr/>
          <p:nvPr/>
        </p:nvSpPr>
        <p:spPr>
          <a:xfrm>
            <a:off x="5651640" y="5229360"/>
            <a:ext cx="21564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42"/>
          <p:cNvSpPr/>
          <p:nvPr/>
        </p:nvSpPr>
        <p:spPr>
          <a:xfrm>
            <a:off x="6877080" y="5229360"/>
            <a:ext cx="28584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826920" y="1413000"/>
            <a:ext cx="360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50920" y="1052640"/>
            <a:ext cx="4105080" cy="4544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Столько приставок, которые не изменяются! И нам приходится запоминать их написание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А заче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Поступаем проще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се эти приставки можно поставить в сильную позицию проверить теми же способами, что безударные гласные или сомнительные согласные в корне и написать по принципу единообрази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0" y="1500120"/>
            <a:ext cx="3714840" cy="161856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делать – содейство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Запеленать – за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дписать - надор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11"/>
          <p:cNvSpPr/>
          <p:nvPr/>
        </p:nvSpPr>
        <p:spPr>
          <a:xfrm flipH="1" flipV="1">
            <a:off x="6072120" y="1856880"/>
            <a:ext cx="2145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8"/>
          <p:cNvSpPr/>
          <p:nvPr/>
        </p:nvSpPr>
        <p:spPr>
          <a:xfrm flipH="1" flipV="1">
            <a:off x="4928760" y="1856880"/>
            <a:ext cx="1429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9"/>
          <p:cNvSpPr/>
          <p:nvPr/>
        </p:nvSpPr>
        <p:spPr>
          <a:xfrm flipH="1" flipV="1">
            <a:off x="5148000" y="2421000"/>
            <a:ext cx="214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20"/>
          <p:cNvSpPr/>
          <p:nvPr/>
        </p:nvSpPr>
        <p:spPr>
          <a:xfrm flipH="1" flipV="1">
            <a:off x="6876720" y="2421000"/>
            <a:ext cx="214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1"/>
          <p:cNvSpPr/>
          <p:nvPr/>
        </p:nvSpPr>
        <p:spPr>
          <a:xfrm flipH="1" flipV="1">
            <a:off x="5214600" y="3071880"/>
            <a:ext cx="214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 flipH="1" flipV="1">
            <a:off x="6572160" y="3071880"/>
            <a:ext cx="2145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24000" y="476280"/>
            <a:ext cx="3816360" cy="375156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ончания сомнительных существительны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же пишутся по морфологическому принципу. Оказывается, их можно проверить ударени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вери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бедитесь сам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0" y="549360"/>
          <a:ext cx="4392720" cy="3564000"/>
        </p:xfrm>
        <a:graphic>
          <a:graphicData uri="http://schemas.openxmlformats.org/drawingml/2006/table">
            <a:tbl>
              <a:tblPr/>
              <a:tblGrid>
                <a:gridCol w="1182600"/>
                <a:gridCol w="1014480"/>
                <a:gridCol w="1096920"/>
                <a:gridCol w="109872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де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кло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a5f5f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a5f5f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a5f5f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a5f5f9">
                        <a:alpha val="20000"/>
                      </a:srgbClr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д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ки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мь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и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еп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4ee1f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ке - сес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4ee1f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4ee1f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и - степи 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4ee1f0">
                        <a:alpha val="20000"/>
                      </a:srgbClr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ручке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сест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пенале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ст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ночи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степ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208944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411280" y="1700280"/>
            <a:ext cx="2592360" cy="345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9:44:49Z</dcterms:created>
  <dc:creator> Ученик</dc:creator>
  <dc:description/>
  <dc:language>en-US</dc:language>
  <cp:lastModifiedBy>админ</cp:lastModifiedBy>
  <dcterms:modified xsi:type="dcterms:W3CDTF">2018-07-20T09:32:57Z</dcterms:modified>
  <cp:revision>68</cp:revision>
  <dc:subject/>
  <dc:title>Слайд 1</dc:title>
</cp:coreProperties>
</file>