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31.gif" ContentType="image/gif"/>
  <Override PartName="/ppt/media/image23.jpeg" ContentType="image/jpeg"/>
  <Override PartName="/ppt/media/image12.png" ContentType="image/png"/>
  <Override PartName="/ppt/media/image4.jpeg" ContentType="image/jpeg"/>
  <Override PartName="/ppt/media/image25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34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8.png" ContentType="image/png"/>
  <Override PartName="/ppt/media/image33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21.png" ContentType="image/png"/>
  <Override PartName="/ppt/media/image19.wmf" ContentType="image/x-wmf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119-88AC-4DC5-8110-BE81E22B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10F-6142-4C90-A551-8BA6480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0327-A01A-4989-A3CB-A7ABD724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EC0A5-06CB-44A8-A320-C442B655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75114-5BF0-4281-8778-F2D6523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62570-4579-491C-BA73-D3991C8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756EB-C079-4B30-A762-2F67D51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06E5-AB24-4A8B-9186-9F651BF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BAF1-8722-4854-B946-247DB834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BFDF1-8BC4-48D2-9182-9FB789C2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C19D8-96B0-48CE-8EA8-87547EC2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1B02A8-920F-47C0-9A17-15E225ED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32D-94B4-4927-86B3-8392C7D6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C1F282-A1BC-4F92-8C81-928AB97E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0781CC-3AA2-4D12-9F5C-6F32A58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E83FA8-00A2-46FC-9EC9-8D03B59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7C9A4-BEBA-4CF6-9AB8-8AC4EA73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4F4D4A-7F9A-4ADE-97A9-8B012CFC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5F5F3D-2C66-45C2-9C28-7C0A1E9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A2E42-AE0C-41F9-8E7D-7B60183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2AB23C-983A-4F28-853C-360E15E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9B17F-CDCA-42D8-B167-083AE5D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F1663-5026-47CF-BBE9-1F9E70EC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750-4E10-4E90-BCE2-E0739405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B546B-EB8F-4549-A4EC-1D661362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D280C-A73E-4C79-90C2-EAC5803A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9142-85E9-4C21-BC13-3489F55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50BA-6938-47D7-8A4C-14AB154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4295A-0D41-4195-9120-3A2BAB9B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DA43-354E-4456-8F55-50FB92E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085A-EF6C-4947-BDC8-67BFB228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7257C-5571-4DEC-8F16-DD40C8E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1565-E2AA-406F-84F7-4F1FBB2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F1828-A9D7-45D7-BEB7-A257B59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3F236-2302-48CF-A56C-E16C49AE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D31FD-A709-4355-AEFB-34B3927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E74A5-1123-4A5F-9E49-4442DC05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462A-0509-45BB-87CD-0BAFFB6D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15EE5-4B6A-4CE8-BC00-E3E9365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60915-E7E6-4488-B3F4-FC4EC00E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C6E61-FBE0-4760-82B2-6B5D380D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A25C6-42A8-4655-8851-0AB1045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7FCE7-D7A8-4860-9F23-7D99BAA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43CB2-CE72-490A-AAAC-544A871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1C4FC-6671-46C1-9FAD-68C24F6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5621-297B-48FC-8911-4A4D00A3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36690-D08A-457E-9C3B-23DD30D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E18E2-DF27-4DE3-A426-3B0DEA3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8FFF5-0ED7-4FF0-9D91-70A3FFCA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F4905-3E18-40C9-87D8-781FC888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502FE-4FA3-433B-9036-FFB62283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C1139-043C-4393-9B22-AEEA0D6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2FC16-636B-45DB-827E-C8CBD14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82F77-754C-499B-B1CB-FE9215F6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4E7C-A77A-49D4-AF60-2B4B0BA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073C-085B-4C73-8C7B-BCF156E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E97-C891-4BA5-AB49-6A41A24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807E-558B-41E8-922E-04AC69C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F1AF9-AC9A-4CBC-B059-DD8FC2F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4DD8-CEA4-4292-9836-3EA42BB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2AC28-803B-4938-8608-78418A33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C498-E107-4338-9524-57ABE9B0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954D-CC56-40F4-8429-759424E4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FA55-0BAD-45C7-8540-057A9A8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BC8A-3AC8-4E32-ADEC-8BB6084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72FC-2AF5-4C55-905B-B3EA4681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020C1-72D3-4BFB-B0A6-5B59F72A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5B4-FE33-4BF3-B4AA-6E863D0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C2BE-877C-49D9-92C4-3DC5053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5AB2-33D8-4BE4-B396-3A0F423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813A-4053-4A25-B842-DC401474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F8D5-250A-47B4-8AAA-0FFBF2F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D1D7-D0AB-44CE-84A3-B2F5495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5147-C3EB-431D-BF43-EAC64B2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B837-CC2A-4B04-BE35-06A81CAF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1B7D-C23A-4245-88D8-59C8AAC3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79B3-4F30-45B5-AF5E-C8125D5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5916-9CAF-433B-B153-C4AABCF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9B2-847D-43BD-BDE9-DFFF59E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604C-BBF9-431B-BB3D-C43A785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0E3A-3E98-4B8F-BB4F-D23A5F2F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408E-F366-4089-B7A5-183AB73E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AA8C-D003-4A65-914E-1483633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EC74-7966-49F8-BDC8-8D71F3D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195C-B249-43F7-8A35-E5DCD90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0E2C-DDAE-4ECA-B308-C9ED85C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54E0-A309-49B3-BDF5-9375A0E4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C82E-BE1F-4662-BDCC-FF3607C2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F21C2-8139-4A1B-85F1-8A12B9B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EA8-28AC-4ADA-8A2D-96E8DB4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0975F-D756-4B9A-9AAE-31BFF28E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618BA-C33B-429C-91C3-62496670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9B708-D783-461E-AFF9-EE0CDF3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106CD-908F-4E24-80C5-5C182D2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C1325-D7D9-43ED-960E-935868E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1B223-A83F-40B1-9834-024F123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43089-0533-4F6A-B21B-9AC6FE8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98882-7A6C-4BBE-B047-0046CFA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23E8C-12DB-4A64-8D66-44470D39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74D49-AA07-4B6E-8ED1-4876B134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1A8-7D2C-45D0-A253-1F898691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EB3E6-82E5-4499-B175-4F8AB187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500D0-AF7E-47C7-AE50-287C69EF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573BD-2AD4-44EA-8F2D-BADB352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D3129-8851-47A3-9416-BCE15D6F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5E575-9350-4B63-8CAF-CB6B44B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0F357-5C7A-4A71-8DC5-02F67A03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9E4C3-3547-4F9D-B1DE-4C6D2C3A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CB9FA-8477-42E9-998B-74D9A808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D01E9-05BE-4140-8CB4-1F9B1DE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2F8D7-13D1-4A5B-9ED9-869E325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B5A-3006-4009-A6ED-5061063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EA582-8687-432A-A5DF-7B9C0301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201DE-D6E4-4C51-A57E-81E77E11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74765-D41E-4BE8-AA5C-EB2348CF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C981E-B1C6-4DDC-92A0-D403A1AB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1BD8D-28AF-4EF7-90E3-9082C369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8C41E-FF9E-4E25-B42A-A58210A9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E0BE6-96A9-465F-9580-7A6E9F47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6E123-59F3-4332-859B-2A2E2B5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7495E-BFF2-4272-877E-C64B2C2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7CCBA-0D86-4D2F-9FC2-5563915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2EE-4EE1-43B9-BC4E-158F5D9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B8113-CBFF-470F-B79A-840D2F4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F8A54-DEE3-4F7F-912D-F08A99B1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06CB0-8E93-41D5-A51F-7911CADB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F0089-461F-4E5A-B01C-0114FEF1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173E4-6D68-440B-A54A-30CADCEB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9F29-2A18-4C99-9F66-DC9E304C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5B7B-2720-4764-BE59-7A674D7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BBC2C-FB69-4A47-90B4-4EA5CEA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7794F-FCF1-4EED-B867-0323862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D389-ACC4-40C4-A901-8152BC01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066-C6A3-46D4-8436-4FE49ED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B05A-4889-4052-B802-CB566657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A8641-E963-420C-AEAC-2B480E6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8873-94D0-4045-B6A6-0E6B8DA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4CFC-233C-49B9-8059-F21442E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C45D-08C5-4AD2-AA94-1786B34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2C7A-6C92-4637-B387-DBA528F6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2BD5-B670-472E-B484-D6B7283C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9F16-DA75-4494-8367-1B613B33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DA777-1CA9-447B-ACC4-A758692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2371B-2EA9-4D0E-9D08-A49CB6DB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F94-3CA2-4A81-96A3-8E6705A535C1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418-9CAF-4A0F-A385-21F255DF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5E43-F074-4472-A62E-B69371A9B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A45-0C54-4F2F-A2AE-E70981B23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54E-F93C-4ED0-B21E-0A74280FDC14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813-CE30-4DFE-8C32-821226A27D75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487-F666-4E49-90C5-6DCC29823D59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4EB-8928-4D32-AE30-EB1E599E325E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AD7C-D1BE-4955-8CEE-399F8C3CF885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866-CF1D-436F-954A-1F368EC0E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085-C826-4612-B6A0-8EE8C5B05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096-0F08-4EE6-9F4A-534A69BF9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480960" y="404640"/>
            <a:ext cx="8663040" cy="1440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39640" y="6237000"/>
            <a:ext cx="7974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71640" cy="409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акие из приведённых ниже слов являются этимологически родственными: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вещь – вещать – весть – невеста – ведать – ведьма – ве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284720" y="1700280"/>
            <a:ext cx="4549680" cy="489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Этимологически родственными являются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сть 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– от основы ведать – «знать» (ведь – «знания»)ДТ/Д/С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Ведьма от ведать  с помощью суффикса 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Невеста –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 первоначально «знающая, ведающая». НЕ – отрицательная частица, поэтому второе значение слова «неизвестная, незнакомая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сти 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– родственное слов к «идти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щь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  и вещать не этимологически родственны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Рисунок 5" descr="Еврейская невеста.bmp"/>
          <p:cNvPicPr/>
          <p:nvPr/>
        </p:nvPicPr>
        <p:blipFill>
          <a:blip r:embed="rId3"/>
          <a:stretch/>
        </p:blipFill>
        <p:spPr>
          <a:xfrm>
            <a:off x="539640" y="5084640"/>
            <a:ext cx="1158840" cy="1535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7" descr="знания5.wmf"/>
          <p:cNvPicPr/>
          <p:nvPr/>
        </p:nvPicPr>
        <p:blipFill>
          <a:blip r:embed="rId4"/>
          <a:stretch/>
        </p:blipFill>
        <p:spPr>
          <a:xfrm>
            <a:off x="2143080" y="4714920"/>
            <a:ext cx="1933560" cy="167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из приведённых ниже слов являются этимологически родственны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пёрсток – перст – наперсник – пе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427280" y="1676160"/>
            <a:ext cx="4414680" cy="4776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Напёрсток –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 на персте – «на пальц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Перст 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(общеслав.) – буквально – «то, чем заканчивается верхняя часть ладон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Перо и наперсник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 не этимологически род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57120" y="1357200"/>
            <a:ext cx="38577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кие из приведённых ниже слов являются этимологически родственными: лукоморье – лукавый – луковица – излучина – лукошко – луг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уж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00720" y="1676520"/>
            <a:ext cx="4341600" cy="492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Этимологически родствен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морье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излуч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морье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= «лука моря» (то есть «изгиб моря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Излучина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излука – «изгиб».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– извилина. К/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г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– буквально «низкое, вогнутое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ж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произошло от луга – «трясина» Г/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авый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можно объяснить как «гнущийс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шко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от слова «лук» в значении лука – изгибающиеся в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виц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не этимологически родстве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Рисунок 5" descr="У лукоморья.jpg"/>
          <p:cNvPicPr/>
          <p:nvPr/>
        </p:nvPicPr>
        <p:blipFill>
          <a:blip r:embed="rId3"/>
          <a:stretch/>
        </p:blipFill>
        <p:spPr>
          <a:xfrm>
            <a:off x="395280" y="4646520"/>
            <a:ext cx="3240000" cy="207648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7" descr="Ока.jpg"/>
          <p:cNvPicPr/>
          <p:nvPr/>
        </p:nvPicPr>
        <p:blipFill>
          <a:blip r:embed="rId4"/>
          <a:stretch/>
        </p:blipFill>
        <p:spPr>
          <a:xfrm>
            <a:off x="971640" y="4508640"/>
            <a:ext cx="2636640" cy="206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7923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лирический – лири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1f0b"/>
                </a:solidFill>
                <a:latin typeface="Arial"/>
              </a:rPr>
              <a:t>Лирический – относящийся к ли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1f0b"/>
                </a:solidFill>
                <a:latin typeface="Arial"/>
              </a:rPr>
              <a:t>Лиричный – обладающий лирич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эффективный – эффект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Эффективный </a:t>
            </a: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– действе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Эффектный –</a:t>
            </a: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 производящий эффект, яркий, запоминающий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936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экономный – экономический – экономи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356000" y="1412640"/>
            <a:ext cx="4486320" cy="468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ный – береж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ический – относящийся к эконом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ичный – создающий возможность сэкономить, сберечь, сохран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главный - заглав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Главный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сновной, ведущ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Заглавный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дноимённый с заглави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авьте словосочетания со словами-паронима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еланный - жела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Желанный гость – желательно сдел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Содержимое 13" descr="глаз.wmf"/>
          <p:cNvPicPr/>
          <p:nvPr/>
        </p:nvPicPr>
        <p:blipFill>
          <a:blip r:embed="rId2"/>
          <a:stretch/>
        </p:blipFill>
        <p:spPr>
          <a:xfrm>
            <a:off x="214200" y="214200"/>
            <a:ext cx="1832040" cy="965160"/>
          </a:xfrm>
          <a:prstGeom prst="rect">
            <a:avLst/>
          </a:prstGeom>
          <a:ln w="0">
            <a:noFill/>
          </a:ln>
        </p:spPr>
      </p:pic>
      <p:pic>
        <p:nvPicPr>
          <p:cNvPr id="592" name="Заголовок 1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8242200" cy="936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йте словообразовательные цепочки из данных слов: глазок, глаз, глазной, глазница, глазастый, глазеть, сглазить, узкоглаз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аст-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е-ть                     г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С-глаз-и-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Узк-о-глаз-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 – глаз-н-ой – глазн-иц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Правая фигурная скобка 19"/>
          <p:cNvSpPr/>
          <p:nvPr/>
        </p:nvSpPr>
        <p:spPr>
          <a:xfrm>
            <a:off x="6858000" y="1785960"/>
            <a:ext cx="571680" cy="178596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1785960"/>
              <a:gd name="textAreaBottom" fmla="*/ 17712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8"/>
                  <a:pt x="10800" y="576"/>
                </a:cubicBezTo>
                <a:lnTo>
                  <a:pt x="10800" y="10224"/>
                </a:lnTo>
                <a:cubicBezTo>
                  <a:pt x="10800" y="10512"/>
                  <a:pt x="16200" y="10800"/>
                  <a:pt x="21600" y="10800"/>
                </a:cubicBezTo>
                <a:cubicBezTo>
                  <a:pt x="16200" y="10800"/>
                  <a:pt x="10800" y="11088"/>
                  <a:pt x="10800" y="11376"/>
                </a:cubicBezTo>
                <a:lnTo>
                  <a:pt x="10800" y="21024"/>
                </a:lnTo>
                <a:cubicBezTo>
                  <a:pt x="10800" y="21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a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Содержимое 10" descr="глаз.gif"/>
          <p:cNvPicPr/>
          <p:nvPr/>
        </p:nvPicPr>
        <p:blipFill>
          <a:blip r:embed="rId4"/>
          <a:stretch/>
        </p:blipFill>
        <p:spPr>
          <a:xfrm>
            <a:off x="7929720" y="1428840"/>
            <a:ext cx="866520" cy="86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323640" y="1699920"/>
            <a:ext cx="41907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ъясните, почему после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, 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сегда, а после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чти всегда пишется буква И, хотя произносится звук 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427280" y="1676160"/>
            <a:ext cx="4414680" cy="48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В современном языке после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Ж, Ш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всегда пишется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И.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Такое написание называется традиционным. В древнерусском языке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Ж и Ш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были мягкими. Буква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пишется в большинстве слов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после Ц, так как этот звук в древнерусском языке был мягк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540" name="Содержимое 3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8375760" cy="431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395280" y="1484280"/>
            <a:ext cx="4191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местоимения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ГО, ЕЁ, И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могут находиться в одном синонимическом ряду с местоимением СВ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естоимения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ЕГО (ОН), ЕЁ (ОНА), ИХ (ОНИ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могут являться формами косвенных падежей личных местоимений, а также выступать в роли притяжательных местоимений, и в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этой роли они синонимичны местоимению СВОЙ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РАКУ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) заимствовано из латин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Заимствовано из араб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) Заимствовано из тюрк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) является исконно русск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Заимствовано из тюркских. Каракол = КАРА «чёрная» + кол «ру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На тюркское происхождение указывает согласование гласных и открытость слог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делите основы и окончания в следующих слова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тро, налево, село, ухо, около, счастливо (дитя), счастливо, путь, спать, вспять, кровать, пусть, хоть, вз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284720" y="1676520"/>
            <a:ext cx="4680000" cy="499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Метр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нале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е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ух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око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частливо (дит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частли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пу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п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вспя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кров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пу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хо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вз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ал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т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ало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та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ф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Ерет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испанс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алю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упор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спан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Жалюз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к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р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23640" y="1628640"/>
            <a:ext cx="41907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цовщ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асив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сси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садная 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нц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щ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ас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ссиметр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с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ная 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имка преступ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зогну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средото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кра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ристиа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ка преступ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редот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р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истиан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ются ли этимологически родственными: пятка – пят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Явля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Пятка – от пята «ног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Пятно от пята – буквально «след от ног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Рисунок 6" descr="бегуны.wmf"/>
          <p:cNvPicPr/>
          <p:nvPr/>
        </p:nvPicPr>
        <p:blipFill>
          <a:blip r:embed="rId3"/>
          <a:stretch/>
        </p:blipFill>
        <p:spPr>
          <a:xfrm>
            <a:off x="1785960" y="3643200"/>
            <a:ext cx="1801800" cy="26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301320" y="1676160"/>
            <a:ext cx="3529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вляются ли этимологически родственны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ад – сажа, и сало – сальн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д и сажа –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этимологически родствен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д –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исходно «насаждения», производное от «садити» - буквально «заставлять се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жа от садити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– буквально «то, что насел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лова сало и сальный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не являются этимологически родств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ло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(общеслав.) – от садить, сесть. Буквально «то, что насело» (мяс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льный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– сближение с франц. </a:t>
            </a:r>
            <a:r>
              <a:rPr b="1" lang="en-US" sz="2000" spc="-1" strike="noStrike">
                <a:solidFill>
                  <a:srgbClr val="0000a4"/>
                </a:solidFill>
                <a:latin typeface="Rockwell"/>
              </a:rPr>
              <a:t>Sale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– «грязный, неприличны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админ</cp:lastModifiedBy>
  <dcterms:modified xsi:type="dcterms:W3CDTF">2018-07-20T08:29:24Z</dcterms:modified>
  <cp:revision>49</cp:revision>
  <dc:subject/>
  <dc:title>Подготовка к олимпиаде по русскому языку</dc:title>
</cp:coreProperties>
</file>