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31.gif" ContentType="image/gif"/>
  <Override PartName="/ppt/media/image23.jpeg" ContentType="image/jpeg"/>
  <Override PartName="/ppt/media/image12.png" ContentType="image/png"/>
  <Override PartName="/ppt/media/image4.jpeg" ContentType="image/jpeg"/>
  <Override PartName="/ppt/media/image25.png" ContentType="image/png"/>
  <Override PartName="/ppt/media/image13.png" ContentType="image/png"/>
  <Override PartName="/ppt/media/image15.wmf" ContentType="image/x-wmf"/>
  <Override PartName="/ppt/media/image7.png" ContentType="image/png"/>
  <Override PartName="/ppt/media/image2.png" ContentType="image/png"/>
  <Override PartName="/ppt/media/image32.png" ContentType="image/png"/>
  <Override PartName="/ppt/media/cashreg.wav" ContentType="audio/x-wav"/>
  <Override PartName="/ppt/media/image22.jpeg" ContentType="image/jpeg"/>
  <Override PartName="/ppt/media/image9.png" ContentType="image/png"/>
  <Override PartName="/ppt/media/image34.png" ContentType="image/png"/>
  <Override PartName="/ppt/media/image6.png" ContentType="image/png"/>
  <Override PartName="/ppt/media/image11.png" ContentType="image/png"/>
  <Override PartName="/ppt/media/image29.wmf" ContentType="image/x-wmf"/>
  <Override PartName="/ppt/media/image8.png" ContentType="image/png"/>
  <Override PartName="/ppt/media/image33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21.png" ContentType="image/png"/>
  <Override PartName="/ppt/media/image19.wmf" ContentType="image/x-wmf"/>
  <Override PartName="/ppt/media/image2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6B6-29F2-463F-92D8-87E57C84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454-C80A-4C0A-9A2F-AC8A66E4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7D9F0-FC3A-446E-ACC7-2B3B4EB0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1DC1A-C0D5-4BFC-9EDE-FEB7FAD6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18A44-B51E-4098-B2AA-789C4999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33C16-536C-44FA-BD4B-02271CC4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EA635-6A32-4440-A1F2-F7419CD2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C6382-D719-44B2-8ECB-85023839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F33F9-E426-4BEA-AAC4-C35B2F9C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EF4A6-68CD-40A9-B450-B649D565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DC6AA-F0E0-4140-B345-DE6F70B5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75E93C-49EB-4FEF-B346-0FA13AEA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3F9-7A42-46B2-A4AF-779CA239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9023A2-3453-4849-B9E3-0671501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03A58F-5706-4898-BED1-43F45411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D7F7BB-D0C1-4BDB-B015-876C1D9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908856-2A38-4804-8C13-1707A711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292D84-C7B1-4FCC-8837-8C6FAB40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E49C4A-E29E-48F0-AECC-3D1D3C95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B5A7A1-7716-4EE1-8419-19D36236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6EEC8D-8D4E-4B03-AAE4-87E79694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BFBAB8-AD0D-44BA-9DAF-92597C86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EDD506-08CD-45E3-84EB-F4E8B9A8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E8F-126F-44AE-9269-2A6FF84C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053891-48A8-4BB8-BAA2-8558DEA5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7ED5C-BFCA-4AF2-BFE7-FB13D151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017F8-4F42-49D0-A25D-CF9585C2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E9078-79DD-424D-94A3-6E85CCB3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67283-A2E3-4A3A-A03D-83D43DF6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425C7-36F5-42C2-9B04-F15704B4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66FAF-7501-4D08-A53A-8E5A65DA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44E5A-DF85-4A03-A3B1-D9D0A91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870D6-B4AA-401A-B682-8DDC578B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0B967-E5D9-47FB-8B44-D31A92F1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E23CE-60E0-4161-ADD0-49280335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9101A-8505-4A12-838A-80291E78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B8F70-634A-41D4-94BD-D559EFDA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CF1D6-FE76-468D-B808-92D1953B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154BD-D8C7-4747-A322-A5C19B4E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9FE49-D9FA-4A8B-9EC6-C13AC0DC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68222-5D78-4B95-965A-EFC67D53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B4084-FC0A-4D3D-9D90-1B1305EE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5593D-8C52-4A23-9C6E-F6EAA560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49AA5-6294-4F60-9B5D-1FD17E8F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73037-F148-41EE-BF97-8AFAA96E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2993B-D864-426B-9638-C6FC3B90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CAF4E-F00F-45A7-AA36-88F02497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DF001-E426-43D2-A59D-F72E0100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BD81B-93FE-4E46-8DE4-7D828477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3BDE9-7F71-4126-9523-19BA2FC7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F6001-EB97-4D21-B7FF-CEFF2A44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F1B57-235C-4D8A-820A-B6FC1C55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A9A2A-910D-4198-88F1-8D3668D0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494DD-93F9-42B0-B4FD-4D227B9A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E7C91-07B3-4FF9-90D1-6545F197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EF4C4-C4AD-41A4-B4FA-2B3645D1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26D-B69B-4EE3-BF23-1F36D214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AFFB8-FCB4-454B-A26B-4D58E7F9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5D360-E2A8-414A-881E-ADC0EB74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DB4A8-903D-43E1-878D-4069216F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72B8E-EA8A-4D02-AE24-FD64ABF1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9B090-86BF-44F2-B3BC-B7E1FEEF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6F4BE-AEE1-4654-8241-9E1DAC91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CB4A-3B2E-49DD-8E15-A8F557B2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4E0CC-5C4C-491D-8CC4-D8818D0C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6C84-1515-47C4-875C-325C274E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AEC6-5B8A-483C-8D84-964CAC14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7C5-E9CA-49E0-B4BF-95E402E3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3B34-D690-4E9C-9348-30876B74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4752-B66C-46DB-942D-56A25C1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C868F-ECDE-4546-8981-FCEC132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7D73-C74E-4DC8-94BC-D38A8191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A529-DF2E-4ADD-95C4-5FF8587B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6A5CF-3296-44C8-8714-82918653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1B61C-6245-4283-99FF-68BC5262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16E78-8494-41F6-942A-84FBD274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7BB1-BF10-410C-9CB0-273E6794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93159-973D-4073-8190-226C8269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CD9-FFC8-45E2-819C-70FD89AC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8656-61DE-4F92-841F-D7D93B10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2F6D6-275F-4F6D-8170-10B56736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8D7B5-B3B6-4B09-B70C-9224C574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B1115-4585-4560-A6DA-0F621A5F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D5A84-2108-4558-8E0E-A6BA163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988D5-466D-410C-BCC6-DDE06F5F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CD514-61C2-4A04-A3E5-BEA3CA04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21DB3-6863-4249-A21C-6527C0CE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CDCA9-885D-4E2B-BE76-656E075F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D847B-3A82-4760-98ED-7D9ABF44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1E8-AA86-4BC7-823F-C87CDD06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F4A87-2624-4851-A9D1-F7FC6CB6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3FD19-1141-4D0B-A14D-37E6B384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83B08-E1DF-41A7-A016-23213350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A3E5D-9E52-4061-BC55-BF149A0D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5E3D2-C30C-47C0-A8D2-612D598B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12911-17C4-41B8-8C27-5D6F6DAE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C250F-4059-49B5-AD69-C8CD3129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BCD07-84BA-40E4-88C3-DADDFA0B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F0527-D50D-4CF7-A9C7-CBF992CB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39D0E-3C0F-4CDD-AB71-39E245DF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333-BA76-4420-A2AD-253AF114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D6E52-542E-4344-A6B4-DB51CBCF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C826B-3D9C-4B15-86E8-0965976D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35202-25E5-4378-8894-751DF447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9B7BE-332E-47CB-981C-4DE36A12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39C68-BB5A-4680-89D2-A781618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C1A58-144B-4ADE-B013-CD690720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AC281-7093-4132-96A2-A6474F77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34840-C1E6-431C-A44A-16581B87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73274-C260-479D-9DA2-52548550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DC3C4-6345-40A8-BB19-663B3C7D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DDC-919C-42EC-8256-C0EFEFA6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25D69-2410-4DE3-8618-BC33B600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16D93-538E-4661-9FEC-08C257BB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EBFA08-7F4C-4011-9B00-91FEEB19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DFA12-099B-44D7-949F-4F4C33B7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C65DD4-1D6F-488D-80CB-C64AB196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A359F-803B-4681-A8D6-20981104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21DCD5-217E-4474-B7D9-258C768F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B383CC-3D1F-4808-88F3-F7F69A24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78AE5-B5F2-4E9F-A664-45C29DDA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6B22B-592D-4925-8B5E-DC36EA4E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38B-A801-45DB-977B-C36BB365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FCCE1-9A54-4353-82BE-D897E611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EEDDDE-3AE6-4383-B32E-9B938D9B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18096-DA62-4FC6-A051-664320C7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CEFB3-756F-4598-B73A-C12E43CD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1EFE1-2FD7-404E-866D-9C5EA87E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860F8-7611-46FB-9932-65CB8398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5C9EE-3750-4197-BD10-B088557B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1C435-3573-4EDD-9C34-A41D62EC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9B6A5-2652-433F-86A0-97EFC0C0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D1F53-AB70-4E64-A771-523B371A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608-78A8-4E9E-85D8-EE46ECC6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BB834-74C5-4A8A-A32B-5AE60F0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CE5EB-2E8F-4C03-AE52-C8DD7A0E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37ED8-FA72-41A0-8A18-9A22C4E0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4BCA4-2316-4AD2-B025-A3ED2513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5EBA7-E032-491F-AD82-1F19218A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9C5AD-7359-4FAC-9D42-37168AE7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A068B-DE21-4D7F-8A78-92CAF77D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3D509-C3C9-48D5-A907-56ED05F0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D48FE-1DF6-400C-A667-8BBAEADB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3C978-75D1-4F98-B0DD-188E495E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BD7D-B84A-456C-A77A-844EA3BEBFC9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B020-257C-4FDA-A85B-807319A76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D6B4-14F7-4FCB-8BAB-F3FDF2750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1C52-38C4-4588-8A66-94B45A3B3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5306-BE40-4CA7-8143-BB939E434AAF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AAF0-6B78-4D4C-BC9C-37C60C612D23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B675-0FDA-414B-A173-C42384016D92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DB45-0A4B-4E34-A0B4-F2471ECC3AF8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9C33-8717-4AF9-B528-4F0DC598A13E}" type="slidenum">
              <a:rPr b="0" lang="en-US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FCA4-9E46-49AF-92C1-4B8B0EF39E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6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0E4F-E5DE-4CAA-B554-8C461641C8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A046-E416-471C-85C3-2254D2079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Заголовок 1" descr=""/>
          <p:cNvPicPr/>
          <p:nvPr/>
        </p:nvPicPr>
        <p:blipFill>
          <a:blip r:embed="rId1"/>
          <a:stretch/>
        </p:blipFill>
        <p:spPr>
          <a:xfrm>
            <a:off x="480960" y="404640"/>
            <a:ext cx="8663040" cy="1440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39640" y="6237000"/>
            <a:ext cx="7974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3671640" cy="409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акие из приведённых ниже слов являются этимологически родственными: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вещь – вещать – весть – невеста – ведать – ведьма – ве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284720" y="1700280"/>
            <a:ext cx="4549680" cy="489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Этимологически родственными являются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1f0b"/>
                </a:solidFill>
                <a:latin typeface="Arial"/>
              </a:rPr>
              <a:t>Весть </a:t>
            </a: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– от основы ведать – «знать» (ведь – «знания»)ДТ/Д/С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Ведьма от ведать  с помощью суффикса 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1f0b"/>
                </a:solidFill>
                <a:latin typeface="Arial"/>
              </a:rPr>
              <a:t>Невеста –</a:t>
            </a: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 первоначально «знающая, ведающая». НЕ – отрицательная частица, поэтому второе значение слова «неизвестная, незнакомая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1f0b"/>
                </a:solidFill>
                <a:latin typeface="Arial"/>
              </a:rPr>
              <a:t>Вести </a:t>
            </a: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– родственное слов к «идти»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1f0b"/>
                </a:solidFill>
                <a:latin typeface="Arial"/>
              </a:rPr>
              <a:t>Вещь</a:t>
            </a:r>
            <a:r>
              <a:rPr b="1" lang="en-US" sz="1900" spc="-1" strike="noStrike">
                <a:solidFill>
                  <a:srgbClr val="0000a4"/>
                </a:solidFill>
                <a:latin typeface="Arial"/>
              </a:rPr>
              <a:t>  и вещать не этимологически родственны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Рисунок 5" descr="Еврейская невеста.bmp"/>
          <p:cNvPicPr/>
          <p:nvPr/>
        </p:nvPicPr>
        <p:blipFill>
          <a:blip r:embed="rId3"/>
          <a:stretch/>
        </p:blipFill>
        <p:spPr>
          <a:xfrm>
            <a:off x="539640" y="5084640"/>
            <a:ext cx="1158840" cy="1535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7" descr="знания5.wmf"/>
          <p:cNvPicPr/>
          <p:nvPr/>
        </p:nvPicPr>
        <p:blipFill>
          <a:blip r:embed="rId4"/>
          <a:stretch/>
        </p:blipFill>
        <p:spPr>
          <a:xfrm>
            <a:off x="2143080" y="4714920"/>
            <a:ext cx="1933560" cy="1676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5" name="cashreg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акие из приведённых ниже слов являются этимологически родственными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напёрсток – перст – наперсник – пе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427280" y="1676160"/>
            <a:ext cx="4414680" cy="4776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1f0b"/>
                </a:solidFill>
                <a:latin typeface="Arial"/>
              </a:rPr>
              <a:t>Напёрсток –</a:t>
            </a: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 на персте – «на пальц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1f0b"/>
                </a:solidFill>
                <a:latin typeface="Arial"/>
              </a:rPr>
              <a:t>Перст </a:t>
            </a: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(общеслав.) – буквально – «то, чем заканчивается верхняя часть ладон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1f0b"/>
                </a:solidFill>
                <a:latin typeface="Arial"/>
              </a:rPr>
              <a:t>Перо и наперсник</a:t>
            </a: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 не этимологически род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357120" y="1357200"/>
            <a:ext cx="385776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кие из приведённых ниже слов являются этимологически родственными: лукоморье – лукавый – луковица – излучина – лукошко – луг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луж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00720" y="1676520"/>
            <a:ext cx="4341600" cy="4921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Этимологически родствен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оморье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 – излуч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оморье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 = «лука моря» (то есть «изгиб моря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Излучина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 – излука – «изгиб».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а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– извилина. К/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г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– буквально «низкое, вогнутое мес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жа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произошло от луга – «трясина» Г/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авый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 – можно объяснить как «гнущийс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ошко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 от слова «лук» в значении лука – изгибающиеся в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Луковица </a:t>
            </a:r>
            <a:r>
              <a:rPr b="1" lang="en-US" sz="2000" spc="-1" strike="noStrike">
                <a:solidFill>
                  <a:srgbClr val="991f0b"/>
                </a:solidFill>
                <a:latin typeface="Arial"/>
              </a:rPr>
              <a:t>не этимологически родствен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Рисунок 5" descr="У лукоморья.jpg"/>
          <p:cNvPicPr/>
          <p:nvPr/>
        </p:nvPicPr>
        <p:blipFill>
          <a:blip r:embed="rId3"/>
          <a:stretch/>
        </p:blipFill>
        <p:spPr>
          <a:xfrm>
            <a:off x="395280" y="4646520"/>
            <a:ext cx="3240000" cy="207648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7" descr="Ока.jpg"/>
          <p:cNvPicPr/>
          <p:nvPr/>
        </p:nvPicPr>
        <p:blipFill>
          <a:blip r:embed="rId4"/>
          <a:stretch/>
        </p:blipFill>
        <p:spPr>
          <a:xfrm>
            <a:off x="971640" y="4508640"/>
            <a:ext cx="2636640" cy="2060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5" name="cashreg.wav"/>
      </p:stSnd>
    </p:sndAc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7923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кажите различия в значении слов: лирический – лирич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1f0b"/>
                </a:solidFill>
                <a:latin typeface="Arial"/>
              </a:rPr>
              <a:t>Лирический – относящийся к лири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1f0b"/>
                </a:solidFill>
                <a:latin typeface="Arial"/>
              </a:rPr>
              <a:t>Лиричный – обладающий лирично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кажите различия в значении слов: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эффективный – эффект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Эффективный </a:t>
            </a:r>
            <a:r>
              <a:rPr b="1" lang="en-US" sz="3600" spc="-1" strike="noStrike">
                <a:solidFill>
                  <a:srgbClr val="991f0b"/>
                </a:solidFill>
                <a:latin typeface="Arial"/>
              </a:rPr>
              <a:t>– действе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Эффектный –</a:t>
            </a:r>
            <a:r>
              <a:rPr b="1" lang="en-US" sz="3600" spc="-1" strike="noStrike">
                <a:solidFill>
                  <a:srgbClr val="991f0b"/>
                </a:solidFill>
                <a:latin typeface="Arial"/>
              </a:rPr>
              <a:t> производящий эффект, яркий, запоминающий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9367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кажите различия в значении слов: экономный – экономический – экономич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356000" y="1412640"/>
            <a:ext cx="4486320" cy="4686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</a:rPr>
              <a:t>Экономный – бережли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</a:rPr>
              <a:t>Экономический – относящийся к эконом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</a:rPr>
              <a:t>Экономичный – создающий возможность сэкономить, сберечь, сохран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кажите различия в значении слов: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главный - заглав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Главный –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основной, ведущ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Заглавный –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одноимённый с заглави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авьте словосочетания со словами-паронимами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желанный - жела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1f0b"/>
                </a:solidFill>
                <a:latin typeface="Arial"/>
              </a:rPr>
              <a:t>Желанный гость – желательно сдел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Содержимое 13" descr="глаз.wmf"/>
          <p:cNvPicPr/>
          <p:nvPr/>
        </p:nvPicPr>
        <p:blipFill>
          <a:blip r:embed="rId2"/>
          <a:stretch/>
        </p:blipFill>
        <p:spPr>
          <a:xfrm>
            <a:off x="214200" y="214200"/>
            <a:ext cx="1832040" cy="965160"/>
          </a:xfrm>
          <a:prstGeom prst="rect">
            <a:avLst/>
          </a:prstGeom>
          <a:ln w="0">
            <a:noFill/>
          </a:ln>
        </p:spPr>
      </p:pic>
      <p:pic>
        <p:nvPicPr>
          <p:cNvPr id="592" name="Заголовок 1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8242200" cy="9367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ройте словообразовательные цепочки из данных слов: глазок, глаз, глазной, глазница, глазастый, глазеть, сглазить, узкоглаз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Глаз-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Глаз-аст-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Глаз-е-ть                     гл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С-глаз-и-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Узк-о-глаз-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1f0b"/>
                </a:solidFill>
                <a:latin typeface="Arial"/>
              </a:rPr>
              <a:t>Глаз – глаз-н-ой – глазн-иц-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Правая фигурная скобка 19"/>
          <p:cNvSpPr/>
          <p:nvPr/>
        </p:nvSpPr>
        <p:spPr>
          <a:xfrm>
            <a:off x="6858000" y="1785960"/>
            <a:ext cx="571680" cy="178596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1785960"/>
              <a:gd name="textAreaBottom" fmla="*/ 17712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8"/>
                  <a:pt x="10800" y="576"/>
                </a:cubicBezTo>
                <a:lnTo>
                  <a:pt x="10800" y="10224"/>
                </a:lnTo>
                <a:cubicBezTo>
                  <a:pt x="10800" y="10512"/>
                  <a:pt x="16200" y="10800"/>
                  <a:pt x="21600" y="10800"/>
                </a:cubicBezTo>
                <a:cubicBezTo>
                  <a:pt x="16200" y="10800"/>
                  <a:pt x="10800" y="11088"/>
                  <a:pt x="10800" y="11376"/>
                </a:cubicBezTo>
                <a:lnTo>
                  <a:pt x="10800" y="21024"/>
                </a:lnTo>
                <a:cubicBezTo>
                  <a:pt x="10800" y="2131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a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Содержимое 10" descr="глаз.gif"/>
          <p:cNvPicPr/>
          <p:nvPr/>
        </p:nvPicPr>
        <p:blipFill>
          <a:blip r:embed="rId4"/>
          <a:stretch/>
        </p:blipFill>
        <p:spPr>
          <a:xfrm>
            <a:off x="7929720" y="1428840"/>
            <a:ext cx="866520" cy="866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5" name="cashreg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72072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323640" y="1699920"/>
            <a:ext cx="41907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ъясните, почему после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Ж, 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всегда, а после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очти всегда пишется буква И, хотя произносится звук 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427280" y="1676160"/>
            <a:ext cx="4414680" cy="48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1f0b"/>
                </a:solidFill>
                <a:latin typeface="Arial"/>
              </a:rPr>
              <a:t>В современном языке после 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Ж, Ш</a:t>
            </a:r>
            <a:r>
              <a:rPr b="1" lang="en-US" sz="2600" spc="-1" strike="noStrike">
                <a:solidFill>
                  <a:srgbClr val="991f0b"/>
                </a:solidFill>
                <a:latin typeface="Arial"/>
              </a:rPr>
              <a:t> всегда пишется 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И.</a:t>
            </a:r>
            <a:r>
              <a:rPr b="1" lang="en-US" sz="2600" spc="-1" strike="noStrike">
                <a:solidFill>
                  <a:srgbClr val="991f0b"/>
                </a:solidFill>
                <a:latin typeface="Arial"/>
              </a:rPr>
              <a:t> Такое написание называется традиционным. В древнерусском языке 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Ж и Ш</a:t>
            </a:r>
            <a:r>
              <a:rPr b="1" lang="en-US" sz="2600" spc="-1" strike="noStrike">
                <a:solidFill>
                  <a:srgbClr val="991f0b"/>
                </a:solidFill>
                <a:latin typeface="Arial"/>
              </a:rPr>
              <a:t> были мягкими. Буква 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И</a:t>
            </a:r>
            <a:r>
              <a:rPr b="1" lang="en-US" sz="2600" spc="-1" strike="noStrike">
                <a:solidFill>
                  <a:srgbClr val="991f0b"/>
                </a:solidFill>
                <a:latin typeface="Arial"/>
              </a:rPr>
              <a:t> пишется в большинстве слов 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после Ц, так как этот звук в древнерусском языке был мягки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pic>
        <p:nvPicPr>
          <p:cNvPr id="540" name="Содержимое 3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8375760" cy="4310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 txBox="1"/>
          <p:nvPr/>
        </p:nvSpPr>
        <p:spPr>
          <a:xfrm>
            <a:off x="395280" y="1484280"/>
            <a:ext cx="4191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чему местоимения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ГО, ЕЁ, И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могут находиться в одном синонимическом ряду с местоимением СВ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Местоимения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ЕГО (ОН), ЕЁ (ОНА), ИХ (ОНИ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могут являться формами косвенных падежей личных местоимений, а также выступать в роли притяжательных местоимений, и в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этой роли они синонимичны местоимению СВОЙ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АРАКУ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) заимствовано из латинского язы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Заимствовано из арабского язы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) Заимствовано из тюркского язы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) является исконно русск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</a:rPr>
              <a:t>Заимствовано из тюркских. Каракол = КАРА «чёрная» + кол «ру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1f0b"/>
                </a:solidFill>
                <a:latin typeface="Arial"/>
              </a:rPr>
              <a:t>На тюркское происхождение указывает согласование гласных и открытость слог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ыделите основы и окончания в следующих слова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етро, налево, село, ухо, около, счастливо (дитя), счастливо, путь, спать, вспять, кровать, пусть, хоть, взя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284720" y="1676520"/>
            <a:ext cx="4680000" cy="499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Метр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налев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сел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ух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окол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счастливо (дитя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счастлив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пу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спа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вспя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крова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пу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хо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1f0b"/>
                </a:solidFill>
                <a:latin typeface="Arial"/>
              </a:rPr>
              <a:t>взя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6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6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6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6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6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6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6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6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6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тавьте ударение в слов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Балов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ата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алов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тал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ставьте ударение в слов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ф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рет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е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Ерет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тавьте ударение в слов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испанс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Жалюз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купор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испанс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Жалюз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к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р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323640" y="1628640"/>
            <a:ext cx="41907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авьте ударение в слов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анцовщ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асив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ссиме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дсадная 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нц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щиц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ас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е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ссиметр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с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ная у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Заголовок 1" descr=""/>
          <p:cNvPicPr/>
          <p:nvPr/>
        </p:nvPicPr>
        <p:blipFill>
          <a:blip r:embed="rId2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ставьте ударение в слов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имка преступ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азогнут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осредото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Укра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Христиа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ка преступ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нут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редот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кра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ристиан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ются ли этимологически родственными: пятка – пятн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51200" y="1676160"/>
            <a:ext cx="4191120" cy="442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Явля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Пятка – от пята «ног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4"/>
                </a:solidFill>
                <a:latin typeface="Arial"/>
              </a:rPr>
              <a:t>Пятно от пята – буквально «след от ног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Рисунок 6" descr="бегуны.wmf"/>
          <p:cNvPicPr/>
          <p:nvPr/>
        </p:nvPicPr>
        <p:blipFill>
          <a:blip r:embed="rId3"/>
          <a:stretch/>
        </p:blipFill>
        <p:spPr>
          <a:xfrm>
            <a:off x="1785960" y="3643200"/>
            <a:ext cx="1801800" cy="267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Заголовок 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301320" y="1676160"/>
            <a:ext cx="35290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Являются ли этимологически родственными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ад – сажа, и сало – сальны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30400" y="1676160"/>
            <a:ext cx="5011560" cy="44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ад и сажа –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этимологически родствен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ад –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исходно «насаждения», производное от «садити» - буквально «заставлять сест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ажа от садити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– буквально «то, что насел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лова сало и сальный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не являются этимологически родствен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ало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(общеслав.) – от садить, сесть. Буквально «то, что насело» (мяс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Сальный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– сближение с франц. </a:t>
            </a:r>
            <a:r>
              <a:rPr b="1" lang="en-US" sz="2000" spc="-1" strike="noStrike">
                <a:solidFill>
                  <a:srgbClr val="0000a4"/>
                </a:solidFill>
                <a:latin typeface="Rockwell"/>
              </a:rPr>
              <a:t>Sale 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– «грязный, неприличны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9:38:10Z</dcterms:created>
  <dc:creator>Инна</dc:creator>
  <dc:description/>
  <dc:language>en-US</dc:language>
  <cp:lastModifiedBy>админ</cp:lastModifiedBy>
  <dcterms:modified xsi:type="dcterms:W3CDTF">2018-07-20T08:29:24Z</dcterms:modified>
  <cp:revision>49</cp:revision>
  <dc:subject/>
  <dc:title>Подготовка к олимпиаде по русскому языку</dc:title>
</cp:coreProperties>
</file>