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6CB-8844-487E-8A07-0EFCEE569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88E0-910F-4B9B-A9B1-BC65AFC7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92B7-8FB7-42C4-9E7B-9A257D25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CDCF-3AF6-48FE-8493-CA1CE3F47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C0E-AF37-4D62-9650-071F43EE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A97E-DF04-4C55-B7FD-B0746E21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7809-2BD5-4D16-952F-CEE40A2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818-DBC7-4891-AAE4-F78B3ED7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5DFC-3031-4771-9EA0-2798AFB8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8886-CA11-493F-9864-8783F1AD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183-230F-4D82-AF41-FBD446F3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1412-5DCE-4071-9B6A-4F9F2BC5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9184-CAC2-47CC-826A-B167D9BCDA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0000" y="-360"/>
            <a:ext cx="788652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Бижанова Камила Алгизовн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ГБПОУ СО «Екатеринбургский политехникум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Рациональное использование природохозяйственных комплексов, 1 кур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руководитель: Лосева Людмила Николаевна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III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 Общероссийский дистанционный конкурс «Лучшая студенческая презентация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Номинация «Сердце отдаю людям»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0360" y="2206800"/>
            <a:ext cx="3868560" cy="40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ое жизненное  кредо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олонтера - это предоставление самому себя ощутить ЧЕЛОВЕКОМ и проявить свои лучшие качества. А еще волонтерская деятельность дает расширение кругозора, новых друзей и новых реализ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30360" y="6079680"/>
            <a:ext cx="3868560" cy="1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8880" y="2214360"/>
            <a:ext cx="38876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7" descr="tzC67IRln_M.jpg"/>
          <p:cNvPicPr/>
          <p:nvPr/>
        </p:nvPicPr>
        <p:blipFill>
          <a:blip r:embed="rId2"/>
          <a:stretch/>
        </p:blipFill>
        <p:spPr>
          <a:xfrm>
            <a:off x="4524480" y="2233440"/>
            <a:ext cx="4167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Личная книжка волонт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9" descr="Бижанова Камиоа 1 001.jpg"/>
          <p:cNvPicPr/>
          <p:nvPr/>
        </p:nvPicPr>
        <p:blipFill>
          <a:blip r:embed="rId2"/>
          <a:stretch/>
        </p:blipFill>
        <p:spPr>
          <a:xfrm>
            <a:off x="4478400" y="1477800"/>
            <a:ext cx="3887640" cy="247680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Бижанова К 001.jpg"/>
          <p:cNvPicPr/>
          <p:nvPr/>
        </p:nvPicPr>
        <p:blipFill>
          <a:blip r:embed="rId3"/>
          <a:stretch/>
        </p:blipFill>
        <p:spPr>
          <a:xfrm>
            <a:off x="536400" y="1249200"/>
            <a:ext cx="3275280" cy="263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ЕКПТ11\Desktop\Бижанова Камила 2017\Бижанова Камила 2 001.jpg"/>
          <p:cNvPicPr/>
          <p:nvPr/>
        </p:nvPicPr>
        <p:blipFill>
          <a:blip r:embed="rId4"/>
          <a:stretch/>
        </p:blipFill>
        <p:spPr>
          <a:xfrm>
            <a:off x="2155680" y="4054320"/>
            <a:ext cx="35989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участник  агитбригад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4440" y="1680840"/>
            <a:ext cx="2565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нь защиты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03840" y="1680840"/>
            <a:ext cx="28130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ждый из нас гер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10" descr="Алиса в стране чудес 001.jpg"/>
          <p:cNvPicPr/>
          <p:nvPr/>
        </p:nvPicPr>
        <p:blipFill>
          <a:blip r:embed="rId2"/>
          <a:stretch/>
        </p:blipFill>
        <p:spPr>
          <a:xfrm>
            <a:off x="237960" y="2552760"/>
            <a:ext cx="2656080" cy="368460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15" descr="помощь Каждый из нас герой 001.jpg"/>
          <p:cNvPicPr/>
          <p:nvPr/>
        </p:nvPicPr>
        <p:blipFill>
          <a:blip r:embed="rId3"/>
          <a:stretch/>
        </p:blipFill>
        <p:spPr>
          <a:xfrm>
            <a:off x="6027840" y="2608200"/>
            <a:ext cx="2655720" cy="368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ЕКПТ11\Desktop\Бижанова Камила 2017\праздник 280 красноуф 001.jpg"/>
          <p:cNvPicPr/>
          <p:nvPr/>
        </p:nvPicPr>
        <p:blipFill>
          <a:blip r:embed="rId4"/>
          <a:stretch/>
        </p:blipFill>
        <p:spPr>
          <a:xfrm>
            <a:off x="3147840" y="2676600"/>
            <a:ext cx="2575080" cy="35719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6"/>
          <p:cNvSpPr/>
          <p:nvPr/>
        </p:nvSpPr>
        <p:spPr>
          <a:xfrm>
            <a:off x="3179160" y="1782720"/>
            <a:ext cx="23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80-ле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оуфим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истори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активный квест «День геро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ской слет «Активисты школьных музее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10" descr="День героя 001.jpg"/>
          <p:cNvPicPr/>
          <p:nvPr/>
        </p:nvPicPr>
        <p:blipFill>
          <a:blip r:embed="rId2"/>
          <a:stretch/>
        </p:blipFill>
        <p:spPr>
          <a:xfrm>
            <a:off x="630360" y="2994120"/>
            <a:ext cx="3868560" cy="270648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15" descr="активистка школьного музея 001.jpg"/>
          <p:cNvPicPr/>
          <p:nvPr/>
        </p:nvPicPr>
        <p:blipFill>
          <a:blip r:embed="rId3"/>
          <a:stretch/>
        </p:blipFill>
        <p:spPr>
          <a:xfrm>
            <a:off x="4629240" y="3135240"/>
            <a:ext cx="38876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емного о себ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03040"/>
            <a:ext cx="788688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ня зовут Камила. Раньше я жила в маленьком городе Красноуфимск с плотностью населения 38 тысяч, который прославил земский врач Мизеров Иван Ильич. Он открыл первую уездную больницу в Красноуфимске, а так же моей город прославился сельскохозяйственной деятельностью, ведь именном в моем городе было выведено более 50 видов культур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илась в 1 школе, в которой я тоже принимала активное участие в школьных мероприятиях, а так же защищала школу на городских олимпиадах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е добровольческое дело началось в 2015 году, когда я пришла в клуб по месту жительства «Перекресток», он  относится к ЦТДиМ «Центр творчества детей и молодежи». В самом начале мы все организовывали для собственного интереса. А в 2016 году был создан волонтерский корпус «ДОБРОволец». Именно я являюсь первым набором добровольцев в своем родном городе. Без нас не обходилось ни одно городское и  районное мероприятие, самое масштабное наше мероприятие это «Тинэйджер лидер 2017» в котором я являлась координатором команды, а так же регистратором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акже я занималась: вокалом в ансамбле по названием «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inder Vo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», была участницей КВН в команде «12+»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этом во всем мне помогла моя семья. Друзья, которые вместе со мной организовывали добровольческое движение моем городе, стали мне семь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78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 Light"/>
              </a:rPr>
              <a:t>Мои планы на будущее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Содержимое 5" descr="2e6v1DBKJe4.jpg"/>
          <p:cNvPicPr/>
          <p:nvPr/>
        </p:nvPicPr>
        <p:blipFill>
          <a:blip r:embed="rId2"/>
          <a:stretch/>
        </p:blipFill>
        <p:spPr>
          <a:xfrm>
            <a:off x="3887640" y="1235160"/>
            <a:ext cx="5048280" cy="373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1273320"/>
            <a:ext cx="29494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альнейшем я так же планирую заниматься добровольческим движением и съездить на сборы актива молодежи. Ведь это приятно когда ты встречаешь таких же людей как и ты которые готовы помочь не только своим близким, но так же и другим незнакомым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студен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Содержимое 13" descr="Зачетка 001.jpg"/>
          <p:cNvPicPr/>
          <p:nvPr/>
        </p:nvPicPr>
        <p:blipFill>
          <a:blip r:embed="rId2"/>
          <a:stretch/>
        </p:blipFill>
        <p:spPr>
          <a:xfrm>
            <a:off x="581040" y="1359000"/>
            <a:ext cx="7157880" cy="23176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15" descr="Бижанова К зачетка 001.jpg"/>
          <p:cNvPicPr/>
          <p:nvPr/>
        </p:nvPicPr>
        <p:blipFill>
          <a:blip r:embed="rId3"/>
          <a:stretch/>
        </p:blipFill>
        <p:spPr>
          <a:xfrm>
            <a:off x="1536840" y="4052880"/>
            <a:ext cx="6769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и успех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8560" y="1103400"/>
          <a:ext cx="7886880" cy="4719600"/>
        </p:xfrm>
        <a:graphic>
          <a:graphicData uri="http://schemas.openxmlformats.org/drawingml/2006/table">
            <a:tbl>
              <a:tblPr/>
              <a:tblGrid>
                <a:gridCol w="4781520"/>
                <a:gridCol w="3105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Дисцип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Успев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бществознание (включая эконому и пра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стор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атематика: алгебра, начала математического анализа и ге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фор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довлетвор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и первые шаг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астие в соревнованиях по историческому ориентированию «Матвей Мизеров», «Красноуфимск литературны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479240"/>
            <a:ext cx="3887640" cy="10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ие в городских соревнованиях туристов-экологов «Тропой экологических пробле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10" descr="Тропа эколог проблем 13 001.jpg"/>
          <p:cNvPicPr/>
          <p:nvPr/>
        </p:nvPicPr>
        <p:blipFill>
          <a:blip r:embed="rId2"/>
          <a:stretch/>
        </p:blipFill>
        <p:spPr>
          <a:xfrm>
            <a:off x="4629240" y="2955960"/>
            <a:ext cx="3887640" cy="278280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8" descr="участник соревн по историчес ориентиров 13г 001.jpg"/>
          <p:cNvPicPr/>
          <p:nvPr/>
        </p:nvPicPr>
        <p:blipFill>
          <a:blip r:embed="rId3"/>
          <a:stretch/>
        </p:blipFill>
        <p:spPr>
          <a:xfrm>
            <a:off x="235080" y="2503440"/>
            <a:ext cx="283032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ЕКПТ11\Desktop\Бижанова Камила 2017\историч ориентирование 14г 001.jpg"/>
          <p:cNvPicPr/>
          <p:nvPr/>
        </p:nvPicPr>
        <p:blipFill>
          <a:blip r:embed="rId4"/>
          <a:stretch/>
        </p:blipFill>
        <p:spPr>
          <a:xfrm>
            <a:off x="1751040" y="4462560"/>
            <a:ext cx="25858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 2015 год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– член клуба «Перекресток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38685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 городского исторического ориен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 «Красноуфимск литератур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0" descr="конкурс коллажей сокровища горы 001.jpg"/>
          <p:cNvPicPr/>
          <p:nvPr/>
        </p:nvPicPr>
        <p:blipFill>
          <a:blip r:embed="rId2"/>
          <a:stretch/>
        </p:blipFill>
        <p:spPr>
          <a:xfrm>
            <a:off x="150840" y="2797200"/>
            <a:ext cx="2209680" cy="306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ЕКПТ11\Desktop\Бижанова Камила 2017\помощь История одной улицы 001.jpg"/>
          <p:cNvPicPr/>
          <p:nvPr/>
        </p:nvPicPr>
        <p:blipFill>
          <a:blip r:embed="rId3"/>
          <a:stretch/>
        </p:blipFill>
        <p:spPr>
          <a:xfrm>
            <a:off x="2003400" y="3044880"/>
            <a:ext cx="2500200" cy="346860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20" descr="помощь в проведении исторического ориенторования 001.jpg"/>
          <p:cNvPicPr/>
          <p:nvPr/>
        </p:nvPicPr>
        <p:blipFill>
          <a:blip r:embed="rId4"/>
          <a:stretch/>
        </p:blipFill>
        <p:spPr>
          <a:xfrm>
            <a:off x="4730760" y="3019320"/>
            <a:ext cx="3684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участник  туристических соревнован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опа экологических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опа здоров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9" descr="судья туристичекой тропы 001.jpg"/>
          <p:cNvPicPr/>
          <p:nvPr/>
        </p:nvPicPr>
        <p:blipFill>
          <a:blip r:embed="rId2"/>
          <a:stretch/>
        </p:blipFill>
        <p:spPr>
          <a:xfrm>
            <a:off x="4730760" y="3019320"/>
            <a:ext cx="3684600" cy="265608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8" descr="судейство Тропа экологических проблем 001.jpg"/>
          <p:cNvPicPr/>
          <p:nvPr/>
        </p:nvPicPr>
        <p:blipFill>
          <a:blip r:embed="rId3"/>
          <a:stretch/>
        </p:blipFill>
        <p:spPr>
          <a:xfrm>
            <a:off x="722160" y="3019320"/>
            <a:ext cx="3684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64680"/>
            <a:ext cx="788652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краеве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8840" y="1177560"/>
            <a:ext cx="537228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 «Прошлое и будущее Красноуфимс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06800" y="1253880"/>
            <a:ext cx="289404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стиваль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9" descr="красноуфимская ярмарка 001.jpg"/>
          <p:cNvPicPr/>
          <p:nvPr/>
        </p:nvPicPr>
        <p:blipFill>
          <a:blip r:embed="rId2"/>
          <a:stretch/>
        </p:blipFill>
        <p:spPr>
          <a:xfrm>
            <a:off x="6146640" y="2174760"/>
            <a:ext cx="2552760" cy="357516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8" descr="2 место Прошлое и будущее красноуф 001.jpg"/>
          <p:cNvPicPr/>
          <p:nvPr/>
        </p:nvPicPr>
        <p:blipFill>
          <a:blip r:embed="rId3"/>
          <a:stretch/>
        </p:blipFill>
        <p:spPr>
          <a:xfrm>
            <a:off x="415800" y="2023920"/>
            <a:ext cx="2571840" cy="35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ЕКПТ11\Desktop\Бижанова Камила 2017\краевед игра 13 001.jpg"/>
          <p:cNvPicPr/>
          <p:nvPr/>
        </p:nvPicPr>
        <p:blipFill>
          <a:blip r:embed="rId4"/>
          <a:stretch/>
        </p:blipFill>
        <p:spPr>
          <a:xfrm>
            <a:off x="3227400" y="2451240"/>
            <a:ext cx="258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Я -участник  социальных прое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0360" y="1282680"/>
            <a:ext cx="386856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 «Бинес-проек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пех! Рост! Движе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9" descr="волонтер успех, рост движение 001.jpg"/>
          <p:cNvPicPr/>
          <p:nvPr/>
        </p:nvPicPr>
        <p:blipFill>
          <a:blip r:embed="rId2"/>
          <a:stretch/>
        </p:blipFill>
        <p:spPr>
          <a:xfrm rot="5954400">
            <a:off x="5244480" y="2504880"/>
            <a:ext cx="2656080" cy="368460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8" descr="2 м Бизнес проект 001.jpg"/>
          <p:cNvPicPr/>
          <p:nvPr/>
        </p:nvPicPr>
        <p:blipFill>
          <a:blip r:embed="rId3"/>
          <a:stretch/>
        </p:blipFill>
        <p:spPr>
          <a:xfrm rot="20556000">
            <a:off x="925560" y="2341080"/>
            <a:ext cx="26557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волонте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рт равных возмож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ужные волонтерские с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7" descr="Окружные волонтерские сборы 001.jpg"/>
          <p:cNvPicPr/>
          <p:nvPr/>
        </p:nvPicPr>
        <p:blipFill>
          <a:blip r:embed="rId2"/>
          <a:stretch/>
        </p:blipFill>
        <p:spPr>
          <a:xfrm>
            <a:off x="4629240" y="2973240"/>
            <a:ext cx="3887640" cy="27482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9" descr="спорт равных возможностей 001.jpg"/>
          <p:cNvPicPr/>
          <p:nvPr/>
        </p:nvPicPr>
        <p:blipFill>
          <a:blip r:embed="rId3"/>
          <a:stretch/>
        </p:blipFill>
        <p:spPr>
          <a:xfrm>
            <a:off x="1273320" y="2684520"/>
            <a:ext cx="23461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Приемная коммисия</cp:lastModifiedBy>
  <dcterms:modified xsi:type="dcterms:W3CDTF">2018-07-20T06:57:10Z</dcterms:modified>
  <cp:revision>56</cp:revision>
  <dc:subject/>
  <dc:title>Презентация PowerPoint</dc:title>
</cp:coreProperties>
</file>