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7A0E-93B6-4C2C-BB9E-4FEB75804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2E1-3604-4A44-8DD5-D3541F81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3CB9-7822-4717-A8A9-0AE27E199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650-8092-498A-A1CA-2339328EA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DBE7-45E5-463D-93DE-70A41F54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A2A8-1528-402A-BEB2-BA5697DF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CFC1-7A5D-4258-8456-23AA33FF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88C-2306-4917-A855-8EA8197A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A812-9073-4C55-8BC1-349540BB3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6B65-2790-488C-9ABD-1F019541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A03C-1D79-46FD-875E-8AEAE61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48F0-3C56-4F9B-B4C4-30E2ADBE6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7207-F824-4188-85B7-3A49B5D2E6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0000" y="-360"/>
            <a:ext cx="7886520" cy="21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 Light"/>
              </a:rPr>
              <a:t>Бижанова Камила Алгизовна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ГБПОУ СО «Екатеринбургский политехникум»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Рациональное использование природохозяйственных комплексов, 1 курс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 Light"/>
              </a:rPr>
              <a:t>руководитель: Лосева Людмила Николаевна</a:t>
            </a:r>
            <a:br>
              <a:rPr sz="2400"/>
            </a:br>
            <a:r>
              <a:rPr b="0" lang="en-US" sz="1400" spc="-1" strike="noStrike">
                <a:solidFill>
                  <a:srgbClr val="000000"/>
                </a:solidFill>
                <a:latin typeface="Calibri Light"/>
              </a:rPr>
              <a:t>III </a:t>
            </a: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 Общероссийский дистанционный конкурс «Лучшая студенческая презентация»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 Light"/>
              </a:rPr>
              <a:t>Номинация «Сердце отдаю людям»</a:t>
            </a: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30360" y="2206800"/>
            <a:ext cx="3868560" cy="402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Мое жизненное  кредо: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абота волонтера - это предоставление самому себя ощутить ЧЕЛОВЕКОМ и проявить свои лучшие качества. А еще волонтерская деятельность дает расширение кругозора, новых друзей и новых реализа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30360" y="6079680"/>
            <a:ext cx="3868560" cy="1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28880" y="2214360"/>
            <a:ext cx="388764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7" descr="tzC67IRln_M.jpg"/>
          <p:cNvPicPr/>
          <p:nvPr/>
        </p:nvPicPr>
        <p:blipFill>
          <a:blip r:embed="rId2"/>
          <a:stretch/>
        </p:blipFill>
        <p:spPr>
          <a:xfrm>
            <a:off x="4524480" y="2233440"/>
            <a:ext cx="416700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Личная книжка волонтер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9" descr="Бижанова Камиоа 1 001.jpg"/>
          <p:cNvPicPr/>
          <p:nvPr/>
        </p:nvPicPr>
        <p:blipFill>
          <a:blip r:embed="rId2"/>
          <a:stretch/>
        </p:blipFill>
        <p:spPr>
          <a:xfrm>
            <a:off x="4478400" y="1477800"/>
            <a:ext cx="3887640" cy="247680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Бижанова К 001.jpg"/>
          <p:cNvPicPr/>
          <p:nvPr/>
        </p:nvPicPr>
        <p:blipFill>
          <a:blip r:embed="rId3"/>
          <a:stretch/>
        </p:blipFill>
        <p:spPr>
          <a:xfrm>
            <a:off x="536400" y="1249200"/>
            <a:ext cx="3275280" cy="26323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C:\Users\ЕКПТ11\Desktop\Бижанова Камила 2017\Бижанова Камила 2 001.jpg"/>
          <p:cNvPicPr/>
          <p:nvPr/>
        </p:nvPicPr>
        <p:blipFill>
          <a:blip r:embed="rId4"/>
          <a:stretch/>
        </p:blipFill>
        <p:spPr>
          <a:xfrm>
            <a:off x="2155680" y="4054320"/>
            <a:ext cx="35989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участник  агитбригад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4440" y="1680840"/>
            <a:ext cx="25653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нь защиты де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703840" y="1680840"/>
            <a:ext cx="28130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аждый из нас гер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Содержимое 10" descr="Алиса в стране чудес 001.jpg"/>
          <p:cNvPicPr/>
          <p:nvPr/>
        </p:nvPicPr>
        <p:blipFill>
          <a:blip r:embed="rId2"/>
          <a:stretch/>
        </p:blipFill>
        <p:spPr>
          <a:xfrm>
            <a:off x="237960" y="2552760"/>
            <a:ext cx="2656080" cy="3684600"/>
          </a:xfrm>
          <a:prstGeom prst="rect">
            <a:avLst/>
          </a:prstGeom>
          <a:ln w="0">
            <a:noFill/>
          </a:ln>
        </p:spPr>
      </p:pic>
      <p:pic>
        <p:nvPicPr>
          <p:cNvPr id="105" name="Содержимое 15" descr="помощь Каждый из нас герой 001.jpg"/>
          <p:cNvPicPr/>
          <p:nvPr/>
        </p:nvPicPr>
        <p:blipFill>
          <a:blip r:embed="rId3"/>
          <a:stretch/>
        </p:blipFill>
        <p:spPr>
          <a:xfrm>
            <a:off x="6027840" y="2608200"/>
            <a:ext cx="2655720" cy="3684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C:\Users\ЕКПТ11\Desktop\Бижанова Камила 2017\праздник 280 красноуф 001.jpg"/>
          <p:cNvPicPr/>
          <p:nvPr/>
        </p:nvPicPr>
        <p:blipFill>
          <a:blip r:embed="rId4"/>
          <a:stretch/>
        </p:blipFill>
        <p:spPr>
          <a:xfrm>
            <a:off x="3147840" y="2676600"/>
            <a:ext cx="2575080" cy="357192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16"/>
          <p:cNvSpPr/>
          <p:nvPr/>
        </p:nvSpPr>
        <p:spPr>
          <a:xfrm>
            <a:off x="3179160" y="1782720"/>
            <a:ext cx="236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80-лет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расноуфимс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историк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терактивный квест «День геро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ской слет «Активисты школьных музеев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10" descr="День героя 001.jpg"/>
          <p:cNvPicPr/>
          <p:nvPr/>
        </p:nvPicPr>
        <p:blipFill>
          <a:blip r:embed="rId2"/>
          <a:stretch/>
        </p:blipFill>
        <p:spPr>
          <a:xfrm>
            <a:off x="630360" y="2994120"/>
            <a:ext cx="3868560" cy="2706480"/>
          </a:xfrm>
          <a:prstGeom prst="rect">
            <a:avLst/>
          </a:prstGeom>
          <a:ln w="0">
            <a:noFill/>
          </a:ln>
        </p:spPr>
      </p:pic>
      <p:pic>
        <p:nvPicPr>
          <p:cNvPr id="113" name="Содержимое 15" descr="активистка школьного музея 001.jpg"/>
          <p:cNvPicPr/>
          <p:nvPr/>
        </p:nvPicPr>
        <p:blipFill>
          <a:blip r:embed="rId3"/>
          <a:stretch/>
        </p:blipFill>
        <p:spPr>
          <a:xfrm>
            <a:off x="4629240" y="3135240"/>
            <a:ext cx="388764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Немного о себе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28560" y="1103040"/>
            <a:ext cx="7886880" cy="52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еня зовут Камила. Раньше я жила в маленьком городе Красноуфимск с плотностью населения 38 тысяч, который прославил земский врач Мизеров Иван Ильич. Он открыл первую уездную больницу в Красноуфимске, а так же моей город прославился сельскохозяйственной деятельностью, ведь именном в моем городе было выведено более 50 видов культур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Училась в 1 школе, в которой я тоже принимала активное участие в школьных мероприятиях, а так же защищала школу на городских олимпиадах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Мое добровольческое дело началось в 2015 году, когда я пришла в клуб по месту жительства «Перекресток», он  относится к ЦТДиМ «Центр творчества детей и молодежи». В самом начале мы все организовывали для собственного интереса. А в 2016 году был создан волонтерский корпус «ДОБРОволец». Именно я являюсь первым набором добровольцев в своем родном городе. Без нас не обходилось ни одно городское и  районное мероприятие, самое масштабное наше мероприятие это «Тинэйджер лидер 2017» в котором я являлась координатором команды, а так же регистратором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Также я занималась: вокалом в ансамбле по названием «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inder Voices</a:t>
            </a: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», была участницей КВН в команде «12+». </a:t>
            </a:r>
            <a:br>
              <a:rPr sz="1900"/>
            </a:br>
            <a:r>
              <a:rPr b="0" lang="ru-RU" sz="1900" spc="-1" strike="noStrike">
                <a:solidFill>
                  <a:srgbClr val="000000"/>
                </a:solidFill>
                <a:latin typeface="Calibri"/>
              </a:rPr>
              <a:t>В этом во всем мне помогла моя семья. Друзья, которые вместе со мной организовывали добровольческое движение моем городе, стали мне семьей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0000" y="456840"/>
            <a:ext cx="2949480" cy="787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Calibri Light"/>
              </a:rPr>
              <a:t>Мои планы на будущее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19" name="Содержимое 5" descr="2e6v1DBKJe4.jpg"/>
          <p:cNvPicPr/>
          <p:nvPr/>
        </p:nvPicPr>
        <p:blipFill>
          <a:blip r:embed="rId2"/>
          <a:stretch/>
        </p:blipFill>
        <p:spPr>
          <a:xfrm>
            <a:off x="3887640" y="1235160"/>
            <a:ext cx="5048280" cy="37335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30000" y="1273320"/>
            <a:ext cx="294948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дальнейшем я так же планирую заниматься добровольческим движением и съездить на сборы актива молодежи. Ведь это приятно когда ты встречаешь таких же людей как и ты которые готовы помочь не только своим близким, но так же и другим незнакомым люд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студен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Содержимое 13" descr="Зачетка 001.jpg"/>
          <p:cNvPicPr/>
          <p:nvPr/>
        </p:nvPicPr>
        <p:blipFill>
          <a:blip r:embed="rId2"/>
          <a:stretch/>
        </p:blipFill>
        <p:spPr>
          <a:xfrm>
            <a:off x="581040" y="1359000"/>
            <a:ext cx="7157880" cy="2317680"/>
          </a:xfrm>
          <a:prstGeom prst="rect">
            <a:avLst/>
          </a:prstGeom>
          <a:ln w="0">
            <a:noFill/>
          </a:ln>
        </p:spPr>
      </p:pic>
      <p:pic>
        <p:nvPicPr>
          <p:cNvPr id="50" name="Содержимое 15" descr="Бижанова К зачетка 001.jpg"/>
          <p:cNvPicPr/>
          <p:nvPr/>
        </p:nvPicPr>
        <p:blipFill>
          <a:blip r:embed="rId3"/>
          <a:stretch/>
        </p:blipFill>
        <p:spPr>
          <a:xfrm>
            <a:off x="1536840" y="4052880"/>
            <a:ext cx="676908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4680"/>
            <a:ext cx="788688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и успех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28560" y="1103400"/>
          <a:ext cx="7886880" cy="4719600"/>
        </p:xfrm>
        <a:graphic>
          <a:graphicData uri="http://schemas.openxmlformats.org/drawingml/2006/table">
            <a:tbl>
              <a:tblPr/>
              <a:tblGrid>
                <a:gridCol w="4781520"/>
                <a:gridCol w="3105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Дисцип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  <a:ea typeface="Arial"/>
                        </a:rPr>
                        <a:t>Успеваем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Русски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Литера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остранный язы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ществознание (включая эконому и прав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стор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Б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Математика: алгебра, начала математического анализа и геоме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хорош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Информатик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отлич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Физическая культу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удовлетворитель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Мои первые шаги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частие в соревнованиях по историческому ориентированию «Матвей Мизеров», «Красноуфимск литературный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8880" y="1479240"/>
            <a:ext cx="3887640" cy="10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частие в городских соревнованиях туристов-экологов «Тропой экологических проблем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Содержимое 10" descr="Тропа эколог проблем 13 001.jpg"/>
          <p:cNvPicPr/>
          <p:nvPr/>
        </p:nvPicPr>
        <p:blipFill>
          <a:blip r:embed="rId2"/>
          <a:stretch/>
        </p:blipFill>
        <p:spPr>
          <a:xfrm>
            <a:off x="4629240" y="2955960"/>
            <a:ext cx="3887640" cy="278280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8" descr="участник соревн по историчес ориентиров 13г 001.jpg"/>
          <p:cNvPicPr/>
          <p:nvPr/>
        </p:nvPicPr>
        <p:blipFill>
          <a:blip r:embed="rId3"/>
          <a:stretch/>
        </p:blipFill>
        <p:spPr>
          <a:xfrm>
            <a:off x="235080" y="2503440"/>
            <a:ext cx="2830320" cy="1981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Users\ЕКПТ11\Desktop\Бижанова Камила 2017\историч ориентирование 14г 001.jpg"/>
          <p:cNvPicPr/>
          <p:nvPr/>
        </p:nvPicPr>
        <p:blipFill>
          <a:blip r:embed="rId4"/>
          <a:stretch/>
        </p:blipFill>
        <p:spPr>
          <a:xfrm>
            <a:off x="1751040" y="4462560"/>
            <a:ext cx="258588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с 2015 года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– член клуба «Перекресток»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386856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городского исторического ориентир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«Красноуфимск литературный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10" descr="конкурс коллажей сокровища горы 001.jpg"/>
          <p:cNvPicPr/>
          <p:nvPr/>
        </p:nvPicPr>
        <p:blipFill>
          <a:blip r:embed="rId2"/>
          <a:stretch/>
        </p:blipFill>
        <p:spPr>
          <a:xfrm>
            <a:off x="150840" y="2797200"/>
            <a:ext cx="2209680" cy="3067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ЕКПТ11\Desktop\Бижанова Камила 2017\помощь История одной улицы 001.jpg"/>
          <p:cNvPicPr/>
          <p:nvPr/>
        </p:nvPicPr>
        <p:blipFill>
          <a:blip r:embed="rId3"/>
          <a:stretch/>
        </p:blipFill>
        <p:spPr>
          <a:xfrm>
            <a:off x="2003400" y="3044880"/>
            <a:ext cx="2500200" cy="346860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20" descr="помощь в проведении исторического ориенторования 001.jpg"/>
          <p:cNvPicPr/>
          <p:nvPr/>
        </p:nvPicPr>
        <p:blipFill>
          <a:blip r:embed="rId4"/>
          <a:stretch/>
        </p:blipFill>
        <p:spPr>
          <a:xfrm>
            <a:off x="4730760" y="3019320"/>
            <a:ext cx="3684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участник  туристических соревнований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опа экологических пробл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опа здоровь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9" descr="судья туристичекой тропы 001.jpg"/>
          <p:cNvPicPr/>
          <p:nvPr/>
        </p:nvPicPr>
        <p:blipFill>
          <a:blip r:embed="rId2"/>
          <a:stretch/>
        </p:blipFill>
        <p:spPr>
          <a:xfrm>
            <a:off x="4730760" y="3019320"/>
            <a:ext cx="3684600" cy="2656080"/>
          </a:xfrm>
          <a:prstGeom prst="rect">
            <a:avLst/>
          </a:prstGeom>
          <a:ln w="0">
            <a:noFill/>
          </a:ln>
        </p:spPr>
      </p:pic>
      <p:pic>
        <p:nvPicPr>
          <p:cNvPr id="73" name="Содержимое 8" descr="судейство Тропа экологических проблем 001.jpg"/>
          <p:cNvPicPr/>
          <p:nvPr/>
        </p:nvPicPr>
        <p:blipFill>
          <a:blip r:embed="rId3"/>
          <a:stretch/>
        </p:blipFill>
        <p:spPr>
          <a:xfrm>
            <a:off x="722160" y="3019320"/>
            <a:ext cx="3684600" cy="26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30000" y="364680"/>
            <a:ext cx="788652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краевед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8840" y="1177560"/>
            <a:ext cx="537228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«Прошлое и будущее Красноуфимск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806800" y="1253880"/>
            <a:ext cx="2894040" cy="63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Фестиваль ремесе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Содержимое 9" descr="красноуфимская ярмарка 001.jpg"/>
          <p:cNvPicPr/>
          <p:nvPr/>
        </p:nvPicPr>
        <p:blipFill>
          <a:blip r:embed="rId2"/>
          <a:stretch/>
        </p:blipFill>
        <p:spPr>
          <a:xfrm>
            <a:off x="6146640" y="2174760"/>
            <a:ext cx="2552760" cy="3575160"/>
          </a:xfrm>
          <a:prstGeom prst="rect">
            <a:avLst/>
          </a:prstGeom>
          <a:ln w="0">
            <a:noFill/>
          </a:ln>
        </p:spPr>
      </p:pic>
      <p:pic>
        <p:nvPicPr>
          <p:cNvPr id="79" name="Содержимое 8" descr="2 место Прошлое и будущее красноуф 001.jpg"/>
          <p:cNvPicPr/>
          <p:nvPr/>
        </p:nvPicPr>
        <p:blipFill>
          <a:blip r:embed="rId3"/>
          <a:stretch/>
        </p:blipFill>
        <p:spPr>
          <a:xfrm>
            <a:off x="415800" y="2023920"/>
            <a:ext cx="2571840" cy="3568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Users\ЕКПТ11\Desktop\Бижанова Камила 2017\краевед игра 13 001.jpg"/>
          <p:cNvPicPr/>
          <p:nvPr/>
        </p:nvPicPr>
        <p:blipFill>
          <a:blip r:embed="rId4"/>
          <a:stretch/>
        </p:blipFill>
        <p:spPr>
          <a:xfrm>
            <a:off x="3227400" y="2451240"/>
            <a:ext cx="2581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 Light"/>
              </a:rPr>
              <a:t>Я -участник  социальных проекто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30360" y="1282680"/>
            <a:ext cx="3868560" cy="52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курс «Бинес-проект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спех! Рост! Движение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9" descr="волонтер успех, рост движение 001.jpg"/>
          <p:cNvPicPr/>
          <p:nvPr/>
        </p:nvPicPr>
        <p:blipFill>
          <a:blip r:embed="rId2"/>
          <a:stretch/>
        </p:blipFill>
        <p:spPr>
          <a:xfrm rot="5954400">
            <a:off x="5244480" y="2504880"/>
            <a:ext cx="2656080" cy="3684600"/>
          </a:xfrm>
          <a:prstGeom prst="rect">
            <a:avLst/>
          </a:prstGeom>
          <a:ln w="0">
            <a:noFill/>
          </a:ln>
        </p:spPr>
      </p:pic>
      <p:pic>
        <p:nvPicPr>
          <p:cNvPr id="86" name="Содержимое 8" descr="2 м Бизнес проект 001.jpg"/>
          <p:cNvPicPr/>
          <p:nvPr/>
        </p:nvPicPr>
        <p:blipFill>
          <a:blip r:embed="rId3"/>
          <a:stretch/>
        </p:blipFill>
        <p:spPr>
          <a:xfrm rot="20556000">
            <a:off x="925560" y="2341080"/>
            <a:ext cx="26557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1" descr="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00" y="365040"/>
            <a:ext cx="788652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 Light"/>
              </a:rPr>
              <a:t>Я - волонтер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орт равных возможност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кружные волонтерские сб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7" descr="Окружные волонтерские сборы 001.jpg"/>
          <p:cNvPicPr/>
          <p:nvPr/>
        </p:nvPicPr>
        <p:blipFill>
          <a:blip r:embed="rId2"/>
          <a:stretch/>
        </p:blipFill>
        <p:spPr>
          <a:xfrm>
            <a:off x="4629240" y="2973240"/>
            <a:ext cx="3887640" cy="2748240"/>
          </a:xfrm>
          <a:prstGeom prst="rect">
            <a:avLst/>
          </a:prstGeom>
          <a:ln w="0">
            <a:noFill/>
          </a:ln>
        </p:spPr>
      </p:pic>
      <p:pic>
        <p:nvPicPr>
          <p:cNvPr id="92" name="Содержимое 9" descr="спорт равных возможностей 001.jpg"/>
          <p:cNvPicPr/>
          <p:nvPr/>
        </p:nvPicPr>
        <p:blipFill>
          <a:blip r:embed="rId3"/>
          <a:stretch/>
        </p:blipFill>
        <p:spPr>
          <a:xfrm>
            <a:off x="1273320" y="2684520"/>
            <a:ext cx="234612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9T05:52:05Z</dcterms:created>
  <dc:creator>Михаил Горяйнов</dc:creator>
  <dc:description/>
  <dc:language>en-US</dc:language>
  <cp:lastModifiedBy>Приемная коммисия</cp:lastModifiedBy>
  <dcterms:modified xsi:type="dcterms:W3CDTF">2018-07-20T06:57:10Z</dcterms:modified>
  <cp:revision>56</cp:revision>
  <dc:subject/>
  <dc:title>Презентация PowerPoint</dc:title>
</cp:coreProperties>
</file>