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gif" ContentType="image/gif"/>
  <Override PartName="/ppt/media/image9.png" ContentType="image/pn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14.jpeg" ContentType="image/jpe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4D92B-F441-4E8B-A88B-9526A6BAF9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539BB-D5A0-43B3-A40C-2B30E04A64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3455-7052-41D9-ADFB-C450FC2064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EF31-9EC8-475B-B1B9-752AE6165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809-FCDC-4725-8034-7204EFDB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097C-D20E-4904-B640-A5ADF5D3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C6C0-798D-4001-A9F3-93439B848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46AA8-B4BF-4408-B1DD-3BC7707D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4CCF-0FC8-4B23-A3C4-495F9C90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8E0E6-5F12-4B99-A317-ECD45062E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56CF-3B25-4DB5-9E7F-F65FD138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778AB-D5C2-4F55-A226-821CF5BB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AE61-0AF8-4EB4-BAC1-A70F7257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40C83-1816-4EFE-8AD2-189241EF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720-FBB6-4F08-8CF2-F307850F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BF12-5209-4B40-869F-89877054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C120-CA58-4B40-A607-99823188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5B16-330A-4FCE-91F3-F25EF228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A61AF-B055-4DFB-A28C-41BD7354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A366-F953-498A-982F-78BBE3514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D92D-CDF9-4A9D-A961-1D9939EC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CB70-0210-4504-A6B0-9D79A2A31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86A9-C391-42EC-B8F8-B45C7737E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0958-0D27-48AE-9EC6-4A8AAFC2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786-AB42-4322-98DC-8FC46704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1E0E-5A27-41E1-B91F-715D1448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E213-E8FF-41D4-9370-306735A12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80E9-9350-480A-98C3-30FAE41893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96E7-C37E-4E98-9C37-DB77F856B00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3"/>
          <p:cNvSpPr/>
          <p:nvPr/>
        </p:nvSpPr>
        <p:spPr>
          <a:xfrm>
            <a:off x="1258920" y="692280"/>
            <a:ext cx="568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4400640" y="2273400"/>
            <a:ext cx="2238120" cy="2463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C:\Users\Елена\Downloads\Solnishno.png"/>
          <p:cNvPicPr/>
          <p:nvPr/>
        </p:nvPicPr>
        <p:blipFill>
          <a:blip r:embed="rId2"/>
          <a:stretch/>
        </p:blipFill>
        <p:spPr>
          <a:xfrm>
            <a:off x="5364000" y="1989000"/>
            <a:ext cx="2016360" cy="1727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C:\Users\Елена\Downloads\Solnishno.png"/>
          <p:cNvPicPr/>
          <p:nvPr/>
        </p:nvPicPr>
        <p:blipFill>
          <a:blip r:embed="rId3"/>
          <a:stretch/>
        </p:blipFill>
        <p:spPr>
          <a:xfrm>
            <a:off x="684360" y="1989000"/>
            <a:ext cx="2087280" cy="201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4"/>
          <a:stretch/>
        </p:blipFill>
        <p:spPr>
          <a:xfrm>
            <a:off x="2822400" y="4071960"/>
            <a:ext cx="1920960" cy="204768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6"/>
          <p:cNvSpPr/>
          <p:nvPr/>
        </p:nvSpPr>
        <p:spPr>
          <a:xfrm>
            <a:off x="1547640" y="620640"/>
            <a:ext cx="568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бюджетное общеобразовательное учреждени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редняя общеобразовательная школа №3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углубленным изучением отдельных предметов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. Котовска Тамб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4211640" y="5157720"/>
            <a:ext cx="28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: Т.В.Никольск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7"/>
          <p:cNvSpPr/>
          <p:nvPr/>
        </p:nvSpPr>
        <p:spPr>
          <a:xfrm>
            <a:off x="395280" y="2205000"/>
            <a:ext cx="676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ИССЛЕДОВАТЕЛ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C:\Users\Елена\Downloads\saityak_(5).png"/>
          <p:cNvPicPr/>
          <p:nvPr/>
        </p:nvPicPr>
        <p:blipFill>
          <a:blip r:embed="rId1"/>
          <a:stretch/>
        </p:blipFill>
        <p:spPr>
          <a:xfrm>
            <a:off x="4211640" y="3716280"/>
            <a:ext cx="1716120" cy="2506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12"/>
          <p:cNvPicPr/>
          <p:nvPr/>
        </p:nvPicPr>
        <p:blipFill>
          <a:blip r:embed="rId2"/>
          <a:stretch/>
        </p:blipFill>
        <p:spPr>
          <a:xfrm>
            <a:off x="1116000" y="3500280"/>
            <a:ext cx="2139840" cy="19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1"/>
          <p:cNvSpPr/>
          <p:nvPr/>
        </p:nvSpPr>
        <p:spPr>
          <a:xfrm>
            <a:off x="395280" y="1125360"/>
            <a:ext cx="6769080" cy="80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Главная сила математики состоит в том, что вместе с решением одной конкретной задачи она создаёт общие приёмы и способы, применимые во многих ситуациях, которые даже не всегда можно предвидеть.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                           М.Башма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250920" y="2852640"/>
            <a:ext cx="3313080" cy="792360"/>
          </a:xfrm>
          <a:prstGeom prst="rect">
            <a:avLst/>
          </a:prstGeom>
          <a:solidFill>
            <a:srgbClr val="f1f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708360" y="2852640"/>
            <a:ext cx="3456000" cy="792360"/>
          </a:xfrm>
          <a:prstGeom prst="rect">
            <a:avLst/>
          </a:prstGeom>
          <a:solidFill>
            <a:srgbClr val="f1f4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я прилага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50920" y="4005360"/>
            <a:ext cx="2233440" cy="792000"/>
          </a:xfrm>
          <a:prstGeom prst="rect">
            <a:avLst/>
          </a:prstGeom>
          <a:solidFill>
            <a:srgbClr val="a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556000" y="4005360"/>
            <a:ext cx="2233440" cy="792000"/>
          </a:xfrm>
          <a:prstGeom prst="rect">
            <a:avLst/>
          </a:prstGeom>
          <a:solidFill>
            <a:srgbClr val="a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4932360" y="4005360"/>
            <a:ext cx="2233440" cy="792000"/>
          </a:xfrm>
          <a:prstGeom prst="rect">
            <a:avLst/>
          </a:prstGeom>
          <a:solidFill>
            <a:srgbClr val="ace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лаг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1403280" y="692280"/>
            <a:ext cx="583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Правила составления синквей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1763640" y="1916280"/>
            <a:ext cx="3959280" cy="720720"/>
          </a:xfrm>
          <a:prstGeom prst="rect">
            <a:avLst/>
          </a:prstGeom>
          <a:solidFill>
            <a:srgbClr val="d5c1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мя существ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79280" y="5084640"/>
            <a:ext cx="7093080" cy="865440"/>
          </a:xfrm>
          <a:prstGeom prst="rect">
            <a:avLst/>
          </a:prstGeom>
          <a:solidFill>
            <a:srgbClr val="ff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едложение  из нескольких слов, показывающее отношение к т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179280" y="5950080"/>
            <a:ext cx="7129440" cy="907920"/>
          </a:xfrm>
          <a:prstGeom prst="rect">
            <a:avLst/>
          </a:prstGeom>
          <a:solidFill>
            <a:srgbClr val="84ad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лово, связанное с первым словом , отражает сущность т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Содержимое 3" descr=""/>
          <p:cNvPicPr/>
          <p:nvPr/>
        </p:nvPicPr>
        <p:blipFill>
          <a:blip r:embed="rId1"/>
          <a:stretch/>
        </p:blipFill>
        <p:spPr>
          <a:xfrm>
            <a:off x="426960" y="1962000"/>
            <a:ext cx="6650280" cy="3195720"/>
          </a:xfrm>
          <a:prstGeom prst="rect">
            <a:avLst/>
          </a:prstGeom>
          <a:ln w="0">
            <a:noFill/>
          </a:ln>
        </p:spPr>
      </p:pic>
      <p:pic>
        <p:nvPicPr>
          <p:cNvPr id="136" name="054 Дважды два - четыре.mp3" descr=""/>
          <p:cNvPicPr/>
          <p:nvPr/>
        </p:nvPicPr>
        <p:blipFill>
          <a:blip r:embed="rId2"/>
          <a:stretch/>
        </p:blipFill>
        <p:spPr>
          <a:xfrm>
            <a:off x="1619280" y="2997360"/>
            <a:ext cx="86508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75909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108000" y="1489680"/>
            <a:ext cx="72007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матика уступает свои крепости лишь сильным и смелым.                 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П. Конфорович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тематика - гимнастика ума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.В. Сувор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"/>
          <p:cNvSpPr/>
          <p:nvPr/>
        </p:nvSpPr>
        <p:spPr>
          <a:xfrm>
            <a:off x="1692360" y="692280"/>
            <a:ext cx="49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ые мысл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10920" y="620640"/>
            <a:ext cx="6481800" cy="45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onotype Corsiva"/>
              </a:rPr>
              <a:t>“</a:t>
            </a:r>
            <a:r>
              <a:rPr b="1" lang="ru-RU" sz="4000" spc="-1" strike="noStrike">
                <a:solidFill>
                  <a:srgbClr val="7030a0"/>
                </a:solidFill>
                <a:latin typeface="Monotype Corsiva"/>
              </a:rPr>
              <a:t>Если вы хотите участвовать в большой жизни, то наполните свою голову математикой, пока есть к тому возможность. Она окажет вам потом огромную помощь во всей вашей работе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Monotype Corsiva"/>
              </a:rPr>
              <a:t>М. И. Калини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"/>
          <p:cNvSpPr/>
          <p:nvPr/>
        </p:nvSpPr>
        <p:spPr>
          <a:xfrm>
            <a:off x="468360" y="269568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3"/>
          <p:cNvSpPr/>
          <p:nvPr/>
        </p:nvSpPr>
        <p:spPr>
          <a:xfrm>
            <a:off x="179280" y="2349360"/>
            <a:ext cx="705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12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н работы над проектом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2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2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1. Подготовительный этап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2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2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2.Основно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2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2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3.Заключительный эта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124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611280" y="692280"/>
            <a:ext cx="62467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Monotype Corsiva"/>
              </a:rPr>
              <a:t>Про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«Математика вокруг на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684360" y="2637000"/>
            <a:ext cx="678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1группа –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ФОЛЬКЛОРИС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2группа –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СТОР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группа - </a:t>
            </a: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ССЛЕДОВАТЕ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"/>
          <p:cNvSpPr/>
          <p:nvPr/>
        </p:nvSpPr>
        <p:spPr>
          <a:xfrm>
            <a:off x="755640" y="692280"/>
            <a:ext cx="640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Monotype Corsiva"/>
              </a:rPr>
              <a:t>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Monotype Corsiva"/>
              </a:rPr>
              <a:t>«Математика вокруг нас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826920" y="333360"/>
            <a:ext cx="6031080" cy="96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Monotype Corsiva"/>
                <a:ea typeface="Times New Roman"/>
              </a:rPr>
              <a:t>Правила работы в групп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1.Думай, слушай, высказывай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2. Уважай мнение товарищ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3. Не обижайся и не обижай друг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4. Будь вниматель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5. Не бери всю инициативу на себ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  <a:ea typeface="Times New Roman"/>
              </a:rPr>
              <a:t>6. Участвовать вс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"/>
          <p:cNvSpPr/>
          <p:nvPr/>
        </p:nvSpPr>
        <p:spPr>
          <a:xfrm>
            <a:off x="468360" y="2695680"/>
            <a:ext cx="64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79280" y="836640"/>
            <a:ext cx="7056720" cy="56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9900cc"/>
                </a:solidFill>
                <a:latin typeface="Monotype Corsiva"/>
              </a:rPr>
              <a:t>Проек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9900cc"/>
                </a:solidFill>
                <a:latin typeface="Monotype Corsiva"/>
              </a:rPr>
              <a:t>«Математика вокруг нас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Участники  проекта: учащиеся 2А класса МБОУ СОШ №3 с УИОП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Monotype Corsiva"/>
              </a:rPr>
              <a:t>Руководитель проекта: Т.В.Никольск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6" descr="61444841.gif"/>
          <p:cNvPicPr/>
          <p:nvPr/>
        </p:nvPicPr>
        <p:blipFill>
          <a:blip r:embed="rId1"/>
          <a:stretch/>
        </p:blipFill>
        <p:spPr>
          <a:xfrm>
            <a:off x="5724360" y="3933720"/>
            <a:ext cx="1295640" cy="10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395280" y="2565360"/>
            <a:ext cx="676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</a:rPr>
              <a:t>ФОЛЬКЛОРИСТ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92"/>
          <p:cNvPicPr/>
          <p:nvPr/>
        </p:nvPicPr>
        <p:blipFill>
          <a:blip r:embed="rId1"/>
          <a:stretch/>
        </p:blipFill>
        <p:spPr>
          <a:xfrm>
            <a:off x="179280" y="1628640"/>
            <a:ext cx="1028880" cy="1624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проэкт"/>
          <p:cNvPicPr/>
          <p:nvPr/>
        </p:nvPicPr>
        <p:blipFill>
          <a:blip r:embed="rId2"/>
          <a:stretch/>
        </p:blipFill>
        <p:spPr>
          <a:xfrm>
            <a:off x="1547640" y="549360"/>
            <a:ext cx="2808360" cy="38163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проект"/>
          <p:cNvPicPr/>
          <p:nvPr/>
        </p:nvPicPr>
        <p:blipFill>
          <a:blip r:embed="rId3"/>
          <a:stretch/>
        </p:blipFill>
        <p:spPr>
          <a:xfrm>
            <a:off x="4356000" y="549360"/>
            <a:ext cx="2737080" cy="3816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C:\Users\Артем\Downloads\b3571c37a0538431e31852aa8b86e735.jpg"/>
          <p:cNvPicPr/>
          <p:nvPr/>
        </p:nvPicPr>
        <p:blipFill>
          <a:blip r:embed="rId4"/>
          <a:stretch/>
        </p:blipFill>
        <p:spPr>
          <a:xfrm>
            <a:off x="1542960" y="5510160"/>
            <a:ext cx="7304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2"/>
          <p:cNvSpPr/>
          <p:nvPr/>
        </p:nvSpPr>
        <p:spPr>
          <a:xfrm>
            <a:off x="1619280" y="620640"/>
            <a:ext cx="496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Monotype Corsiva"/>
              </a:rPr>
              <a:t>ИСТОРИКИ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корова_resize"/>
          <p:cNvPicPr/>
          <p:nvPr/>
        </p:nvPicPr>
        <p:blipFill>
          <a:blip r:embed="rId1"/>
          <a:stretch/>
        </p:blipFill>
        <p:spPr>
          <a:xfrm>
            <a:off x="2700360" y="1557360"/>
            <a:ext cx="2087640" cy="1049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2"/>
          <a:stretch/>
        </p:blipFill>
        <p:spPr>
          <a:xfrm>
            <a:off x="4979880" y="1620720"/>
            <a:ext cx="2279880" cy="1914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арабская%20запись"/>
          <p:cNvPicPr/>
          <p:nvPr/>
        </p:nvPicPr>
        <p:blipFill>
          <a:blip r:embed="rId3"/>
          <a:stretch/>
        </p:blipFill>
        <p:spPr>
          <a:xfrm>
            <a:off x="3054240" y="3852720"/>
            <a:ext cx="3316320" cy="27860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индийская%20запись"/>
          <p:cNvPicPr/>
          <p:nvPr/>
        </p:nvPicPr>
        <p:blipFill>
          <a:blip r:embed="rId4"/>
          <a:stretch/>
        </p:blipFill>
        <p:spPr>
          <a:xfrm rot="20566800">
            <a:off x="2198160" y="3092400"/>
            <a:ext cx="3227400" cy="993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сканирование0002"/>
          <p:cNvPicPr/>
          <p:nvPr/>
        </p:nvPicPr>
        <p:blipFill>
          <a:blip r:embed="rId5"/>
          <a:stretch/>
        </p:blipFill>
        <p:spPr>
          <a:xfrm>
            <a:off x="6300720" y="3645000"/>
            <a:ext cx="1008000" cy="22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Шумерская%20табличка_resize"/>
          <p:cNvPicPr/>
          <p:nvPr/>
        </p:nvPicPr>
        <p:blipFill>
          <a:blip r:embed="rId6"/>
          <a:stretch/>
        </p:blipFill>
        <p:spPr>
          <a:xfrm>
            <a:off x="1163520" y="4718160"/>
            <a:ext cx="2067120" cy="27795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сс02"/>
          <p:cNvPicPr/>
          <p:nvPr/>
        </p:nvPicPr>
        <p:blipFill>
          <a:blip r:embed="rId7"/>
          <a:stretch/>
        </p:blipFill>
        <p:spPr>
          <a:xfrm>
            <a:off x="171360" y="1841400"/>
            <a:ext cx="2389320" cy="1578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пальцы01"/>
          <p:cNvPicPr/>
          <p:nvPr/>
        </p:nvPicPr>
        <p:blipFill>
          <a:blip r:embed="rId8"/>
          <a:srcRect l="0" t="7776" r="67702" b="25581"/>
          <a:stretch/>
        </p:blipFill>
        <p:spPr>
          <a:xfrm>
            <a:off x="0" y="3357720"/>
            <a:ext cx="1474920" cy="13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6:28:29Z</dcterms:created>
  <dc:creator>user</dc:creator>
  <dc:description/>
  <dc:language>en-US</dc:language>
  <cp:lastModifiedBy>Дмитрий Каленюк</cp:lastModifiedBy>
  <dcterms:modified xsi:type="dcterms:W3CDTF">2018-07-20T14:18:52Z</dcterms:modified>
  <cp:revision>134</cp:revision>
  <dc:subject/>
  <dc:title>Слайд 1</dc:title>
</cp:coreProperties>
</file>