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gif" ContentType="image/gif"/>
  <Override PartName="/ppt/media/image9.png" ContentType="image/pn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14.jpeg" ContentType="image/jpe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8E2B-D9B1-469B-99D4-976043943A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B8D4-3C7E-496B-8A8F-C37BDA7563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E9EC-9162-41FF-AEDA-281BB1F34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119-751B-4F03-8F2B-F425C996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8361-0F04-4A60-A70E-3C157F65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A34-5D3C-426F-8563-56B0CC8E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3D61-2826-4DEB-9FB2-267E7B69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B791-160F-45A9-8640-14D1FB5B5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098D-06CC-4678-B760-C0FD333E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A217-F7BA-48C8-BDCE-157A8902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EA95-2E46-4702-AB8B-76B7275A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DC7D-3854-436C-8E18-E07CC0C2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8ECF-6172-40BA-A6D5-AB5003573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1B656-5584-4F7C-B6FF-BE569EA8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745-A66E-475D-9E36-C2066FB16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D24C-A841-4D50-AA4E-CDF24A2F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43B79-2C32-4451-AE67-2407C11A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7D95B-01CD-447F-94E0-3887ABB4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8C8E-8827-4966-8E7E-AF023383C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8E953-3B04-4987-A1CC-6162483C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2818-3708-4821-8F56-284D41D9D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3E80-987C-4022-8221-705DC206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324A-6B65-427E-B2D4-A3BE36CA0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D38-7C9F-49B1-B7EB-A46008EEC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0EA0-CA98-486B-A750-ED92B639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D2E5-2843-4ECB-94F9-B831C5E8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C84-F5C1-47AE-A940-76A060F6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DCC6-1FF7-4EAF-8E5D-C2E2905E06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BD07-A3FE-4405-98A9-D1777FDB90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1258920" y="692280"/>
            <a:ext cx="56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4400640" y="2273400"/>
            <a:ext cx="2238120" cy="2463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Елена\Downloads\Solnishno.png"/>
          <p:cNvPicPr/>
          <p:nvPr/>
        </p:nvPicPr>
        <p:blipFill>
          <a:blip r:embed="rId2"/>
          <a:stretch/>
        </p:blipFill>
        <p:spPr>
          <a:xfrm>
            <a:off x="5364000" y="1989000"/>
            <a:ext cx="2016360" cy="1727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Елена\Downloads\Solnishno.png"/>
          <p:cNvPicPr/>
          <p:nvPr/>
        </p:nvPicPr>
        <p:blipFill>
          <a:blip r:embed="rId3"/>
          <a:stretch/>
        </p:blipFill>
        <p:spPr>
          <a:xfrm>
            <a:off x="684360" y="1989000"/>
            <a:ext cx="2087280" cy="201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tretch/>
        </p:blipFill>
        <p:spPr>
          <a:xfrm>
            <a:off x="2822400" y="4071960"/>
            <a:ext cx="1920960" cy="20476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6"/>
          <p:cNvSpPr/>
          <p:nvPr/>
        </p:nvSpPr>
        <p:spPr>
          <a:xfrm>
            <a:off x="1547640" y="620640"/>
            <a:ext cx="5688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редняя общеобразовательная школа №3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углубленным изучением отдельных предметов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Котовска Тамб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211640" y="5157720"/>
            <a:ext cx="28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: Т.В.Николь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7"/>
          <p:cNvSpPr/>
          <p:nvPr/>
        </p:nvSpPr>
        <p:spPr>
          <a:xfrm>
            <a:off x="395280" y="220500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ИССЛЕДОВАТЕ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:\Users\Елена\Downloads\saityak_(5).png"/>
          <p:cNvPicPr/>
          <p:nvPr/>
        </p:nvPicPr>
        <p:blipFill>
          <a:blip r:embed="rId1"/>
          <a:stretch/>
        </p:blipFill>
        <p:spPr>
          <a:xfrm>
            <a:off x="4211640" y="3716280"/>
            <a:ext cx="1716120" cy="2506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12"/>
          <p:cNvPicPr/>
          <p:nvPr/>
        </p:nvPicPr>
        <p:blipFill>
          <a:blip r:embed="rId2"/>
          <a:stretch/>
        </p:blipFill>
        <p:spPr>
          <a:xfrm>
            <a:off x="1116000" y="3500280"/>
            <a:ext cx="213984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395280" y="1125360"/>
            <a:ext cx="676908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Главная сила математики состоит в том, что вместе с решением одной конкретной задачи она создаёт общие приёмы и способы, применимые во многих ситуациях, которые даже не всегда можно предвидеть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                        М.Башма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50920" y="2852640"/>
            <a:ext cx="3313080" cy="792360"/>
          </a:xfrm>
          <a:prstGeom prst="rect">
            <a:avLst/>
          </a:prstGeom>
          <a:solidFill>
            <a:srgbClr val="f1f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708360" y="2852640"/>
            <a:ext cx="3456000" cy="792360"/>
          </a:xfrm>
          <a:prstGeom prst="rect">
            <a:avLst/>
          </a:prstGeom>
          <a:solidFill>
            <a:srgbClr val="f1f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0920" y="4005360"/>
            <a:ext cx="2233440" cy="792000"/>
          </a:xfrm>
          <a:prstGeom prst="rect">
            <a:avLst/>
          </a:prstGeom>
          <a:solidFill>
            <a:srgbClr val="a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556000" y="4005360"/>
            <a:ext cx="2233440" cy="792000"/>
          </a:xfrm>
          <a:prstGeom prst="rect">
            <a:avLst/>
          </a:prstGeom>
          <a:solidFill>
            <a:srgbClr val="a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4932360" y="4005360"/>
            <a:ext cx="2233440" cy="792000"/>
          </a:xfrm>
          <a:prstGeom prst="rect">
            <a:avLst/>
          </a:prstGeom>
          <a:solidFill>
            <a:srgbClr val="a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403280" y="692280"/>
            <a:ext cx="58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вила составления синкве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763640" y="1916280"/>
            <a:ext cx="3959280" cy="720720"/>
          </a:xfrm>
          <a:prstGeom prst="rect">
            <a:avLst/>
          </a:prstGeom>
          <a:solidFill>
            <a:srgbClr val="d5c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79280" y="5084640"/>
            <a:ext cx="7093080" cy="865440"/>
          </a:xfrm>
          <a:prstGeom prst="rect">
            <a:avLst/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едложение  из нескольких слов, показывающее отношение к 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179280" y="5950080"/>
            <a:ext cx="7129440" cy="907920"/>
          </a:xfrm>
          <a:prstGeom prst="rect">
            <a:avLst/>
          </a:prstGeom>
          <a:solidFill>
            <a:srgbClr val="84a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ово, связанное с первым словом , отражает сущность 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Содержимое 3" descr=""/>
          <p:cNvPicPr/>
          <p:nvPr/>
        </p:nvPicPr>
        <p:blipFill>
          <a:blip r:embed="rId1"/>
          <a:stretch/>
        </p:blipFill>
        <p:spPr>
          <a:xfrm>
            <a:off x="426960" y="1962000"/>
            <a:ext cx="6650280" cy="3195720"/>
          </a:xfrm>
          <a:prstGeom prst="rect">
            <a:avLst/>
          </a:prstGeom>
          <a:ln w="0">
            <a:noFill/>
          </a:ln>
        </p:spPr>
      </p:pic>
      <p:pic>
        <p:nvPicPr>
          <p:cNvPr id="136" name="054 Дважды два - четыре.mp3" descr=""/>
          <p:cNvPicPr/>
          <p:nvPr/>
        </p:nvPicPr>
        <p:blipFill>
          <a:blip r:embed="rId2"/>
          <a:stretch/>
        </p:blipFill>
        <p:spPr>
          <a:xfrm>
            <a:off x="1619280" y="2997360"/>
            <a:ext cx="86508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75909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108000" y="1489680"/>
            <a:ext cx="72007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матика уступает свои крепости лишь сильным и смелым.                 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П. Конфорови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матика - гимнастика ум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В. Сувор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692360" y="69228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ые мыс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10920" y="620640"/>
            <a:ext cx="64818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“</a:t>
            </a:r>
            <a:r>
              <a:rPr b="1" lang="ru-RU" sz="4000" spc="-1" strike="noStrike">
                <a:solidFill>
                  <a:srgbClr val="7030a0"/>
                </a:solidFill>
                <a:latin typeface="Monotype Corsiva"/>
              </a:rPr>
              <a:t>Если вы хотите участвовать в большой жизни, то наполните свою голову математикой, пока есть к тому возможность. Она окажет вам потом огромную помощь во всей вашей работе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М. И. Калин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468360" y="2695680"/>
            <a:ext cx="64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79280" y="2349360"/>
            <a:ext cx="705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2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н работы над проекто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2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2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Подготовительный этап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2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2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Основно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2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2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Заключитель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2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611280" y="692280"/>
            <a:ext cx="6246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Monotype Corsiva"/>
              </a:rPr>
              <a:t>Про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«Математика вокруг на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684360" y="2637000"/>
            <a:ext cx="678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1группа –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ФОЛЬКЛОРИ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2группа –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СТО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группа 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ССЛЕДОВА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755640" y="692280"/>
            <a:ext cx="64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Monotype Corsiva"/>
              </a:rPr>
              <a:t>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«Математика вокруг на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826920" y="333360"/>
            <a:ext cx="6031080" cy="96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Monotype Corsiva"/>
                <a:ea typeface="Times New Roman"/>
              </a:rPr>
              <a:t>Правила работы в груп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Думай, слушай, высказывай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 Уважай мнение товарищ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Не обижайся и не обижай дру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 Будь внимате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 Не бери всю инициативу на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. Участвовать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468360" y="2695680"/>
            <a:ext cx="64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79280" y="836640"/>
            <a:ext cx="7056720" cy="5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9900cc"/>
                </a:solidFill>
                <a:latin typeface="Monotype Corsiva"/>
              </a:rPr>
              <a:t>Проек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900cc"/>
                </a:solidFill>
                <a:latin typeface="Monotype Corsiva"/>
              </a:rPr>
              <a:t>«Математика вокруг нас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Участники  проекта: учащиеся 2А класса МБОУ СОШ №3 с УИОП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Руководитель проекта: Т.В.Николь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6" descr="61444841.gif"/>
          <p:cNvPicPr/>
          <p:nvPr/>
        </p:nvPicPr>
        <p:blipFill>
          <a:blip r:embed="rId1"/>
          <a:stretch/>
        </p:blipFill>
        <p:spPr>
          <a:xfrm>
            <a:off x="5724360" y="3933720"/>
            <a:ext cx="129564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395280" y="2565360"/>
            <a:ext cx="67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ФОЛЬКЛОРИС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92"/>
          <p:cNvPicPr/>
          <p:nvPr/>
        </p:nvPicPr>
        <p:blipFill>
          <a:blip r:embed="rId1"/>
          <a:stretch/>
        </p:blipFill>
        <p:spPr>
          <a:xfrm>
            <a:off x="179280" y="1628640"/>
            <a:ext cx="1028880" cy="1624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проэкт"/>
          <p:cNvPicPr/>
          <p:nvPr/>
        </p:nvPicPr>
        <p:blipFill>
          <a:blip r:embed="rId2"/>
          <a:stretch/>
        </p:blipFill>
        <p:spPr>
          <a:xfrm>
            <a:off x="1547640" y="549360"/>
            <a:ext cx="2808360" cy="381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проект"/>
          <p:cNvPicPr/>
          <p:nvPr/>
        </p:nvPicPr>
        <p:blipFill>
          <a:blip r:embed="rId3"/>
          <a:stretch/>
        </p:blipFill>
        <p:spPr>
          <a:xfrm>
            <a:off x="4356000" y="549360"/>
            <a:ext cx="2737080" cy="381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Артем\Downloads\b3571c37a0538431e31852aa8b86e735.jpg"/>
          <p:cNvPicPr/>
          <p:nvPr/>
        </p:nvPicPr>
        <p:blipFill>
          <a:blip r:embed="rId4"/>
          <a:stretch/>
        </p:blipFill>
        <p:spPr>
          <a:xfrm>
            <a:off x="1542960" y="5510160"/>
            <a:ext cx="7304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1619280" y="620640"/>
            <a:ext cx="496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ИСТОР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корова_resize"/>
          <p:cNvPicPr/>
          <p:nvPr/>
        </p:nvPicPr>
        <p:blipFill>
          <a:blip r:embed="rId1"/>
          <a:stretch/>
        </p:blipFill>
        <p:spPr>
          <a:xfrm>
            <a:off x="2700360" y="1557360"/>
            <a:ext cx="2087640" cy="1049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4979880" y="1620720"/>
            <a:ext cx="2279880" cy="1914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арабская%20запись"/>
          <p:cNvPicPr/>
          <p:nvPr/>
        </p:nvPicPr>
        <p:blipFill>
          <a:blip r:embed="rId3"/>
          <a:stretch/>
        </p:blipFill>
        <p:spPr>
          <a:xfrm>
            <a:off x="3054240" y="3852720"/>
            <a:ext cx="3316320" cy="2786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индийская%20запись"/>
          <p:cNvPicPr/>
          <p:nvPr/>
        </p:nvPicPr>
        <p:blipFill>
          <a:blip r:embed="rId4"/>
          <a:stretch/>
        </p:blipFill>
        <p:spPr>
          <a:xfrm rot="20566800">
            <a:off x="2198160" y="3092400"/>
            <a:ext cx="3227400" cy="993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сканирование0002"/>
          <p:cNvPicPr/>
          <p:nvPr/>
        </p:nvPicPr>
        <p:blipFill>
          <a:blip r:embed="rId5"/>
          <a:stretch/>
        </p:blipFill>
        <p:spPr>
          <a:xfrm>
            <a:off x="6300720" y="3645000"/>
            <a:ext cx="1008000" cy="22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Шумерская%20табличка_resize"/>
          <p:cNvPicPr/>
          <p:nvPr/>
        </p:nvPicPr>
        <p:blipFill>
          <a:blip r:embed="rId6"/>
          <a:stretch/>
        </p:blipFill>
        <p:spPr>
          <a:xfrm>
            <a:off x="1163520" y="4718160"/>
            <a:ext cx="2067120" cy="2779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сс02"/>
          <p:cNvPicPr/>
          <p:nvPr/>
        </p:nvPicPr>
        <p:blipFill>
          <a:blip r:embed="rId7"/>
          <a:stretch/>
        </p:blipFill>
        <p:spPr>
          <a:xfrm>
            <a:off x="171360" y="1841400"/>
            <a:ext cx="2389320" cy="1578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пальцы01"/>
          <p:cNvPicPr/>
          <p:nvPr/>
        </p:nvPicPr>
        <p:blipFill>
          <a:blip r:embed="rId8"/>
          <a:srcRect l="0" t="7776" r="67702" b="25581"/>
          <a:stretch/>
        </p:blipFill>
        <p:spPr>
          <a:xfrm>
            <a:off x="0" y="3357720"/>
            <a:ext cx="147492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6:28:29Z</dcterms:created>
  <dc:creator>user</dc:creator>
  <dc:description/>
  <dc:language>en-US</dc:language>
  <cp:lastModifiedBy>Дмитрий Каленюк</cp:lastModifiedBy>
  <dcterms:modified xsi:type="dcterms:W3CDTF">2018-07-20T14:18:52Z</dcterms:modified>
  <cp:revision>134</cp:revision>
  <dc:subject/>
  <dc:title>Слайд 1</dc:title>
</cp:coreProperties>
</file>