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7793-E2EC-46DF-8584-187068631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9FC-1377-4C4A-83CA-339E05533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00B-FD59-42E9-A79D-98BDA77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4E6-A84D-4139-A816-7015A9C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824-5008-4DAA-B55D-8504022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3FD-7EEA-4A3C-9B66-3B1EAFAE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12A-971E-441F-AF6D-1F3056CA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303B-EA97-427D-83D9-41AA53E8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2BC8-17E8-45CB-9E2B-02AB6933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DD19-3457-450A-8476-9869B11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AC46-9E62-440C-B20D-57AA429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624B-9FA2-44C4-95AA-A5F5F3C0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0336-CA09-43D1-A94D-DE40CA2C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D54-3E11-4D67-92A9-8F17F13B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FA21-ADDB-464A-9ACC-F46CEBD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9DA0-8824-4DF1-A304-9F16236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A81-4779-4479-B71E-3BB913B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D4A1-70BE-4E18-9FD9-A5EFA19C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C462-A9E6-4395-9F36-8BA75F8F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5662-5EC4-4DA9-A0DA-D33EC40C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84E9-E5DA-46A4-A9EC-E466B24F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1824-1ED8-4A77-90E4-E4BBD65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76E2-A63F-4E2D-A486-DDA02743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1C1C-7D3E-490D-94A5-ADD0E1B3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AEE-E64F-4754-87F1-A79EF3A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7249-8FEC-4A0F-8F93-72C8C504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BE33-1A39-4D12-B3CE-6C5DA4A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015D-9FD0-4192-BED8-EEFD1A5F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7D2B-D4AB-4D5C-B597-346597F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5EE1-86F4-46B4-ABCF-97546D5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D45B-8467-4D19-8773-CAB48018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899F-0CEF-4E2F-828E-A5266BBC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BBB6-CE3C-471C-BDF5-9D91BBF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1446-31F5-4309-8B39-89FD858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6317-F406-4FDB-A2A7-AAAEF7E0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C85-A8D7-4CF2-B346-A42067F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4502-A01B-489E-B164-B18959C5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792B-AB1F-4E40-93A9-048C9A5A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9C98-E9A8-4C8D-9BC5-DA62745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073F-069C-4943-84EC-94F66E1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429F-D7C9-41D8-9DED-D3A85B1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396D-9486-46FC-AC87-D4EB0723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709B-8DF6-4B0F-825B-A1F1E82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F07E-F746-4208-8FF8-CAF45DE9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4076-FACF-44BF-BD4B-4C49F97E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3805-906B-4095-970C-9F84EA1D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003-6C62-472B-AA20-2C986766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0EA3-3370-4729-BB10-8E4C0FEA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1D34-462E-406E-8434-E77EECD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D2CF-2042-4E9C-93B0-E17A98F5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DE725-0236-4FDA-A50D-D9BC325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F7CC-3917-455E-94CC-E274F292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097A8-9C6C-4975-BE4E-4DE3D86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0389-47C2-4940-8CA8-ACDE9868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8039-94E7-4B66-92EB-5C6B1E4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6E5A6-7805-45E4-8452-D1EEDE0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4651-AB20-4AA2-A529-22D95D17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3C6-E08C-4FBE-8DA9-EBCE604D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EC12-434D-42B3-BE57-D642587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9273-17BB-4D36-B4EE-11360B0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1623-CA8B-48CD-90E9-AECC7C5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51BB-7980-4201-854E-6E0A362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354F-B97C-424B-8F1F-9FE18BB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A26D6-0D14-4735-AB45-CD31B85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C2BE2-D91D-4408-AE1F-BE3A73FC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785C-6BF7-4D06-A728-6F47F7F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36A1-1004-49C7-BD8F-B2E46A0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85C6-1F91-4A59-9A1D-E73F4F2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AE8-CB85-4637-BD60-B522460F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627BB-05BE-41FB-A773-A4BFEBE6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E0AE-CCC6-4797-99DB-1FFCB764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3A0A-7DA0-43E4-AEED-130C2F00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A2960-0EA2-4F32-8260-5DB20C1E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5BD1A-768C-492E-A822-7F42A7F7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C074-7400-47BF-AC46-BB71115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5A72E-D0D7-4718-91A6-A39EC50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A55A3-1F1C-40A5-865D-B7EE82E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9CE3C-0AD6-4819-B3C4-E81A426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9164-0519-4B28-AF03-14EBE42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9DD-E9FC-4ED0-A516-D763404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7306-B5D8-427F-9C75-D577FD5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B9357-D319-4FB6-B37D-78909473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4633-8885-417F-8CD8-C32BA9BB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EBE5-6BF5-4BC3-ACE7-41BE87AC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D3DC2-AD4F-48AB-BE44-26F4F94A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E94-745B-4F65-B427-2947A6E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847-695B-46D7-AE04-ECBE665504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ED6-38D0-4453-AA5D-8B96742C1D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8CC-4B31-40CC-B8BD-1C0CDC4B3A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9494-9650-4DBF-B35B-2BFF22F6BA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D58-5132-4AA4-905A-23F2B92A2C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8293-CAB6-408C-8FC0-2568FBF624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6DB-6B77-4554-A98A-C469375964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7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71280" y="1330200"/>
            <a:ext cx="7427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ФГОС нового поколения: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…</a:t>
            </a: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    </a:t>
            </a: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+ воспитание.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9200" y="14292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"/>
          <p:cNvSpPr/>
          <p:nvPr/>
        </p:nvSpPr>
        <p:spPr>
          <a:xfrm>
            <a:off x="1108080" y="3933720"/>
            <a:ext cx="704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оспитание детей - рискованное д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о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е удач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приобре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ою большого труда и з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же неудачи горе несравнимо ни с каким друг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239040" y="142920"/>
            <a:ext cx="57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 Махлина Е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знавательна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39480" y="836640"/>
            <a:ext cx="7240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 -  познавательные беседы, предметные олимпиа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 г- познавательные бесе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- дидактический театр, общественный смотр знаний, интеллектуальная игра « Что? Где? Когда?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-2015 г. - детские исследовательский проекты, межшкольные конференции учащихся , интеллектуальные марафоны, музеи – клуб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 г – начало детских исследовательских проектов, одно посещение музе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605040" y="155412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25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692280"/>
          <a:ext cx="8964720" cy="6324480"/>
        </p:xfrm>
        <a:graphic>
          <a:graphicData uri="http://schemas.openxmlformats.org/drawingml/2006/table">
            <a:tbl>
              <a:tblPr/>
              <a:tblGrid>
                <a:gridCol w="2438640"/>
                <a:gridCol w="2122200"/>
                <a:gridCol w="2183040"/>
                <a:gridCol w="222084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719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блемн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енност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ическая бесед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баты, тематический дисп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блемно – ценностная дискуссия с участием внешних экспертов (отсутству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о - ценностное общение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58560" y="764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чевые клише  ведущего деба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М ПРЕДСТОИТ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ХОЧУ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НЕ ХОЧЕТСЯ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ХОТЕЛ БЫ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ЕДЛАГАЮ…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ГОВОРИМ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АВАЙТЕ ОБМЕНЯЕМСЯ МНЕНИЯМИ О 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СУДИМ…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5г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 - Этическая бесе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5280" y="476280"/>
          <a:ext cx="8432640" cy="6132600"/>
        </p:xfrm>
        <a:graphic>
          <a:graphicData uri="http://schemas.openxmlformats.org/drawingml/2006/table">
            <a:tbl>
              <a:tblPr/>
              <a:tblGrid>
                <a:gridCol w="2355840"/>
                <a:gridCol w="1860480"/>
                <a:gridCol w="2108160"/>
                <a:gridCol w="21081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6068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сугов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лек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досуговое общени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ьтпоходы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атры, музеи, концертные залы, галере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73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нцерты, инсценировки, праздничные  «огоньки» на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а и школы   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сугово – развлекательные акции школьников в окружающем школу социуме ( благотворительные концерты, гастроли школьной само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сугово – развлекательная 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 досуговое общение)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920" y="907560"/>
            <a:ext cx="74995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– 2015 гг : культпоходы в театры, музе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971640" y="1268280"/>
            <a:ext cx="67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, инсценировки, праздничные  «огоньки» на уровне   класса и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936720" y="1844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о – развлекательные акции школьников в окружающем школу социуме ( благотворительные концерты – детский сад, школа-интернат) Выступление на конкурсе бардовской песни «Куликово П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1247400" y="3500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. - культпоходы в театры,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39760" y="115920"/>
            <a:ext cx="7499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79280" y="476280"/>
          <a:ext cx="8821800" cy="6335640"/>
        </p:xfrm>
        <a:graphic>
          <a:graphicData uri="http://schemas.openxmlformats.org/drawingml/2006/table">
            <a:tbl>
              <a:tblPr/>
              <a:tblGrid>
                <a:gridCol w="2598840"/>
                <a:gridCol w="2206800"/>
                <a:gridCol w="1876320"/>
                <a:gridCol w="2139840"/>
              </a:tblGrid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.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335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объединений художественного 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ные выставки, фестивали  искусств, спектакли в классе, школе 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ные акции школьников в окружающем школу социум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9" name="TextBox 2"/>
          <p:cNvSpPr/>
          <p:nvPr/>
        </p:nvSpPr>
        <p:spPr>
          <a:xfrm>
            <a:off x="176400" y="61657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 – 2015 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7040" y="0"/>
            <a:ext cx="7499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79280" y="404640"/>
          <a:ext cx="8964720" cy="5872320"/>
        </p:xfrm>
        <a:graphic>
          <a:graphicData uri="http://schemas.openxmlformats.org/drawingml/2006/table">
            <a:tbl>
              <a:tblPr/>
              <a:tblGrid>
                <a:gridCol w="2830680"/>
                <a:gridCol w="1887480"/>
                <a:gridCol w="1965240"/>
                <a:gridCol w="2281320"/>
              </a:tblGrid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1204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социально преобразующая добровольческая деятельнос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ая проба инициативное участие ребенка в социальном деле,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2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ТД – коллективно – творческое дело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о – образовательный про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2"/>
          <p:cNvSpPr/>
          <p:nvPr/>
        </p:nvSpPr>
        <p:spPr>
          <a:xfrm>
            <a:off x="465480" y="587700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 – 2015 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1720" y="679320"/>
          <a:ext cx="8072280" cy="6159600"/>
        </p:xfrm>
        <a:graphic>
          <a:graphicData uri="http://schemas.openxmlformats.org/drawingml/2006/table">
            <a:tbl>
              <a:tblPr/>
              <a:tblGrid>
                <a:gridCol w="1857240"/>
                <a:gridCol w="2435040"/>
                <a:gridCol w="2065680"/>
                <a:gridCol w="171432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6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удовая (производственная деят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 по конструированию, кружки  техническ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машних реме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удовые десанты, сюжетно – ролевые продуктивные игры «Почта», « Фабрика», производственная бригада под руководством взрос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вместная  трудовая деятельность детей и взрослых 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95280" y="476280"/>
          <a:ext cx="8215200" cy="589284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  <a:gridCol w="1857240"/>
                <a:gridCol w="20001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й обще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863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ртивно –оздоровитель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спортивных секций, беседы о ЗОЖ, участие в оздоровительных процеду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кольные спортивные турниры, и оздоровительные а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18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-20520" y="476280"/>
          <a:ext cx="8820000" cy="6019920"/>
        </p:xfrm>
        <a:graphic>
          <a:graphicData uri="http://schemas.openxmlformats.org/drawingml/2006/table">
            <a:tbl>
              <a:tblPr/>
              <a:tblGrid>
                <a:gridCol w="2722320"/>
                <a:gridCol w="2116440"/>
                <a:gridCol w="1950840"/>
                <a:gridCol w="203040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863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ско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– краеведческ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ический п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еведческий кл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ско – краеведческая  экспедиц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исково -  краеведческая экспеди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кольный краеведческий музей  (Отсутствую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виды деятель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47640" y="907560"/>
            <a:ext cx="67694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ова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угово - 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ческое твор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 т. 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8" descr="vneuroch_deyat"/>
          <p:cNvPicPr/>
          <p:nvPr/>
        </p:nvPicPr>
        <p:blipFill>
          <a:blip r:embed="rId1"/>
          <a:stretch/>
        </p:blipFill>
        <p:spPr>
          <a:xfrm>
            <a:off x="179280" y="189000"/>
            <a:ext cx="135108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2326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словия успешности воспитательной работы классного руководителя с учащимис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331640" y="1052280"/>
            <a:ext cx="7499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ровень воспитанности, с которым ребенок пришел в школ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, культивируемые в семье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циальный уровень семьи ребенка, материальные возмож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правленность воспитания в семье: «удобный» ребенок ,  ребенок – личность, ребенок – объект  самоутверждения родител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астие детей  во внешкольной деятельности (дополнительное образование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личие или отсутствие духовной составляющей во взаимодействии  «учитель – родитель»  по основополагающим критериям  «добра и зла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нообразие интересов ребенка, поддерживаемое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ая жизненная позиция учител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C:\Users\Администратор\Desktop\к педсов по восп\Demotivators_24.jpg"/>
          <p:cNvPicPr/>
          <p:nvPr/>
        </p:nvPicPr>
        <p:blipFill>
          <a:blip r:embed="rId1"/>
          <a:stretch/>
        </p:blipFill>
        <p:spPr>
          <a:xfrm>
            <a:off x="1979640" y="765000"/>
            <a:ext cx="5827680" cy="4800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Администратор\Desktop\к педсов по восп\4139260.jpg"/>
          <p:cNvPicPr/>
          <p:nvPr/>
        </p:nvPicPr>
        <p:blipFill>
          <a:blip r:embed="rId2"/>
          <a:stretch/>
        </p:blipFill>
        <p:spPr>
          <a:xfrm>
            <a:off x="1763640" y="57240"/>
            <a:ext cx="6769080" cy="6431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611280" y="57240"/>
            <a:ext cx="7921440" cy="66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человека быть счастливым нельз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спитать его так, чтобы он был счастливым, можн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Макарен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ЕЗУЛЬТАТЫ И ЭФФЕКТЫ</a:t>
            </a:r>
            <a:br>
              <a:rPr sz="2800"/>
            </a:br>
            <a:r>
              <a:rPr b="1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800" spc="-1" strike="noStrike">
                <a:solidFill>
                  <a:srgbClr val="1c4853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1ebd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оследствие результа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рвый уровен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1214280" y="421488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2286000" y="3500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о взаимодействии с педаг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Picture 8" descr="C:\Users\1\Desktop\ФОТО школа\101OLYMP\PA214292.JPG"/>
          <p:cNvPicPr/>
          <p:nvPr/>
        </p:nvPicPr>
        <p:blipFill>
          <a:blip r:embed="rId2"/>
          <a:stretch/>
        </p:blipFill>
        <p:spPr>
          <a:xfrm>
            <a:off x="2484360" y="1484280"/>
            <a:ext cx="2322720" cy="1743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Users\1\Desktop\ФОТО школа\101OLYMP\PA214290.JPG"/>
          <p:cNvPicPr/>
          <p:nvPr/>
        </p:nvPicPr>
        <p:blipFill>
          <a:blip r:embed="rId3"/>
          <a:stretch/>
        </p:blipFill>
        <p:spPr>
          <a:xfrm>
            <a:off x="6819840" y="857160"/>
            <a:ext cx="1982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637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2900" spc="-1" strike="noStrike">
                <a:solidFill>
                  <a:srgbClr val="c00000"/>
                </a:solidFill>
                <a:latin typeface="Times New Roman"/>
              </a:rPr>
              <a:t>второй уровень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1285920" y="4714920"/>
            <a:ext cx="742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1071720" y="4286160"/>
            <a:ext cx="764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 результат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позитивного отношения к базовым ценностям общества (человек, семья, Отечество, природа, мир, знания, труд, культура), ценностного отношения к социальной реальности в целом. Для достижения данного уровня результатов особое значение имеет взаимодействие школьников между собой на уровне класса,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3571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8" descr="vneuroch_deyat"/>
          <p:cNvPicPr/>
          <p:nvPr/>
        </p:nvPicPr>
        <p:blipFill>
          <a:blip r:embed="rId1"/>
          <a:stretch/>
        </p:blipFill>
        <p:spPr>
          <a:xfrm>
            <a:off x="108000" y="109440"/>
            <a:ext cx="135108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8" descr="G:\восп фото+текст\музей 1 класс\101OLYMP\P1015637.JPG"/>
          <p:cNvPicPr/>
          <p:nvPr/>
        </p:nvPicPr>
        <p:blipFill>
          <a:blip r:embed="rId2"/>
          <a:srcRect l="23645" t="30582" r="0" b="0"/>
          <a:stretch/>
        </p:blipFill>
        <p:spPr>
          <a:xfrm>
            <a:off x="6227640" y="905040"/>
            <a:ext cx="2081160" cy="252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G:\восп фото+текст\3.09.15\P9034135.JPG"/>
          <p:cNvPicPr/>
          <p:nvPr/>
        </p:nvPicPr>
        <p:blipFill>
          <a:blip r:embed="rId3"/>
          <a:stretch/>
        </p:blipFill>
        <p:spPr>
          <a:xfrm>
            <a:off x="2124000" y="1255680"/>
            <a:ext cx="3095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ретий уровен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1143000" y="4357800"/>
            <a:ext cx="77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 результат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.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олько в самостоятельном общественном действии юный человек действительно становится (а не просто узнает о том, как стать) социальным деятелем, гражданином, свободным человек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достижения данного уровня результатов особое значение имеет взаимодействие школьника с социальными субъектами за пределами школы, в открытой общественно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2286000" y="37148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о взаимодействии с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2" descr="C:\Users\1\Desktop\ФОТО школа\Дружат дети\P4201620.JPG"/>
          <p:cNvPicPr/>
          <p:nvPr/>
        </p:nvPicPr>
        <p:blipFill>
          <a:blip r:embed="rId2"/>
          <a:srcRect l="0" t="0" r="0" b="12914"/>
          <a:stretch/>
        </p:blipFill>
        <p:spPr>
          <a:xfrm>
            <a:off x="3130560" y="1271520"/>
            <a:ext cx="37400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( преимущественные формы достижения воспитательных результатов во внеурочной деятельности)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692280"/>
          <a:ext cx="8696160" cy="5749920"/>
        </p:xfrm>
        <a:graphic>
          <a:graphicData uri="http://schemas.openxmlformats.org/drawingml/2006/table">
            <a:tbl>
              <a:tblPr/>
              <a:tblGrid>
                <a:gridCol w="2173320"/>
                <a:gridCol w="2174760"/>
                <a:gridCol w="2173320"/>
                <a:gridCol w="21747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й обществен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о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 с ролевым акцен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 с деловым акцен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о  моделирующая иг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тсутству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5" name="Прямая соединительная линия 5"/>
          <p:cNvSpPr/>
          <p:nvPr/>
        </p:nvSpPr>
        <p:spPr>
          <a:xfrm flipV="1">
            <a:off x="3071880" y="3214800"/>
            <a:ext cx="14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8"/>
          <p:cNvSpPr/>
          <p:nvPr/>
        </p:nvSpPr>
        <p:spPr>
          <a:xfrm flipH="1">
            <a:off x="3069720" y="3071880"/>
            <a:ext cx="1800" cy="71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 flipH="1">
            <a:off x="3142800" y="1999440"/>
            <a:ext cx="1500120" cy="1143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24"/>
          <p:cNvSpPr/>
          <p:nvPr/>
        </p:nvSpPr>
        <p:spPr>
          <a:xfrm flipH="1">
            <a:off x="3295440" y="2152080"/>
            <a:ext cx="1500120" cy="1143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39280" y="620640"/>
            <a:ext cx="7488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рекламу своему классу, школе, группе играющих, своей будущей профессии. Возможны коллективные и индивидуальные вариант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ива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оманда придумывает ситуацию и разыгрывает сюжет, но без слов. Другая команда придумывает текст к данной ситуации и озвучивает персонажи, при этом повторяя жесты, позы. Затем обе команды сопоставляют тексты обеих команд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бы я был…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перевоплощение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 всё превращается в нечто другое, но не с помощью слов, а с помощью определения целесообразности действий. Аудитория превращается в лес. Тогда участники – в деревья, зверей, птиц, лесорубов и т.д. А если в вокзал – значит в чемоданы, поезд, пассажиров. А если в телевидение – в дикторов, телеоператоров, «звезд эстрады» и т.д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е обсужде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вающие картин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жанров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ющие берут известное произведение – это может быть сказка, пословица, стихотворение и разыгрывают сюжет в том или ином жанре: комедия, мюзикл, трагедия, мелодра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ко ты весиш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зависимости от настроения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050920" y="90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24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68360" y="549360"/>
          <a:ext cx="8424720" cy="6221160"/>
        </p:xfrm>
        <a:graphic>
          <a:graphicData uri="http://schemas.openxmlformats.org/drawingml/2006/table">
            <a:tbl>
              <a:tblPr/>
              <a:tblGrid>
                <a:gridCol w="2563920"/>
                <a:gridCol w="2563560"/>
                <a:gridCol w="1685880"/>
                <a:gridCol w="1611360"/>
              </a:tblGrid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нава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навательные беседы, предметные олимпиады, факультативы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дактический театр, общественный смотр знаний, интеллектуальн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 Что? Где? Когда?»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тский исследовательский проекты, межшкольные конференции учащихся , интеллектуальные марафоны, музеи – клубы.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0:48:42Z</dcterms:created>
  <dc:creator>ikum</dc:creator>
  <dc:description/>
  <dc:language>en-US</dc:language>
  <cp:lastModifiedBy>1</cp:lastModifiedBy>
  <dcterms:modified xsi:type="dcterms:W3CDTF">2016-04-17T15:01:36Z</dcterms:modified>
  <cp:revision>207</cp:revision>
  <dc:subject/>
  <dc:title>Слайд 1</dc:title>
</cp:coreProperties>
</file>