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BA29-3EA3-44C5-B4CC-C57A60A981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89FE-D2DC-47F0-B080-96F3F269AB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96A7-0223-4A8C-943D-A7019E937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1DA8-46C7-4763-A71D-2B47455A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D309-DAE8-4324-A440-555E56756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4788-51CC-42AB-94E0-2F00D4A66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809C-D313-49AC-9CB8-B66E594F7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25C2-CF00-4BDB-8035-0EAB3A58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E092-216D-47E3-9B5A-B0590F9A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944A-40BA-45FA-B94F-22007233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DB05-4F2D-4115-B63B-0290A3EC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DEA8-5F85-465A-B3FD-891A44CA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6714-CE17-4B2E-8175-2FEC2F3A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8F22-4F51-4BDB-938B-0876A017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E44D-7FAC-4405-86EC-A16F1E34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E0C7-14A5-48B3-89F4-2EF29A03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06C8-48BC-4593-BC07-E99E6744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8A59-8C69-4403-A662-29527972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1DBD-0E9F-4422-8D7A-DA94006C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81960-AA97-4432-ABBA-D9A419B5C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EA021-DAF3-43AA-813A-B8EA53EA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82772-350E-4787-B4A4-0171A0C4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5D13F-1C72-449A-B213-47CBC520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A1CBF-DD3E-4010-ABBE-8EBCECA3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138D-16A2-45B0-B374-FAD28527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0AF29-95AF-4389-A9A2-437F58A7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6AAFD-7180-4EAA-AD38-F935537A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9F4F3-454C-4EB6-883B-8B85C0F3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51F1A-ED86-4BB3-B0FF-B499D635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57EA1-7236-4318-AD2C-B3423F61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7EACE-E954-4C17-A3D6-9CEADDD9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4CB13-9E78-44F3-9FEC-74BE4A876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195E3-EBEF-468E-BE63-B8084AF8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C2E94-E62A-4136-9986-5DD4806E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ECADE-A7C1-4A45-B033-C1F674C2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6D57-2D7A-4FBD-BD0C-B3282137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93815-6358-4F75-A571-70C44E1A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B2B1D-D6DE-4604-B135-7C86D5A5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712FD-0DB6-416F-A5FF-809D682E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93B00-1749-4B6E-9D73-1A003733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33376-A8CA-4B16-A0EE-8BAC81E7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0A58E-85D2-44BF-8809-FF67E5FE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4EACB-34C9-4AFC-8D3D-0CCA6287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FDF61-63C1-4405-AA5A-26315674D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0E64F-C3B9-47D2-B1D3-F69D78B4D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21644-7B7F-4906-AEEE-EECE51717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0E3E-81A0-4AE0-8FEF-75D085B5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48620-9572-4EEC-87A6-41C5890B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12E23-0DBA-493D-BF3F-8B70CE2C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AF145-13D8-4747-8B6D-6E8F74C3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F9440-5469-4B13-9BF9-CF78E8D0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FE5DD-7125-45AA-B8C1-B7720A9B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F1BD3-21A6-4725-9DC5-7C8F57E0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F2B8D-378C-4285-85C4-BBB6BB09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FD891-2355-46C4-8D2F-200542DB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72C7C-F3A4-46C1-8004-1CB070ED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DF50D-7E7E-4567-9CD7-367BEBE6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B448-DC48-4B0D-B272-912C6B1A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2F500-24CA-4A03-B7F7-CE46A8DB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A88B7-1251-4A52-9A9B-B1A61318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11E92-E0F1-4E08-81AE-A9E4CF28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8A7A4-88E3-476C-86D3-4AE15AD1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B4460-CB4B-4353-A40E-ADC54796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55D96-4FE2-4AD1-B72D-FEEBB401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3ED19-F9EB-462E-A40A-E6726728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00CF9-A0F8-450B-AE33-25F79C1C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B2625-395A-48E0-9FC0-987EAA42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D7FA4-AB19-4EBC-889E-35DB108A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9F2F-D882-43F8-94EE-9DDD4E69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45184-6851-402F-AF12-55E4537F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F249F-D58C-4962-9FBC-39C2A308D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B64BF-917C-4E4B-90C9-93FF6F0F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B3FD5-31F2-40FF-B680-7767B705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B7123-958A-4E6E-B48F-D90A9A23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5BD4D-D9FC-44FF-9A1C-B0B879F4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A1EAD-A334-42ED-94B2-713D7293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012A9-35E4-46EC-9FC7-64D48A31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37A30-B5EF-479C-8B9E-F0A577DB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5ADC6-36DE-4342-8FA1-E2B45D67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87A1-7281-4280-BCAC-9401F7BD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15BEB-E6CF-4EEF-881E-0966FC05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229C7-A5B8-4FB3-B1A9-384A2C1D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38A05-56A1-41AB-BA42-9F0D3C30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8416E-D9B8-41C1-A1CA-AD943012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D67A4-CF3B-4D95-9B36-D67027C7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3D91-BFE9-47C8-89FD-2F205121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0E50-41CD-483F-91B2-4D4F40D1F01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2CF8-7AB4-4E2C-952E-B5F4EB997FC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DDD4-AE17-4DC5-AC74-029246B5F5C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B87B-5BCD-499F-9E85-1039332CCF4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5D68-5052-4A40-8146-4BA9A78E1DC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962A-46DE-4F36-A151-31C0360CDDF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4DA5-98E4-4242-BE0C-5CC838FDF14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andart.edu.ru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d7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71280" y="1330200"/>
            <a:ext cx="7427880" cy="23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ФГОС нового поколения: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…</a:t>
            </a:r>
            <a:r>
              <a:rPr b="1" lang="ru-RU" sz="6600" spc="-1" strike="noStrike">
                <a:solidFill>
                  <a:srgbClr val="ff0000"/>
                </a:solidFill>
                <a:latin typeface="Corbel"/>
              </a:rPr>
              <a:t>    </a:t>
            </a:r>
            <a:r>
              <a:rPr b="1" lang="ru-RU" sz="6600" spc="-1" strike="noStrike">
                <a:solidFill>
                  <a:srgbClr val="ff0000"/>
                </a:solidFill>
                <a:latin typeface="Corbel"/>
              </a:rPr>
              <a:t>+ воспитание.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13" descr="stand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29200" y="142920"/>
            <a:ext cx="3056040" cy="797040"/>
          </a:xfrm>
          <a:prstGeom prst="rect">
            <a:avLst/>
          </a:prstGeom>
          <a:ln w="0">
            <a:noFill/>
          </a:ln>
        </p:spPr>
      </p:pic>
      <p:sp>
        <p:nvSpPr>
          <p:cNvPr id="327" name="TextBox 1"/>
          <p:cNvSpPr/>
          <p:nvPr/>
        </p:nvSpPr>
        <p:spPr>
          <a:xfrm>
            <a:off x="1108080" y="3933720"/>
            <a:ext cx="7048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Воспитание детей - рискованное де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бо в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учае удач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яя приобрет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ною большого труда и забо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же неудачи горе несравнимо ни с каким други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кр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3"/>
          <p:cNvSpPr/>
          <p:nvPr/>
        </p:nvSpPr>
        <p:spPr>
          <a:xfrm>
            <a:off x="239040" y="142920"/>
            <a:ext cx="574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Средняя общеобразовательная школа №7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  Махлина Е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знавательная.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239480" y="836640"/>
            <a:ext cx="72406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г -  познавательные беседы, предметные олимпиад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5-2016 г- познавательные бесед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 г. - дидактический театр, общественный смотр знаний, интеллектуальная игра « Что? Где? Когда?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3-2015 г. - детские исследовательский проекты, межшкольные конференции учащихся , интеллектуальные марафоны, музеи – клуб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5-2016 г – начало детских исследовательских проектов, одно посещение музе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TextBox 4"/>
          <p:cNvSpPr/>
          <p:nvPr/>
        </p:nvSpPr>
        <p:spPr>
          <a:xfrm>
            <a:off x="3605040" y="1554120"/>
            <a:ext cx="12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115560"/>
            <a:ext cx="749952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Corbel"/>
              </a:rPr>
              <a:t>Методический конструктор</a:t>
            </a:r>
            <a:br>
              <a:rPr sz="2500"/>
            </a:br>
            <a:r>
              <a:rPr b="0" lang="ru-RU" sz="22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79280" y="692280"/>
          <a:ext cx="8964720" cy="6324480"/>
        </p:xfrm>
        <a:graphic>
          <a:graphicData uri="http://schemas.openxmlformats.org/drawingml/2006/table">
            <a:tbl>
              <a:tblPr/>
              <a:tblGrid>
                <a:gridCol w="2438640"/>
                <a:gridCol w="2122200"/>
                <a:gridCol w="2183040"/>
                <a:gridCol w="2220840"/>
              </a:tblGrid>
              <a:tr h="2012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Уровень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иды внеуроч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риобретение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1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Формирование ценностного отношения к социальной реаль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 2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олучение опыта самостоятельного общественного действ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 3 уровень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371960">
                <a:tc row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облемно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ценностно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бщ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Этическая беседа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– 2015 г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b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5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ебаты, тематический дисп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– 2015 гг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облемно – ценностная дискуссия с участием внешних экспертов (отсутствуе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но - ценностное общение.</a:t>
            </a:r>
            <a:br>
              <a:rPr sz="18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258560" y="7646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ечевые клише  ведущего дебатов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М ПРЕДСТОИТ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Я ХОЧУ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НЕ ХОЧЕТСЯ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Я ХОТЕЛ БЫ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Я ПРЕДЛАГАЮ…      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ГОВОРИМ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АВАЙТЕ ОБМЕНЯЕМСЯ МНЕНИЯМИ О 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БСУДИМ…    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-2015г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5 г - Этическая бесед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76360" y="0"/>
            <a:ext cx="749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ический конструктор</a:t>
            </a:r>
            <a:br>
              <a:rPr sz="18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395280" y="476280"/>
          <a:ext cx="8432640" cy="6132600"/>
        </p:xfrm>
        <a:graphic>
          <a:graphicData uri="http://schemas.openxmlformats.org/drawingml/2006/table">
            <a:tbl>
              <a:tblPr/>
              <a:tblGrid>
                <a:gridCol w="2355840"/>
                <a:gridCol w="1860480"/>
                <a:gridCol w="2108160"/>
                <a:gridCol w="2108160"/>
              </a:tblGrid>
              <a:tr h="2012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Уровень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иды внеуроч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риобретение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 1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 2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 3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560680">
                <a:tc row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осугово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азвлекатель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ея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 досуговое общени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ультпоходы 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еатры, музеи, концертные залы, галере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– 2015 г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b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73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онцерты, инсценировки, праздничные  «огоньки» на уров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ласса и школы     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– 2015 г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осугово – развлекательные акции школьников в окружающем школу социуме ( благотворительные концерты, гастроли школьной само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осугово – развлекательная  деятельность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( досуговое общение)</a:t>
            </a: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042920" y="907560"/>
            <a:ext cx="749952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– 2015 гг : культпоходы в театры, музе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Прямоугольник 4"/>
          <p:cNvSpPr/>
          <p:nvPr/>
        </p:nvSpPr>
        <p:spPr>
          <a:xfrm>
            <a:off x="971640" y="1268280"/>
            <a:ext cx="67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рты, инсценировки, праздничные  «огоньки» на уровне   класса и 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5"/>
          <p:cNvSpPr/>
          <p:nvPr/>
        </p:nvSpPr>
        <p:spPr>
          <a:xfrm>
            <a:off x="936720" y="1844640"/>
            <a:ext cx="72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угово – развлекательные акции школьников в окружающем школу социуме ( благотворительные концерты – детский сад, школа-интернат) Выступление на конкурсе бардовской песни «Куликово Пол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6"/>
          <p:cNvSpPr/>
          <p:nvPr/>
        </p:nvSpPr>
        <p:spPr>
          <a:xfrm>
            <a:off x="1247400" y="3500280"/>
            <a:ext cx="42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5 г. - культпоходы в театры, муз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39760" y="115920"/>
            <a:ext cx="74995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ический конструктор</a:t>
            </a:r>
            <a:br>
              <a:rPr sz="18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79280" y="476280"/>
          <a:ext cx="8821800" cy="6335640"/>
        </p:xfrm>
        <a:graphic>
          <a:graphicData uri="http://schemas.openxmlformats.org/drawingml/2006/table">
            <a:tbl>
              <a:tblPr/>
              <a:tblGrid>
                <a:gridCol w="2598840"/>
                <a:gridCol w="2206800"/>
                <a:gridCol w="1876320"/>
                <a:gridCol w="2139840"/>
              </a:tblGrid>
              <a:tr h="23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Уровень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иды внеуроч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риобретение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 1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Формир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 2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олучение опыта самост. общественного действ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 3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433520">
                <a:tc row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.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Художеств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ое творч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анятия объединений художественного  твор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b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43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Художественные выставки, фестивали  искусств, спектакли в классе, школе   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– 2015 г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09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Художественные акции школьников в окружающем школу социум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9" name="TextBox 2"/>
          <p:cNvSpPr/>
          <p:nvPr/>
        </p:nvSpPr>
        <p:spPr>
          <a:xfrm>
            <a:off x="176400" y="6165720"/>
            <a:ext cx="19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11 – 2015 г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27040" y="0"/>
            <a:ext cx="7499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ический конструктор</a:t>
            </a:r>
            <a:br>
              <a:rPr sz="1600"/>
            </a:br>
            <a:endParaRPr b="0" lang="en-US" sz="16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179280" y="404640"/>
          <a:ext cx="8964720" cy="5872320"/>
        </p:xfrm>
        <a:graphic>
          <a:graphicData uri="http://schemas.openxmlformats.org/drawingml/2006/table">
            <a:tbl>
              <a:tblPr/>
              <a:tblGrid>
                <a:gridCol w="2830680"/>
                <a:gridCol w="1887480"/>
                <a:gridCol w="1965240"/>
                <a:gridCol w="2281320"/>
              </a:tblGrid>
              <a:tr h="185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Уровень результат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иды внеуроч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риобретение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 1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2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олучение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 3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012040">
                <a:tc row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оциальное творч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 социально преобразующая добровольческая деятельность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оциальная проба инициативное участие ребенка в социальном деле, 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b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12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ТД – коллективно – творческое дело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15 г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87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оциально – образовательный проек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82" name="TextBox 2"/>
          <p:cNvSpPr/>
          <p:nvPr/>
        </p:nvSpPr>
        <p:spPr>
          <a:xfrm>
            <a:off x="465480" y="5877000"/>
            <a:ext cx="19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11 – 2015 г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14200"/>
            <a:ext cx="7499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Corbel"/>
              </a:rPr>
              <a:t>Методический конструктор</a:t>
            </a:r>
            <a:br>
              <a:rPr sz="1800"/>
            </a:b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)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71720" y="679320"/>
          <a:ext cx="8072280" cy="6159600"/>
        </p:xfrm>
        <a:graphic>
          <a:graphicData uri="http://schemas.openxmlformats.org/drawingml/2006/table">
            <a:tbl>
              <a:tblPr/>
              <a:tblGrid>
                <a:gridCol w="1857240"/>
                <a:gridCol w="2435040"/>
                <a:gridCol w="2065680"/>
                <a:gridCol w="1714320"/>
              </a:tblGrid>
              <a:tr h="228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Уровень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иды внеуроч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риобретение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 1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2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3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6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7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рудовая (производственная деятельнос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анятия  по конструированию, кружки  технического творчеств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омашних ремес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-2015 г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рудовые десанты, сюжетно – ролевые продуктивные игры «Почта», « Фабрика», производственная бригада под руководством взросл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овместная  трудовая деятельность детей и взрослых  (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-2015 г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ический конструктор</a:t>
            </a:r>
            <a:br>
              <a:rPr sz="1600"/>
            </a:br>
            <a:endParaRPr b="0" lang="en-US" sz="16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395280" y="476280"/>
          <a:ext cx="8215200" cy="5892840"/>
        </p:xfrm>
        <a:graphic>
          <a:graphicData uri="http://schemas.openxmlformats.org/drawingml/2006/table">
            <a:tbl>
              <a:tblPr/>
              <a:tblGrid>
                <a:gridCol w="2143080"/>
                <a:gridCol w="2214720"/>
                <a:gridCol w="1857240"/>
                <a:gridCol w="2000160"/>
              </a:tblGrid>
              <a:tr h="2012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Уровень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иды внеуроч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риобрет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 1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 2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олучение опыта самостоятельной обществен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 3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286360">
                <a:tc row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портивно –оздоровительная дея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анятия спортивных секций, беседы о ЗОЖ, участие в оздоровительных процедура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– 2015 г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b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4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Школьные спортивные турниры, и оздоровительные ак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– 2015 г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портивные и оздоровительные акции школьников в окружающем школу социу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Corbel"/>
              </a:rPr>
              <a:t>Методический конструктор</a:t>
            </a:r>
            <a:br>
              <a:rPr sz="1800"/>
            </a:b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-20520" y="476280"/>
          <a:ext cx="8820000" cy="6019920"/>
        </p:xfrm>
        <a:graphic>
          <a:graphicData uri="http://schemas.openxmlformats.org/drawingml/2006/table">
            <a:tbl>
              <a:tblPr/>
              <a:tblGrid>
                <a:gridCol w="2722320"/>
                <a:gridCol w="2116440"/>
                <a:gridCol w="1950840"/>
                <a:gridCol w="2030400"/>
              </a:tblGrid>
              <a:tr h="2012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Уровень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иды внеуроч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риобретение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 1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 2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олучение опыта самостоятельного общественного действ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3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286360">
                <a:tc row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уристско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– краеведческая дея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бразовательная экскурсия, туристическая поездка, краеведческий круж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– 2015 г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b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уристический поход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– 2015 гг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раеведческий кл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уристско – краеведческая  экспедиция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исково -  краеведческая экспедиц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школьный краеведческий музей  (Отсутствую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c00000"/>
                </a:solidFill>
                <a:latin typeface="Arial"/>
                <a:ea typeface="Arial"/>
              </a:rPr>
              <a:t>Основные виды деятельност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547640" y="907560"/>
            <a:ext cx="676944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грова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знавательна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блемно-ценностное общение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сугово - развлекательная деятельность (досуговое общение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удожественное творчество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альное творчество (социально преобразующая добровольческая деятельность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хническое творчество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удовая (производственная) деятельность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ортивно-оздоровительная деятельность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уристско-краеведческая деятельнос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И т. д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Picture 8" descr="vneuroch_deyat"/>
          <p:cNvPicPr/>
          <p:nvPr/>
        </p:nvPicPr>
        <p:blipFill>
          <a:blip r:embed="rId1"/>
          <a:stretch/>
        </p:blipFill>
        <p:spPr>
          <a:xfrm>
            <a:off x="179280" y="189000"/>
            <a:ext cx="1351080" cy="162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62326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Условия успешности воспитательной работы классного руководителя с учащимися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331640" y="1052280"/>
            <a:ext cx="74991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ровень воспитанности, с которым ребенок пришел в школ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ности, культивируемые в семье учащих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циальный уровень семьи ребенка, материальные возможност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правленность воспитания в семье: «удобный» ребенок ,  ребенок – личность, ребенок – объект  самоутверждения родителе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частие детей  во внешкольной деятельности (дополнительное образование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личие или отсутствие духовной составляющей во взаимодействии  «учитель – родитель»  по основополагающим критериям  «добра и зла»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Разнообразие интересов ребенка, поддерживаемое родителям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ивная жизненная позиция учител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3" descr="C:\Users\Администратор\Desktop\к педсов по восп\Demotivators_24.jpg"/>
          <p:cNvPicPr/>
          <p:nvPr/>
        </p:nvPicPr>
        <p:blipFill>
          <a:blip r:embed="rId1"/>
          <a:stretch/>
        </p:blipFill>
        <p:spPr>
          <a:xfrm>
            <a:off x="1979640" y="765000"/>
            <a:ext cx="5827680" cy="48006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C:\Users\Администратор\Desktop\к педсов по восп\4139260.jpg"/>
          <p:cNvPicPr/>
          <p:nvPr/>
        </p:nvPicPr>
        <p:blipFill>
          <a:blip r:embed="rId2"/>
          <a:stretch/>
        </p:blipFill>
        <p:spPr>
          <a:xfrm>
            <a:off x="1763640" y="57240"/>
            <a:ext cx="6769080" cy="6431040"/>
          </a:xfrm>
          <a:prstGeom prst="rect">
            <a:avLst/>
          </a:prstGeom>
          <a:ln w="0">
            <a:noFill/>
          </a:ln>
        </p:spPr>
      </p:pic>
      <p:sp>
        <p:nvSpPr>
          <p:cNvPr id="393" name="TextBox 1"/>
          <p:cNvSpPr/>
          <p:nvPr/>
        </p:nvSpPr>
        <p:spPr>
          <a:xfrm>
            <a:off x="611280" y="57240"/>
            <a:ext cx="7921440" cy="667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человека быть счастливым нельзя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оспитать его так, чтобы он был счастливым, можн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792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792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С.Макаренк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СПИТАТЕЛЬНЫЕ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РЕЗУЛЬТАТЫ И ЭФФЕКТЫ</a:t>
            </a:r>
            <a:br>
              <a:rPr sz="2800"/>
            </a:br>
            <a:r>
              <a:rPr b="1" lang="ru-RU" sz="2800" spc="-1" strike="noStrike">
                <a:solidFill>
                  <a:srgbClr val="1c4853"/>
                </a:solidFill>
                <a:latin typeface="Times New Roman"/>
                <a:ea typeface="Times New Roman"/>
              </a:rPr>
              <a:t>ВНЕУРОЧНОЙ </a:t>
            </a:r>
            <a:r>
              <a:rPr b="1" lang="ru-RU" sz="2800" spc="-1" strike="noStrike">
                <a:solidFill>
                  <a:srgbClr val="1c4853"/>
                </a:solidFill>
                <a:latin typeface="Times New Roman"/>
              </a:rPr>
              <a:t>ДЕЯТЕЛЬНОСТИ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642680"/>
            <a:ext cx="749952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1ebdf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Воспитательный результат внеурочной деятельност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– непосредственное духовно-нравственное приобретение ребенка благодаря его участию в том или ином виде внеурочной деятельности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Воспитательный эффект внеурочной деятельност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– влияние того или иного духовно-нравственного приобретения  на процесс развития личности ребенка (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последствие результат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Picture 8" descr="vneuroch_deyat"/>
          <p:cNvPicPr/>
          <p:nvPr/>
        </p:nvPicPr>
        <p:blipFill>
          <a:blip r:embed="rId1"/>
          <a:stretch/>
        </p:blipFill>
        <p:spPr>
          <a:xfrm>
            <a:off x="250920" y="189000"/>
            <a:ext cx="1350720" cy="162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28480" y="2854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УРОВНИ ВОСПИТАТЕЛЬНЫХ РЕЗУЛЬТАТОВ</a:t>
            </a:r>
            <a:br>
              <a:rPr sz="2400"/>
            </a:b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первый уровень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Прямоугольник 6"/>
          <p:cNvSpPr/>
          <p:nvPr/>
        </p:nvSpPr>
        <p:spPr>
          <a:xfrm>
            <a:off x="1214280" y="4214880"/>
            <a:ext cx="764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ервый уровен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приобретение школьником социальных знаний (об общественных нормах, об устройстве общества, о социально одобряемых и неодобряемых формах поведения в обществе и т.п.), первичного понимания социальной реальности и повседневной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7"/>
          <p:cNvSpPr/>
          <p:nvPr/>
        </p:nvSpPr>
        <p:spPr>
          <a:xfrm>
            <a:off x="2286000" y="3500280"/>
            <a:ext cx="66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Times New Roman"/>
              </a:rPr>
              <a:t>Достигается во взаимодействии с педагог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8" descr="vneuroch_deyat"/>
          <p:cNvPicPr/>
          <p:nvPr/>
        </p:nvPicPr>
        <p:blipFill>
          <a:blip r:embed="rId1"/>
          <a:stretch/>
        </p:blipFill>
        <p:spPr>
          <a:xfrm>
            <a:off x="250920" y="189000"/>
            <a:ext cx="1350720" cy="162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39" name="Picture 8" descr="C:\Users\1\Desktop\ФОТО школа\101OLYMP\PA214292.JPG"/>
          <p:cNvPicPr/>
          <p:nvPr/>
        </p:nvPicPr>
        <p:blipFill>
          <a:blip r:embed="rId2"/>
          <a:stretch/>
        </p:blipFill>
        <p:spPr>
          <a:xfrm>
            <a:off x="2484360" y="1484280"/>
            <a:ext cx="2322720" cy="17431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0" descr="C:\Users\1\Desktop\ФОТО школа\101OLYMP\PA214290.JPG"/>
          <p:cNvPicPr/>
          <p:nvPr/>
        </p:nvPicPr>
        <p:blipFill>
          <a:blip r:embed="rId3"/>
          <a:stretch/>
        </p:blipFill>
        <p:spPr>
          <a:xfrm>
            <a:off x="6819840" y="857160"/>
            <a:ext cx="19828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637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УРОВНИ ВОСПИТАТЕЛЬНЫХ РЕЗУЛЬТАТОВ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i="1" lang="ru-RU" sz="2900" spc="-1" strike="noStrike">
                <a:solidFill>
                  <a:srgbClr val="c00000"/>
                </a:solidFill>
                <a:latin typeface="Times New Roman"/>
              </a:rPr>
              <a:t>второй уровень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Прямоугольник 5"/>
          <p:cNvSpPr/>
          <p:nvPr/>
        </p:nvSpPr>
        <p:spPr>
          <a:xfrm>
            <a:off x="1285920" y="4714920"/>
            <a:ext cx="7429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6"/>
          <p:cNvSpPr/>
          <p:nvPr/>
        </p:nvSpPr>
        <p:spPr>
          <a:xfrm>
            <a:off x="1071720" y="4286160"/>
            <a:ext cx="7643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торой уровень результатов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получение школьником опыта переживания и позитивного отношения к базовым ценностям общества (человек, семья, Отечество, природа, мир, знания, труд, культура), ценностного отношения к социальной реальности в целом. Для достижения данного уровня результатов особое значение имеет взаимодействие школьников между собой на уровне класса, шк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8"/>
          <p:cNvSpPr/>
          <p:nvPr/>
        </p:nvSpPr>
        <p:spPr>
          <a:xfrm>
            <a:off x="2286000" y="35719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Times New Roman"/>
              </a:rPr>
              <a:t>Достигается в дружественной детской среде (коллектив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8" descr="vneuroch_deyat"/>
          <p:cNvPicPr/>
          <p:nvPr/>
        </p:nvPicPr>
        <p:blipFill>
          <a:blip r:embed="rId1"/>
          <a:stretch/>
        </p:blipFill>
        <p:spPr>
          <a:xfrm>
            <a:off x="108000" y="109440"/>
            <a:ext cx="1351080" cy="16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6" name="Picture 8" descr="G:\восп фото+текст\музей 1 класс\101OLYMP\P1015637.JPG"/>
          <p:cNvPicPr/>
          <p:nvPr/>
        </p:nvPicPr>
        <p:blipFill>
          <a:blip r:embed="rId2"/>
          <a:srcRect l="23645" t="30582" r="0" b="0"/>
          <a:stretch/>
        </p:blipFill>
        <p:spPr>
          <a:xfrm>
            <a:off x="6227640" y="905040"/>
            <a:ext cx="2081160" cy="25225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9" descr="G:\восп фото+текст\3.09.15\P9034135.JPG"/>
          <p:cNvPicPr/>
          <p:nvPr/>
        </p:nvPicPr>
        <p:blipFill>
          <a:blip r:embed="rId3"/>
          <a:stretch/>
        </p:blipFill>
        <p:spPr>
          <a:xfrm>
            <a:off x="2124000" y="1255680"/>
            <a:ext cx="309564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УРОВНИ ВОСПИТАТЕЛЬНЫХ РЕЗУЛЬТАТОВ</a:t>
            </a:r>
            <a:br>
              <a:rPr sz="2400"/>
            </a:b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третий уровень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Прямоугольник 4"/>
          <p:cNvSpPr/>
          <p:nvPr/>
        </p:nvSpPr>
        <p:spPr>
          <a:xfrm>
            <a:off x="1143000" y="4357800"/>
            <a:ext cx="7715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Третий уровень результатов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получение школьником опыта самостоятельного общественного действия.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</a:rPr>
              <a:t>Только в самостоятельном общественном действии юный человек действительно становится (а не просто узнает о том, как стать) социальным деятелем, гражданином, свободным человеком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ля достижения данного уровня результатов особое значение имеет взаимодействие школьника с социальными субъектами за пределами школы, в открытой общественной сре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5"/>
          <p:cNvSpPr/>
          <p:nvPr/>
        </p:nvSpPr>
        <p:spPr>
          <a:xfrm>
            <a:off x="2286000" y="3714840"/>
            <a:ext cx="65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Times New Roman"/>
              </a:rPr>
              <a:t>Достигается во взаимодействии с социальными субъек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8" descr="vneuroch_deyat"/>
          <p:cNvPicPr/>
          <p:nvPr/>
        </p:nvPicPr>
        <p:blipFill>
          <a:blip r:embed="rId1"/>
          <a:stretch/>
        </p:blipFill>
        <p:spPr>
          <a:xfrm>
            <a:off x="250920" y="189000"/>
            <a:ext cx="1350720" cy="162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2" name="Picture 2" descr="C:\Users\1\Desktop\ФОТО школа\Дружат дети\P4201620.JPG"/>
          <p:cNvPicPr/>
          <p:nvPr/>
        </p:nvPicPr>
        <p:blipFill>
          <a:blip r:embed="rId2"/>
          <a:srcRect l="0" t="0" r="0" b="12914"/>
          <a:stretch/>
        </p:blipFill>
        <p:spPr>
          <a:xfrm>
            <a:off x="3130560" y="1271520"/>
            <a:ext cx="374004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104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Corbel"/>
              </a:rPr>
              <a:t>                    </a:t>
            </a: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ический конструктор</a:t>
            </a:r>
            <a:br>
              <a:rPr sz="1600"/>
            </a:br>
            <a:r>
              <a:rPr b="0" lang="ru-RU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( преимущественные формы достижения воспитательных результатов во внеурочной деятельности)</a:t>
            </a:r>
            <a:endParaRPr b="0" lang="en-US" sz="16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250920" y="692280"/>
          <a:ext cx="8696160" cy="5749920"/>
        </p:xfrm>
        <a:graphic>
          <a:graphicData uri="http://schemas.openxmlformats.org/drawingml/2006/table">
            <a:tbl>
              <a:tblPr/>
              <a:tblGrid>
                <a:gridCol w="2173320"/>
                <a:gridCol w="2174760"/>
                <a:gridCol w="2173320"/>
                <a:gridCol w="2174760"/>
              </a:tblGrid>
              <a:tr h="2012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Уровень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иды внеуроч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риобретение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  1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2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олучение опыта самостоятельной общественной деятель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 3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737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гров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гра с ролевым акцент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– 2015 г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b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006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гра с деловым акцент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– 2015 г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циально  моделирующая иг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отсутствуе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5" name="Прямая соединительная линия 5"/>
          <p:cNvSpPr/>
          <p:nvPr/>
        </p:nvSpPr>
        <p:spPr>
          <a:xfrm flipV="1">
            <a:off x="3071880" y="3214800"/>
            <a:ext cx="1440" cy="14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ая соединительная линия 8"/>
          <p:cNvSpPr/>
          <p:nvPr/>
        </p:nvSpPr>
        <p:spPr>
          <a:xfrm flipH="1">
            <a:off x="3069720" y="3071880"/>
            <a:ext cx="1800" cy="712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ая соединительная линия 11"/>
          <p:cNvSpPr/>
          <p:nvPr/>
        </p:nvSpPr>
        <p:spPr>
          <a:xfrm flipH="1">
            <a:off x="3142800" y="1999440"/>
            <a:ext cx="1500120" cy="1143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ая соединительная линия 24"/>
          <p:cNvSpPr/>
          <p:nvPr/>
        </p:nvSpPr>
        <p:spPr>
          <a:xfrm flipH="1">
            <a:off x="3295440" y="2152080"/>
            <a:ext cx="1500120" cy="1143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539280" y="620640"/>
            <a:ext cx="74883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лам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йте рекламу своему классу, школе, группе играющих, своей будущей профессии. Возможны коллективные и индивидуальные варианты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вучивани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команда придумывает ситуацию и разыгрывает сюжет, но без слов. Другая команда придумывает текст к данной ситуации и озвучивает персонажи, при этом повторяя жесты, позы. Затем обе команды сопоставляют тексты обеих команд.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сли бы я был…»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-перевоплощение.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ращения.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и всё превращается в нечто другое, но не с помощью слов, а с помощью определения целесообразности действий. Аудитория превращается в лес. Тогда участники – в деревья, зверей, птиц, лесорубов и т.д. А если в вокзал – значит в чемоданы, поезд, пассажиров. А если в телевидение – в дикторов, телеоператоров, «звезд эстрады» и т.д.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евое обсуждени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вающие картины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жанров.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ющие берут известное произведение – это может быть сказка, пословица, стихотворение и разыгрывают сюжет в том или ином жанре: комедия, мюзикл, трагедия, мелодрам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ько ты весишь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зависимости от настроения)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TextBox 3"/>
          <p:cNvSpPr/>
          <p:nvPr/>
        </p:nvSpPr>
        <p:spPr>
          <a:xfrm>
            <a:off x="2050920" y="90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115920"/>
            <a:ext cx="74995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orbel"/>
              </a:rPr>
              <a:t>Методический конструктор</a:t>
            </a:r>
            <a:br>
              <a:rPr sz="2400"/>
            </a:br>
            <a:r>
              <a:rPr b="0" lang="ru-RU" sz="20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68360" y="549360"/>
          <a:ext cx="8424720" cy="6221160"/>
        </p:xfrm>
        <a:graphic>
          <a:graphicData uri="http://schemas.openxmlformats.org/drawingml/2006/table">
            <a:tbl>
              <a:tblPr/>
              <a:tblGrid>
                <a:gridCol w="2563920"/>
                <a:gridCol w="2563560"/>
                <a:gridCol w="1685880"/>
                <a:gridCol w="1611360"/>
              </a:tblGrid>
              <a:tr h="2560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Уровен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иды внеурочной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риобретение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 1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Формирование ценностного отношения к социальной реаль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 2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олучение опыта самостоятельного общественного действия ( 3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012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знава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знавательные беседы, предметные олимпиады, факультативы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– 2015 г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b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идактический театр, общественный смотр знаний, интеллектуальная иг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 Что? Где? Когда?» 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– 2015 г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етский исследовательский проекты, межшкольные конференции учащихся , интеллектуальные марафоны, музеи – клубы. 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– 2015 г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2T10:48:42Z</dcterms:created>
  <dc:creator>ikum</dc:creator>
  <dc:description/>
  <dc:language>en-US</dc:language>
  <cp:lastModifiedBy>1</cp:lastModifiedBy>
  <dcterms:modified xsi:type="dcterms:W3CDTF">2016-04-17T15:01:36Z</dcterms:modified>
  <cp:revision>207</cp:revision>
  <dc:subject/>
  <dc:title>Слайд 1</dc:title>
</cp:coreProperties>
</file>