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D9CF-E8BC-4705-9670-10ECAB99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D4DB-3B05-49D6-AAD7-17042733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29AD-0A4D-491A-AA1C-E250E79A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F59-78D1-47F5-AE54-480D8EC38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F819-716F-4599-A3FD-CB196215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F15C-787A-418A-ADC9-B4F0F247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1911-497D-4728-9466-DF1F5594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496B-8E98-4B28-941A-43E5DE74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E95A4-61E5-40E3-89F2-4AE625364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53D5-0C81-4307-A933-DB004B56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5B63-009D-4ED1-AF03-26B8B2DE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C32F-0D70-4F08-B416-21ADE709A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FCE25-6BE0-4697-960C-9507E056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29C0-1266-4FA8-903E-0A12241F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78E9-FB97-46AC-B349-9565F4B4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B5FD-C025-4686-88E5-8355E859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DB524-F742-4D40-8F0F-BF668D0B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9058-064C-477E-8E57-AF8680B4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BAE-D750-4C39-A1A6-B39D67DE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E22-D955-472D-A7E3-4C08F5EA5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AE63-BA9F-4325-ABA5-A11BF4C0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6FCA-F34F-4CC6-A8F8-4E5125E5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3856-64A7-418E-8F5B-EC164D3B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62DA-9C5E-4BE6-A7A5-18636756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C1AD2-A77D-4C40-8F69-04F077643D3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5166A-3813-483A-AC74-D8FE7A1AAB2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Девятое февраля.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3520" y="40381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лассная раб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понравилось на урок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вызвало затруднени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надо повторит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Спасибо за внимание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годня мы немного повторим изученное, и вы скажите, какую тему мы будем изуч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Разряды количественных числительных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5800" y="380880"/>
          <a:ext cx="7696080" cy="5105520"/>
        </p:xfrm>
        <a:graphic>
          <a:graphicData uri="http://schemas.openxmlformats.org/drawingml/2006/table">
            <a:tbl>
              <a:tblPr/>
              <a:tblGrid>
                <a:gridCol w="7696080"/>
              </a:tblGrid>
              <a:tr h="19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енные                                  </a:t>
                      </a:r>
                      <a:r>
                        <a:rPr b="1" i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орядко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?                                                   Ка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ринадцать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лет                    </a:t>
                      </a:r>
                      <a:r>
                        <a:rPr b="1" i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четвертый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о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есть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                             второй </a:t>
                      </a:r>
                      <a:r>
                        <a:rPr b="1" i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вести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тонн                             </a:t>
                      </a:r>
                      <a:r>
                        <a:rPr b="1" i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шестисотый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шр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53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числительн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ые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600" spc="-1" strike="noStrike">
                <a:solidFill>
                  <a:srgbClr val="005c2a"/>
                </a:solidFill>
                <a:latin typeface="Times New Roman"/>
                <a:ea typeface="Times New Roman"/>
              </a:rPr>
              <a:t>Дробные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обирательные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ять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3600" spc="-1" strike="noStrike">
                <a:solidFill>
                  <a:srgbClr val="005c2a"/>
                </a:solidFill>
                <a:latin typeface="Times New Roman"/>
                <a:ea typeface="Times New Roman"/>
              </a:rPr>
              <a:t>две трети</a:t>
            </a:r>
            <a:r>
              <a:rPr b="0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ятер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адцать три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005c2a"/>
                </a:solidFill>
                <a:latin typeface="Times New Roman"/>
                <a:ea typeface="Times New Roman"/>
              </a:rPr>
              <a:t>одна четвертая</a:t>
            </a:r>
            <a:r>
              <a:rPr b="0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ро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Рисунок 6" descr="007.JPG"/>
          <p:cNvPicPr/>
          <p:nvPr/>
        </p:nvPicPr>
        <p:blipFill>
          <a:blip r:embed="rId1"/>
          <a:srcRect l="7032" t="3008" r="0" b="0"/>
          <a:stretch/>
        </p:blipFill>
        <p:spPr>
          <a:xfrm>
            <a:off x="152280" y="4495680"/>
            <a:ext cx="2438640" cy="1947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animals_4945_Zlaga_ru-1"/>
          <p:cNvPicPr/>
          <p:nvPr/>
        </p:nvPicPr>
        <p:blipFill>
          <a:blip r:embed="rId2"/>
          <a:stretch/>
        </p:blipFill>
        <p:spPr>
          <a:xfrm>
            <a:off x="6477120" y="4419720"/>
            <a:ext cx="2511360" cy="2023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98"/>
          <p:cNvPicPr/>
          <p:nvPr/>
        </p:nvPicPr>
        <p:blipFill>
          <a:blip r:embed="rId3"/>
          <a:stretch/>
        </p:blipFill>
        <p:spPr>
          <a:xfrm>
            <a:off x="3505320" y="4419720"/>
            <a:ext cx="21477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Немножко отдохн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3" descr="AG00319_"/>
          <p:cNvPicPr/>
          <p:nvPr/>
        </p:nvPicPr>
        <p:blipFill>
          <a:blip r:embed="rId1"/>
          <a:stretch/>
        </p:blipFill>
        <p:spPr>
          <a:xfrm>
            <a:off x="533520" y="2819520"/>
            <a:ext cx="800100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Давайте улыбнемс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Прочтите фразу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Вскоре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7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я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о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5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сядет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за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100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л, блистающий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 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чи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100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тою. Сес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3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цы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40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и е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ухи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3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лись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пре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варительно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приготовить обед, отыскать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вме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100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осе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3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ны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100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лько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ус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3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ц, что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пред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100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ит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целый пир</a:t>
            </a:r>
            <a:r>
              <a:rPr b="0" lang="en-US" sz="3200" spc="-1" strike="noStrike">
                <a:solidFill>
                  <a:srgbClr val="703d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0"/>
            <a:ext cx="76960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Укажите неверное утвержд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орок восемь – это целое числ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дна треть – дробное числительно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то – собирательное числитель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трое – собирательное числительно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В какой строчке одинаковый разряд числительны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то , два, пятер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ри пятых, шесть восьмых, сорок од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тысяча, семнадцать, двадцать девя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ст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omic Sans MS"/>
              </a:rPr>
              <a:t>Укажи верное высказывание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omic Sans MS"/>
              </a:rPr>
              <a:t>Числительное – это…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000" spc="-1" strike="noStrike">
                <a:solidFill>
                  <a:srgbClr val="002060"/>
                </a:solidFill>
                <a:latin typeface="Comic Sans MS"/>
              </a:rPr>
              <a:t>А)</a:t>
            </a:r>
            <a:r>
              <a:rPr b="0" i="1" lang="en-US" sz="3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i="1" lang="en-US" sz="3000" spc="-1" strike="noStrike">
                <a:solidFill>
                  <a:srgbClr val="002060"/>
                </a:solidFill>
                <a:latin typeface="Comic Sans MS"/>
              </a:rPr>
              <a:t>Слова, обозначающие число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2060"/>
                </a:solidFill>
                <a:latin typeface="Comic Sans MS"/>
              </a:rPr>
              <a:t>Б) Часть речи, которая обозначает число, количество предметов и порядок их при счете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2060"/>
                </a:solidFill>
                <a:latin typeface="Comic Sans MS"/>
              </a:rPr>
              <a:t>В) Слова, отвечающие на вопросы сколько? и как много?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2060"/>
                </a:solidFill>
                <a:latin typeface="Comic Sans MS"/>
              </a:rPr>
              <a:t>Г) </a:t>
            </a:r>
            <a:r>
              <a:rPr b="0" i="1" lang="en-US" sz="3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i="1" lang="en-US" sz="3000" spc="-1" strike="noStrike">
                <a:solidFill>
                  <a:srgbClr val="002060"/>
                </a:solidFill>
                <a:latin typeface="Comic Sans MS"/>
              </a:rPr>
              <a:t>Часть речи, которая обозначает число, количество предметов, а также их порядок при счете и отвечает на вопросы сколько? и какой?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4:11:26Z</dcterms:created>
  <dc:creator>Михаил</dc:creator>
  <dc:description/>
  <dc:language>en-US</dc:language>
  <cp:lastModifiedBy>Михаил</cp:lastModifiedBy>
  <dcterms:modified xsi:type="dcterms:W3CDTF">2018-07-20T10:00:4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