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chime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5F11-319A-4F79-A025-FA34D39CE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A761-98EC-4659-8264-ED2BDA696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F5E9-1D61-4201-9DA1-59335CC8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8EE2-DE88-471D-B595-02527A4DD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7477-1A2F-4384-968C-BC3598DC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835A2-C9F6-4CD4-9524-8493A12B0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C6FF-97AE-4084-9D66-7DA49DC1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320A-374C-40AA-A653-D5C5BBBBD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0A67-5C7A-4373-8321-D1FDCCFB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F272-FDB3-417A-B1FD-026B05EB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0C77-4603-4244-AAC9-7C053D011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0ADE-F727-4BD3-9C5C-F17515E61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E1888-47C1-42A8-AE94-99E8371E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AD37-4EE5-4D6D-8E52-3F03CE2C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A1F8-EE2D-44DC-A557-39FAF1C5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F661-7F13-4440-84D3-20EF149F9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BFE23-6FF0-4B11-983F-A92E559F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A25A-B886-45ED-8CC8-554D19F9D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C34-7354-45C9-8524-93D3A1FD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AA8-86DA-4489-A10E-C1891D16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9AC2-70E3-4DB0-8D60-CCE2C3B51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59E5-39F8-4EFA-929B-1068373E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408-8D0E-4FE3-AABD-0C793F54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FE50-28A2-45F4-AFD5-84D8B6C5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6D145-899C-4268-9163-0A426F9ACB7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6ADF-3AB7-4273-B848-38CDA59C668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Девятое февраля.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23520" y="40381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лассная рабо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понравилось на урок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вызвало затруднение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Что надо повторить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Спасибо за внимание.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егодня мы немного повторим изученное, и вы скажите, какую тему мы будем изуча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Разряды количественных числительных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85800" y="380880"/>
          <a:ext cx="7696080" cy="5105520"/>
        </p:xfrm>
        <a:graphic>
          <a:graphicData uri="http://schemas.openxmlformats.org/drawingml/2006/table">
            <a:tbl>
              <a:tblPr/>
              <a:tblGrid>
                <a:gridCol w="7696080"/>
              </a:tblGrid>
              <a:tr h="197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Количественные                                  </a:t>
                      </a:r>
                      <a:r>
                        <a:rPr b="1" i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Порядковы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олько?                                                   Какой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Тринадцать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лет                    </a:t>
                      </a:r>
                      <a:r>
                        <a:rPr b="1" i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четвертый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ном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шесть 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тук                             второй </a:t>
                      </a:r>
                      <a:r>
                        <a:rPr b="1" i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двести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тонн                             </a:t>
                      </a:r>
                      <a:r>
                        <a:rPr b="1" i="1" lang="en-US" sz="2400" spc="-1" strike="noStrike">
                          <a:solidFill>
                            <a:srgbClr val="0070c0"/>
                          </a:solidFill>
                          <a:latin typeface="Times New Roman"/>
                          <a:ea typeface="Times New Roman"/>
                        </a:rPr>
                        <a:t>шестисотый </a:t>
                      </a: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шру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153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ые числительны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Целые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600" spc="-1" strike="noStrike">
                <a:solidFill>
                  <a:srgbClr val="005c2a"/>
                </a:solidFill>
                <a:latin typeface="Times New Roman"/>
                <a:ea typeface="Times New Roman"/>
              </a:rPr>
              <a:t>Дробные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обирательные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ять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     </a:t>
            </a:r>
            <a:r>
              <a:rPr b="0" lang="en-US" sz="3600" spc="-1" strike="noStrike">
                <a:solidFill>
                  <a:srgbClr val="005c2a"/>
                </a:solidFill>
                <a:latin typeface="Times New Roman"/>
                <a:ea typeface="Times New Roman"/>
              </a:rPr>
              <a:t>две трети</a:t>
            </a:r>
            <a:r>
              <a:rPr b="0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      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ятеро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вадцать три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0" lang="en-US" sz="3600" spc="-1" strike="noStrike">
                <a:solidFill>
                  <a:srgbClr val="005c2a"/>
                </a:solidFill>
                <a:latin typeface="Times New Roman"/>
                <a:ea typeface="Times New Roman"/>
              </a:rPr>
              <a:t>одна четвертая</a:t>
            </a:r>
            <a:r>
              <a:rPr b="0" lang="en-US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   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тро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1" name="Рисунок 6" descr="007.JPG"/>
          <p:cNvPicPr/>
          <p:nvPr/>
        </p:nvPicPr>
        <p:blipFill>
          <a:blip r:embed="rId1"/>
          <a:srcRect l="7032" t="3008" r="0" b="0"/>
          <a:stretch/>
        </p:blipFill>
        <p:spPr>
          <a:xfrm>
            <a:off x="152280" y="4495680"/>
            <a:ext cx="2438640" cy="1947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animals_4945_Zlaga_ru-1"/>
          <p:cNvPicPr/>
          <p:nvPr/>
        </p:nvPicPr>
        <p:blipFill>
          <a:blip r:embed="rId2"/>
          <a:stretch/>
        </p:blipFill>
        <p:spPr>
          <a:xfrm>
            <a:off x="6477120" y="4419720"/>
            <a:ext cx="2511360" cy="20239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98"/>
          <p:cNvPicPr/>
          <p:nvPr/>
        </p:nvPicPr>
        <p:blipFill>
          <a:blip r:embed="rId3"/>
          <a:stretch/>
        </p:blipFill>
        <p:spPr>
          <a:xfrm>
            <a:off x="3505320" y="4419720"/>
            <a:ext cx="21477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Немножко отдохнем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Picture 3" descr="AG00319_"/>
          <p:cNvPicPr/>
          <p:nvPr/>
        </p:nvPicPr>
        <p:blipFill>
          <a:blip r:embed="rId1"/>
          <a:stretch/>
        </p:blipFill>
        <p:spPr>
          <a:xfrm>
            <a:off x="533520" y="2819520"/>
            <a:ext cx="8001000" cy="21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Impact"/>
              </a:rPr>
              <a:t>Давайте улыбнемс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Impact"/>
              </a:rPr>
              <a:t>Прочтите фразу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Вскоре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7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я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о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5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сядет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за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100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л, блистающий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 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чи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100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тою. Сес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3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цы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-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40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и е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ухи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3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лись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пре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2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варительно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приготовить обед, отыскать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вме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100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осе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3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ны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100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лько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ус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3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ц, что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пред</a:t>
            </a:r>
            <a:r>
              <a:rPr b="1" lang="en-US" sz="3200" spc="-1" strike="noStrike">
                <a:solidFill>
                  <a:srgbClr val="ff0000"/>
                </a:solidFill>
                <a:latin typeface="Impact"/>
              </a:rPr>
              <a:t>100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ит</a:t>
            </a:r>
            <a:r>
              <a:rPr b="1" lang="en-US" sz="3200" spc="-1" strike="noStrike">
                <a:solidFill>
                  <a:srgbClr val="ffff66"/>
                </a:solidFill>
                <a:latin typeface="Impact"/>
              </a:rPr>
              <a:t> </a:t>
            </a:r>
            <a:r>
              <a:rPr b="1" lang="en-US" sz="3200" spc="-1" strike="noStrike">
                <a:solidFill>
                  <a:srgbClr val="703dff"/>
                </a:solidFill>
                <a:latin typeface="Impact"/>
              </a:rPr>
              <a:t>целый пир</a:t>
            </a:r>
            <a:r>
              <a:rPr b="0" lang="en-US" sz="3200" spc="-1" strike="noStrike">
                <a:solidFill>
                  <a:srgbClr val="703dff"/>
                </a:solidFill>
                <a:latin typeface="Impac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0"/>
            <a:ext cx="76960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 Укажите неверное утверждени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орок восемь – это целое число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Одна треть – дробное числительно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Сто – собирательное числительное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) трое – собирательное числительно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В какой строчке одинаковый разряд числительных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) сто , два, пятер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) три пятых, шесть восьмых, сорок один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) тысяча, семнадцать, двадцать девя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Тест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56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omic Sans MS"/>
              </a:rPr>
              <a:t>Укажи верное высказывание.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00000"/>
                </a:solidFill>
                <a:latin typeface="Comic Sans MS"/>
              </a:rPr>
              <a:t>Числительное – это…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000" spc="-1" strike="noStrike">
                <a:solidFill>
                  <a:srgbClr val="002060"/>
                </a:solidFill>
                <a:latin typeface="Comic Sans MS"/>
              </a:rPr>
              <a:t>А)</a:t>
            </a:r>
            <a:r>
              <a:rPr b="0" i="1" lang="en-US" sz="3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i="1" lang="en-US" sz="3000" spc="-1" strike="noStrike">
                <a:solidFill>
                  <a:srgbClr val="002060"/>
                </a:solidFill>
                <a:latin typeface="Comic Sans MS"/>
              </a:rPr>
              <a:t>Слова, обозначающие число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2060"/>
                </a:solidFill>
                <a:latin typeface="Comic Sans MS"/>
              </a:rPr>
              <a:t>Б) Часть речи, которая обозначает число, количество предметов и порядок их при счете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2060"/>
                </a:solidFill>
                <a:latin typeface="Comic Sans MS"/>
              </a:rPr>
              <a:t>В) Слова, отвечающие на вопросы сколько? и как много?;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2060"/>
                </a:solidFill>
                <a:latin typeface="Comic Sans MS"/>
              </a:rPr>
              <a:t>Г) </a:t>
            </a:r>
            <a:r>
              <a:rPr b="0" i="1" lang="en-US" sz="30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i="1" lang="en-US" sz="3000" spc="-1" strike="noStrike">
                <a:solidFill>
                  <a:srgbClr val="002060"/>
                </a:solidFill>
                <a:latin typeface="Comic Sans MS"/>
              </a:rPr>
              <a:t>Часть речи, которая обозначает число, количество предметов, а также их порядок при счете и отвечает на вопросы сколько? и какой? 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14:11:26Z</dcterms:created>
  <dc:creator>Михаил</dc:creator>
  <dc:description/>
  <dc:language>en-US</dc:language>
  <cp:lastModifiedBy>Михаил</cp:lastModifiedBy>
  <dcterms:modified xsi:type="dcterms:W3CDTF">2018-07-20T10:00:49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