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4424-573B-49E2-B9E2-AFC27815D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69C3-E315-4A1F-A4B0-4A0214427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0810-9969-4D54-985D-52770A2F1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80B5-EE75-4718-B9BA-3CCAC0F43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9952-9AF6-48CD-9A8B-F9E1A2608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0DEF-DDFF-4277-B56D-6F70EFC08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D044-B141-4ADA-BB00-89B0736A6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EE88-860E-467F-947D-8C6D9E60F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5320-40DB-434F-A902-F1A78A56E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B51F-E651-41D7-80D8-DA64E2E63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0605-A945-4289-A19D-3AB10E2C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BEB7-6235-481B-9EBC-EDDBFC34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06102-2B34-4DA6-8D27-5A35CB2C0C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6.png"/><Relationship Id="rId4" Type="http://schemas.openxmlformats.org/officeDocument/2006/relationships/image" Target="../media/image6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1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image" Target="../media/image19.png"/><Relationship Id="rId5" Type="http://schemas.openxmlformats.org/officeDocument/2006/relationships/image" Target="../media/image14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1556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идактическая игр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836280"/>
            <a:ext cx="64008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«Как нужно ухаживать за собой?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328320" y="1844640"/>
            <a:ext cx="8631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Цель игр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ть детям знания о здоровом образе жизни: какие предметы нужн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выполнения гигиенических процеду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дачи игр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сширять кругозор детей. Активизировать словарный запас дете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спитывать интерес к накоплению положительного образа в оздоровлен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4078440" y="5951520"/>
            <a:ext cx="863280" cy="606600"/>
          </a:xfrm>
          <a:custGeom>
            <a:avLst/>
            <a:gdLst>
              <a:gd name="textAreaLeft" fmla="*/ 39240 w 863280"/>
              <a:gd name="textAreaRight" fmla="*/ 824040 w 863280"/>
              <a:gd name="textAreaTop" fmla="*/ 39240 h 606600"/>
              <a:gd name="textAreaBottom" fmla="*/ 567360 h 606600"/>
            </a:gdLst>
            <a:ahLst/>
            <a:rect l="textAreaLeft" t="textAreaTop" r="textAreaRight" b="textAreaBottom"/>
            <a:pathLst>
              <a:path w="30735" h="21600">
                <a:moveTo>
                  <a:pt x="0" y="0"/>
                </a:moveTo>
                <a:lnTo>
                  <a:pt x="30735" y="0"/>
                </a:lnTo>
                <a:lnTo>
                  <a:pt x="30735" y="21600"/>
                </a:lnTo>
                <a:lnTo>
                  <a:pt x="0" y="21600"/>
                </a:lnTo>
                <a:close/>
              </a:path>
              <a:path fill="lightenLess" w="30735" h="21600">
                <a:moveTo>
                  <a:pt x="0" y="0"/>
                </a:moveTo>
                <a:lnTo>
                  <a:pt x="30735" y="0"/>
                </a:lnTo>
                <a:lnTo>
                  <a:pt x="29335" y="1400"/>
                </a:lnTo>
                <a:lnTo>
                  <a:pt x="1400" y="1400"/>
                </a:lnTo>
                <a:close/>
              </a:path>
              <a:path fill="darken" w="30735" h="21600">
                <a:moveTo>
                  <a:pt x="30735" y="0"/>
                </a:moveTo>
                <a:lnTo>
                  <a:pt x="30735" y="21600"/>
                </a:lnTo>
                <a:lnTo>
                  <a:pt x="29335" y="20200"/>
                </a:lnTo>
                <a:lnTo>
                  <a:pt x="29335" y="1400"/>
                </a:lnTo>
                <a:close/>
              </a:path>
              <a:path fill="darkenLess" w="30735" h="21600">
                <a:moveTo>
                  <a:pt x="30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35" y="20200"/>
                </a:lnTo>
                <a:close/>
              </a:path>
              <a:path fill="lighten" w="30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35" h="21600">
                <a:moveTo>
                  <a:pt x="8361" y="3794"/>
                </a:moveTo>
                <a:lnTo>
                  <a:pt x="22374" y="10800"/>
                </a:lnTo>
                <a:lnTo>
                  <a:pt x="8361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Умножение 4"/>
          <p:cNvSpPr/>
          <p:nvPr/>
        </p:nvSpPr>
        <p:spPr>
          <a:xfrm>
            <a:off x="3376440" y="1665360"/>
            <a:ext cx="1368720" cy="1224000"/>
          </a:xfrm>
          <a:custGeom>
            <a:avLst/>
            <a:gdLst/>
            <a:ahLst/>
            <a:rect l="l" t="t" r="r" b="b"/>
            <a:pathLst>
              <a:path w="1368425" h="1223962">
                <a:moveTo>
                  <a:pt x="232703" y="401250"/>
                </a:moveTo>
                <a:lnTo>
                  <a:pt x="424620" y="186680"/>
                </a:lnTo>
                <a:lnTo>
                  <a:pt x="684213" y="418868"/>
                </a:lnTo>
                <a:lnTo>
                  <a:pt x="943805" y="186680"/>
                </a:lnTo>
                <a:lnTo>
                  <a:pt x="1135722" y="401250"/>
                </a:lnTo>
                <a:lnTo>
                  <a:pt x="900119" y="611981"/>
                </a:lnTo>
                <a:lnTo>
                  <a:pt x="1135722" y="822712"/>
                </a:lnTo>
                <a:lnTo>
                  <a:pt x="943805" y="1037282"/>
                </a:lnTo>
                <a:lnTo>
                  <a:pt x="684213" y="805094"/>
                </a:lnTo>
                <a:lnTo>
                  <a:pt x="424620" y="1037282"/>
                </a:lnTo>
                <a:lnTo>
                  <a:pt x="232703" y="822712"/>
                </a:lnTo>
                <a:lnTo>
                  <a:pt x="468306" y="611981"/>
                </a:lnTo>
                <a:lnTo>
                  <a:pt x="232703" y="401250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Умножение 12"/>
          <p:cNvSpPr/>
          <p:nvPr/>
        </p:nvSpPr>
        <p:spPr>
          <a:xfrm>
            <a:off x="5683320" y="1773360"/>
            <a:ext cx="1368360" cy="1224000"/>
          </a:xfrm>
          <a:custGeom>
            <a:avLst/>
            <a:gdLst/>
            <a:ahLst/>
            <a:rect l="l" t="t" r="r" b="b"/>
            <a:pathLst>
              <a:path w="1368425" h="1223962">
                <a:moveTo>
                  <a:pt x="232703" y="401250"/>
                </a:moveTo>
                <a:lnTo>
                  <a:pt x="424620" y="186680"/>
                </a:lnTo>
                <a:lnTo>
                  <a:pt x="684213" y="418868"/>
                </a:lnTo>
                <a:lnTo>
                  <a:pt x="943805" y="186680"/>
                </a:lnTo>
                <a:lnTo>
                  <a:pt x="1135722" y="401250"/>
                </a:lnTo>
                <a:lnTo>
                  <a:pt x="900119" y="611981"/>
                </a:lnTo>
                <a:lnTo>
                  <a:pt x="1135722" y="822712"/>
                </a:lnTo>
                <a:lnTo>
                  <a:pt x="943805" y="1037282"/>
                </a:lnTo>
                <a:lnTo>
                  <a:pt x="684213" y="805094"/>
                </a:lnTo>
                <a:lnTo>
                  <a:pt x="424620" y="1037282"/>
                </a:lnTo>
                <a:lnTo>
                  <a:pt x="232703" y="822712"/>
                </a:lnTo>
                <a:lnTo>
                  <a:pt x="468306" y="611981"/>
                </a:lnTo>
                <a:lnTo>
                  <a:pt x="232703" y="401250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Нашивка 3"/>
          <p:cNvSpPr/>
          <p:nvPr/>
        </p:nvSpPr>
        <p:spPr>
          <a:xfrm rot="5400000">
            <a:off x="964800" y="1701720"/>
            <a:ext cx="1008000" cy="115092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1150920"/>
              <a:gd name="textAreaBottom" fmla="*/ 115128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Нашивка 9"/>
          <p:cNvSpPr/>
          <p:nvPr/>
        </p:nvSpPr>
        <p:spPr>
          <a:xfrm rot="5400000">
            <a:off x="1355040" y="4421880"/>
            <a:ext cx="1008000" cy="115272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1152720"/>
              <a:gd name="textAreaBottom" fmla="*/ 11530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Нашивка 10"/>
          <p:cNvSpPr/>
          <p:nvPr/>
        </p:nvSpPr>
        <p:spPr>
          <a:xfrm rot="5400000">
            <a:off x="5604120" y="4421880"/>
            <a:ext cx="1008000" cy="115236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1152360"/>
              <a:gd name="textAreaBottom" fmla="*/ 11523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Прямоугольник 1" descr=""/>
          <p:cNvPicPr/>
          <p:nvPr/>
        </p:nvPicPr>
        <p:blipFill>
          <a:blip r:embed="rId1"/>
          <a:stretch/>
        </p:blipFill>
        <p:spPr>
          <a:xfrm>
            <a:off x="182520" y="19080"/>
            <a:ext cx="8778960" cy="1455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2290680" cy="1728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3"/>
          <a:stretch/>
        </p:blipFill>
        <p:spPr>
          <a:xfrm>
            <a:off x="2771640" y="1192320"/>
            <a:ext cx="2170080" cy="2170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4"/>
          <a:stretch/>
        </p:blipFill>
        <p:spPr>
          <a:xfrm>
            <a:off x="5148360" y="105732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5"/>
          <a:stretch/>
        </p:blipFill>
        <p:spPr>
          <a:xfrm>
            <a:off x="477720" y="4076640"/>
            <a:ext cx="2762280" cy="1841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6"/>
          <a:stretch/>
        </p:blipFill>
        <p:spPr>
          <a:xfrm>
            <a:off x="4630680" y="3860640"/>
            <a:ext cx="2955960" cy="2275200"/>
          </a:xfrm>
          <a:prstGeom prst="rect">
            <a:avLst/>
          </a:prstGeom>
          <a:ln w="0">
            <a:noFill/>
          </a:ln>
        </p:spPr>
      </p:pic>
      <p:sp>
        <p:nvSpPr>
          <p:cNvPr id="56" name="Управляющая кнопка: далее 2">
            <a:hlinkClick r:id="" action="ppaction://hlinkshowjump?jump=nextslide"/>
          </p:cNvPr>
          <p:cNvSpPr/>
          <p:nvPr/>
        </p:nvSpPr>
        <p:spPr>
          <a:xfrm>
            <a:off x="4078440" y="5951520"/>
            <a:ext cx="863280" cy="606600"/>
          </a:xfrm>
          <a:custGeom>
            <a:avLst/>
            <a:gdLst>
              <a:gd name="textAreaLeft" fmla="*/ 39240 w 863280"/>
              <a:gd name="textAreaRight" fmla="*/ 824040 w 863280"/>
              <a:gd name="textAreaTop" fmla="*/ 39240 h 606600"/>
              <a:gd name="textAreaBottom" fmla="*/ 567360 h 606600"/>
            </a:gdLst>
            <a:ahLst/>
            <a:rect l="textAreaLeft" t="textAreaTop" r="textAreaRight" b="textAreaBottom"/>
            <a:pathLst>
              <a:path w="30735" h="21600">
                <a:moveTo>
                  <a:pt x="0" y="0"/>
                </a:moveTo>
                <a:lnTo>
                  <a:pt x="30735" y="0"/>
                </a:lnTo>
                <a:lnTo>
                  <a:pt x="30735" y="21600"/>
                </a:lnTo>
                <a:lnTo>
                  <a:pt x="0" y="21600"/>
                </a:lnTo>
                <a:close/>
              </a:path>
              <a:path fill="lightenLess" w="30735" h="21600">
                <a:moveTo>
                  <a:pt x="0" y="0"/>
                </a:moveTo>
                <a:lnTo>
                  <a:pt x="30735" y="0"/>
                </a:lnTo>
                <a:lnTo>
                  <a:pt x="29335" y="1400"/>
                </a:lnTo>
                <a:lnTo>
                  <a:pt x="1400" y="1400"/>
                </a:lnTo>
                <a:close/>
              </a:path>
              <a:path fill="darken" w="30735" h="21600">
                <a:moveTo>
                  <a:pt x="30735" y="0"/>
                </a:moveTo>
                <a:lnTo>
                  <a:pt x="30735" y="21600"/>
                </a:lnTo>
                <a:lnTo>
                  <a:pt x="29335" y="20200"/>
                </a:lnTo>
                <a:lnTo>
                  <a:pt x="29335" y="1400"/>
                </a:lnTo>
                <a:close/>
              </a:path>
              <a:path fill="darkenLess" w="30735" h="21600">
                <a:moveTo>
                  <a:pt x="30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35" y="20200"/>
                </a:lnTo>
                <a:close/>
              </a:path>
              <a:path fill="lighten" w="30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35" h="21600">
                <a:moveTo>
                  <a:pt x="8361" y="3794"/>
                </a:moveTo>
                <a:lnTo>
                  <a:pt x="22374" y="10800"/>
                </a:lnTo>
                <a:lnTo>
                  <a:pt x="8361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26" nodeType="clickEffect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2" nodeType="clickEffect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ашивка 9"/>
          <p:cNvSpPr/>
          <p:nvPr/>
        </p:nvSpPr>
        <p:spPr>
          <a:xfrm rot="5400000">
            <a:off x="1366560" y="1638360"/>
            <a:ext cx="865080" cy="1081080"/>
          </a:xfrm>
          <a:custGeom>
            <a:avLst/>
            <a:gdLst>
              <a:gd name="textAreaLeft" fmla="*/ 0 w 865080"/>
              <a:gd name="textAreaRight" fmla="*/ 865440 w 86508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Нашивка 10"/>
          <p:cNvSpPr/>
          <p:nvPr/>
        </p:nvSpPr>
        <p:spPr>
          <a:xfrm rot="5400000">
            <a:off x="4425480" y="1717560"/>
            <a:ext cx="865080" cy="1081080"/>
          </a:xfrm>
          <a:custGeom>
            <a:avLst/>
            <a:gdLst>
              <a:gd name="textAreaLeft" fmla="*/ 0 w 865080"/>
              <a:gd name="textAreaRight" fmla="*/ 865440 w 86508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Нашивка 11"/>
          <p:cNvSpPr/>
          <p:nvPr/>
        </p:nvSpPr>
        <p:spPr>
          <a:xfrm rot="5400000">
            <a:off x="1281960" y="4581360"/>
            <a:ext cx="865440" cy="1081080"/>
          </a:xfrm>
          <a:custGeom>
            <a:avLst/>
            <a:gdLst>
              <a:gd name="textAreaLeft" fmla="*/ 0 w 865440"/>
              <a:gd name="textAreaRight" fmla="*/ 865800 w 86544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Нашивка 12"/>
          <p:cNvSpPr/>
          <p:nvPr/>
        </p:nvSpPr>
        <p:spPr>
          <a:xfrm rot="5400000">
            <a:off x="7319160" y="4581360"/>
            <a:ext cx="865440" cy="1081080"/>
          </a:xfrm>
          <a:custGeom>
            <a:avLst/>
            <a:gdLst>
              <a:gd name="textAreaLeft" fmla="*/ 0 w 865440"/>
              <a:gd name="textAreaRight" fmla="*/ 865800 w 86544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Умножение 13"/>
          <p:cNvSpPr/>
          <p:nvPr/>
        </p:nvSpPr>
        <p:spPr>
          <a:xfrm>
            <a:off x="7068960" y="1646280"/>
            <a:ext cx="1368720" cy="1224000"/>
          </a:xfrm>
          <a:custGeom>
            <a:avLst/>
            <a:gdLst/>
            <a:ahLst/>
            <a:rect l="l" t="t" r="r" b="b"/>
            <a:pathLst>
              <a:path w="1368425" h="1223962">
                <a:moveTo>
                  <a:pt x="232703" y="401250"/>
                </a:moveTo>
                <a:lnTo>
                  <a:pt x="424620" y="186680"/>
                </a:lnTo>
                <a:lnTo>
                  <a:pt x="684213" y="418868"/>
                </a:lnTo>
                <a:lnTo>
                  <a:pt x="943805" y="186680"/>
                </a:lnTo>
                <a:lnTo>
                  <a:pt x="1135722" y="401250"/>
                </a:lnTo>
                <a:lnTo>
                  <a:pt x="900119" y="611981"/>
                </a:lnTo>
                <a:lnTo>
                  <a:pt x="1135722" y="822712"/>
                </a:lnTo>
                <a:lnTo>
                  <a:pt x="943805" y="1037282"/>
                </a:lnTo>
                <a:lnTo>
                  <a:pt x="684213" y="805094"/>
                </a:lnTo>
                <a:lnTo>
                  <a:pt x="424620" y="1037282"/>
                </a:lnTo>
                <a:lnTo>
                  <a:pt x="232703" y="822712"/>
                </a:lnTo>
                <a:lnTo>
                  <a:pt x="468306" y="611981"/>
                </a:lnTo>
                <a:lnTo>
                  <a:pt x="232703" y="401250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Умножение 14"/>
          <p:cNvSpPr/>
          <p:nvPr/>
        </p:nvSpPr>
        <p:spPr>
          <a:xfrm>
            <a:off x="4175280" y="4510080"/>
            <a:ext cx="1368360" cy="1224000"/>
          </a:xfrm>
          <a:custGeom>
            <a:avLst/>
            <a:gdLst/>
            <a:ahLst/>
            <a:rect l="l" t="t" r="r" b="b"/>
            <a:pathLst>
              <a:path w="1368425" h="1223962">
                <a:moveTo>
                  <a:pt x="232703" y="401250"/>
                </a:moveTo>
                <a:lnTo>
                  <a:pt x="424620" y="186680"/>
                </a:lnTo>
                <a:lnTo>
                  <a:pt x="684213" y="418868"/>
                </a:lnTo>
                <a:lnTo>
                  <a:pt x="943805" y="186680"/>
                </a:lnTo>
                <a:lnTo>
                  <a:pt x="1135722" y="401250"/>
                </a:lnTo>
                <a:lnTo>
                  <a:pt x="900119" y="611981"/>
                </a:lnTo>
                <a:lnTo>
                  <a:pt x="1135722" y="822712"/>
                </a:lnTo>
                <a:lnTo>
                  <a:pt x="943805" y="1037282"/>
                </a:lnTo>
                <a:lnTo>
                  <a:pt x="684213" y="805094"/>
                </a:lnTo>
                <a:lnTo>
                  <a:pt x="424620" y="1037282"/>
                </a:lnTo>
                <a:lnTo>
                  <a:pt x="232703" y="822712"/>
                </a:lnTo>
                <a:lnTo>
                  <a:pt x="468306" y="611981"/>
                </a:lnTo>
                <a:lnTo>
                  <a:pt x="232703" y="401250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Прямоугольник 1" descr=""/>
          <p:cNvPicPr/>
          <p:nvPr/>
        </p:nvPicPr>
        <p:blipFill>
          <a:blip r:embed="rId1"/>
          <a:stretch/>
        </p:blipFill>
        <p:spPr>
          <a:xfrm>
            <a:off x="324000" y="6480"/>
            <a:ext cx="8594640" cy="1073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2808360" cy="2106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3"/>
          <a:stretch/>
        </p:blipFill>
        <p:spPr>
          <a:xfrm>
            <a:off x="654120" y="4257720"/>
            <a:ext cx="2290680" cy="1728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4"/>
          <a:stretch/>
        </p:blipFill>
        <p:spPr>
          <a:xfrm>
            <a:off x="3635280" y="1284120"/>
            <a:ext cx="2448000" cy="1947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5"/>
          <a:stretch/>
        </p:blipFill>
        <p:spPr>
          <a:xfrm>
            <a:off x="6875640" y="4005360"/>
            <a:ext cx="1755720" cy="2233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"/>
          <p:cNvPicPr/>
          <p:nvPr/>
        </p:nvPicPr>
        <p:blipFill>
          <a:blip r:embed="rId6"/>
          <a:stretch/>
        </p:blipFill>
        <p:spPr>
          <a:xfrm>
            <a:off x="3959280" y="4222800"/>
            <a:ext cx="1800000" cy="1798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"/>
          <p:cNvPicPr/>
          <p:nvPr/>
        </p:nvPicPr>
        <p:blipFill>
          <a:blip r:embed="rId7"/>
          <a:stretch/>
        </p:blipFill>
        <p:spPr>
          <a:xfrm>
            <a:off x="6948360" y="1336680"/>
            <a:ext cx="1683000" cy="1684440"/>
          </a:xfrm>
          <a:prstGeom prst="rect">
            <a:avLst/>
          </a:prstGeom>
          <a:ln w="0">
            <a:noFill/>
          </a:ln>
        </p:spPr>
      </p:pic>
      <p:sp>
        <p:nvSpPr>
          <p:cNvPr id="70" name="Управляющая кнопка: далее 8">
            <a:hlinkClick r:id="" action="ppaction://hlinkshowjump?jump=nextslide"/>
          </p:cNvPr>
          <p:cNvSpPr/>
          <p:nvPr/>
        </p:nvSpPr>
        <p:spPr>
          <a:xfrm>
            <a:off x="4189320" y="6093000"/>
            <a:ext cx="863640" cy="606240"/>
          </a:xfrm>
          <a:custGeom>
            <a:avLst/>
            <a:gdLst>
              <a:gd name="textAreaLeft" fmla="*/ 39240 w 863640"/>
              <a:gd name="textAreaRight" fmla="*/ 824400 w 863640"/>
              <a:gd name="textAreaTop" fmla="*/ 39240 h 606240"/>
              <a:gd name="textAreaBottom" fmla="*/ 567000 h 606240"/>
            </a:gdLst>
            <a:ahLst/>
            <a:rect l="textAreaLeft" t="textAreaTop" r="textAreaRight" b="textAreaBottom"/>
            <a:pathLst>
              <a:path w="30766" h="21600">
                <a:moveTo>
                  <a:pt x="0" y="0"/>
                </a:moveTo>
                <a:lnTo>
                  <a:pt x="30766" y="0"/>
                </a:lnTo>
                <a:lnTo>
                  <a:pt x="30766" y="21600"/>
                </a:lnTo>
                <a:lnTo>
                  <a:pt x="0" y="21600"/>
                </a:lnTo>
                <a:close/>
              </a:path>
              <a:path fill="lightenLess" w="30766" h="21600">
                <a:moveTo>
                  <a:pt x="0" y="0"/>
                </a:moveTo>
                <a:lnTo>
                  <a:pt x="30766" y="0"/>
                </a:lnTo>
                <a:lnTo>
                  <a:pt x="29366" y="1400"/>
                </a:lnTo>
                <a:lnTo>
                  <a:pt x="1400" y="1400"/>
                </a:lnTo>
                <a:close/>
              </a:path>
              <a:path fill="darken" w="30766" h="21600">
                <a:moveTo>
                  <a:pt x="30766" y="0"/>
                </a:moveTo>
                <a:lnTo>
                  <a:pt x="30766" y="21600"/>
                </a:lnTo>
                <a:lnTo>
                  <a:pt x="29366" y="20200"/>
                </a:lnTo>
                <a:lnTo>
                  <a:pt x="29366" y="1400"/>
                </a:lnTo>
                <a:close/>
              </a:path>
              <a:path fill="darkenLess" w="30766" h="21600">
                <a:moveTo>
                  <a:pt x="30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66" y="20200"/>
                </a:lnTo>
                <a:close/>
              </a:path>
              <a:path fill="lighten" w="30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66" h="21600">
                <a:moveTo>
                  <a:pt x="8376" y="3794"/>
                </a:moveTo>
                <a:lnTo>
                  <a:pt x="22389" y="10800"/>
                </a:lnTo>
                <a:lnTo>
                  <a:pt x="837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39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57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69" nodeType="clickEffect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Умножение 9"/>
          <p:cNvSpPr/>
          <p:nvPr/>
        </p:nvSpPr>
        <p:spPr>
          <a:xfrm>
            <a:off x="1428840" y="4130640"/>
            <a:ext cx="1368360" cy="1224000"/>
          </a:xfrm>
          <a:custGeom>
            <a:avLst/>
            <a:gdLst/>
            <a:ahLst/>
            <a:rect l="l" t="t" r="r" b="b"/>
            <a:pathLst>
              <a:path w="1368425" h="1223963">
                <a:moveTo>
                  <a:pt x="232702" y="401250"/>
                </a:moveTo>
                <a:lnTo>
                  <a:pt x="424620" y="186680"/>
                </a:lnTo>
                <a:lnTo>
                  <a:pt x="684213" y="418868"/>
                </a:lnTo>
                <a:lnTo>
                  <a:pt x="943805" y="186680"/>
                </a:lnTo>
                <a:lnTo>
                  <a:pt x="1135723" y="401250"/>
                </a:lnTo>
                <a:lnTo>
                  <a:pt x="900119" y="611982"/>
                </a:lnTo>
                <a:lnTo>
                  <a:pt x="1135723" y="822713"/>
                </a:lnTo>
                <a:lnTo>
                  <a:pt x="943805" y="1037283"/>
                </a:lnTo>
                <a:lnTo>
                  <a:pt x="684213" y="805095"/>
                </a:lnTo>
                <a:lnTo>
                  <a:pt x="424620" y="1037283"/>
                </a:lnTo>
                <a:lnTo>
                  <a:pt x="232702" y="822713"/>
                </a:lnTo>
                <a:lnTo>
                  <a:pt x="468306" y="611982"/>
                </a:lnTo>
                <a:lnTo>
                  <a:pt x="232702" y="401250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Умножение 10"/>
          <p:cNvSpPr/>
          <p:nvPr/>
        </p:nvSpPr>
        <p:spPr>
          <a:xfrm>
            <a:off x="5850000" y="1488960"/>
            <a:ext cx="1368360" cy="1224000"/>
          </a:xfrm>
          <a:custGeom>
            <a:avLst/>
            <a:gdLst/>
            <a:ahLst/>
            <a:rect l="l" t="t" r="r" b="b"/>
            <a:pathLst>
              <a:path w="1368425" h="1223963">
                <a:moveTo>
                  <a:pt x="232702" y="401250"/>
                </a:moveTo>
                <a:lnTo>
                  <a:pt x="424620" y="186680"/>
                </a:lnTo>
                <a:lnTo>
                  <a:pt x="684213" y="418868"/>
                </a:lnTo>
                <a:lnTo>
                  <a:pt x="943805" y="186680"/>
                </a:lnTo>
                <a:lnTo>
                  <a:pt x="1135723" y="401250"/>
                </a:lnTo>
                <a:lnTo>
                  <a:pt x="900119" y="611982"/>
                </a:lnTo>
                <a:lnTo>
                  <a:pt x="1135723" y="822713"/>
                </a:lnTo>
                <a:lnTo>
                  <a:pt x="943805" y="1037283"/>
                </a:lnTo>
                <a:lnTo>
                  <a:pt x="684213" y="805095"/>
                </a:lnTo>
                <a:lnTo>
                  <a:pt x="424620" y="1037283"/>
                </a:lnTo>
                <a:lnTo>
                  <a:pt x="232702" y="822713"/>
                </a:lnTo>
                <a:lnTo>
                  <a:pt x="468306" y="611982"/>
                </a:lnTo>
                <a:lnTo>
                  <a:pt x="232702" y="401250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Нашивка 8"/>
          <p:cNvSpPr/>
          <p:nvPr/>
        </p:nvSpPr>
        <p:spPr>
          <a:xfrm rot="5400000">
            <a:off x="6479280" y="4237920"/>
            <a:ext cx="865440" cy="1079280"/>
          </a:xfrm>
          <a:custGeom>
            <a:avLst/>
            <a:gdLst>
              <a:gd name="textAreaLeft" fmla="*/ 0 w 865440"/>
              <a:gd name="textAreaRight" fmla="*/ 865800 w 86544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Прямоугольник 3" descr=""/>
          <p:cNvPicPr/>
          <p:nvPr/>
        </p:nvPicPr>
        <p:blipFill>
          <a:blip r:embed="rId1"/>
          <a:stretch/>
        </p:blipFill>
        <p:spPr>
          <a:xfrm>
            <a:off x="-195120" y="-55440"/>
            <a:ext cx="9528120" cy="1457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768240" y="1357200"/>
            <a:ext cx="2975040" cy="1828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3"/>
          <a:stretch/>
        </p:blipFill>
        <p:spPr>
          <a:xfrm>
            <a:off x="5148360" y="3768840"/>
            <a:ext cx="3020760" cy="2016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"/>
          <p:cNvPicPr/>
          <p:nvPr/>
        </p:nvPicPr>
        <p:blipFill>
          <a:blip r:embed="rId4"/>
          <a:stretch/>
        </p:blipFill>
        <p:spPr>
          <a:xfrm>
            <a:off x="4859280" y="1125360"/>
            <a:ext cx="3348000" cy="2230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5"/>
          <a:stretch/>
        </p:blipFill>
        <p:spPr>
          <a:xfrm>
            <a:off x="826920" y="3672000"/>
            <a:ext cx="2857680" cy="2143080"/>
          </a:xfrm>
          <a:prstGeom prst="rect">
            <a:avLst/>
          </a:prstGeom>
          <a:ln w="0">
            <a:noFill/>
          </a:ln>
        </p:spPr>
      </p:pic>
      <p:sp>
        <p:nvSpPr>
          <p:cNvPr id="79" name="Управляющая кнопка: далее 6">
            <a:hlinkClick r:id="" action="ppaction://hlinkshowjump?jump=nextslide"/>
          </p:cNvPr>
          <p:cNvSpPr/>
          <p:nvPr/>
        </p:nvSpPr>
        <p:spPr>
          <a:xfrm>
            <a:off x="4140360" y="5927760"/>
            <a:ext cx="863280" cy="606240"/>
          </a:xfrm>
          <a:custGeom>
            <a:avLst/>
            <a:gdLst>
              <a:gd name="textAreaLeft" fmla="*/ 39240 w 863280"/>
              <a:gd name="textAreaRight" fmla="*/ 824040 w 863280"/>
              <a:gd name="textAreaTop" fmla="*/ 39240 h 606240"/>
              <a:gd name="textAreaBottom" fmla="*/ 567000 h 606240"/>
            </a:gdLst>
            <a:ahLst/>
            <a:rect l="textAreaLeft" t="textAreaTop" r="textAreaRight" b="textAreaBottom"/>
            <a:pathLst>
              <a:path w="30753" h="21600">
                <a:moveTo>
                  <a:pt x="0" y="0"/>
                </a:moveTo>
                <a:lnTo>
                  <a:pt x="30753" y="0"/>
                </a:lnTo>
                <a:lnTo>
                  <a:pt x="30753" y="21600"/>
                </a:lnTo>
                <a:lnTo>
                  <a:pt x="0" y="21600"/>
                </a:lnTo>
                <a:close/>
              </a:path>
              <a:path fill="lightenLess" w="30753" h="21600">
                <a:moveTo>
                  <a:pt x="0" y="0"/>
                </a:moveTo>
                <a:lnTo>
                  <a:pt x="30753" y="0"/>
                </a:lnTo>
                <a:lnTo>
                  <a:pt x="29353" y="1400"/>
                </a:lnTo>
                <a:lnTo>
                  <a:pt x="1400" y="1400"/>
                </a:lnTo>
                <a:close/>
              </a:path>
              <a:path fill="darken" w="30753" h="21600">
                <a:moveTo>
                  <a:pt x="30753" y="0"/>
                </a:moveTo>
                <a:lnTo>
                  <a:pt x="30753" y="21600"/>
                </a:lnTo>
                <a:lnTo>
                  <a:pt x="29353" y="20200"/>
                </a:lnTo>
                <a:lnTo>
                  <a:pt x="29353" y="1400"/>
                </a:lnTo>
                <a:close/>
              </a:path>
              <a:path fill="darkenLess" w="30753" h="21600">
                <a:moveTo>
                  <a:pt x="307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3" y="20200"/>
                </a:lnTo>
                <a:close/>
              </a:path>
              <a:path fill="lighten" w="307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3" h="21600">
                <a:moveTo>
                  <a:pt x="8370" y="3794"/>
                </a:moveTo>
                <a:lnTo>
                  <a:pt x="22383" y="10800"/>
                </a:lnTo>
                <a:lnTo>
                  <a:pt x="837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Нашивка 1"/>
          <p:cNvSpPr/>
          <p:nvPr/>
        </p:nvSpPr>
        <p:spPr>
          <a:xfrm rot="5400000">
            <a:off x="1823400" y="1730160"/>
            <a:ext cx="865440" cy="1081080"/>
          </a:xfrm>
          <a:custGeom>
            <a:avLst/>
            <a:gdLst>
              <a:gd name="textAreaLeft" fmla="*/ 0 w 865440"/>
              <a:gd name="textAreaRight" fmla="*/ 865800 w 86544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80" nodeType="clickEffect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89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00" nodeType="clickEffect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06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Нашивка 8"/>
          <p:cNvSpPr/>
          <p:nvPr/>
        </p:nvSpPr>
        <p:spPr>
          <a:xfrm rot="5400000">
            <a:off x="1726920" y="1523880"/>
            <a:ext cx="865080" cy="1081080"/>
          </a:xfrm>
          <a:custGeom>
            <a:avLst/>
            <a:gdLst>
              <a:gd name="textAreaLeft" fmla="*/ 0 w 865080"/>
              <a:gd name="textAreaRight" fmla="*/ 865440 w 86508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Нашивка 9"/>
          <p:cNvSpPr/>
          <p:nvPr/>
        </p:nvSpPr>
        <p:spPr>
          <a:xfrm rot="5400000">
            <a:off x="6551280" y="1523880"/>
            <a:ext cx="865080" cy="1081080"/>
          </a:xfrm>
          <a:custGeom>
            <a:avLst/>
            <a:gdLst>
              <a:gd name="textAreaLeft" fmla="*/ 0 w 865080"/>
              <a:gd name="textAreaRight" fmla="*/ 865440 w 86508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Умножение 10"/>
          <p:cNvSpPr/>
          <p:nvPr/>
        </p:nvSpPr>
        <p:spPr>
          <a:xfrm>
            <a:off x="1476360" y="4394160"/>
            <a:ext cx="1368360" cy="1224000"/>
          </a:xfrm>
          <a:custGeom>
            <a:avLst/>
            <a:gdLst/>
            <a:ahLst/>
            <a:rect l="l" t="t" r="r" b="b"/>
            <a:pathLst>
              <a:path w="1368425" h="1223963">
                <a:moveTo>
                  <a:pt x="232702" y="401250"/>
                </a:moveTo>
                <a:lnTo>
                  <a:pt x="424620" y="186680"/>
                </a:lnTo>
                <a:lnTo>
                  <a:pt x="684213" y="418868"/>
                </a:lnTo>
                <a:lnTo>
                  <a:pt x="943805" y="186680"/>
                </a:lnTo>
                <a:lnTo>
                  <a:pt x="1135723" y="401250"/>
                </a:lnTo>
                <a:lnTo>
                  <a:pt x="900119" y="611982"/>
                </a:lnTo>
                <a:lnTo>
                  <a:pt x="1135723" y="822713"/>
                </a:lnTo>
                <a:lnTo>
                  <a:pt x="943805" y="1037283"/>
                </a:lnTo>
                <a:lnTo>
                  <a:pt x="684213" y="805095"/>
                </a:lnTo>
                <a:lnTo>
                  <a:pt x="424620" y="1037283"/>
                </a:lnTo>
                <a:lnTo>
                  <a:pt x="232702" y="822713"/>
                </a:lnTo>
                <a:lnTo>
                  <a:pt x="468306" y="611982"/>
                </a:lnTo>
                <a:lnTo>
                  <a:pt x="232702" y="401250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Умножение 11"/>
          <p:cNvSpPr/>
          <p:nvPr/>
        </p:nvSpPr>
        <p:spPr>
          <a:xfrm>
            <a:off x="6300720" y="4387680"/>
            <a:ext cx="1368360" cy="1224000"/>
          </a:xfrm>
          <a:custGeom>
            <a:avLst/>
            <a:gdLst/>
            <a:ahLst/>
            <a:rect l="l" t="t" r="r" b="b"/>
            <a:pathLst>
              <a:path w="1368425" h="1223963">
                <a:moveTo>
                  <a:pt x="232702" y="401250"/>
                </a:moveTo>
                <a:lnTo>
                  <a:pt x="424620" y="186680"/>
                </a:lnTo>
                <a:lnTo>
                  <a:pt x="684213" y="418868"/>
                </a:lnTo>
                <a:lnTo>
                  <a:pt x="943805" y="186680"/>
                </a:lnTo>
                <a:lnTo>
                  <a:pt x="1135723" y="401250"/>
                </a:lnTo>
                <a:lnTo>
                  <a:pt x="900119" y="611982"/>
                </a:lnTo>
                <a:lnTo>
                  <a:pt x="1135723" y="822713"/>
                </a:lnTo>
                <a:lnTo>
                  <a:pt x="943805" y="1037283"/>
                </a:lnTo>
                <a:lnTo>
                  <a:pt x="684213" y="805095"/>
                </a:lnTo>
                <a:lnTo>
                  <a:pt x="424620" y="1037283"/>
                </a:lnTo>
                <a:lnTo>
                  <a:pt x="232702" y="822713"/>
                </a:lnTo>
                <a:lnTo>
                  <a:pt x="468306" y="611982"/>
                </a:lnTo>
                <a:lnTo>
                  <a:pt x="232702" y="401250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Прямоугольник 3" descr=""/>
          <p:cNvPicPr/>
          <p:nvPr/>
        </p:nvPicPr>
        <p:blipFill>
          <a:blip r:embed="rId1"/>
          <a:stretch/>
        </p:blipFill>
        <p:spPr>
          <a:xfrm>
            <a:off x="324000" y="6480"/>
            <a:ext cx="8594640" cy="10731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755640" y="1230480"/>
            <a:ext cx="2571840" cy="1666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3"/>
          <a:stretch/>
        </p:blipFill>
        <p:spPr>
          <a:xfrm>
            <a:off x="5003640" y="4149720"/>
            <a:ext cx="3348360" cy="2232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"/>
          <p:cNvPicPr/>
          <p:nvPr/>
        </p:nvPicPr>
        <p:blipFill>
          <a:blip r:embed="rId4"/>
          <a:stretch/>
        </p:blipFill>
        <p:spPr>
          <a:xfrm>
            <a:off x="5396040" y="1230480"/>
            <a:ext cx="2955960" cy="2274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5"/>
          <a:stretch/>
        </p:blipFill>
        <p:spPr>
          <a:xfrm>
            <a:off x="1006560" y="3621240"/>
            <a:ext cx="2070000" cy="2760480"/>
          </a:xfrm>
          <a:prstGeom prst="rect">
            <a:avLst/>
          </a:prstGeom>
          <a:ln w="0">
            <a:noFill/>
          </a:ln>
        </p:spPr>
      </p:pic>
      <p:sp>
        <p:nvSpPr>
          <p:cNvPr id="90" name="Управляющая кнопка: далее 7">
            <a:hlinkClick r:id="" action="ppaction://hlinkshowjump?jump=nextslide"/>
          </p:cNvPr>
          <p:cNvSpPr/>
          <p:nvPr/>
        </p:nvSpPr>
        <p:spPr>
          <a:xfrm>
            <a:off x="4078440" y="5951520"/>
            <a:ext cx="863280" cy="606600"/>
          </a:xfrm>
          <a:custGeom>
            <a:avLst/>
            <a:gdLst>
              <a:gd name="textAreaLeft" fmla="*/ 39240 w 863280"/>
              <a:gd name="textAreaRight" fmla="*/ 824040 w 863280"/>
              <a:gd name="textAreaTop" fmla="*/ 39240 h 606600"/>
              <a:gd name="textAreaBottom" fmla="*/ 567360 h 606600"/>
            </a:gdLst>
            <a:ahLst/>
            <a:rect l="textAreaLeft" t="textAreaTop" r="textAreaRight" b="textAreaBottom"/>
            <a:pathLst>
              <a:path w="30735" h="21600">
                <a:moveTo>
                  <a:pt x="0" y="0"/>
                </a:moveTo>
                <a:lnTo>
                  <a:pt x="30735" y="0"/>
                </a:lnTo>
                <a:lnTo>
                  <a:pt x="30735" y="21600"/>
                </a:lnTo>
                <a:lnTo>
                  <a:pt x="0" y="21600"/>
                </a:lnTo>
                <a:close/>
              </a:path>
              <a:path fill="lightenLess" w="30735" h="21600">
                <a:moveTo>
                  <a:pt x="0" y="0"/>
                </a:moveTo>
                <a:lnTo>
                  <a:pt x="30735" y="0"/>
                </a:lnTo>
                <a:lnTo>
                  <a:pt x="29335" y="1400"/>
                </a:lnTo>
                <a:lnTo>
                  <a:pt x="1400" y="1400"/>
                </a:lnTo>
                <a:close/>
              </a:path>
              <a:path fill="darken" w="30735" h="21600">
                <a:moveTo>
                  <a:pt x="30735" y="0"/>
                </a:moveTo>
                <a:lnTo>
                  <a:pt x="30735" y="21600"/>
                </a:lnTo>
                <a:lnTo>
                  <a:pt x="29335" y="20200"/>
                </a:lnTo>
                <a:lnTo>
                  <a:pt x="29335" y="1400"/>
                </a:lnTo>
                <a:close/>
              </a:path>
              <a:path fill="darkenLess" w="30735" h="21600">
                <a:moveTo>
                  <a:pt x="30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35" y="20200"/>
                </a:lnTo>
                <a:close/>
              </a:path>
              <a:path fill="lighten" w="30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35" h="21600">
                <a:moveTo>
                  <a:pt x="8361" y="3794"/>
                </a:moveTo>
                <a:lnTo>
                  <a:pt x="22374" y="10800"/>
                </a:lnTo>
                <a:lnTo>
                  <a:pt x="8361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13" nodeType="clickEffect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19" nodeType="clickEffect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29" nodeType="clickEffect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35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Нашивка 7"/>
          <p:cNvSpPr/>
          <p:nvPr/>
        </p:nvSpPr>
        <p:spPr>
          <a:xfrm rot="5400000">
            <a:off x="1983960" y="1530360"/>
            <a:ext cx="865080" cy="1081080"/>
          </a:xfrm>
          <a:custGeom>
            <a:avLst/>
            <a:gdLst>
              <a:gd name="textAreaLeft" fmla="*/ 0 w 865080"/>
              <a:gd name="textAreaRight" fmla="*/ 865440 w 86508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Нашивка 8"/>
          <p:cNvSpPr/>
          <p:nvPr/>
        </p:nvSpPr>
        <p:spPr>
          <a:xfrm rot="5400000">
            <a:off x="1983600" y="4790880"/>
            <a:ext cx="865440" cy="1081080"/>
          </a:xfrm>
          <a:custGeom>
            <a:avLst/>
            <a:gdLst>
              <a:gd name="textAreaLeft" fmla="*/ 0 w 865440"/>
              <a:gd name="textAreaRight" fmla="*/ 865800 w 86544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Умножение 9"/>
          <p:cNvSpPr/>
          <p:nvPr/>
        </p:nvSpPr>
        <p:spPr>
          <a:xfrm>
            <a:off x="6181560" y="1557360"/>
            <a:ext cx="1368720" cy="1224000"/>
          </a:xfrm>
          <a:custGeom>
            <a:avLst/>
            <a:gdLst/>
            <a:ahLst/>
            <a:rect l="l" t="t" r="r" b="b"/>
            <a:pathLst>
              <a:path w="1368425" h="1223962">
                <a:moveTo>
                  <a:pt x="232703" y="401250"/>
                </a:moveTo>
                <a:lnTo>
                  <a:pt x="424620" y="186680"/>
                </a:lnTo>
                <a:lnTo>
                  <a:pt x="684213" y="418868"/>
                </a:lnTo>
                <a:lnTo>
                  <a:pt x="943805" y="186680"/>
                </a:lnTo>
                <a:lnTo>
                  <a:pt x="1135722" y="401250"/>
                </a:lnTo>
                <a:lnTo>
                  <a:pt x="900119" y="611981"/>
                </a:lnTo>
                <a:lnTo>
                  <a:pt x="1135722" y="822712"/>
                </a:lnTo>
                <a:lnTo>
                  <a:pt x="943805" y="1037282"/>
                </a:lnTo>
                <a:lnTo>
                  <a:pt x="684213" y="805094"/>
                </a:lnTo>
                <a:lnTo>
                  <a:pt x="424620" y="1037282"/>
                </a:lnTo>
                <a:lnTo>
                  <a:pt x="232703" y="822712"/>
                </a:lnTo>
                <a:lnTo>
                  <a:pt x="468306" y="611981"/>
                </a:lnTo>
                <a:lnTo>
                  <a:pt x="232703" y="401250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Умножение 10"/>
          <p:cNvSpPr/>
          <p:nvPr/>
        </p:nvSpPr>
        <p:spPr>
          <a:xfrm>
            <a:off x="6243480" y="4705200"/>
            <a:ext cx="1368720" cy="1224000"/>
          </a:xfrm>
          <a:custGeom>
            <a:avLst/>
            <a:gdLst/>
            <a:ahLst/>
            <a:rect l="l" t="t" r="r" b="b"/>
            <a:pathLst>
              <a:path w="1368425" h="1223963">
                <a:moveTo>
                  <a:pt x="232702" y="401250"/>
                </a:moveTo>
                <a:lnTo>
                  <a:pt x="424620" y="186680"/>
                </a:lnTo>
                <a:lnTo>
                  <a:pt x="684213" y="418868"/>
                </a:lnTo>
                <a:lnTo>
                  <a:pt x="943805" y="186680"/>
                </a:lnTo>
                <a:lnTo>
                  <a:pt x="1135723" y="401250"/>
                </a:lnTo>
                <a:lnTo>
                  <a:pt x="900119" y="611982"/>
                </a:lnTo>
                <a:lnTo>
                  <a:pt x="1135723" y="822713"/>
                </a:lnTo>
                <a:lnTo>
                  <a:pt x="943805" y="1037283"/>
                </a:lnTo>
                <a:lnTo>
                  <a:pt x="684213" y="805095"/>
                </a:lnTo>
                <a:lnTo>
                  <a:pt x="424620" y="1037283"/>
                </a:lnTo>
                <a:lnTo>
                  <a:pt x="232702" y="822713"/>
                </a:lnTo>
                <a:lnTo>
                  <a:pt x="468306" y="611982"/>
                </a:lnTo>
                <a:lnTo>
                  <a:pt x="232702" y="401250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Прямоугольник 1" descr=""/>
          <p:cNvPicPr/>
          <p:nvPr/>
        </p:nvPicPr>
        <p:blipFill>
          <a:blip r:embed="rId1"/>
          <a:stretch/>
        </p:blipFill>
        <p:spPr>
          <a:xfrm>
            <a:off x="324000" y="6480"/>
            <a:ext cx="8594640" cy="1073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2"/>
          <a:stretch/>
        </p:blipFill>
        <p:spPr>
          <a:xfrm>
            <a:off x="971640" y="1052640"/>
            <a:ext cx="2890800" cy="2036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3"/>
          <a:stretch/>
        </p:blipFill>
        <p:spPr>
          <a:xfrm>
            <a:off x="1155600" y="3794040"/>
            <a:ext cx="2521080" cy="2521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4"/>
          <a:stretch/>
        </p:blipFill>
        <p:spPr>
          <a:xfrm>
            <a:off x="5580000" y="1557360"/>
            <a:ext cx="2571840" cy="1666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5"/>
          <a:stretch/>
        </p:blipFill>
        <p:spPr>
          <a:xfrm>
            <a:off x="5703840" y="4357800"/>
            <a:ext cx="2448000" cy="1947600"/>
          </a:xfrm>
          <a:prstGeom prst="rect">
            <a:avLst/>
          </a:prstGeom>
          <a:ln w="0">
            <a:noFill/>
          </a:ln>
        </p:spPr>
      </p:pic>
      <p:sp>
        <p:nvSpPr>
          <p:cNvPr id="100" name="Управляющая кнопка: далее 6">
            <a:hlinkClick r:id="" action="ppaction://hlinkshowjump?jump=nextslide"/>
          </p:cNvPr>
          <p:cNvSpPr/>
          <p:nvPr/>
        </p:nvSpPr>
        <p:spPr>
          <a:xfrm>
            <a:off x="4078440" y="5951520"/>
            <a:ext cx="863280" cy="606600"/>
          </a:xfrm>
          <a:custGeom>
            <a:avLst/>
            <a:gdLst>
              <a:gd name="textAreaLeft" fmla="*/ 39240 w 863280"/>
              <a:gd name="textAreaRight" fmla="*/ 824040 w 863280"/>
              <a:gd name="textAreaTop" fmla="*/ 39240 h 606600"/>
              <a:gd name="textAreaBottom" fmla="*/ 567360 h 606600"/>
            </a:gdLst>
            <a:ahLst/>
            <a:rect l="textAreaLeft" t="textAreaTop" r="textAreaRight" b="textAreaBottom"/>
            <a:pathLst>
              <a:path w="30735" h="21600">
                <a:moveTo>
                  <a:pt x="0" y="0"/>
                </a:moveTo>
                <a:lnTo>
                  <a:pt x="30735" y="0"/>
                </a:lnTo>
                <a:lnTo>
                  <a:pt x="30735" y="21600"/>
                </a:lnTo>
                <a:lnTo>
                  <a:pt x="0" y="21600"/>
                </a:lnTo>
                <a:close/>
              </a:path>
              <a:path fill="lightenLess" w="30735" h="21600">
                <a:moveTo>
                  <a:pt x="0" y="0"/>
                </a:moveTo>
                <a:lnTo>
                  <a:pt x="30735" y="0"/>
                </a:lnTo>
                <a:lnTo>
                  <a:pt x="29335" y="1400"/>
                </a:lnTo>
                <a:lnTo>
                  <a:pt x="1400" y="1400"/>
                </a:lnTo>
                <a:close/>
              </a:path>
              <a:path fill="darken" w="30735" h="21600">
                <a:moveTo>
                  <a:pt x="30735" y="0"/>
                </a:moveTo>
                <a:lnTo>
                  <a:pt x="30735" y="21600"/>
                </a:lnTo>
                <a:lnTo>
                  <a:pt x="29335" y="20200"/>
                </a:lnTo>
                <a:lnTo>
                  <a:pt x="29335" y="1400"/>
                </a:lnTo>
                <a:close/>
              </a:path>
              <a:path fill="darkenLess" w="30735" h="21600">
                <a:moveTo>
                  <a:pt x="30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35" y="20200"/>
                </a:lnTo>
                <a:close/>
              </a:path>
              <a:path fill="lighten" w="30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35" h="21600">
                <a:moveTo>
                  <a:pt x="8361" y="3794"/>
                </a:moveTo>
                <a:lnTo>
                  <a:pt x="22374" y="10800"/>
                </a:lnTo>
                <a:lnTo>
                  <a:pt x="8361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42" nodeType="clickEffect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48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4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64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Нашивка 9"/>
          <p:cNvSpPr/>
          <p:nvPr/>
        </p:nvSpPr>
        <p:spPr>
          <a:xfrm rot="5400000">
            <a:off x="1293480" y="1724040"/>
            <a:ext cx="865080" cy="1081080"/>
          </a:xfrm>
          <a:custGeom>
            <a:avLst/>
            <a:gdLst>
              <a:gd name="textAreaLeft" fmla="*/ 0 w 865080"/>
              <a:gd name="textAreaRight" fmla="*/ 865440 w 86508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ашивка 10"/>
          <p:cNvSpPr/>
          <p:nvPr/>
        </p:nvSpPr>
        <p:spPr>
          <a:xfrm rot="5400000">
            <a:off x="6983280" y="1724040"/>
            <a:ext cx="865080" cy="1081080"/>
          </a:xfrm>
          <a:custGeom>
            <a:avLst/>
            <a:gdLst>
              <a:gd name="textAreaLeft" fmla="*/ 0 w 865080"/>
              <a:gd name="textAreaRight" fmla="*/ 865440 w 86508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ашивка 11"/>
          <p:cNvSpPr/>
          <p:nvPr/>
        </p:nvSpPr>
        <p:spPr>
          <a:xfrm rot="5400000">
            <a:off x="4345920" y="4608360"/>
            <a:ext cx="865440" cy="1081080"/>
          </a:xfrm>
          <a:custGeom>
            <a:avLst/>
            <a:gdLst>
              <a:gd name="textAreaLeft" fmla="*/ 0 w 865440"/>
              <a:gd name="textAreaRight" fmla="*/ 865800 w 86544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Умножение 12"/>
          <p:cNvSpPr/>
          <p:nvPr/>
        </p:nvSpPr>
        <p:spPr>
          <a:xfrm>
            <a:off x="3936960" y="1652760"/>
            <a:ext cx="1368360" cy="1223640"/>
          </a:xfrm>
          <a:custGeom>
            <a:avLst/>
            <a:gdLst/>
            <a:ahLst/>
            <a:rect l="l" t="t" r="r" b="b"/>
            <a:pathLst>
              <a:path w="1368425" h="1223962">
                <a:moveTo>
                  <a:pt x="232703" y="401250"/>
                </a:moveTo>
                <a:lnTo>
                  <a:pt x="424620" y="186680"/>
                </a:lnTo>
                <a:lnTo>
                  <a:pt x="684213" y="418868"/>
                </a:lnTo>
                <a:lnTo>
                  <a:pt x="943805" y="186680"/>
                </a:lnTo>
                <a:lnTo>
                  <a:pt x="1135722" y="401250"/>
                </a:lnTo>
                <a:lnTo>
                  <a:pt x="900119" y="611981"/>
                </a:lnTo>
                <a:lnTo>
                  <a:pt x="1135722" y="822712"/>
                </a:lnTo>
                <a:lnTo>
                  <a:pt x="943805" y="1037282"/>
                </a:lnTo>
                <a:lnTo>
                  <a:pt x="684213" y="805094"/>
                </a:lnTo>
                <a:lnTo>
                  <a:pt x="424620" y="1037282"/>
                </a:lnTo>
                <a:lnTo>
                  <a:pt x="232703" y="822712"/>
                </a:lnTo>
                <a:lnTo>
                  <a:pt x="468306" y="611981"/>
                </a:lnTo>
                <a:lnTo>
                  <a:pt x="232703" y="401250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Умножение 13"/>
          <p:cNvSpPr/>
          <p:nvPr/>
        </p:nvSpPr>
        <p:spPr>
          <a:xfrm>
            <a:off x="1041480" y="4535640"/>
            <a:ext cx="1368360" cy="1223640"/>
          </a:xfrm>
          <a:custGeom>
            <a:avLst/>
            <a:gdLst/>
            <a:ahLst/>
            <a:rect l="l" t="t" r="r" b="b"/>
            <a:pathLst>
              <a:path w="1368425" h="1223962">
                <a:moveTo>
                  <a:pt x="232703" y="401250"/>
                </a:moveTo>
                <a:lnTo>
                  <a:pt x="424620" y="186680"/>
                </a:lnTo>
                <a:lnTo>
                  <a:pt x="684213" y="418868"/>
                </a:lnTo>
                <a:lnTo>
                  <a:pt x="943805" y="186680"/>
                </a:lnTo>
                <a:lnTo>
                  <a:pt x="1135722" y="401250"/>
                </a:lnTo>
                <a:lnTo>
                  <a:pt x="900119" y="611981"/>
                </a:lnTo>
                <a:lnTo>
                  <a:pt x="1135722" y="822712"/>
                </a:lnTo>
                <a:lnTo>
                  <a:pt x="943805" y="1037282"/>
                </a:lnTo>
                <a:lnTo>
                  <a:pt x="684213" y="805094"/>
                </a:lnTo>
                <a:lnTo>
                  <a:pt x="424620" y="1037282"/>
                </a:lnTo>
                <a:lnTo>
                  <a:pt x="232703" y="822712"/>
                </a:lnTo>
                <a:lnTo>
                  <a:pt x="468306" y="611981"/>
                </a:lnTo>
                <a:lnTo>
                  <a:pt x="232703" y="401250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Умножение 14"/>
          <p:cNvSpPr/>
          <p:nvPr/>
        </p:nvSpPr>
        <p:spPr>
          <a:xfrm>
            <a:off x="6875640" y="4510080"/>
            <a:ext cx="1368360" cy="1224000"/>
          </a:xfrm>
          <a:custGeom>
            <a:avLst/>
            <a:gdLst/>
            <a:ahLst/>
            <a:rect l="l" t="t" r="r" b="b"/>
            <a:pathLst>
              <a:path w="1368425" h="1223962">
                <a:moveTo>
                  <a:pt x="232703" y="401250"/>
                </a:moveTo>
                <a:lnTo>
                  <a:pt x="424620" y="186680"/>
                </a:lnTo>
                <a:lnTo>
                  <a:pt x="684213" y="418868"/>
                </a:lnTo>
                <a:lnTo>
                  <a:pt x="943805" y="186680"/>
                </a:lnTo>
                <a:lnTo>
                  <a:pt x="1135722" y="401250"/>
                </a:lnTo>
                <a:lnTo>
                  <a:pt x="900119" y="611981"/>
                </a:lnTo>
                <a:lnTo>
                  <a:pt x="1135722" y="822712"/>
                </a:lnTo>
                <a:lnTo>
                  <a:pt x="943805" y="1037282"/>
                </a:lnTo>
                <a:lnTo>
                  <a:pt x="684213" y="805094"/>
                </a:lnTo>
                <a:lnTo>
                  <a:pt x="424620" y="1037282"/>
                </a:lnTo>
                <a:lnTo>
                  <a:pt x="232703" y="822712"/>
                </a:lnTo>
                <a:lnTo>
                  <a:pt x="468306" y="611981"/>
                </a:lnTo>
                <a:lnTo>
                  <a:pt x="232703" y="401250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Прямоугольник 1" descr=""/>
          <p:cNvPicPr/>
          <p:nvPr/>
        </p:nvPicPr>
        <p:blipFill>
          <a:blip r:embed="rId1"/>
          <a:stretch/>
        </p:blipFill>
        <p:spPr>
          <a:xfrm>
            <a:off x="324000" y="6480"/>
            <a:ext cx="8594640" cy="1073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"/>
          <p:cNvPicPr/>
          <p:nvPr/>
        </p:nvPicPr>
        <p:blipFill>
          <a:blip r:embed="rId2"/>
          <a:stretch/>
        </p:blipFill>
        <p:spPr>
          <a:xfrm>
            <a:off x="539640" y="1197000"/>
            <a:ext cx="2565360" cy="1924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3"/>
          <a:stretch/>
        </p:blipFill>
        <p:spPr>
          <a:xfrm>
            <a:off x="3708360" y="407664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"/>
          <p:cNvPicPr/>
          <p:nvPr/>
        </p:nvPicPr>
        <p:blipFill>
          <a:blip r:embed="rId4"/>
          <a:stretch/>
        </p:blipFill>
        <p:spPr>
          <a:xfrm>
            <a:off x="6446880" y="1114560"/>
            <a:ext cx="2087640" cy="2089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5"/>
          <a:stretch/>
        </p:blipFill>
        <p:spPr>
          <a:xfrm>
            <a:off x="3505320" y="104292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"/>
          <p:cNvPicPr/>
          <p:nvPr/>
        </p:nvPicPr>
        <p:blipFill>
          <a:blip r:embed="rId6"/>
          <a:stretch/>
        </p:blipFill>
        <p:spPr>
          <a:xfrm>
            <a:off x="684360" y="4284720"/>
            <a:ext cx="2512800" cy="1674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"/>
          <p:cNvPicPr/>
          <p:nvPr/>
        </p:nvPicPr>
        <p:blipFill>
          <a:blip r:embed="rId7"/>
          <a:stretch/>
        </p:blipFill>
        <p:spPr>
          <a:xfrm>
            <a:off x="6686640" y="3753000"/>
            <a:ext cx="1847880" cy="2466720"/>
          </a:xfrm>
          <a:prstGeom prst="rect">
            <a:avLst/>
          </a:prstGeom>
          <a:ln w="0">
            <a:noFill/>
          </a:ln>
        </p:spPr>
      </p:pic>
      <p:sp>
        <p:nvSpPr>
          <p:cNvPr id="114" name="Управляющая кнопка: далее 8">
            <a:hlinkClick r:id="" action="ppaction://hlinkshowjump?jump=nextslide"/>
          </p:cNvPr>
          <p:cNvSpPr/>
          <p:nvPr/>
        </p:nvSpPr>
        <p:spPr>
          <a:xfrm>
            <a:off x="3995640" y="6093000"/>
            <a:ext cx="863640" cy="606240"/>
          </a:xfrm>
          <a:custGeom>
            <a:avLst/>
            <a:gdLst>
              <a:gd name="textAreaLeft" fmla="*/ 39240 w 863640"/>
              <a:gd name="textAreaRight" fmla="*/ 824400 w 863640"/>
              <a:gd name="textAreaTop" fmla="*/ 39240 h 606240"/>
              <a:gd name="textAreaBottom" fmla="*/ 567000 h 606240"/>
            </a:gdLst>
            <a:ahLst/>
            <a:rect l="textAreaLeft" t="textAreaTop" r="textAreaRight" b="textAreaBottom"/>
            <a:pathLst>
              <a:path w="30766" h="21600">
                <a:moveTo>
                  <a:pt x="0" y="0"/>
                </a:moveTo>
                <a:lnTo>
                  <a:pt x="30766" y="0"/>
                </a:lnTo>
                <a:lnTo>
                  <a:pt x="30766" y="21600"/>
                </a:lnTo>
                <a:lnTo>
                  <a:pt x="0" y="21600"/>
                </a:lnTo>
                <a:close/>
              </a:path>
              <a:path fill="lightenLess" w="30766" h="21600">
                <a:moveTo>
                  <a:pt x="0" y="0"/>
                </a:moveTo>
                <a:lnTo>
                  <a:pt x="30766" y="0"/>
                </a:lnTo>
                <a:lnTo>
                  <a:pt x="29366" y="1400"/>
                </a:lnTo>
                <a:lnTo>
                  <a:pt x="1400" y="1400"/>
                </a:lnTo>
                <a:close/>
              </a:path>
              <a:path fill="darken" w="30766" h="21600">
                <a:moveTo>
                  <a:pt x="30766" y="0"/>
                </a:moveTo>
                <a:lnTo>
                  <a:pt x="30766" y="21600"/>
                </a:lnTo>
                <a:lnTo>
                  <a:pt x="29366" y="20200"/>
                </a:lnTo>
                <a:lnTo>
                  <a:pt x="29366" y="1400"/>
                </a:lnTo>
                <a:close/>
              </a:path>
              <a:path fill="darkenLess" w="30766" h="21600">
                <a:moveTo>
                  <a:pt x="30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66" y="20200"/>
                </a:lnTo>
                <a:close/>
              </a:path>
              <a:path fill="lighten" w="30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66" h="21600">
                <a:moveTo>
                  <a:pt x="8376" y="3794"/>
                </a:moveTo>
                <a:lnTo>
                  <a:pt x="22389" y="10800"/>
                </a:lnTo>
                <a:lnTo>
                  <a:pt x="837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71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77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83" nodeType="clickEffect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89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95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205" nodeType="clickEffect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Нашивка 9"/>
          <p:cNvSpPr/>
          <p:nvPr/>
        </p:nvSpPr>
        <p:spPr>
          <a:xfrm rot="5400000">
            <a:off x="1223280" y="1652400"/>
            <a:ext cx="865440" cy="1081080"/>
          </a:xfrm>
          <a:custGeom>
            <a:avLst/>
            <a:gdLst>
              <a:gd name="textAreaLeft" fmla="*/ 0 w 865440"/>
              <a:gd name="textAreaRight" fmla="*/ 865800 w 86544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ашивка 10"/>
          <p:cNvSpPr/>
          <p:nvPr/>
        </p:nvSpPr>
        <p:spPr>
          <a:xfrm rot="5400000">
            <a:off x="4104720" y="1725480"/>
            <a:ext cx="865440" cy="1081080"/>
          </a:xfrm>
          <a:custGeom>
            <a:avLst/>
            <a:gdLst>
              <a:gd name="textAreaLeft" fmla="*/ 0 w 865440"/>
              <a:gd name="textAreaRight" fmla="*/ 865800 w 86544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ашивка 11"/>
          <p:cNvSpPr/>
          <p:nvPr/>
        </p:nvSpPr>
        <p:spPr>
          <a:xfrm rot="5400000">
            <a:off x="7027200" y="1652400"/>
            <a:ext cx="865440" cy="1081080"/>
          </a:xfrm>
          <a:custGeom>
            <a:avLst/>
            <a:gdLst>
              <a:gd name="textAreaLeft" fmla="*/ 0 w 865440"/>
              <a:gd name="textAreaRight" fmla="*/ 865800 w 86544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ашивка 12"/>
          <p:cNvSpPr/>
          <p:nvPr/>
        </p:nvSpPr>
        <p:spPr>
          <a:xfrm rot="5400000">
            <a:off x="4104720" y="4492440"/>
            <a:ext cx="865440" cy="1081080"/>
          </a:xfrm>
          <a:custGeom>
            <a:avLst/>
            <a:gdLst>
              <a:gd name="textAreaLeft" fmla="*/ 0 w 865440"/>
              <a:gd name="textAreaRight" fmla="*/ 865800 w 86544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Умножение 13"/>
          <p:cNvSpPr/>
          <p:nvPr/>
        </p:nvSpPr>
        <p:spPr>
          <a:xfrm>
            <a:off x="6775560" y="4443480"/>
            <a:ext cx="1368360" cy="1222200"/>
          </a:xfrm>
          <a:custGeom>
            <a:avLst/>
            <a:gdLst/>
            <a:ahLst/>
            <a:rect l="l" t="t" r="r" b="b"/>
            <a:pathLst>
              <a:path w="1368425" h="1222375">
                <a:moveTo>
                  <a:pt x="232896" y="400791"/>
                </a:moveTo>
                <a:lnTo>
                  <a:pt x="424427" y="186376"/>
                </a:lnTo>
                <a:lnTo>
                  <a:pt x="684213" y="418436"/>
                </a:lnTo>
                <a:lnTo>
                  <a:pt x="943998" y="186376"/>
                </a:lnTo>
                <a:lnTo>
                  <a:pt x="1135529" y="400791"/>
                </a:lnTo>
                <a:lnTo>
                  <a:pt x="899994" y="611188"/>
                </a:lnTo>
                <a:lnTo>
                  <a:pt x="1135529" y="821584"/>
                </a:lnTo>
                <a:lnTo>
                  <a:pt x="943998" y="1035999"/>
                </a:lnTo>
                <a:lnTo>
                  <a:pt x="684213" y="803939"/>
                </a:lnTo>
                <a:lnTo>
                  <a:pt x="424427" y="1035999"/>
                </a:lnTo>
                <a:lnTo>
                  <a:pt x="232896" y="821584"/>
                </a:lnTo>
                <a:lnTo>
                  <a:pt x="468431" y="611188"/>
                </a:lnTo>
                <a:lnTo>
                  <a:pt x="232896" y="400791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Умножение 14"/>
          <p:cNvSpPr/>
          <p:nvPr/>
        </p:nvSpPr>
        <p:spPr>
          <a:xfrm>
            <a:off x="853920" y="4443480"/>
            <a:ext cx="1368720" cy="1222200"/>
          </a:xfrm>
          <a:custGeom>
            <a:avLst/>
            <a:gdLst/>
            <a:ahLst/>
            <a:rect l="l" t="t" r="r" b="b"/>
            <a:pathLst>
              <a:path w="1368425" h="1222375">
                <a:moveTo>
                  <a:pt x="232896" y="400791"/>
                </a:moveTo>
                <a:lnTo>
                  <a:pt x="424427" y="186376"/>
                </a:lnTo>
                <a:lnTo>
                  <a:pt x="684213" y="418436"/>
                </a:lnTo>
                <a:lnTo>
                  <a:pt x="943998" y="186376"/>
                </a:lnTo>
                <a:lnTo>
                  <a:pt x="1135529" y="400791"/>
                </a:lnTo>
                <a:lnTo>
                  <a:pt x="899994" y="611188"/>
                </a:lnTo>
                <a:lnTo>
                  <a:pt x="1135529" y="821584"/>
                </a:lnTo>
                <a:lnTo>
                  <a:pt x="943998" y="1035999"/>
                </a:lnTo>
                <a:lnTo>
                  <a:pt x="684213" y="803939"/>
                </a:lnTo>
                <a:lnTo>
                  <a:pt x="424427" y="1035999"/>
                </a:lnTo>
                <a:lnTo>
                  <a:pt x="232896" y="821584"/>
                </a:lnTo>
                <a:lnTo>
                  <a:pt x="468431" y="611188"/>
                </a:lnTo>
                <a:lnTo>
                  <a:pt x="232896" y="400791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Прямоугольник 1" descr=""/>
          <p:cNvPicPr/>
          <p:nvPr/>
        </p:nvPicPr>
        <p:blipFill>
          <a:blip r:embed="rId1"/>
          <a:stretch/>
        </p:blipFill>
        <p:spPr>
          <a:xfrm>
            <a:off x="324000" y="6480"/>
            <a:ext cx="8594640" cy="1073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"/>
          <p:cNvPicPr/>
          <p:nvPr/>
        </p:nvPicPr>
        <p:blipFill>
          <a:blip r:embed="rId2"/>
          <a:stretch/>
        </p:blipFill>
        <p:spPr>
          <a:xfrm>
            <a:off x="539640" y="1268280"/>
            <a:ext cx="2235240" cy="1994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3"/>
          <a:stretch/>
        </p:blipFill>
        <p:spPr>
          <a:xfrm>
            <a:off x="3284640" y="1365120"/>
            <a:ext cx="2506680" cy="1928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"/>
          <p:cNvPicPr/>
          <p:nvPr/>
        </p:nvPicPr>
        <p:blipFill>
          <a:blip r:embed="rId4"/>
          <a:stretch/>
        </p:blipFill>
        <p:spPr>
          <a:xfrm>
            <a:off x="3135240" y="3933720"/>
            <a:ext cx="2805120" cy="22431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"/>
          <p:cNvPicPr/>
          <p:nvPr/>
        </p:nvPicPr>
        <p:blipFill>
          <a:blip r:embed="rId5"/>
          <a:stretch/>
        </p:blipFill>
        <p:spPr>
          <a:xfrm>
            <a:off x="6000840" y="1365120"/>
            <a:ext cx="2919240" cy="1654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6"/>
          <a:stretch/>
        </p:blipFill>
        <p:spPr>
          <a:xfrm>
            <a:off x="324000" y="3971880"/>
            <a:ext cx="2165040" cy="21654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"/>
          <p:cNvPicPr/>
          <p:nvPr/>
        </p:nvPicPr>
        <p:blipFill>
          <a:blip r:embed="rId7"/>
          <a:stretch/>
        </p:blipFill>
        <p:spPr>
          <a:xfrm>
            <a:off x="6443640" y="3927600"/>
            <a:ext cx="2209680" cy="2209680"/>
          </a:xfrm>
          <a:prstGeom prst="rect">
            <a:avLst/>
          </a:prstGeom>
          <a:ln w="0">
            <a:noFill/>
          </a:ln>
        </p:spPr>
      </p:pic>
      <p:sp>
        <p:nvSpPr>
          <p:cNvPr id="128" name="Управляющая кнопка: далее 8">
            <a:hlinkClick r:id="" action="ppaction://hlinkshowjump?jump=nextslide"/>
          </p:cNvPr>
          <p:cNvSpPr/>
          <p:nvPr/>
        </p:nvSpPr>
        <p:spPr>
          <a:xfrm>
            <a:off x="4078440" y="5951520"/>
            <a:ext cx="863280" cy="606600"/>
          </a:xfrm>
          <a:custGeom>
            <a:avLst/>
            <a:gdLst>
              <a:gd name="textAreaLeft" fmla="*/ 39240 w 863280"/>
              <a:gd name="textAreaRight" fmla="*/ 824040 w 863280"/>
              <a:gd name="textAreaTop" fmla="*/ 39240 h 606600"/>
              <a:gd name="textAreaBottom" fmla="*/ 567360 h 606600"/>
            </a:gdLst>
            <a:ahLst/>
            <a:rect l="textAreaLeft" t="textAreaTop" r="textAreaRight" b="textAreaBottom"/>
            <a:pathLst>
              <a:path w="30735" h="21600">
                <a:moveTo>
                  <a:pt x="0" y="0"/>
                </a:moveTo>
                <a:lnTo>
                  <a:pt x="30735" y="0"/>
                </a:lnTo>
                <a:lnTo>
                  <a:pt x="30735" y="21600"/>
                </a:lnTo>
                <a:lnTo>
                  <a:pt x="0" y="21600"/>
                </a:lnTo>
                <a:close/>
              </a:path>
              <a:path fill="lightenLess" w="30735" h="21600">
                <a:moveTo>
                  <a:pt x="0" y="0"/>
                </a:moveTo>
                <a:lnTo>
                  <a:pt x="30735" y="0"/>
                </a:lnTo>
                <a:lnTo>
                  <a:pt x="29335" y="1400"/>
                </a:lnTo>
                <a:lnTo>
                  <a:pt x="1400" y="1400"/>
                </a:lnTo>
                <a:close/>
              </a:path>
              <a:path fill="darken" w="30735" h="21600">
                <a:moveTo>
                  <a:pt x="30735" y="0"/>
                </a:moveTo>
                <a:lnTo>
                  <a:pt x="30735" y="21600"/>
                </a:lnTo>
                <a:lnTo>
                  <a:pt x="29335" y="20200"/>
                </a:lnTo>
                <a:lnTo>
                  <a:pt x="29335" y="1400"/>
                </a:lnTo>
                <a:close/>
              </a:path>
              <a:path fill="darkenLess" w="30735" h="21600">
                <a:moveTo>
                  <a:pt x="30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35" y="20200"/>
                </a:lnTo>
                <a:close/>
              </a:path>
              <a:path fill="lighten" w="30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35" h="21600">
                <a:moveTo>
                  <a:pt x="8361" y="3794"/>
                </a:moveTo>
                <a:lnTo>
                  <a:pt x="22374" y="10800"/>
                </a:lnTo>
                <a:lnTo>
                  <a:pt x="8361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212" nodeType="clickEffect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18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24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230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240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246" nodeType="clickEffect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Умножение 13"/>
          <p:cNvSpPr/>
          <p:nvPr/>
        </p:nvSpPr>
        <p:spPr>
          <a:xfrm>
            <a:off x="3936960" y="1665360"/>
            <a:ext cx="1368360" cy="1222200"/>
          </a:xfrm>
          <a:custGeom>
            <a:avLst/>
            <a:gdLst/>
            <a:ahLst/>
            <a:rect l="l" t="t" r="r" b="b"/>
            <a:pathLst>
              <a:path w="1368425" h="1222375">
                <a:moveTo>
                  <a:pt x="232896" y="400791"/>
                </a:moveTo>
                <a:lnTo>
                  <a:pt x="424427" y="186376"/>
                </a:lnTo>
                <a:lnTo>
                  <a:pt x="684213" y="418436"/>
                </a:lnTo>
                <a:lnTo>
                  <a:pt x="943998" y="186376"/>
                </a:lnTo>
                <a:lnTo>
                  <a:pt x="1135529" y="400791"/>
                </a:lnTo>
                <a:lnTo>
                  <a:pt x="899994" y="611188"/>
                </a:lnTo>
                <a:lnTo>
                  <a:pt x="1135529" y="821584"/>
                </a:lnTo>
                <a:lnTo>
                  <a:pt x="943998" y="1035999"/>
                </a:lnTo>
                <a:lnTo>
                  <a:pt x="684213" y="803939"/>
                </a:lnTo>
                <a:lnTo>
                  <a:pt x="424427" y="1035999"/>
                </a:lnTo>
                <a:lnTo>
                  <a:pt x="232896" y="821584"/>
                </a:lnTo>
                <a:lnTo>
                  <a:pt x="468431" y="611188"/>
                </a:lnTo>
                <a:lnTo>
                  <a:pt x="232896" y="400791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Умножение 14"/>
          <p:cNvSpPr/>
          <p:nvPr/>
        </p:nvSpPr>
        <p:spPr>
          <a:xfrm>
            <a:off x="784080" y="1665360"/>
            <a:ext cx="1368720" cy="1222200"/>
          </a:xfrm>
          <a:custGeom>
            <a:avLst/>
            <a:gdLst/>
            <a:ahLst/>
            <a:rect l="l" t="t" r="r" b="b"/>
            <a:pathLst>
              <a:path w="1368425" h="1222375">
                <a:moveTo>
                  <a:pt x="232896" y="400791"/>
                </a:moveTo>
                <a:lnTo>
                  <a:pt x="424427" y="186376"/>
                </a:lnTo>
                <a:lnTo>
                  <a:pt x="684213" y="418436"/>
                </a:lnTo>
                <a:lnTo>
                  <a:pt x="943998" y="186376"/>
                </a:lnTo>
                <a:lnTo>
                  <a:pt x="1135529" y="400791"/>
                </a:lnTo>
                <a:lnTo>
                  <a:pt x="899994" y="611188"/>
                </a:lnTo>
                <a:lnTo>
                  <a:pt x="1135529" y="821584"/>
                </a:lnTo>
                <a:lnTo>
                  <a:pt x="943998" y="1035999"/>
                </a:lnTo>
                <a:lnTo>
                  <a:pt x="684213" y="803939"/>
                </a:lnTo>
                <a:lnTo>
                  <a:pt x="424427" y="1035999"/>
                </a:lnTo>
                <a:lnTo>
                  <a:pt x="232896" y="821584"/>
                </a:lnTo>
                <a:lnTo>
                  <a:pt x="468431" y="611188"/>
                </a:lnTo>
                <a:lnTo>
                  <a:pt x="232896" y="400791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Умножение 15"/>
          <p:cNvSpPr/>
          <p:nvPr/>
        </p:nvSpPr>
        <p:spPr>
          <a:xfrm>
            <a:off x="7068960" y="4510080"/>
            <a:ext cx="1368720" cy="1222560"/>
          </a:xfrm>
          <a:custGeom>
            <a:avLst/>
            <a:gdLst/>
            <a:ahLst/>
            <a:rect l="l" t="t" r="r" b="b"/>
            <a:pathLst>
              <a:path w="1368425" h="1222375">
                <a:moveTo>
                  <a:pt x="232896" y="400791"/>
                </a:moveTo>
                <a:lnTo>
                  <a:pt x="424427" y="186376"/>
                </a:lnTo>
                <a:lnTo>
                  <a:pt x="684213" y="418436"/>
                </a:lnTo>
                <a:lnTo>
                  <a:pt x="943998" y="186376"/>
                </a:lnTo>
                <a:lnTo>
                  <a:pt x="1135529" y="400791"/>
                </a:lnTo>
                <a:lnTo>
                  <a:pt x="899994" y="611188"/>
                </a:lnTo>
                <a:lnTo>
                  <a:pt x="1135529" y="821584"/>
                </a:lnTo>
                <a:lnTo>
                  <a:pt x="943998" y="1035999"/>
                </a:lnTo>
                <a:lnTo>
                  <a:pt x="684213" y="803939"/>
                </a:lnTo>
                <a:lnTo>
                  <a:pt x="424427" y="1035999"/>
                </a:lnTo>
                <a:lnTo>
                  <a:pt x="232896" y="821584"/>
                </a:lnTo>
                <a:lnTo>
                  <a:pt x="468431" y="611188"/>
                </a:lnTo>
                <a:lnTo>
                  <a:pt x="232896" y="400791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ашивка 10"/>
          <p:cNvSpPr/>
          <p:nvPr/>
        </p:nvSpPr>
        <p:spPr>
          <a:xfrm rot="5400000">
            <a:off x="7063920" y="1736640"/>
            <a:ext cx="865080" cy="1081080"/>
          </a:xfrm>
          <a:custGeom>
            <a:avLst/>
            <a:gdLst>
              <a:gd name="textAreaLeft" fmla="*/ 0 w 865080"/>
              <a:gd name="textAreaRight" fmla="*/ 865440 w 86508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ашивка 11"/>
          <p:cNvSpPr/>
          <p:nvPr/>
        </p:nvSpPr>
        <p:spPr>
          <a:xfrm rot="5400000">
            <a:off x="1036440" y="4397400"/>
            <a:ext cx="865080" cy="1081080"/>
          </a:xfrm>
          <a:custGeom>
            <a:avLst/>
            <a:gdLst>
              <a:gd name="textAreaLeft" fmla="*/ 0 w 865080"/>
              <a:gd name="textAreaRight" fmla="*/ 865440 w 86508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ашивка 12"/>
          <p:cNvSpPr/>
          <p:nvPr/>
        </p:nvSpPr>
        <p:spPr>
          <a:xfrm rot="5400000">
            <a:off x="4077360" y="4398120"/>
            <a:ext cx="865080" cy="1079280"/>
          </a:xfrm>
          <a:custGeom>
            <a:avLst/>
            <a:gdLst>
              <a:gd name="textAreaLeft" fmla="*/ 0 w 865080"/>
              <a:gd name="textAreaRight" fmla="*/ 865440 w 86508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Прямоугольник 1" descr=""/>
          <p:cNvPicPr/>
          <p:nvPr/>
        </p:nvPicPr>
        <p:blipFill>
          <a:blip r:embed="rId1"/>
          <a:stretch/>
        </p:blipFill>
        <p:spPr>
          <a:xfrm>
            <a:off x="324000" y="23760"/>
            <a:ext cx="8594640" cy="963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2290680" cy="1728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"/>
          <p:cNvPicPr/>
          <p:nvPr/>
        </p:nvPicPr>
        <p:blipFill>
          <a:blip r:embed="rId3"/>
          <a:stretch/>
        </p:blipFill>
        <p:spPr>
          <a:xfrm>
            <a:off x="6875640" y="4005360"/>
            <a:ext cx="1755720" cy="2233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3335400" y="1700280"/>
            <a:ext cx="2571840" cy="1666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"/>
          <p:cNvPicPr/>
          <p:nvPr/>
        </p:nvPicPr>
        <p:blipFill>
          <a:blip r:embed="rId5"/>
          <a:stretch/>
        </p:blipFill>
        <p:spPr>
          <a:xfrm>
            <a:off x="2843280" y="4208400"/>
            <a:ext cx="2975040" cy="1827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"/>
          <p:cNvPicPr/>
          <p:nvPr/>
        </p:nvPicPr>
        <p:blipFill>
          <a:blip r:embed="rId6"/>
          <a:stretch/>
        </p:blipFill>
        <p:spPr>
          <a:xfrm>
            <a:off x="536400" y="4005360"/>
            <a:ext cx="1865520" cy="1865160"/>
          </a:xfrm>
          <a:prstGeom prst="rect">
            <a:avLst/>
          </a:prstGeom>
          <a:ln w="0">
            <a:noFill/>
          </a:ln>
        </p:spPr>
      </p:pic>
      <p:sp>
        <p:nvSpPr>
          <p:cNvPr id="141" name="Управляющая кнопка: далее 8">
            <a:hlinkClick r:id="" action="ppaction://hlinkshowjump?jump=endshow"/>
          </p:cNvPr>
          <p:cNvSpPr/>
          <p:nvPr/>
        </p:nvSpPr>
        <p:spPr>
          <a:xfrm>
            <a:off x="4078440" y="5951520"/>
            <a:ext cx="863280" cy="606600"/>
          </a:xfrm>
          <a:custGeom>
            <a:avLst/>
            <a:gdLst>
              <a:gd name="textAreaLeft" fmla="*/ 39240 w 863280"/>
              <a:gd name="textAreaRight" fmla="*/ 824040 w 863280"/>
              <a:gd name="textAreaTop" fmla="*/ 39240 h 606600"/>
              <a:gd name="textAreaBottom" fmla="*/ 567360 h 606600"/>
            </a:gdLst>
            <a:ahLst/>
            <a:rect l="textAreaLeft" t="textAreaTop" r="textAreaRight" b="textAreaBottom"/>
            <a:pathLst>
              <a:path w="30735" h="21600">
                <a:moveTo>
                  <a:pt x="0" y="0"/>
                </a:moveTo>
                <a:lnTo>
                  <a:pt x="30735" y="0"/>
                </a:lnTo>
                <a:lnTo>
                  <a:pt x="30735" y="21600"/>
                </a:lnTo>
                <a:lnTo>
                  <a:pt x="0" y="21600"/>
                </a:lnTo>
                <a:close/>
              </a:path>
              <a:path fill="lightenLess" w="30735" h="21600">
                <a:moveTo>
                  <a:pt x="0" y="0"/>
                </a:moveTo>
                <a:lnTo>
                  <a:pt x="30735" y="0"/>
                </a:lnTo>
                <a:lnTo>
                  <a:pt x="29335" y="1400"/>
                </a:lnTo>
                <a:lnTo>
                  <a:pt x="1400" y="1400"/>
                </a:lnTo>
                <a:close/>
              </a:path>
              <a:path fill="darken" w="30735" h="21600">
                <a:moveTo>
                  <a:pt x="30735" y="0"/>
                </a:moveTo>
                <a:lnTo>
                  <a:pt x="30735" y="21600"/>
                </a:lnTo>
                <a:lnTo>
                  <a:pt x="29335" y="20200"/>
                </a:lnTo>
                <a:lnTo>
                  <a:pt x="29335" y="1400"/>
                </a:lnTo>
                <a:close/>
              </a:path>
              <a:path fill="darkenLess" w="30735" h="21600">
                <a:moveTo>
                  <a:pt x="30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35" y="20200"/>
                </a:lnTo>
                <a:close/>
              </a:path>
              <a:path fill="lighten" w="30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35" h="21600">
                <a:moveTo>
                  <a:pt x="8361" y="3794"/>
                </a:moveTo>
                <a:lnTo>
                  <a:pt x="22374" y="10800"/>
                </a:lnTo>
                <a:lnTo>
                  <a:pt x="8361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5" descr=""/>
          <p:cNvPicPr/>
          <p:nvPr/>
        </p:nvPicPr>
        <p:blipFill>
          <a:blip r:embed="rId7"/>
          <a:stretch/>
        </p:blipFill>
        <p:spPr>
          <a:xfrm>
            <a:off x="6364440" y="1521000"/>
            <a:ext cx="2266920" cy="151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1" dur="indefinite" restart="never" nodeType="tmRoot">
          <p:childTnLst>
            <p:seq>
              <p:cTn id="252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253" nodeType="clickEffect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259" nodeType="clickEffect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265" nodeType="clickEffect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271" nodeType="clickEffect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283" nodeType="clickEffect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8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289" nodeType="clickEffect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4T11:57:09Z</dcterms:created>
  <dc:creator>Watchtower</dc:creator>
  <dc:description/>
  <dc:language>en-US</dc:language>
  <cp:lastModifiedBy>Гейнц Дмитрий</cp:lastModifiedBy>
  <dcterms:modified xsi:type="dcterms:W3CDTF">2018-07-21T07:51:35Z</dcterms:modified>
  <cp:revision>30</cp:revision>
  <dc:subject/>
  <dc:title>Презентация PowerPoint</dc:title>
</cp:coreProperties>
</file>