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23B10-949B-4675-93B3-D0DE89F5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83A-26F2-43ED-9311-8CA87506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B4FF-9FA6-438E-ABD1-5D71286B5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F4B-52B2-45A1-A888-C5B37CB0B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9D43-3707-4DE7-9DDE-758B60B5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8F4C-5779-4D3D-9856-DBB66BC0F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137-F58F-48E1-A3C4-392F4E4B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39934-01F2-40FA-83A7-C6730354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DBC1-9346-4403-BD49-476561B1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72AC-3ECE-4BFD-9881-268862EF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8CF-3145-4F16-A3B4-83F5111A4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995-6496-4941-B2FB-6682CC59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2BB4-F7BB-4E8D-8B9A-D5C7EB2355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6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1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image" Target="../media/image19.png"/><Relationship Id="rId5" Type="http://schemas.openxmlformats.org/officeDocument/2006/relationships/image" Target="../media/image14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11556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идактическая игр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83628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Как нужно ухаживать за собой?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328320" y="1844640"/>
            <a:ext cx="8631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г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ать детям знания о здоровом образе жизни: какие предметы нужн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ля выполнения гигиенических процеду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 игр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ширять кругозор детей. Активизировать словарный запас дет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оспитывать интерес к накоплению положительного образа в оздоровлен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Управляющая кнопка: далее 4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Умножение 4"/>
          <p:cNvSpPr/>
          <p:nvPr/>
        </p:nvSpPr>
        <p:spPr>
          <a:xfrm>
            <a:off x="3376440" y="166536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Умножение 12"/>
          <p:cNvSpPr/>
          <p:nvPr/>
        </p:nvSpPr>
        <p:spPr>
          <a:xfrm>
            <a:off x="5683320" y="177336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Нашивка 3"/>
          <p:cNvSpPr/>
          <p:nvPr/>
        </p:nvSpPr>
        <p:spPr>
          <a:xfrm rot="5400000">
            <a:off x="964800" y="1701720"/>
            <a:ext cx="1008000" cy="11509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0920"/>
              <a:gd name="textAreaBottom" fmla="*/ 115128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ашивка 9"/>
          <p:cNvSpPr/>
          <p:nvPr/>
        </p:nvSpPr>
        <p:spPr>
          <a:xfrm rot="5400000">
            <a:off x="1355040" y="4421880"/>
            <a:ext cx="1008000" cy="11527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Нашивка 10"/>
          <p:cNvSpPr/>
          <p:nvPr/>
        </p:nvSpPr>
        <p:spPr>
          <a:xfrm rot="5400000">
            <a:off x="5604120" y="4421880"/>
            <a:ext cx="1008000" cy="115236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Прямоугольник 1" descr=""/>
          <p:cNvPicPr/>
          <p:nvPr/>
        </p:nvPicPr>
        <p:blipFill>
          <a:blip r:embed="rId1"/>
          <a:stretch/>
        </p:blipFill>
        <p:spPr>
          <a:xfrm>
            <a:off x="182520" y="19080"/>
            <a:ext cx="8778960" cy="145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2771640" y="1192320"/>
            <a:ext cx="2170080" cy="217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"/>
          <p:cNvPicPr/>
          <p:nvPr/>
        </p:nvPicPr>
        <p:blipFill>
          <a:blip r:embed="rId4"/>
          <a:stretch/>
        </p:blipFill>
        <p:spPr>
          <a:xfrm>
            <a:off x="5148360" y="10573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5"/>
          <a:stretch/>
        </p:blipFill>
        <p:spPr>
          <a:xfrm>
            <a:off x="477720" y="4076640"/>
            <a:ext cx="2762280" cy="18414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"/>
          <p:cNvPicPr/>
          <p:nvPr/>
        </p:nvPicPr>
        <p:blipFill>
          <a:blip r:embed="rId6"/>
          <a:stretch/>
        </p:blipFill>
        <p:spPr>
          <a:xfrm>
            <a:off x="4630680" y="3860640"/>
            <a:ext cx="2955960" cy="2275200"/>
          </a:xfrm>
          <a:prstGeom prst="rect">
            <a:avLst/>
          </a:prstGeom>
          <a:ln w="0">
            <a:noFill/>
          </a:ln>
        </p:spPr>
      </p:pic>
      <p:sp>
        <p:nvSpPr>
          <p:cNvPr id="56" name="Управляющая кнопка: далее 2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Нашивка 9"/>
          <p:cNvSpPr/>
          <p:nvPr/>
        </p:nvSpPr>
        <p:spPr>
          <a:xfrm rot="5400000">
            <a:off x="1366560" y="16383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Нашивка 10"/>
          <p:cNvSpPr/>
          <p:nvPr/>
        </p:nvSpPr>
        <p:spPr>
          <a:xfrm rot="5400000">
            <a:off x="4425480" y="17175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Нашивка 11"/>
          <p:cNvSpPr/>
          <p:nvPr/>
        </p:nvSpPr>
        <p:spPr>
          <a:xfrm rot="5400000">
            <a:off x="1281960" y="4581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ашивка 12"/>
          <p:cNvSpPr/>
          <p:nvPr/>
        </p:nvSpPr>
        <p:spPr>
          <a:xfrm rot="5400000">
            <a:off x="7319160" y="4581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Умножение 13"/>
          <p:cNvSpPr/>
          <p:nvPr/>
        </p:nvSpPr>
        <p:spPr>
          <a:xfrm>
            <a:off x="7068960" y="164628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Умножение 14"/>
          <p:cNvSpPr/>
          <p:nvPr/>
        </p:nvSpPr>
        <p:spPr>
          <a:xfrm>
            <a:off x="4175280" y="451008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" descr=""/>
          <p:cNvPicPr/>
          <p:nvPr/>
        </p:nvPicPr>
        <p:blipFill>
          <a:blip r:embed="rId3"/>
          <a:stretch/>
        </p:blipFill>
        <p:spPr>
          <a:xfrm>
            <a:off x="654120" y="425772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4"/>
          <a:stretch/>
        </p:blipFill>
        <p:spPr>
          <a:xfrm>
            <a:off x="3635280" y="1284120"/>
            <a:ext cx="2448000" cy="19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"/>
          <p:cNvPicPr/>
          <p:nvPr/>
        </p:nvPicPr>
        <p:blipFill>
          <a:blip r:embed="rId5"/>
          <a:stretch/>
        </p:blipFill>
        <p:spPr>
          <a:xfrm>
            <a:off x="6875640" y="4005360"/>
            <a:ext cx="1755720" cy="2233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6"/>
          <a:stretch/>
        </p:blipFill>
        <p:spPr>
          <a:xfrm>
            <a:off x="3959280" y="4222800"/>
            <a:ext cx="1800000" cy="1798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7"/>
          <a:stretch/>
        </p:blipFill>
        <p:spPr>
          <a:xfrm>
            <a:off x="6948360" y="1336680"/>
            <a:ext cx="1683000" cy="1684440"/>
          </a:xfrm>
          <a:prstGeom prst="rect">
            <a:avLst/>
          </a:prstGeom>
          <a:ln w="0">
            <a:noFill/>
          </a:ln>
        </p:spPr>
      </p:pic>
      <p:sp>
        <p:nvSpPr>
          <p:cNvPr id="70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189320" y="6093000"/>
            <a:ext cx="863640" cy="606240"/>
          </a:xfrm>
          <a:custGeom>
            <a:avLst/>
            <a:gdLst>
              <a:gd name="textAreaLeft" fmla="*/ 39240 w 863640"/>
              <a:gd name="textAreaRight" fmla="*/ 824400 w 86364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66" h="21600">
                <a:moveTo>
                  <a:pt x="0" y="0"/>
                </a:moveTo>
                <a:lnTo>
                  <a:pt x="30766" y="0"/>
                </a:lnTo>
                <a:lnTo>
                  <a:pt x="30766" y="21600"/>
                </a:lnTo>
                <a:lnTo>
                  <a:pt x="0" y="21600"/>
                </a:lnTo>
                <a:close/>
              </a:path>
              <a:path fill="lightenLess" w="30766" h="21600">
                <a:moveTo>
                  <a:pt x="0" y="0"/>
                </a:moveTo>
                <a:lnTo>
                  <a:pt x="30766" y="0"/>
                </a:lnTo>
                <a:lnTo>
                  <a:pt x="29366" y="1400"/>
                </a:lnTo>
                <a:lnTo>
                  <a:pt x="1400" y="1400"/>
                </a:lnTo>
                <a:close/>
              </a:path>
              <a:path fill="darken" w="30766" h="21600">
                <a:moveTo>
                  <a:pt x="30766" y="0"/>
                </a:moveTo>
                <a:lnTo>
                  <a:pt x="30766" y="21600"/>
                </a:lnTo>
                <a:lnTo>
                  <a:pt x="29366" y="20200"/>
                </a:lnTo>
                <a:lnTo>
                  <a:pt x="29366" y="1400"/>
                </a:lnTo>
                <a:close/>
              </a:path>
              <a:path fill="darkenLess" w="30766" h="21600">
                <a:moveTo>
                  <a:pt x="30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6" y="20200"/>
                </a:lnTo>
                <a:close/>
              </a:path>
              <a:path fill="lighten" w="30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6" h="21600">
                <a:moveTo>
                  <a:pt x="8376" y="3794"/>
                </a:moveTo>
                <a:lnTo>
                  <a:pt x="22389" y="10800"/>
                </a:lnTo>
                <a:lnTo>
                  <a:pt x="83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45" nodeType="clickEffect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51" nodeType="clickEffect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63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69" nodeType="clickEffect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Умножение 9"/>
          <p:cNvSpPr/>
          <p:nvPr/>
        </p:nvSpPr>
        <p:spPr>
          <a:xfrm>
            <a:off x="1428840" y="413064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Умножение 10"/>
          <p:cNvSpPr/>
          <p:nvPr/>
        </p:nvSpPr>
        <p:spPr>
          <a:xfrm>
            <a:off x="5850000" y="148896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ашивка 8"/>
          <p:cNvSpPr/>
          <p:nvPr/>
        </p:nvSpPr>
        <p:spPr>
          <a:xfrm rot="5400000">
            <a:off x="6479280" y="4237920"/>
            <a:ext cx="865440" cy="10792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Прямоугольник 3" descr=""/>
          <p:cNvPicPr/>
          <p:nvPr/>
        </p:nvPicPr>
        <p:blipFill>
          <a:blip r:embed="rId1"/>
          <a:stretch/>
        </p:blipFill>
        <p:spPr>
          <a:xfrm>
            <a:off x="-195120" y="-55440"/>
            <a:ext cx="9528120" cy="1457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" descr=""/>
          <p:cNvPicPr/>
          <p:nvPr/>
        </p:nvPicPr>
        <p:blipFill>
          <a:blip r:embed="rId2"/>
          <a:stretch/>
        </p:blipFill>
        <p:spPr>
          <a:xfrm>
            <a:off x="768240" y="1357200"/>
            <a:ext cx="2975040" cy="1828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tretch/>
        </p:blipFill>
        <p:spPr>
          <a:xfrm>
            <a:off x="5148360" y="3768840"/>
            <a:ext cx="3020760" cy="2016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4"/>
          <a:stretch/>
        </p:blipFill>
        <p:spPr>
          <a:xfrm>
            <a:off x="4859280" y="1125360"/>
            <a:ext cx="3348000" cy="2230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5"/>
          <a:stretch/>
        </p:blipFill>
        <p:spPr>
          <a:xfrm>
            <a:off x="826920" y="367200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79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140360" y="5927760"/>
            <a:ext cx="863280" cy="60624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53" h="21600">
                <a:moveTo>
                  <a:pt x="0" y="0"/>
                </a:moveTo>
                <a:lnTo>
                  <a:pt x="30753" y="0"/>
                </a:lnTo>
                <a:lnTo>
                  <a:pt x="30753" y="21600"/>
                </a:lnTo>
                <a:lnTo>
                  <a:pt x="0" y="21600"/>
                </a:lnTo>
                <a:close/>
              </a:path>
              <a:path fill="lightenLess" w="30753" h="21600">
                <a:moveTo>
                  <a:pt x="0" y="0"/>
                </a:moveTo>
                <a:lnTo>
                  <a:pt x="30753" y="0"/>
                </a:lnTo>
                <a:lnTo>
                  <a:pt x="29353" y="1400"/>
                </a:lnTo>
                <a:lnTo>
                  <a:pt x="1400" y="1400"/>
                </a:lnTo>
                <a:close/>
              </a:path>
              <a:path fill="darken" w="30753" h="21600">
                <a:moveTo>
                  <a:pt x="30753" y="0"/>
                </a:moveTo>
                <a:lnTo>
                  <a:pt x="30753" y="21600"/>
                </a:lnTo>
                <a:lnTo>
                  <a:pt x="29353" y="20200"/>
                </a:lnTo>
                <a:lnTo>
                  <a:pt x="29353" y="1400"/>
                </a:lnTo>
                <a:close/>
              </a:path>
              <a:path fill="darkenLess" w="30753" h="21600">
                <a:moveTo>
                  <a:pt x="307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53" y="20200"/>
                </a:lnTo>
                <a:close/>
              </a:path>
              <a:path fill="lighten" w="307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53" h="21600">
                <a:moveTo>
                  <a:pt x="8370" y="3794"/>
                </a:moveTo>
                <a:lnTo>
                  <a:pt x="22383" y="10800"/>
                </a:lnTo>
                <a:lnTo>
                  <a:pt x="8370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Нашивка 1"/>
          <p:cNvSpPr/>
          <p:nvPr/>
        </p:nvSpPr>
        <p:spPr>
          <a:xfrm rot="5400000">
            <a:off x="1823400" y="17301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80" nodeType="clickEffect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89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06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Нашивка 8"/>
          <p:cNvSpPr/>
          <p:nvPr/>
        </p:nvSpPr>
        <p:spPr>
          <a:xfrm rot="5400000">
            <a:off x="1726920" y="152388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Нашивка 9"/>
          <p:cNvSpPr/>
          <p:nvPr/>
        </p:nvSpPr>
        <p:spPr>
          <a:xfrm rot="5400000">
            <a:off x="6551280" y="152388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Умножение 10"/>
          <p:cNvSpPr/>
          <p:nvPr/>
        </p:nvSpPr>
        <p:spPr>
          <a:xfrm>
            <a:off x="1476360" y="439416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Умножение 11"/>
          <p:cNvSpPr/>
          <p:nvPr/>
        </p:nvSpPr>
        <p:spPr>
          <a:xfrm>
            <a:off x="6300720" y="4387680"/>
            <a:ext cx="136836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Прямоугольник 3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755640" y="123048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3"/>
          <a:stretch/>
        </p:blipFill>
        <p:spPr>
          <a:xfrm>
            <a:off x="5003640" y="4149720"/>
            <a:ext cx="3348360" cy="2232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"/>
          <p:cNvPicPr/>
          <p:nvPr/>
        </p:nvPicPr>
        <p:blipFill>
          <a:blip r:embed="rId4"/>
          <a:stretch/>
        </p:blipFill>
        <p:spPr>
          <a:xfrm>
            <a:off x="5396040" y="1230480"/>
            <a:ext cx="2955960" cy="22748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3" descr=""/>
          <p:cNvPicPr/>
          <p:nvPr/>
        </p:nvPicPr>
        <p:blipFill>
          <a:blip r:embed="rId5"/>
          <a:stretch/>
        </p:blipFill>
        <p:spPr>
          <a:xfrm>
            <a:off x="1006560" y="3621240"/>
            <a:ext cx="2070000" cy="2760480"/>
          </a:xfrm>
          <a:prstGeom prst="rect">
            <a:avLst/>
          </a:prstGeom>
          <a:ln w="0">
            <a:noFill/>
          </a:ln>
        </p:spPr>
      </p:pic>
      <p:sp>
        <p:nvSpPr>
          <p:cNvPr id="90" name="Управляющая кнопка: далее 7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113" nodeType="clickEffect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9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29" nodeType="clickEffect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ашивка 7"/>
          <p:cNvSpPr/>
          <p:nvPr/>
        </p:nvSpPr>
        <p:spPr>
          <a:xfrm rot="5400000">
            <a:off x="1983960" y="153036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Нашивка 8"/>
          <p:cNvSpPr/>
          <p:nvPr/>
        </p:nvSpPr>
        <p:spPr>
          <a:xfrm rot="5400000">
            <a:off x="1983600" y="479088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Умножение 9"/>
          <p:cNvSpPr/>
          <p:nvPr/>
        </p:nvSpPr>
        <p:spPr>
          <a:xfrm>
            <a:off x="6181560" y="1557360"/>
            <a:ext cx="136872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Умножение 10"/>
          <p:cNvSpPr/>
          <p:nvPr/>
        </p:nvSpPr>
        <p:spPr>
          <a:xfrm>
            <a:off x="6243480" y="4705200"/>
            <a:ext cx="1368720" cy="1224000"/>
          </a:xfrm>
          <a:custGeom>
            <a:avLst/>
            <a:gdLst/>
            <a:ahLst/>
            <a:rect l="l" t="t" r="r" b="b"/>
            <a:pathLst>
              <a:path w="1368425" h="1223963">
                <a:moveTo>
                  <a:pt x="232702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3" y="401250"/>
                </a:lnTo>
                <a:lnTo>
                  <a:pt x="900119" y="611982"/>
                </a:lnTo>
                <a:lnTo>
                  <a:pt x="1135723" y="822713"/>
                </a:lnTo>
                <a:lnTo>
                  <a:pt x="943805" y="1037283"/>
                </a:lnTo>
                <a:lnTo>
                  <a:pt x="684213" y="805095"/>
                </a:lnTo>
                <a:lnTo>
                  <a:pt x="424620" y="1037283"/>
                </a:lnTo>
                <a:lnTo>
                  <a:pt x="232702" y="822713"/>
                </a:lnTo>
                <a:lnTo>
                  <a:pt x="468306" y="611982"/>
                </a:lnTo>
                <a:lnTo>
                  <a:pt x="232702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971640" y="1052640"/>
            <a:ext cx="2890800" cy="2036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55600" y="3794040"/>
            <a:ext cx="2521080" cy="2521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"/>
          <p:cNvPicPr/>
          <p:nvPr/>
        </p:nvPicPr>
        <p:blipFill>
          <a:blip r:embed="rId4"/>
          <a:stretch/>
        </p:blipFill>
        <p:spPr>
          <a:xfrm>
            <a:off x="5580000" y="155736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5"/>
          <a:stretch/>
        </p:blipFill>
        <p:spPr>
          <a:xfrm>
            <a:off x="5703840" y="4357800"/>
            <a:ext cx="2448000" cy="1947600"/>
          </a:xfrm>
          <a:prstGeom prst="rect">
            <a:avLst/>
          </a:prstGeom>
          <a:ln w="0">
            <a:noFill/>
          </a:ln>
        </p:spPr>
      </p:pic>
      <p:sp>
        <p:nvSpPr>
          <p:cNvPr id="100" name="Управляющая кнопка: далее 6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42" nodeType="clickEffect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4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64" nodeType="clickEffect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Нашивка 9"/>
          <p:cNvSpPr/>
          <p:nvPr/>
        </p:nvSpPr>
        <p:spPr>
          <a:xfrm rot="5400000">
            <a:off x="1293480" y="17240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Нашивка 10"/>
          <p:cNvSpPr/>
          <p:nvPr/>
        </p:nvSpPr>
        <p:spPr>
          <a:xfrm rot="5400000">
            <a:off x="6983280" y="17240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Нашивка 11"/>
          <p:cNvSpPr/>
          <p:nvPr/>
        </p:nvSpPr>
        <p:spPr>
          <a:xfrm rot="5400000">
            <a:off x="4345920" y="460836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Умножение 12"/>
          <p:cNvSpPr/>
          <p:nvPr/>
        </p:nvSpPr>
        <p:spPr>
          <a:xfrm>
            <a:off x="3936960" y="1652760"/>
            <a:ext cx="1368360" cy="122364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Умножение 13"/>
          <p:cNvSpPr/>
          <p:nvPr/>
        </p:nvSpPr>
        <p:spPr>
          <a:xfrm>
            <a:off x="1041480" y="4535640"/>
            <a:ext cx="1368360" cy="122364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Умножение 14"/>
          <p:cNvSpPr/>
          <p:nvPr/>
        </p:nvSpPr>
        <p:spPr>
          <a:xfrm>
            <a:off x="6875640" y="4510080"/>
            <a:ext cx="1368360" cy="1224000"/>
          </a:xfrm>
          <a:custGeom>
            <a:avLst/>
            <a:gdLst/>
            <a:ahLst/>
            <a:rect l="l" t="t" r="r" b="b"/>
            <a:pathLst>
              <a:path w="1368425" h="1223962">
                <a:moveTo>
                  <a:pt x="232703" y="401250"/>
                </a:moveTo>
                <a:lnTo>
                  <a:pt x="424620" y="186680"/>
                </a:lnTo>
                <a:lnTo>
                  <a:pt x="684213" y="418868"/>
                </a:lnTo>
                <a:lnTo>
                  <a:pt x="943805" y="186680"/>
                </a:lnTo>
                <a:lnTo>
                  <a:pt x="1135722" y="401250"/>
                </a:lnTo>
                <a:lnTo>
                  <a:pt x="900119" y="611981"/>
                </a:lnTo>
                <a:lnTo>
                  <a:pt x="1135722" y="822712"/>
                </a:lnTo>
                <a:lnTo>
                  <a:pt x="943805" y="1037282"/>
                </a:lnTo>
                <a:lnTo>
                  <a:pt x="684213" y="805094"/>
                </a:lnTo>
                <a:lnTo>
                  <a:pt x="424620" y="1037282"/>
                </a:lnTo>
                <a:lnTo>
                  <a:pt x="232703" y="822712"/>
                </a:lnTo>
                <a:lnTo>
                  <a:pt x="468306" y="611981"/>
                </a:lnTo>
                <a:lnTo>
                  <a:pt x="232703" y="401250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2565360" cy="1924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3"/>
          <a:stretch/>
        </p:blipFill>
        <p:spPr>
          <a:xfrm>
            <a:off x="3708360" y="4076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4"/>
          <a:stretch/>
        </p:blipFill>
        <p:spPr>
          <a:xfrm>
            <a:off x="6446880" y="1114560"/>
            <a:ext cx="2087640" cy="2089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5"/>
          <a:stretch/>
        </p:blipFill>
        <p:spPr>
          <a:xfrm>
            <a:off x="3505320" y="1042920"/>
            <a:ext cx="2232000" cy="2232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"/>
          <p:cNvPicPr/>
          <p:nvPr/>
        </p:nvPicPr>
        <p:blipFill>
          <a:blip r:embed="rId6"/>
          <a:stretch/>
        </p:blipFill>
        <p:spPr>
          <a:xfrm>
            <a:off x="684360" y="4284720"/>
            <a:ext cx="2512800" cy="1674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"/>
          <p:cNvPicPr/>
          <p:nvPr/>
        </p:nvPicPr>
        <p:blipFill>
          <a:blip r:embed="rId7"/>
          <a:stretch/>
        </p:blipFill>
        <p:spPr>
          <a:xfrm>
            <a:off x="6686640" y="3753000"/>
            <a:ext cx="1847880" cy="2466720"/>
          </a:xfrm>
          <a:prstGeom prst="rect">
            <a:avLst/>
          </a:prstGeom>
          <a:ln w="0">
            <a:noFill/>
          </a:ln>
        </p:spPr>
      </p:pic>
      <p:sp>
        <p:nvSpPr>
          <p:cNvPr id="114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3995640" y="6093000"/>
            <a:ext cx="863640" cy="606240"/>
          </a:xfrm>
          <a:custGeom>
            <a:avLst/>
            <a:gdLst>
              <a:gd name="textAreaLeft" fmla="*/ 39240 w 863640"/>
              <a:gd name="textAreaRight" fmla="*/ 824400 w 863640"/>
              <a:gd name="textAreaTop" fmla="*/ 39240 h 606240"/>
              <a:gd name="textAreaBottom" fmla="*/ 567000 h 606240"/>
            </a:gdLst>
            <a:ahLst/>
            <a:rect l="textAreaLeft" t="textAreaTop" r="textAreaRight" b="textAreaBottom"/>
            <a:pathLst>
              <a:path w="30766" h="21600">
                <a:moveTo>
                  <a:pt x="0" y="0"/>
                </a:moveTo>
                <a:lnTo>
                  <a:pt x="30766" y="0"/>
                </a:lnTo>
                <a:lnTo>
                  <a:pt x="30766" y="21600"/>
                </a:lnTo>
                <a:lnTo>
                  <a:pt x="0" y="21600"/>
                </a:lnTo>
                <a:close/>
              </a:path>
              <a:path fill="lightenLess" w="30766" h="21600">
                <a:moveTo>
                  <a:pt x="0" y="0"/>
                </a:moveTo>
                <a:lnTo>
                  <a:pt x="30766" y="0"/>
                </a:lnTo>
                <a:lnTo>
                  <a:pt x="29366" y="1400"/>
                </a:lnTo>
                <a:lnTo>
                  <a:pt x="1400" y="1400"/>
                </a:lnTo>
                <a:close/>
              </a:path>
              <a:path fill="darken" w="30766" h="21600">
                <a:moveTo>
                  <a:pt x="30766" y="0"/>
                </a:moveTo>
                <a:lnTo>
                  <a:pt x="30766" y="21600"/>
                </a:lnTo>
                <a:lnTo>
                  <a:pt x="29366" y="20200"/>
                </a:lnTo>
                <a:lnTo>
                  <a:pt x="29366" y="1400"/>
                </a:lnTo>
                <a:close/>
              </a:path>
              <a:path fill="darkenLess" w="30766" h="21600">
                <a:moveTo>
                  <a:pt x="30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66" y="20200"/>
                </a:lnTo>
                <a:close/>
              </a:path>
              <a:path fill="lighten" w="30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66" h="21600">
                <a:moveTo>
                  <a:pt x="8376" y="3794"/>
                </a:moveTo>
                <a:lnTo>
                  <a:pt x="22389" y="10800"/>
                </a:lnTo>
                <a:lnTo>
                  <a:pt x="8376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77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83" nodeType="clickEffect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89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205" nodeType="clickEffect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Нашивка 9"/>
          <p:cNvSpPr/>
          <p:nvPr/>
        </p:nvSpPr>
        <p:spPr>
          <a:xfrm rot="5400000">
            <a:off x="1223280" y="165240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ашивка 10"/>
          <p:cNvSpPr/>
          <p:nvPr/>
        </p:nvSpPr>
        <p:spPr>
          <a:xfrm rot="5400000">
            <a:off x="4104720" y="172548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 rot="5400000">
            <a:off x="7027200" y="165240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2"/>
          <p:cNvSpPr/>
          <p:nvPr/>
        </p:nvSpPr>
        <p:spPr>
          <a:xfrm rot="5400000">
            <a:off x="4104720" y="4492440"/>
            <a:ext cx="865440" cy="1081080"/>
          </a:xfrm>
          <a:custGeom>
            <a:avLst/>
            <a:gdLst>
              <a:gd name="textAreaLeft" fmla="*/ 0 w 865440"/>
              <a:gd name="textAreaRight" fmla="*/ 865800 w 865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Умножение 13"/>
          <p:cNvSpPr/>
          <p:nvPr/>
        </p:nvSpPr>
        <p:spPr>
          <a:xfrm>
            <a:off x="6775560" y="4443480"/>
            <a:ext cx="136836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Умножение 14"/>
          <p:cNvSpPr/>
          <p:nvPr/>
        </p:nvSpPr>
        <p:spPr>
          <a:xfrm>
            <a:off x="853920" y="4443480"/>
            <a:ext cx="136872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6480"/>
            <a:ext cx="8594640" cy="1073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235240" cy="1994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3"/>
          <a:stretch/>
        </p:blipFill>
        <p:spPr>
          <a:xfrm>
            <a:off x="3284640" y="1365120"/>
            <a:ext cx="2506680" cy="1928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"/>
          <p:cNvPicPr/>
          <p:nvPr/>
        </p:nvPicPr>
        <p:blipFill>
          <a:blip r:embed="rId4"/>
          <a:stretch/>
        </p:blipFill>
        <p:spPr>
          <a:xfrm>
            <a:off x="3135240" y="3933720"/>
            <a:ext cx="2805120" cy="2243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5"/>
          <a:stretch/>
        </p:blipFill>
        <p:spPr>
          <a:xfrm>
            <a:off x="6000840" y="1365120"/>
            <a:ext cx="2919240" cy="165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6"/>
          <a:stretch/>
        </p:blipFill>
        <p:spPr>
          <a:xfrm>
            <a:off x="324000" y="3971880"/>
            <a:ext cx="2165040" cy="21654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7"/>
          <a:stretch/>
        </p:blipFill>
        <p:spPr>
          <a:xfrm>
            <a:off x="6443640" y="39276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128" name="Управляющая кнопка: далее 8">
            <a:hlinkClick r:id="" action="ppaction://hlinkshowjump?jump=nextslide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12" nodeType="clickEffect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218" nodeType="clickEffect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3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24" nodeType="clickEffect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30" nodeType="clickEffect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40" nodeType="clickEffect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5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46" nodeType="clickEffect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Умножение 13"/>
          <p:cNvSpPr/>
          <p:nvPr/>
        </p:nvSpPr>
        <p:spPr>
          <a:xfrm>
            <a:off x="3936960" y="1665360"/>
            <a:ext cx="136836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Умножение 14"/>
          <p:cNvSpPr/>
          <p:nvPr/>
        </p:nvSpPr>
        <p:spPr>
          <a:xfrm>
            <a:off x="784080" y="1665360"/>
            <a:ext cx="1368720" cy="122220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Умножение 15"/>
          <p:cNvSpPr/>
          <p:nvPr/>
        </p:nvSpPr>
        <p:spPr>
          <a:xfrm>
            <a:off x="7068960" y="4510080"/>
            <a:ext cx="1368720" cy="1222560"/>
          </a:xfrm>
          <a:custGeom>
            <a:avLst/>
            <a:gdLst/>
            <a:ahLst/>
            <a:rect l="l" t="t" r="r" b="b"/>
            <a:pathLst>
              <a:path w="1368425" h="1222375">
                <a:moveTo>
                  <a:pt x="232896" y="400791"/>
                </a:moveTo>
                <a:lnTo>
                  <a:pt x="424427" y="186376"/>
                </a:lnTo>
                <a:lnTo>
                  <a:pt x="684213" y="418436"/>
                </a:lnTo>
                <a:lnTo>
                  <a:pt x="943998" y="186376"/>
                </a:lnTo>
                <a:lnTo>
                  <a:pt x="1135529" y="400791"/>
                </a:lnTo>
                <a:lnTo>
                  <a:pt x="899994" y="611188"/>
                </a:lnTo>
                <a:lnTo>
                  <a:pt x="1135529" y="821584"/>
                </a:lnTo>
                <a:lnTo>
                  <a:pt x="943998" y="1035999"/>
                </a:lnTo>
                <a:lnTo>
                  <a:pt x="684213" y="803939"/>
                </a:lnTo>
                <a:lnTo>
                  <a:pt x="424427" y="1035999"/>
                </a:lnTo>
                <a:lnTo>
                  <a:pt x="232896" y="821584"/>
                </a:lnTo>
                <a:lnTo>
                  <a:pt x="468431" y="611188"/>
                </a:lnTo>
                <a:lnTo>
                  <a:pt x="232896" y="400791"/>
                </a:ln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ашивка 10"/>
          <p:cNvSpPr/>
          <p:nvPr/>
        </p:nvSpPr>
        <p:spPr>
          <a:xfrm rot="5400000">
            <a:off x="7063920" y="173664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ашивка 11"/>
          <p:cNvSpPr/>
          <p:nvPr/>
        </p:nvSpPr>
        <p:spPr>
          <a:xfrm rot="5400000">
            <a:off x="1036440" y="4397400"/>
            <a:ext cx="865080" cy="10810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Нашивка 12"/>
          <p:cNvSpPr/>
          <p:nvPr/>
        </p:nvSpPr>
        <p:spPr>
          <a:xfrm rot="5400000">
            <a:off x="4077360" y="4398120"/>
            <a:ext cx="865080" cy="1079280"/>
          </a:xfrm>
          <a:custGeom>
            <a:avLst/>
            <a:gdLst>
              <a:gd name="textAreaLeft" fmla="*/ 0 w 865080"/>
              <a:gd name="textAreaRight" fmla="*/ 865440 w 86508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08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Прямоугольник 1" descr=""/>
          <p:cNvPicPr/>
          <p:nvPr/>
        </p:nvPicPr>
        <p:blipFill>
          <a:blip r:embed="rId1"/>
          <a:stretch/>
        </p:blipFill>
        <p:spPr>
          <a:xfrm>
            <a:off x="324000" y="23760"/>
            <a:ext cx="8594640" cy="963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2290680" cy="1728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6875640" y="4005360"/>
            <a:ext cx="1755720" cy="22334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3335400" y="1700280"/>
            <a:ext cx="2571840" cy="16668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5"/>
          <a:stretch/>
        </p:blipFill>
        <p:spPr>
          <a:xfrm>
            <a:off x="2843280" y="4208400"/>
            <a:ext cx="2975040" cy="1827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6"/>
          <a:stretch/>
        </p:blipFill>
        <p:spPr>
          <a:xfrm>
            <a:off x="536400" y="4005360"/>
            <a:ext cx="1865520" cy="1865160"/>
          </a:xfrm>
          <a:prstGeom prst="rect">
            <a:avLst/>
          </a:prstGeom>
          <a:ln w="0">
            <a:noFill/>
          </a:ln>
        </p:spPr>
      </p:pic>
      <p:sp>
        <p:nvSpPr>
          <p:cNvPr id="141" name="Управляющая кнопка: далее 8">
            <a:hlinkClick r:id="" action="ppaction://hlinkshowjump?jump=endshow"/>
          </p:cNvPr>
          <p:cNvSpPr/>
          <p:nvPr/>
        </p:nvSpPr>
        <p:spPr>
          <a:xfrm>
            <a:off x="4078440" y="5951520"/>
            <a:ext cx="863280" cy="606600"/>
          </a:xfrm>
          <a:custGeom>
            <a:avLst/>
            <a:gdLst>
              <a:gd name="textAreaLeft" fmla="*/ 39240 w 863280"/>
              <a:gd name="textAreaRight" fmla="*/ 824040 w 863280"/>
              <a:gd name="textAreaTop" fmla="*/ 39240 h 606600"/>
              <a:gd name="textAreaBottom" fmla="*/ 567360 h 606600"/>
            </a:gdLst>
            <a:ahLst/>
            <a:rect l="textAreaLeft" t="textAreaTop" r="textAreaRight" b="textAreaBottom"/>
            <a:pathLst>
              <a:path w="30735" h="21600">
                <a:moveTo>
                  <a:pt x="0" y="0"/>
                </a:moveTo>
                <a:lnTo>
                  <a:pt x="30735" y="0"/>
                </a:lnTo>
                <a:lnTo>
                  <a:pt x="30735" y="21600"/>
                </a:lnTo>
                <a:lnTo>
                  <a:pt x="0" y="21600"/>
                </a:lnTo>
                <a:close/>
              </a:path>
              <a:path fill="lightenLess" w="30735" h="21600">
                <a:moveTo>
                  <a:pt x="0" y="0"/>
                </a:moveTo>
                <a:lnTo>
                  <a:pt x="30735" y="0"/>
                </a:lnTo>
                <a:lnTo>
                  <a:pt x="29335" y="1400"/>
                </a:lnTo>
                <a:lnTo>
                  <a:pt x="1400" y="1400"/>
                </a:lnTo>
                <a:close/>
              </a:path>
              <a:path fill="darken" w="30735" h="21600">
                <a:moveTo>
                  <a:pt x="30735" y="0"/>
                </a:moveTo>
                <a:lnTo>
                  <a:pt x="30735" y="21600"/>
                </a:lnTo>
                <a:lnTo>
                  <a:pt x="29335" y="20200"/>
                </a:lnTo>
                <a:lnTo>
                  <a:pt x="29335" y="1400"/>
                </a:lnTo>
                <a:close/>
              </a:path>
              <a:path fill="darkenLess" w="30735" h="21600">
                <a:moveTo>
                  <a:pt x="307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335" y="20200"/>
                </a:lnTo>
                <a:close/>
              </a:path>
              <a:path fill="lighten" w="307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735" h="21600">
                <a:moveTo>
                  <a:pt x="8361" y="3794"/>
                </a:moveTo>
                <a:lnTo>
                  <a:pt x="22374" y="10800"/>
                </a:lnTo>
                <a:lnTo>
                  <a:pt x="8361" y="1780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7"/>
          <a:stretch/>
        </p:blipFill>
        <p:spPr>
          <a:xfrm>
            <a:off x="6364440" y="1521000"/>
            <a:ext cx="2266920" cy="151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1" dur="indefinite" restart="never" nodeType="tmRoot">
          <p:childTnLst>
            <p:seq>
              <p:cTn id="252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53" nodeType="clickEffect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8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59" nodeType="clickEffect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65" nodeType="clickEffect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271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28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8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289" nodeType="clickEffect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4T11:57:09Z</dcterms:created>
  <dc:creator>Watchtower</dc:creator>
  <dc:description/>
  <dc:language>en-US</dc:language>
  <cp:lastModifiedBy>Гейнц Дмитрий</cp:lastModifiedBy>
  <dcterms:modified xsi:type="dcterms:W3CDTF">2018-07-21T07:51:35Z</dcterms:modified>
  <cp:revision>30</cp:revision>
  <dc:subject/>
  <dc:title>Презентация PowerPoint</dc:title>
</cp:coreProperties>
</file>