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2B1F-0A73-4F1C-BBA3-91002A46D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F0C1-4871-4EDD-8FD6-68079419E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F87-58CB-4D31-9D28-447DD72C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D71-598A-4CA5-B892-A212EC56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675-C39B-49ED-AF60-75EA8E43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806-BB65-417F-8A01-D7E25F53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A88-4B3A-41F8-82F9-5C9C2051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BA6-8B8F-40B8-8431-8F481854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98-E45A-4BB6-8F94-61198BD9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680-3875-4A6E-8B36-9143E9D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FBB-50C7-4F1C-AA2F-BFB55712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416-B190-4484-BF4C-F2D7FC7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895-1043-43D7-94A1-32B977D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E07-8261-407C-ACB4-5826818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7D97-2FAC-415A-8079-72281F49C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gromagazin.ru/matematika-dlya-doshkolnikov/cvetnye-schetnye-palochki-kjuizenera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alochki.ppt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252360"/>
            <a:ext cx="9188280" cy="713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00040" y="785880"/>
            <a:ext cx="803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Палочки</a:t>
            </a: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 </a:t>
            </a:r>
            <a:r>
              <a:rPr b="1" lang="ru-RU" sz="6600" spc="-1" strike="noStrike">
                <a:solidFill>
                  <a:srgbClr val="005024"/>
                </a:solidFill>
                <a:latin typeface="Calibri"/>
                <a:ea typeface="Calibri"/>
              </a:rPr>
              <a:t>Кюизене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211640" y="515772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Составит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Тверскова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Цветные счетные палочки Кюизенера">
            <a:hlinkClick r:id="rId2"/>
          </p:cNvPr>
          <p:cNvPicPr/>
          <p:nvPr/>
        </p:nvPicPr>
        <p:blipFill>
          <a:blip r:embed="rId3"/>
          <a:stretch/>
        </p:blipFill>
        <p:spPr>
          <a:xfrm rot="21191400">
            <a:off x="282600" y="2284560"/>
            <a:ext cx="4454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6480"/>
            <a:ext cx="92217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42920" y="544392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755640" y="404640"/>
            <a:ext cx="76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Баклажан-лимон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 звуков  Л и Ль в словах учить выкладывать палочки в определенной последовательности, соблюдая закономе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тая (лимон) - фиолетовая (баклаж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684360" y="765000"/>
            <a:ext cx="77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Один-мн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ить употреблять имена существительные в единственном и множественном чи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ребёнку предлагалось каждый предмет обозначить палочкой соответствующего цвета: желтая – лимон, красная – яблоко, фиолетовый – баклажан, синий – слива, белый – смородина и т.д. Далее логопед выкладывает перед ребёнком по несколько палочек кажд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Я буду называть один предмет, а ты – много. Лимон – лимон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9360" y="-19080"/>
            <a:ext cx="915696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826920" y="765000"/>
            <a:ext cx="7921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счит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гласование количественных числительных и существи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опед берёт одну жёлтую палочку, а перед ребёнком кладёт 3 жёлтые пал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У меня один жёлтый лимон, а сколько у теб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324000" y="836640"/>
            <a:ext cx="8351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втори за мн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зация звуков в слогах и словах, развитие чувства ритма, отработка слоговых структур различных 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ие игр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опед выкладывает перед ребёнком столько коротких палочек, сколько слогов в слове, и одну длинную палочку, обозначающую само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овторяя за мной слоги и слова, нажимая на каждую из палоч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    -   СА    -    СА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    -    СА    -    СА     -    САП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2"/>
          <p:cNvSpPr/>
          <p:nvPr/>
        </p:nvSpPr>
        <p:spPr>
          <a:xfrm>
            <a:off x="324000" y="692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Посчитай сл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ь определять количество слогов в с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ыложи столько палочек, сколько слогов в слове, которое я  назва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ое упражнение «Найди бук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зрительного восприятия, зрительной памяти, развитие пространственных предста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айди букву (П, К, Т, Х) и выложи её из палочек на квадра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"/>
          <p:cNvGrpSpPr/>
          <p:nvPr/>
        </p:nvGrpSpPr>
        <p:grpSpPr>
          <a:xfrm>
            <a:off x="713880" y="1714680"/>
            <a:ext cx="3327480" cy="4338000"/>
            <a:chOff x="713880" y="1714680"/>
            <a:chExt cx="3327480" cy="4338000"/>
          </a:xfrm>
        </p:grpSpPr>
        <p:sp>
          <p:nvSpPr>
            <p:cNvPr id="101" name="Rectangle 3"/>
            <p:cNvSpPr/>
            <p:nvPr/>
          </p:nvSpPr>
          <p:spPr>
            <a:xfrm>
              <a:off x="180648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219564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258120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 rot="5400000">
              <a:off x="2144880" y="1350000"/>
              <a:ext cx="36000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 rot="5400000">
              <a:off x="2145240" y="1705680"/>
              <a:ext cx="35964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 rot="5400000">
              <a:off x="332136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 rot="5400000">
              <a:off x="332100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 rot="5400000">
              <a:off x="107352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 rot="5400000">
              <a:off x="107388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 rot="5400000">
              <a:off x="276084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 rot="5400000">
              <a:off x="164340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 rot="5400000">
              <a:off x="2684520" y="153468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 rot="5400000">
              <a:off x="276084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 rot="5400000">
              <a:off x="164340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1605240" y="153900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5643720" y="1785960"/>
            <a:ext cx="2499840" cy="4383000"/>
            <a:chOff x="5643720" y="1785960"/>
            <a:chExt cx="2499840" cy="4383000"/>
          </a:xfrm>
        </p:grpSpPr>
        <p:sp>
          <p:nvSpPr>
            <p:cNvPr id="117" name="Rectangle 19"/>
            <p:cNvSpPr/>
            <p:nvPr/>
          </p:nvSpPr>
          <p:spPr>
            <a:xfrm rot="16200000">
              <a:off x="7049520" y="3203280"/>
              <a:ext cx="312480" cy="125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 rot="16200000">
              <a:off x="7049520" y="2585520"/>
              <a:ext cx="312480" cy="125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 rot="16200000">
              <a:off x="6111720" y="1629720"/>
              <a:ext cx="312480" cy="62496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 rot="16200000">
              <a:off x="6924600" y="5700240"/>
              <a:ext cx="312480" cy="62496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 rot="16200000">
              <a:off x="5956200" y="1782000"/>
              <a:ext cx="312480" cy="93780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 rot="16200000">
              <a:off x="6893280" y="3668040"/>
              <a:ext cx="312480" cy="93780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6261120" y="2414520"/>
              <a:ext cx="312480" cy="18759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6922800" y="4292640"/>
              <a:ext cx="312480" cy="156348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 rot="16200000">
              <a:off x="7205760" y="2737800"/>
              <a:ext cx="312480" cy="15627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8"/>
          <p:cNvSpPr/>
          <p:nvPr/>
        </p:nvSpPr>
        <p:spPr>
          <a:xfrm>
            <a:off x="1575720" y="9288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5887080" y="1158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"/>
          <p:cNvGrpSpPr/>
          <p:nvPr/>
        </p:nvGrpSpPr>
        <p:grpSpPr>
          <a:xfrm>
            <a:off x="713880" y="1714680"/>
            <a:ext cx="3327480" cy="4338000"/>
            <a:chOff x="713880" y="1714680"/>
            <a:chExt cx="3327480" cy="4338000"/>
          </a:xfrm>
        </p:grpSpPr>
        <p:sp>
          <p:nvSpPr>
            <p:cNvPr id="129" name="Rectangle 3"/>
            <p:cNvSpPr/>
            <p:nvPr/>
          </p:nvSpPr>
          <p:spPr>
            <a:xfrm>
              <a:off x="180648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219564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581200" y="2798280"/>
              <a:ext cx="359640" cy="251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 rot="5400000">
              <a:off x="2144880" y="1350000"/>
              <a:ext cx="36000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 rot="5400000">
              <a:off x="2145240" y="1705680"/>
              <a:ext cx="359640" cy="179964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 rot="5400000">
              <a:off x="332136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 rot="5400000">
              <a:off x="332100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 rot="5400000">
              <a:off x="1073520" y="2781000"/>
              <a:ext cx="36000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 rot="5400000">
              <a:off x="1073880" y="3136680"/>
              <a:ext cx="359640" cy="107964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 rot="5400000">
              <a:off x="276084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 rot="5400000">
              <a:off x="1643400" y="551304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 rot="5400000">
              <a:off x="2684520" y="153468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 rot="5400000">
              <a:off x="276084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 rot="5400000">
              <a:off x="1643400" y="515772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 rot="5400000">
              <a:off x="1605240" y="1539000"/>
              <a:ext cx="359640" cy="7196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Прямоугольник 1"/>
          <p:cNvSpPr/>
          <p:nvPr/>
        </p:nvSpPr>
        <p:spPr>
          <a:xfrm>
            <a:off x="1785960" y="189000"/>
            <a:ext cx="62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ры исполь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2"/>
          <p:cNvGrpSpPr/>
          <p:nvPr/>
        </p:nvGrpSpPr>
        <p:grpSpPr>
          <a:xfrm>
            <a:off x="428400" y="3786120"/>
            <a:ext cx="4071600" cy="2428560"/>
            <a:chOff x="428400" y="3786120"/>
            <a:chExt cx="4071600" cy="2428560"/>
          </a:xfrm>
        </p:grpSpPr>
        <p:grpSp>
          <p:nvGrpSpPr>
            <p:cNvPr id="147" name="Group 3"/>
            <p:cNvGrpSpPr/>
            <p:nvPr/>
          </p:nvGrpSpPr>
          <p:grpSpPr>
            <a:xfrm>
              <a:off x="428400" y="3786120"/>
              <a:ext cx="4071600" cy="1880280"/>
              <a:chOff x="428400" y="3786120"/>
              <a:chExt cx="4071600" cy="1880280"/>
            </a:xfrm>
          </p:grpSpPr>
          <p:grpSp>
            <p:nvGrpSpPr>
              <p:cNvPr id="148" name="Group 4"/>
              <p:cNvGrpSpPr/>
              <p:nvPr/>
            </p:nvGrpSpPr>
            <p:grpSpPr>
              <a:xfrm>
                <a:off x="2467080" y="3786120"/>
                <a:ext cx="1751760" cy="1608120"/>
                <a:chOff x="2467080" y="3786120"/>
                <a:chExt cx="1751760" cy="1608120"/>
              </a:xfrm>
            </p:grpSpPr>
            <p:sp>
              <p:nvSpPr>
                <p:cNvPr id="149" name="Rectangle 5"/>
                <p:cNvSpPr/>
                <p:nvPr/>
              </p:nvSpPr>
              <p:spPr>
                <a:xfrm rot="5400000">
                  <a:off x="3215520" y="43909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6"/>
                <p:cNvSpPr/>
                <p:nvPr/>
              </p:nvSpPr>
              <p:spPr>
                <a:xfrm rot="5400000">
                  <a:off x="3206520" y="331596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7"/>
                <p:cNvSpPr/>
                <p:nvPr/>
              </p:nvSpPr>
              <p:spPr>
                <a:xfrm rot="5400000">
                  <a:off x="3215520" y="41245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8"/>
                <p:cNvSpPr/>
                <p:nvPr/>
              </p:nvSpPr>
              <p:spPr>
                <a:xfrm rot="5400000">
                  <a:off x="3215520" y="385488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9"/>
                <p:cNvSpPr/>
                <p:nvPr/>
              </p:nvSpPr>
              <p:spPr>
                <a:xfrm rot="5400000">
                  <a:off x="3206520" y="358560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0"/>
                <p:cNvSpPr/>
                <p:nvPr/>
              </p:nvSpPr>
              <p:spPr>
                <a:xfrm rot="5400000">
                  <a:off x="3206520" y="3046320"/>
                  <a:ext cx="263520" cy="174276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1"/>
              <p:cNvGrpSpPr/>
              <p:nvPr/>
            </p:nvGrpSpPr>
            <p:grpSpPr>
              <a:xfrm>
                <a:off x="1019160" y="4079520"/>
                <a:ext cx="879480" cy="793800"/>
                <a:chOff x="1019160" y="4079520"/>
                <a:chExt cx="879480" cy="793800"/>
              </a:xfrm>
            </p:grpSpPr>
            <p:sp>
              <p:nvSpPr>
                <p:cNvPr id="156" name="Rectangle 12"/>
                <p:cNvSpPr/>
                <p:nvPr/>
              </p:nvSpPr>
              <p:spPr>
                <a:xfrm>
                  <a:off x="1316160" y="4082760"/>
                  <a:ext cx="29016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3"/>
                <p:cNvSpPr/>
                <p:nvPr/>
              </p:nvSpPr>
              <p:spPr>
                <a:xfrm>
                  <a:off x="1019160" y="4082760"/>
                  <a:ext cx="29052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14"/>
                <p:cNvSpPr/>
                <p:nvPr/>
              </p:nvSpPr>
              <p:spPr>
                <a:xfrm>
                  <a:off x="1608480" y="4079520"/>
                  <a:ext cx="290160" cy="790560"/>
                </a:xfrm>
                <a:prstGeom prst="rect">
                  <a:avLst/>
                </a:prstGeom>
                <a:solidFill>
                  <a:srgbClr val="09ca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15"/>
              <p:cNvSpPr/>
              <p:nvPr/>
            </p:nvSpPr>
            <p:spPr>
              <a:xfrm rot="5400000">
                <a:off x="1184760" y="3364560"/>
                <a:ext cx="26316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 rot="5400000">
                <a:off x="1180800" y="4693680"/>
                <a:ext cx="26316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1893600" y="3813840"/>
                <a:ext cx="290160" cy="1053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8"/>
              <p:cNvSpPr/>
              <p:nvPr/>
            </p:nvSpPr>
            <p:spPr>
              <a:xfrm rot="5400000">
                <a:off x="1174320" y="4433400"/>
                <a:ext cx="263520" cy="116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445320" y="5142960"/>
                <a:ext cx="290520" cy="263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>
                <a:off x="1883520" y="4873680"/>
                <a:ext cx="290520" cy="527040"/>
              </a:xfrm>
              <a:prstGeom prst="rect">
                <a:avLst/>
              </a:prstGeom>
              <a:solidFill>
                <a:srgbClr val="f8c0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 rot="5400000">
                <a:off x="1313280" y="4518360"/>
                <a:ext cx="263160" cy="203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 rot="5400000">
                <a:off x="3351960" y="4518360"/>
                <a:ext cx="263160" cy="203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23"/>
            <p:cNvSpPr/>
            <p:nvPr/>
          </p:nvSpPr>
          <p:spPr>
            <a:xfrm rot="5400000">
              <a:off x="2905560" y="579276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 rot="5400000">
              <a:off x="2902680" y="552348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 rot="5400000">
              <a:off x="1163880" y="579276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 rot="5400000">
              <a:off x="1171080" y="5523480"/>
              <a:ext cx="263160" cy="58068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7"/>
          <p:cNvGrpSpPr/>
          <p:nvPr/>
        </p:nvGrpSpPr>
        <p:grpSpPr>
          <a:xfrm>
            <a:off x="5000760" y="1643040"/>
            <a:ext cx="3571560" cy="3168720"/>
            <a:chOff x="5000760" y="1643040"/>
            <a:chExt cx="3571560" cy="3168720"/>
          </a:xfrm>
        </p:grpSpPr>
        <p:sp>
          <p:nvSpPr>
            <p:cNvPr id="172" name="Rectangle 28"/>
            <p:cNvSpPr/>
            <p:nvPr/>
          </p:nvSpPr>
          <p:spPr>
            <a:xfrm rot="16200000">
              <a:off x="7055280" y="3657600"/>
              <a:ext cx="240480" cy="1100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9"/>
            <p:cNvSpPr/>
            <p:nvPr/>
          </p:nvSpPr>
          <p:spPr>
            <a:xfrm rot="16200000">
              <a:off x="7068240" y="3625560"/>
              <a:ext cx="240480" cy="16502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0"/>
            <p:cNvSpPr/>
            <p:nvPr/>
          </p:nvSpPr>
          <p:spPr>
            <a:xfrm rot="16200000">
              <a:off x="7068240" y="3136320"/>
              <a:ext cx="240480" cy="16502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 rot="16200000">
              <a:off x="7063920" y="3591360"/>
              <a:ext cx="240480" cy="21999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2"/>
            <p:cNvGrpSpPr/>
            <p:nvPr/>
          </p:nvGrpSpPr>
          <p:grpSpPr>
            <a:xfrm>
              <a:off x="5000760" y="1643040"/>
              <a:ext cx="3571560" cy="2192760"/>
              <a:chOff x="5000760" y="1643040"/>
              <a:chExt cx="3571560" cy="2192760"/>
            </a:xfrm>
          </p:grpSpPr>
          <p:grpSp>
            <p:nvGrpSpPr>
              <p:cNvPr id="177" name="Group 33"/>
              <p:cNvGrpSpPr/>
              <p:nvPr/>
            </p:nvGrpSpPr>
            <p:grpSpPr>
              <a:xfrm>
                <a:off x="5000760" y="3102840"/>
                <a:ext cx="821520" cy="726840"/>
                <a:chOff x="5000760" y="3102840"/>
                <a:chExt cx="821520" cy="726840"/>
              </a:xfrm>
            </p:grpSpPr>
            <p:sp>
              <p:nvSpPr>
                <p:cNvPr id="178" name="Rectangle 34"/>
                <p:cNvSpPr/>
                <p:nvPr/>
              </p:nvSpPr>
              <p:spPr>
                <a:xfrm>
                  <a:off x="5000760" y="3348720"/>
                  <a:ext cx="274680" cy="480960"/>
                </a:xfrm>
                <a:prstGeom prst="rect">
                  <a:avLst/>
                </a:prstGeom>
                <a:solidFill>
                  <a:srgbClr val="f8c0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35"/>
                <p:cNvSpPr/>
                <p:nvPr/>
              </p:nvSpPr>
              <p:spPr>
                <a:xfrm rot="5400000">
                  <a:off x="5427000" y="3193920"/>
                  <a:ext cx="240480" cy="550080"/>
                </a:xfrm>
                <a:prstGeom prst="rect">
                  <a:avLst/>
                </a:prstGeom>
                <a:solidFill>
                  <a:srgbClr val="f8c0d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36"/>
                <p:cNvSpPr/>
                <p:nvPr/>
              </p:nvSpPr>
              <p:spPr>
                <a:xfrm>
                  <a:off x="5272200" y="3102840"/>
                  <a:ext cx="275040" cy="240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37"/>
              <p:cNvGrpSpPr/>
              <p:nvPr/>
            </p:nvGrpSpPr>
            <p:grpSpPr>
              <a:xfrm>
                <a:off x="5822280" y="1643040"/>
                <a:ext cx="2750040" cy="2192760"/>
                <a:chOff x="5822280" y="1643040"/>
                <a:chExt cx="2750040" cy="2192760"/>
              </a:xfrm>
            </p:grpSpPr>
            <p:sp>
              <p:nvSpPr>
                <p:cNvPr id="182" name="Rectangle 38"/>
                <p:cNvSpPr/>
                <p:nvPr/>
              </p:nvSpPr>
              <p:spPr>
                <a:xfrm rot="16200000">
                  <a:off x="7063560" y="2615400"/>
                  <a:ext cx="240480" cy="219996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39"/>
                <p:cNvGrpSpPr/>
                <p:nvPr/>
              </p:nvGrpSpPr>
              <p:grpSpPr>
                <a:xfrm>
                  <a:off x="5822280" y="1643040"/>
                  <a:ext cx="2750040" cy="1951920"/>
                  <a:chOff x="5822280" y="1643040"/>
                  <a:chExt cx="2750040" cy="1951920"/>
                </a:xfrm>
              </p:grpSpPr>
              <p:grpSp>
                <p:nvGrpSpPr>
                  <p:cNvPr id="184" name="Group 40"/>
                  <p:cNvGrpSpPr/>
                  <p:nvPr/>
                </p:nvGrpSpPr>
                <p:grpSpPr>
                  <a:xfrm>
                    <a:off x="5822280" y="3114000"/>
                    <a:ext cx="2750040" cy="480960"/>
                    <a:chOff x="5822280" y="3114000"/>
                    <a:chExt cx="2750040" cy="480960"/>
                  </a:xfrm>
                </p:grpSpPr>
                <p:sp>
                  <p:nvSpPr>
                    <p:cNvPr id="185" name="Rectangle 41"/>
                    <p:cNvSpPr/>
                    <p:nvPr/>
                  </p:nvSpPr>
                  <p:spPr>
                    <a:xfrm rot="16200000">
                      <a:off x="6396120" y="254664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Rectangle 42"/>
                    <p:cNvSpPr/>
                    <p:nvPr/>
                  </p:nvSpPr>
                  <p:spPr>
                    <a:xfrm rot="16200000">
                      <a:off x="7764480" y="254952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Rectangle 43"/>
                    <p:cNvSpPr/>
                    <p:nvPr/>
                  </p:nvSpPr>
                  <p:spPr>
                    <a:xfrm rot="16200000">
                      <a:off x="7764480" y="278712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Rectangle 44"/>
                    <p:cNvSpPr/>
                    <p:nvPr/>
                  </p:nvSpPr>
                  <p:spPr>
                    <a:xfrm rot="16200000">
                      <a:off x="6389640" y="2784600"/>
                      <a:ext cx="240480" cy="1375200"/>
                    </a:xfrm>
                    <a:prstGeom prst="rect">
                      <a:avLst/>
                    </a:prstGeom>
                    <a:solidFill>
                      <a:srgbClr val="ffd72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45"/>
                  <p:cNvGrpSpPr/>
                  <p:nvPr/>
                </p:nvGrpSpPr>
                <p:grpSpPr>
                  <a:xfrm>
                    <a:off x="6100560" y="1643040"/>
                    <a:ext cx="2199960" cy="1471320"/>
                    <a:chOff x="6100560" y="1643040"/>
                    <a:chExt cx="2199960" cy="1471320"/>
                  </a:xfrm>
                </p:grpSpPr>
                <p:grpSp>
                  <p:nvGrpSpPr>
                    <p:cNvPr id="190" name="Group 46"/>
                    <p:cNvGrpSpPr/>
                    <p:nvPr/>
                  </p:nvGrpSpPr>
                  <p:grpSpPr>
                    <a:xfrm>
                      <a:off x="6372000" y="1643040"/>
                      <a:ext cx="1650240" cy="1225080"/>
                      <a:chOff x="6372000" y="1643040"/>
                      <a:chExt cx="1650240" cy="1225080"/>
                    </a:xfrm>
                  </p:grpSpPr>
                  <p:sp>
                    <p:nvSpPr>
                      <p:cNvPr id="191" name="Rectangle 47"/>
                      <p:cNvSpPr/>
                      <p:nvPr/>
                    </p:nvSpPr>
                    <p:spPr>
                      <a:xfrm rot="5400000">
                        <a:off x="7050600" y="1980360"/>
                        <a:ext cx="240480" cy="550080"/>
                      </a:xfrm>
                      <a:prstGeom prst="rect">
                        <a:avLst/>
                      </a:prstGeom>
                      <a:solidFill>
                        <a:srgbClr val="f8c0d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Rectangle 48"/>
                      <p:cNvSpPr/>
                      <p:nvPr/>
                    </p:nvSpPr>
                    <p:spPr>
                      <a:xfrm>
                        <a:off x="6643440" y="1643040"/>
                        <a:ext cx="275040" cy="24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Rectangle 49"/>
                      <p:cNvSpPr/>
                      <p:nvPr/>
                    </p:nvSpPr>
                    <p:spPr>
                      <a:xfrm>
                        <a:off x="7448760" y="1643040"/>
                        <a:ext cx="275040" cy="24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" name="Rectangle 50"/>
                      <p:cNvSpPr/>
                      <p:nvPr/>
                    </p:nvSpPr>
                    <p:spPr>
                      <a:xfrm rot="16200000">
                        <a:off x="7063560" y="1951560"/>
                        <a:ext cx="240480" cy="110016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Rectangle 51"/>
                      <p:cNvSpPr/>
                      <p:nvPr/>
                    </p:nvSpPr>
                    <p:spPr>
                      <a:xfrm rot="16200000">
                        <a:off x="7063560" y="1459080"/>
                        <a:ext cx="240480" cy="110016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Rectangle 52"/>
                      <p:cNvSpPr/>
                      <p:nvPr/>
                    </p:nvSpPr>
                    <p:spPr>
                      <a:xfrm rot="16200000">
                        <a:off x="7076880" y="1922760"/>
                        <a:ext cx="240480" cy="1650240"/>
                      </a:xfrm>
                      <a:prstGeom prst="rect">
                        <a:avLst/>
                      </a:prstGeom>
                      <a:solidFill>
                        <a:srgbClr val="9900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7" name="Rectangle 53"/>
                    <p:cNvSpPr/>
                    <p:nvPr/>
                  </p:nvSpPr>
                  <p:spPr>
                    <a:xfrm rot="16200000">
                      <a:off x="7080120" y="1893960"/>
                      <a:ext cx="240480" cy="2199960"/>
                    </a:xfrm>
                    <a:prstGeom prst="rect">
                      <a:avLst/>
                    </a:prstGeom>
                    <a:solidFill>
                      <a:srgbClr val="99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98" name="TextBox 54"/>
          <p:cNvSpPr/>
          <p:nvPr/>
        </p:nvSpPr>
        <p:spPr>
          <a:xfrm>
            <a:off x="1431000" y="28576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6576120" y="785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"/>
          <p:cNvGrpSpPr/>
          <p:nvPr/>
        </p:nvGrpSpPr>
        <p:grpSpPr>
          <a:xfrm>
            <a:off x="428760" y="3214800"/>
            <a:ext cx="3929040" cy="3143160"/>
            <a:chOff x="428760" y="3214800"/>
            <a:chExt cx="3929040" cy="3143160"/>
          </a:xfrm>
        </p:grpSpPr>
        <p:sp>
          <p:nvSpPr>
            <p:cNvPr id="202" name="Rectangle 4"/>
            <p:cNvSpPr/>
            <p:nvPr/>
          </p:nvSpPr>
          <p:spPr>
            <a:xfrm rot="16200000">
              <a:off x="1951920" y="3670560"/>
              <a:ext cx="284040" cy="27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 rot="16200000">
              <a:off x="2813760" y="3943080"/>
              <a:ext cx="284040" cy="16790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6200000">
              <a:off x="1126080" y="3939480"/>
              <a:ext cx="284040" cy="167904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6200000">
              <a:off x="2680560" y="377172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2363400" y="5212080"/>
              <a:ext cx="279720" cy="8521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991080" y="5212080"/>
              <a:ext cx="279720" cy="8521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 rot="16200000">
              <a:off x="1268640" y="378144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 rot="5400000">
              <a:off x="3795840" y="2936880"/>
              <a:ext cx="284040" cy="839520"/>
            </a:xfrm>
            <a:prstGeom prst="rect">
              <a:avLst/>
            </a:prstGeom>
            <a:solidFill>
              <a:srgbClr val="09c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 rot="5400000">
              <a:off x="1272240" y="3792600"/>
              <a:ext cx="284040" cy="13989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 rot="16200000">
              <a:off x="2673720" y="3792240"/>
              <a:ext cx="284040" cy="1398960"/>
            </a:xfrm>
            <a:prstGeom prst="rect">
              <a:avLst/>
            </a:prstGeom>
            <a:solidFill>
              <a:srgbClr val="ffd72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3518280" y="3494520"/>
              <a:ext cx="279720" cy="1136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>
              <a:off x="3804480" y="349884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1287360" y="376920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2718720" y="3759120"/>
              <a:ext cx="279720" cy="28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"/>
            <p:cNvSpPr/>
            <p:nvPr/>
          </p:nvSpPr>
          <p:spPr>
            <a:xfrm rot="5400000">
              <a:off x="2500920" y="5936040"/>
              <a:ext cx="284040" cy="5594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 rot="16200000">
              <a:off x="1118880" y="5935680"/>
              <a:ext cx="284040" cy="559440"/>
            </a:xfrm>
            <a:prstGeom prst="rect">
              <a:avLst/>
            </a:prstGeom>
            <a:solidFill>
              <a:srgbClr val="f8c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4" descr="C:\Documents and Settings\Татьяна\Рабочий стол\Рисунок2.png"/>
          <p:cNvPicPr/>
          <p:nvPr/>
        </p:nvPicPr>
        <p:blipFill>
          <a:blip r:embed="rId2"/>
          <a:stretch/>
        </p:blipFill>
        <p:spPr>
          <a:xfrm>
            <a:off x="4929120" y="1500120"/>
            <a:ext cx="3979800" cy="41324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5"/>
          <p:cNvSpPr/>
          <p:nvPr/>
        </p:nvSpPr>
        <p:spPr>
          <a:xfrm>
            <a:off x="5364360" y="7858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 с крыле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6"/>
          <p:cNvSpPr/>
          <p:nvPr/>
        </p:nvSpPr>
        <p:spPr>
          <a:xfrm>
            <a:off x="1424880" y="235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C:\Documents and Settings\Татьяна\Рабочий стол\Рисунок3.png"/>
          <p:cNvPicPr/>
          <p:nvPr/>
        </p:nvPicPr>
        <p:blipFill>
          <a:blip r:embed="rId2"/>
          <a:stretch/>
        </p:blipFill>
        <p:spPr>
          <a:xfrm>
            <a:off x="928800" y="1220760"/>
            <a:ext cx="2714400" cy="5637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Татьяна\Рабочий стол\Рисунок4.png"/>
          <p:cNvPicPr/>
          <p:nvPr/>
        </p:nvPicPr>
        <p:blipFill>
          <a:blip r:embed="rId3"/>
          <a:stretch/>
        </p:blipFill>
        <p:spPr>
          <a:xfrm>
            <a:off x="5072040" y="1125360"/>
            <a:ext cx="3571920" cy="5732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6292080" y="64296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015920" y="64296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Прекр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225360" y="623880"/>
            <a:ext cx="3429000" cy="54007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067280" y="620640"/>
            <a:ext cx="475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Бельгийский учитель начальной школы Джордж Кюизинер (1891-1976) разработал универсальный дидактический материал для развития у детей математических способностей. В 1952 году он опубликовал книгу "Числа и цвета", посвященную своему пособ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Татьяна\Рабочий стол\Рисунок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0" y="46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Татьяна\Рабочий стол\Рисунок3.png"/>
          <p:cNvPicPr/>
          <p:nvPr/>
        </p:nvPicPr>
        <p:blipFill>
          <a:blip r:embed="rId3"/>
          <a:stretch/>
        </p:blipFill>
        <p:spPr>
          <a:xfrm>
            <a:off x="142920" y="2071800"/>
            <a:ext cx="3857760" cy="4601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1"/>
          <p:cNvSpPr/>
          <p:nvPr/>
        </p:nvSpPr>
        <p:spPr>
          <a:xfrm>
            <a:off x="4214880" y="2357280"/>
            <a:ext cx="4714920" cy="2500560"/>
          </a:xfrm>
          <a:prstGeom prst="rect">
            <a:avLst/>
          </a:prstGeom>
          <a:solidFill>
            <a:srgbClr val="92d050">
              <a:alpha val="35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/>
          <p:cNvSpPr/>
          <p:nvPr/>
        </p:nvSpPr>
        <p:spPr>
          <a:xfrm>
            <a:off x="4214880" y="228600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Палочки Кюизенера – это счетные палочки, которые еще называют «числа в цвете», цветными палочками, цветными числами, цветными линееч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2340000" y="476280"/>
            <a:ext cx="5761080" cy="865080"/>
          </a:xfrm>
          <a:prstGeom prst="rect">
            <a:avLst/>
          </a:prstGeom>
          <a:solidFill>
            <a:srgbClr val="92d050">
              <a:alpha val="60000"/>
            </a:srgbClr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  <a:ea typeface="Calibri"/>
              </a:rPr>
              <a:t>Для детей 3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214200" y="25560"/>
            <a:ext cx="86058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плект состоит из пластмассовых призм 10 различных цветов и форм. Наименьшая призма имеет длину 10мм, является куб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состав комплекта вход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бел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число 1 - 25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alibri"/>
                <a:ea typeface="Calibri"/>
              </a:rPr>
              <a:t>роз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 число 2 - 20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Calibri"/>
                <a:ea typeface="Calibri"/>
              </a:rPr>
              <a:t>голуба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число 3 - 16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красн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4 - 12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жёлт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5 - 10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Calibri"/>
                <a:ea typeface="Calibri"/>
              </a:rPr>
              <a:t>фиолет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6 - 9 шт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чёрн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7 - 8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бордо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8 - 7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Calibri"/>
              </a:rPr>
              <a:t>синя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9 - 5 шт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  <a:ea typeface="Calibri"/>
              </a:rPr>
              <a:t>оранжев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число 10 - 4 шт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Татьяна\Рабочий стол\Рисунок3.jpg"/>
          <p:cNvPicPr/>
          <p:nvPr/>
        </p:nvPicPr>
        <p:blipFill>
          <a:blip r:embed="rId2"/>
          <a:stretch/>
        </p:blipFill>
        <p:spPr>
          <a:xfrm>
            <a:off x="4286160" y="1928880"/>
            <a:ext cx="41148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35280" y="1159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571680" y="928800"/>
            <a:ext cx="1942920" cy="2935080"/>
          </a:xfrm>
          <a:prstGeom prst="rect">
            <a:avLst/>
          </a:prstGeom>
          <a:ln w="15840">
            <a:solidFill>
              <a:srgbClr val="005024"/>
            </a:solidFill>
            <a:miter/>
          </a:ln>
        </p:spPr>
      </p:pic>
      <p:sp>
        <p:nvSpPr>
          <p:cNvPr id="66" name="TextBox 8"/>
          <p:cNvSpPr/>
          <p:nvPr/>
        </p:nvSpPr>
        <p:spPr>
          <a:xfrm>
            <a:off x="2517480" y="164304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ат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4427640" y="32608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2-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08000" y="521496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3-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Documents and Settings\Татьяна\Рабочий стол\Рисунок4.jpg"/>
          <p:cNvPicPr/>
          <p:nvPr/>
        </p:nvPicPr>
        <p:blipFill>
          <a:blip r:embed="rId3"/>
          <a:stretch/>
        </p:blipFill>
        <p:spPr>
          <a:xfrm>
            <a:off x="3714840" y="3929040"/>
            <a:ext cx="3483000" cy="256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Documents and Settings\Татьяна\Рабочий стол\Рисунок5.jpg"/>
          <p:cNvPicPr/>
          <p:nvPr/>
        </p:nvPicPr>
        <p:blipFill>
          <a:blip r:embed="rId4"/>
          <a:stretch/>
        </p:blipFill>
        <p:spPr>
          <a:xfrm>
            <a:off x="5072040" y="857160"/>
            <a:ext cx="33768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1763640" y="285840"/>
            <a:ext cx="58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148360" y="60008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точки для детей 5-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611280" y="5500800"/>
            <a:ext cx="40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ьбом для детей 5-8-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C:\Documents and Settings\Татьяна\Рабочий стол\Рисунок6.jpg"/>
          <p:cNvPicPr/>
          <p:nvPr/>
        </p:nvPicPr>
        <p:blipFill>
          <a:blip r:embed="rId2"/>
          <a:stretch/>
        </p:blipFill>
        <p:spPr>
          <a:xfrm>
            <a:off x="928800" y="1143000"/>
            <a:ext cx="2904840" cy="412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:\Documents and Settings\Татьяна\Рабочий стол\Рисунок7.jpg"/>
          <p:cNvPicPr/>
          <p:nvPr/>
        </p:nvPicPr>
        <p:blipFill>
          <a:blip r:embed="rId3"/>
          <a:stretch/>
        </p:blipFill>
        <p:spPr>
          <a:xfrm>
            <a:off x="5786280" y="928800"/>
            <a:ext cx="213048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324000" y="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лочки Кюизенера в коррекционно – логопедической рабо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05000" cy="360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30240" y="-149400"/>
            <a:ext cx="9156600" cy="7007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285840" y="571500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285840" y="189000"/>
            <a:ext cx="810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автоматизации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слоговой структуры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формировании грамматического стр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хематичного обозначения звуков, слов, слогов при звуковом анали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ять различные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69600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Татьяна\Рабочий стол\Рисунок1.jpg"/>
          <p:cNvPicPr/>
          <p:nvPr/>
        </p:nvPicPr>
        <p:blipFill>
          <a:blip r:embed="rId1"/>
          <a:stretch/>
        </p:blipFill>
        <p:spPr>
          <a:xfrm>
            <a:off x="-39600" y="-27000"/>
            <a:ext cx="9223200" cy="68706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142920" y="26028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рианты упражнений с палочкам Кюизен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7058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2:56:43Z</dcterms:created>
  <dc:creator>Татьяна</dc:creator>
  <dc:description/>
  <dc:language>en-US</dc:language>
  <cp:lastModifiedBy>Пользователь</cp:lastModifiedBy>
  <dcterms:modified xsi:type="dcterms:W3CDTF">2018-07-21T16:20:57Z</dcterms:modified>
  <cp:revision>49</cp:revision>
  <dc:subject/>
  <dc:title>Слайд 1</dc:title>
</cp:coreProperties>
</file>