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10.wmf" ContentType="image/x-wm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DBA-0271-42F0-B6DC-A10AFA8DA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D7B1-21B3-48D1-8A5F-98BFB6C45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DB1-D02E-46F9-938D-9342029E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5F7-AB5A-4CE0-844C-E8BEF181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0D2-413E-4D15-8D13-5D7D890C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26C-F59A-4F60-8A12-7E78A256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3F7-9457-4C02-9000-FD992134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68B-1DF3-4814-B15F-33C64F91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C81-D8A0-4A0E-BBCE-5668B5BD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B8E-5649-491C-91AA-85E146DA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6BC-FE63-4AC6-B930-BF7E9C5A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547-2220-4A6A-A532-FA0C34CA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991-7771-4752-BE1C-0E4C992B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798-0EFC-4CAA-A7E8-2BB04E35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4006-A6C0-4E91-98DF-623445AE8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10.wm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920" y="115920"/>
            <a:ext cx="68421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3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глубленным изучением отдельных предметов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Котовска Тамб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205000"/>
            <a:ext cx="662472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хнологическая карта как современная форма планирования педагогического взаимодействия учителя и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: Т.В.Нико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53272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Дуга 5"/>
          <p:cNvSpPr/>
          <p:nvPr/>
        </p:nvSpPr>
        <p:spPr>
          <a:xfrm>
            <a:off x="5143680" y="5786280"/>
            <a:ext cx="2057400" cy="914400"/>
          </a:xfrm>
          <a:custGeom>
            <a:avLst/>
            <a:gdLst>
              <a:gd name="textAreaLeft" fmla="*/ 1028880 w 2057400"/>
              <a:gd name="textAreaRight" fmla="*/ 2057760 w 2057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2057400" h="914400">
                <a:moveTo>
                  <a:pt x="1028701" y="0"/>
                </a:moveTo>
                <a:lnTo>
                  <a:pt x="1028701" y="0"/>
                </a:lnTo>
                <a:arcTo wR="1028700" hR="457200" stAng="-5399992" swAng="5399999"/>
                <a:lnTo>
                  <a:pt x="1028700" y="457200"/>
                </a:lnTo>
                <a:close/>
              </a:path>
              <a:path fill="none" w="2057400" h="914400">
                <a:moveTo>
                  <a:pt x="1028701" y="0"/>
                </a:moveTo>
                <a:lnTo>
                  <a:pt x="1028701" y="0"/>
                </a:lnTo>
                <a:arcTo wR="1028700" hR="457200" stAng="-5399992" swAng="5399999"/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44280"/>
          <a:ext cx="9036000" cy="6751800"/>
        </p:xfrm>
        <a:graphic>
          <a:graphicData uri="http://schemas.openxmlformats.org/drawingml/2006/table">
            <a:tbl>
              <a:tblPr/>
              <a:tblGrid>
                <a:gridCol w="1979640"/>
                <a:gridCol w="2663640"/>
                <a:gridCol w="2133720"/>
                <a:gridCol w="2259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та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Актуализация знаний и фиксация затруднений в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буждающий диалог (вопросы, на которые возможны разные варианты отве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одящий диалог (цепочка вытекающих один из другого вопросов, правильный ответ на каждый из которых запрограммирован в самом вопрос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составить кластер (графическое изображение материал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яснение, что нужно узнать для решения пробл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поминают, изученный ранее материал (понятия, факт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торые связаны с формулировкой проблем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, каких знаний не хватает, где и как их добыть (откры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исывают ключевые с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яют кластер на основе имеющихся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доказывают и аргументируют свою точку зрения, фиксируют знания в графической модели и буквенной фор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существляют самоконтроль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ят высказывания, воспринимают ответы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Box 3"/>
          <p:cNvSpPr/>
          <p:nvPr/>
        </p:nvSpPr>
        <p:spPr>
          <a:xfrm>
            <a:off x="838836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08000" y="115920"/>
            <a:ext cx="718920" cy="64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189000"/>
          <a:ext cx="9144000" cy="6546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367000"/>
                <a:gridCol w="220500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та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Постановка учебной задачи (открытие нового знани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ует учебное иссле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ует работу с учебником (составление плана, конспекта, схе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ие на преобразование информации: найти закономерность, вывести правило,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упают в ди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ют задания по учебни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ют свое обобщение и варианты ответов по учебной пробле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яют план, конспект, схему, таблицу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конструируют новый способ действия или формулируют по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имают и сохраняют учебную цель и задачу, осуществляют самоконтр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вуют в обсуждении содержания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3"/>
          <p:cNvSpPr/>
          <p:nvPr/>
        </p:nvSpPr>
        <p:spPr>
          <a:xfrm>
            <a:off x="8459640" y="5950080"/>
            <a:ext cx="4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08000" y="26028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115920"/>
          <a:ext cx="9144000" cy="6589800"/>
        </p:xfrm>
        <a:graphic>
          <a:graphicData uri="http://schemas.openxmlformats.org/drawingml/2006/table">
            <a:tbl>
              <a:tblPr/>
              <a:tblGrid>
                <a:gridCol w="2195640"/>
                <a:gridCol w="2520720"/>
                <a:gridCol w="2303640"/>
                <a:gridCol w="2124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та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Первичное закрепл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ая работа (на входе), оценивает выполнение каждой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составить вопросы по новому материал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составить алгоритм действий по новому прави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привести примеры на изученное прави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придумать свои задания по новому прави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яют алгоритм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яют во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думывают примеры на изученное прави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думывают задания на изученное прави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яют работу по выполнению отдельных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яют самоконтр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тся формулировать собственное мнение и пози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3"/>
          <p:cNvSpPr/>
          <p:nvPr/>
        </p:nvSpPr>
        <p:spPr>
          <a:xfrm>
            <a:off x="8317080" y="595008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08000" y="115920"/>
            <a:ext cx="792000" cy="73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7099200"/>
        </p:xfrm>
        <a:graphic>
          <a:graphicData uri="http://schemas.openxmlformats.org/drawingml/2006/table">
            <a:tbl>
              <a:tblPr/>
              <a:tblGrid>
                <a:gridCol w="2124000"/>
                <a:gridCol w="2808360"/>
                <a:gridCol w="2087640"/>
                <a:gridCol w="2124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та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Самостоятельная работа.</a:t>
                      </a:r>
                      <a:r>
                        <a:rPr b="0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ует самостоятельную практическую работу, коррекционную работу (разноуровневые самостоятельные работы, деловая игра, учебные ситуации, групповая работа, дискусс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ет задание на продуктивное применение: составление текста, проекта, заданий по новому прави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целью коррекции знаний предлагает тесты, задания с пропусками, структурно-логические схемы с пропус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ют предложенные учителем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ют проект, составляют текст, придумывают задания на изученное прави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ют те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вуют в деловой игре, дискуссии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няют новый способ, новые знания, отрабатывают операции в которых допущены ошиб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проверка. Отрабатывают способ в целом. Осуществляют пошаговый 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ят рассуждения, понятные для собеседника. Умеют использовать речь для регуляции своего 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Box 3"/>
          <p:cNvSpPr/>
          <p:nvPr/>
        </p:nvSpPr>
        <p:spPr>
          <a:xfrm>
            <a:off x="8459640" y="602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08000" y="0"/>
            <a:ext cx="792000" cy="73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44280"/>
          <a:ext cx="9144000" cy="6834240"/>
        </p:xfrm>
        <a:graphic>
          <a:graphicData uri="http://schemas.openxmlformats.org/drawingml/2006/table">
            <a:tbl>
              <a:tblPr/>
              <a:tblGrid>
                <a:gridCol w="2124000"/>
                <a:gridCol w="2449440"/>
                <a:gridCol w="2365560"/>
                <a:gridCol w="2205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</a:rPr>
                        <a:t>Рефлексия 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ая работа (на выход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ует работу по подведению итогов самими обучающими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ициир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флексию обучающихся по поводу своего психоэмоционального состояния, мотивации своей деятельности и взаимодействия с учителем и одноклассни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ют диагностическую рабо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одят итог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яют  саморефлекс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яют работу, анализируют, контролируют и оценивают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яют пошаговый контроль, саморефлекс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ют использовать речь для регуляции своего действ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Box 3"/>
          <p:cNvSpPr/>
          <p:nvPr/>
        </p:nvSpPr>
        <p:spPr>
          <a:xfrm>
            <a:off x="8459640" y="602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79280" y="115920"/>
            <a:ext cx="720720" cy="649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771640" y="1700280"/>
            <a:ext cx="56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Технологическая карта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– это новый вид методической проду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" descr="C:\Users\Администратор\Documents\Новая папка\школа.jpg"/>
          <p:cNvPicPr/>
          <p:nvPr/>
        </p:nvPicPr>
        <p:blipFill>
          <a:blip r:embed="rId1"/>
          <a:stretch/>
        </p:blipFill>
        <p:spPr>
          <a:xfrm>
            <a:off x="7451640" y="0"/>
            <a:ext cx="1440000" cy="1295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8317080" y="59500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0" y="0"/>
            <a:ext cx="1332000" cy="1557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66560" y="333360"/>
            <a:ext cx="6697800" cy="53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ворческих вам успехов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46742077"/>
          <p:cNvPicPr/>
          <p:nvPr/>
        </p:nvPicPr>
        <p:blipFill>
          <a:blip r:embed="rId1"/>
          <a:stretch/>
        </p:blipFill>
        <p:spPr>
          <a:xfrm>
            <a:off x="6804000" y="386064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15"/>
          <p:cNvPicPr/>
          <p:nvPr/>
        </p:nvPicPr>
        <p:blipFill>
          <a:blip r:embed="rId2"/>
          <a:stretch/>
        </p:blipFill>
        <p:spPr>
          <a:xfrm>
            <a:off x="5580000" y="105264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15"/>
          <p:cNvPicPr/>
          <p:nvPr/>
        </p:nvPicPr>
        <p:blipFill>
          <a:blip r:embed="rId3"/>
          <a:stretch/>
        </p:blipFill>
        <p:spPr>
          <a:xfrm>
            <a:off x="6659640" y="98100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15"/>
          <p:cNvPicPr/>
          <p:nvPr/>
        </p:nvPicPr>
        <p:blipFill>
          <a:blip r:embed="rId4"/>
          <a:stretch/>
        </p:blipFill>
        <p:spPr>
          <a:xfrm>
            <a:off x="7956720" y="333360"/>
            <a:ext cx="1037880" cy="103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15"/>
          <p:cNvPicPr/>
          <p:nvPr/>
        </p:nvPicPr>
        <p:blipFill>
          <a:blip r:embed="rId5"/>
          <a:stretch/>
        </p:blipFill>
        <p:spPr>
          <a:xfrm>
            <a:off x="2050920" y="11592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15"/>
          <p:cNvPicPr/>
          <p:nvPr/>
        </p:nvPicPr>
        <p:blipFill>
          <a:blip r:embed="rId6"/>
          <a:stretch/>
        </p:blipFill>
        <p:spPr>
          <a:xfrm>
            <a:off x="4859280" y="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15"/>
          <p:cNvPicPr/>
          <p:nvPr/>
        </p:nvPicPr>
        <p:blipFill>
          <a:blip r:embed="rId7"/>
          <a:stretch/>
        </p:blipFill>
        <p:spPr>
          <a:xfrm>
            <a:off x="8105760" y="112536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5"/>
          <p:cNvPicPr/>
          <p:nvPr/>
        </p:nvPicPr>
        <p:blipFill>
          <a:blip r:embed="rId8"/>
          <a:stretch/>
        </p:blipFill>
        <p:spPr>
          <a:xfrm>
            <a:off x="6516720" y="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15"/>
          <p:cNvPicPr/>
          <p:nvPr/>
        </p:nvPicPr>
        <p:blipFill>
          <a:blip r:embed="rId9"/>
          <a:stretch/>
        </p:blipFill>
        <p:spPr>
          <a:xfrm>
            <a:off x="4356000" y="105264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15"/>
          <p:cNvPicPr/>
          <p:nvPr/>
        </p:nvPicPr>
        <p:blipFill>
          <a:blip r:embed="rId10"/>
          <a:stretch/>
        </p:blipFill>
        <p:spPr>
          <a:xfrm>
            <a:off x="2484360" y="105264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15"/>
          <p:cNvPicPr/>
          <p:nvPr/>
        </p:nvPicPr>
        <p:blipFill>
          <a:blip r:embed="rId11"/>
          <a:stretch/>
        </p:blipFill>
        <p:spPr>
          <a:xfrm>
            <a:off x="3492360" y="33336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12"/>
          <a:stretch/>
        </p:blipFill>
        <p:spPr>
          <a:xfrm>
            <a:off x="8209080" y="0"/>
            <a:ext cx="934920" cy="981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15"/>
          <p:cNvPicPr/>
          <p:nvPr/>
        </p:nvPicPr>
        <p:blipFill>
          <a:blip r:embed="rId13"/>
          <a:stretch/>
        </p:blipFill>
        <p:spPr>
          <a:xfrm>
            <a:off x="1187280" y="476280"/>
            <a:ext cx="1038240" cy="10382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5"/>
          <p:cNvSpPr/>
          <p:nvPr/>
        </p:nvSpPr>
        <p:spPr>
          <a:xfrm>
            <a:off x="8388360" y="5950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15"/>
          <p:cNvPicPr/>
          <p:nvPr/>
        </p:nvPicPr>
        <p:blipFill>
          <a:blip r:embed="rId14"/>
          <a:stretch/>
        </p:blipFill>
        <p:spPr>
          <a:xfrm>
            <a:off x="1339920" y="62856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Администратор\Desktop\i.jpg"/>
          <p:cNvPicPr/>
          <p:nvPr/>
        </p:nvPicPr>
        <p:blipFill>
          <a:blip r:embed="rId15"/>
          <a:stretch/>
        </p:blipFill>
        <p:spPr>
          <a:xfrm>
            <a:off x="0" y="0"/>
            <a:ext cx="104292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860436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Users\Администратор\Desktop\111.jpg"/>
          <p:cNvPicPr/>
          <p:nvPr/>
        </p:nvPicPr>
        <p:blipFill>
          <a:blip r:embed="rId1"/>
          <a:stretch/>
        </p:blipFill>
        <p:spPr>
          <a:xfrm>
            <a:off x="2484360" y="1628640"/>
            <a:ext cx="3527640" cy="345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Users\Администратор\Desktop\1314440486_gbjchl9c4azkkx2.jpeg"/>
          <p:cNvPicPr/>
          <p:nvPr/>
        </p:nvPicPr>
        <p:blipFill>
          <a:blip r:embed="rId2"/>
          <a:stretch/>
        </p:blipFill>
        <p:spPr>
          <a:xfrm>
            <a:off x="6084720" y="0"/>
            <a:ext cx="2880000" cy="589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Users\Администратор\Desktop\i.jpg"/>
          <p:cNvPicPr/>
          <p:nvPr/>
        </p:nvPicPr>
        <p:blipFill>
          <a:blip r:embed="rId3"/>
          <a:stretch/>
        </p:blipFill>
        <p:spPr>
          <a:xfrm>
            <a:off x="0" y="0"/>
            <a:ext cx="1332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07640" y="260280"/>
            <a:ext cx="69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ехнологическая кар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это современная форма планирования педагогического взаимодействия учителя и обучаю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ехнологическая карта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урока является механизмом реализации системно-деятельностного, личностно-ориентированного подх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853272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108000" y="0"/>
            <a:ext cx="154764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55308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Технологическая карта - </a:t>
            </a: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то способ проектирования урока, реализующего системно-деятельностный подход и цели формирования универсальных учебных действ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853272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0" y="0"/>
            <a:ext cx="133200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050560" y="-100440"/>
            <a:ext cx="69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ая карта уро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волит учител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ать планируемые результаты ФГОС второго поко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 формировать у обучающихся универсальные учебные 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ть сво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ке реализовать межпредметные 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ть диагностику достижения планируемых результатов обучающимися на каждом этапе освоения темы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8532720" y="60213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0"/>
            <a:ext cx="125892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632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структуре технологической карты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ыделяются следующие бло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40000" y="836640"/>
            <a:ext cx="66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 целеполаг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рументальный бло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кими средствами можно достичь ц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изационно-деятельностный бло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руктуризация на действия и опер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 планируемых результатов в виде формируемых способов 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Света\Pictures\картинки к презентациям\анимация\стрелки\ar24.gif"/>
          <p:cNvPicPr/>
          <p:nvPr/>
        </p:nvPicPr>
        <p:blipFill>
          <a:blip r:embed="rId1"/>
          <a:stretch/>
        </p:blipFill>
        <p:spPr>
          <a:xfrm flipH="1" rot="16200000">
            <a:off x="7343640" y="584280"/>
            <a:ext cx="503280" cy="28728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8532720" y="60213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0" y="0"/>
            <a:ext cx="115236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Шаблон технологической карты урока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1 часть, отражающая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блок целеполагания и инструментальный бл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34920" y="1557360"/>
            <a:ext cx="506268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мет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 урок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предмет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ы организации познаватель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Users\Света\Pictures\картинки к презентациям\анимация\стрелки\ar24.gif"/>
          <p:cNvPicPr/>
          <p:nvPr/>
        </p:nvPicPr>
        <p:blipFill>
          <a:blip r:embed="rId1"/>
          <a:stretch/>
        </p:blipFill>
        <p:spPr>
          <a:xfrm flipH="1" rot="16200000">
            <a:off x="7055280" y="1233360"/>
            <a:ext cx="505080" cy="287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8532720" y="602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108000" y="0"/>
            <a:ext cx="122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79280" y="836640"/>
          <a:ext cx="8785440" cy="575640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303640"/>
                <a:gridCol w="208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  <a:ea typeface="Calibri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 к деятельности. Организационный мо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уализация знаний и фиксация затруднений в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учебной задачи (открытие нового зн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ое закреп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  деятель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45"/>
          <p:cNvSpPr/>
          <p:nvPr/>
        </p:nvSpPr>
        <p:spPr>
          <a:xfrm>
            <a:off x="1116000" y="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Шаблон технологической карты уро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 часть: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блок организационно-деятельностный и блок планируемых результа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8532720" y="59500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44280"/>
          <a:ext cx="9036000" cy="6813720"/>
        </p:xfrm>
        <a:graphic>
          <a:graphicData uri="http://schemas.openxmlformats.org/drawingml/2006/table">
            <a:tbl>
              <a:tblPr/>
              <a:tblGrid>
                <a:gridCol w="2195640"/>
                <a:gridCol w="2322360"/>
                <a:gridCol w="2259000"/>
                <a:gridCol w="2259000"/>
              </a:tblGrid>
              <a:tr h="79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Эта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Calibri"/>
                        </a:rPr>
                        <a:t>Деятельность обучаю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707b9"/>
                          </a:solidFill>
                          <a:latin typeface="Times New Roman"/>
                          <a:ea typeface="Calibri"/>
                        </a:rPr>
                        <a:t>Самоопределение к деятельности. Организационный момен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ует погружение в проблему, создает ситуацию разры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проблемную ситуац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хотворный настр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ет эвристический 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ет задание, сталкивающее разные мнения уче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одит противоречивые ф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ируют пробле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яют противореч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 тем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ытаются решить задачу известным способ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пределяют цель урока, обсуждают способы решения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: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ят высказы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Box 3"/>
          <p:cNvSpPr/>
          <p:nvPr/>
        </p:nvSpPr>
        <p:spPr>
          <a:xfrm>
            <a:off x="853272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11592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7:56:33Z</dcterms:created>
  <dc:creator>USER</dc:creator>
  <dc:description/>
  <dc:language>en-US</dc:language>
  <cp:lastModifiedBy>Дмитрий Каленюк</cp:lastModifiedBy>
  <dcterms:modified xsi:type="dcterms:W3CDTF">2016-12-19T19:46:44Z</dcterms:modified>
  <cp:revision>168</cp:revision>
  <dc:subject/>
  <dc:title>Логвинова И.М. – заместитель директора ИСИО РАО</dc:title>
</cp:coreProperties>
</file>