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gif" ContentType="image/gif"/>
  <Override PartName="/ppt/media/image24.wmf" ContentType="image/x-wmf"/>
  <Override PartName="/ppt/media/image22.wmf" ContentType="image/x-wmf"/>
  <Override PartName="/ppt/media/image21.jpeg" ContentType="image/jpeg"/>
  <Override PartName="/ppt/media/image16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ursiv95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5B44E-57ED-48E6-AE5B-4E103B59BB9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FAE16-18E2-49B0-A800-D31AF7D98A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0F1E-9D20-4B06-9A68-28AE1E905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1BDC-CE12-4A19-94C0-8AA9BA461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13607A-A459-46D0-A623-DB3B2B3A5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8C11C1-9BEC-4810-8F14-69F3C3594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931115-3503-4ADA-B305-80C22B198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0BE169-C52D-4FFC-8E2A-ACC3762E0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B9B6CA-CBF6-416A-9F25-B7C162802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87CC1E-97F2-4D4F-83F5-73459C3E9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D2589E-6C44-434C-BC17-22E118952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CC9C16-B78E-4F7A-AD0C-738D7A088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31C042-7834-484A-A6CB-FB897D35F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0856-F0D8-401A-A47E-66D3244BA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416B-44E8-4FF2-ABF1-F17A2CDD6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F50CE-5CC2-43CA-9A4C-E642F277D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7D2E9-D762-40CB-BBA3-9ADAD1F16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32178-A720-40BA-8A7A-D284F1B9E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BC641-7DFC-4131-8E58-FEB95C702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E7BE4-B905-4C44-B9E7-5862BDBDA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DB54F-1AA1-4CF2-A44F-13E0021B0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C2AF2-B012-416B-843A-B35590A14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9AF5-C4C3-413D-ABC9-76335C153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1F6DA-B8CF-4B4A-A209-3AED827B5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F41A0-8B8A-4E09-A05B-669BD52EF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FC8CB-DE28-42D1-9D89-72FAB4C23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B99F7-457A-4362-807D-2E0AFAF98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46977-C838-496C-B2DC-B98FE22AE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A221C-AD75-4803-BA6C-97483C1E5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58FDF-6446-4919-9036-2DD633D0C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7A15B-3A5F-494E-B999-4C5956B7F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E6A0D-5C9B-454F-83C2-C03DA9039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BC591-CF9C-4193-98DE-507E736D4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318F-1666-4996-AE2F-8358F08B8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350EA-5530-4D18-83BC-4B8D68361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22B0D-99E4-44FD-892E-664B36EE9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DD06E-BA45-4B3F-B485-696825CE3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68BC5-6372-4719-9D68-F462AC547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9DE39-1D03-4021-91B4-A0D05D7AE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27483-5F07-4B15-BC2B-68F1D010D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E68F9-5F4B-41C7-9A1D-E8D9419F7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E27C1-F6F7-4FCD-B9B4-F7C6AA3B1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F270B-E10D-4742-9941-477FD7EF0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2A84D-F5C3-45D7-ADB3-C20487322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E6FB-F163-432A-95C6-2A122FCBA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60AFA-18EC-4B6C-B36F-D0E26DB0A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FE15B-F820-4DD5-9992-4A5A6990D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D8806-AC27-439E-8E59-F4828966A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9F9A9-E0F6-4600-8FD8-6206DBD8F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65794-CFDF-4CE9-A1BE-CFD623A4B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3FADE-E6C0-4533-82F2-97083B70A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5C80C-0F0C-4A4B-97DE-B9B8BC808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9B864-DB3B-4A0D-8CC5-CC26EA874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6D43A-A0E7-4F8F-B934-228EAD50B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AAD0A2-70B4-44DC-8EE6-656FECDD9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7BFE-CE56-4F8E-AEF1-756C651AE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652E26-AECF-40C0-8496-94733E075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37EBCC-4A2E-4A5C-9C31-CF6052F4F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D9D70A-93D3-438B-8141-E0B9FAA5B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E1D7B8-1E0F-4DCE-81A7-477E6FD96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C8284A-7520-4BFC-880D-4E5B41A67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C55EF2-6ECF-41D8-9BE3-7489C3BD8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57778D-1F04-441B-8444-5084080E0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4851B1-4CD9-4CA4-8494-895456726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C00290-B7E3-42CA-A441-6117A1BE0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58B32-55EF-46CB-A1C9-B20065F6B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EEB8-2825-418D-8C43-2B644F869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DABAF1-1939-426F-919B-C3343071F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E24911-FA47-462A-AD78-440A37E69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986002-B7A0-4F91-BE71-A6C112435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F55F08-6CEB-424D-9AB7-E0C2CE543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3CF783-A278-4A48-8AD1-B4427638F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71BE1E-031B-4CEA-B5C8-538B95DC4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AAFF24-5A13-4E0E-9C04-4FB470EEA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827DE2-7671-4C42-9CD6-35BC04660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357F07-3508-4D65-B2B5-F795EA9C4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BC110E-FCDF-46F5-A226-2B7C74A18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98B6-D9EA-43A1-B514-9B15F77DB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32588B-33CC-4394-9760-35D40383F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0EB238-402B-47D6-94AF-E2D920AB7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9BD254-0F05-4FD2-9DD0-09ABE8D02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E1947C-C5F4-4FEA-A5FD-094D5F2EE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D9F771-8F12-49E1-87B5-63A816EC6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D53857-9B29-4666-9E5F-491379416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8EF1F8-19CD-4D40-903F-C8130128E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7F4FA2-E08F-4A3A-8A60-48B44B11C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8C63B4-47D5-40C6-A8C7-C5DB948CC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3875AC-569E-4540-BE98-94076AA2D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58EA-D54A-4D98-8719-39FE54741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3B66A2-04C7-444B-AE5F-D398B50E9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516812-E794-4B33-B4A5-C8A113D34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0EC554-3E1B-416B-B826-1D79DC2C6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2FDB86-6B20-4865-8D47-7A09E03D7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1A892C-317A-4050-B188-EB47D61F0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8480D8-5EBE-43A4-AD61-9AD434617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666B00-7C27-42F2-BC30-E43655588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63986F-F34F-4B59-9C97-F44C5B6A9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35334B-1747-4BF4-A6F0-6468D728B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33C054-307E-451F-A539-E207CB035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B8DF-72E4-49AF-8944-4FF9BD0F8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5A6191-A2AB-4CD9-B927-8BC2A9F09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BBCB6E-BFEB-4F89-97F0-0226F692E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8C36FA-CE67-43FB-B795-7E3A9B3A7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6E9698-E9C5-45AA-85D2-1989A28D5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9D53C6-08B2-4A08-BB19-1B130AB0A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B013AA-C77C-49E9-8C1F-036A07D73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E1725F-BBE6-4344-9CD0-D7F54B042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D4DD8E-E443-4221-BB2B-205E94175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2DDF51-79B6-46FF-9BC0-B426165CE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573E50-74F8-45F1-9C4D-8F7977579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49.xml"/><Relationship Id="rId11" Type="http://schemas.openxmlformats.org/officeDocument/2006/relationships/slideLayout" Target="../slideLayouts/slideLayout50.xml"/><Relationship Id="rId12" Type="http://schemas.openxmlformats.org/officeDocument/2006/relationships/slideLayout" Target="../slideLayouts/slideLayout51.xml"/><Relationship Id="rId13" Type="http://schemas.openxmlformats.org/officeDocument/2006/relationships/slideLayout" Target="../slideLayouts/slideLayout52.xml"/><Relationship Id="rId14" Type="http://schemas.openxmlformats.org/officeDocument/2006/relationships/slideLayout" Target="../slideLayouts/slideLayout53.xml"/><Relationship Id="rId15" Type="http://schemas.openxmlformats.org/officeDocument/2006/relationships/slideLayout" Target="../slideLayouts/slideLayout54.xml"/><Relationship Id="rId16" Type="http://schemas.openxmlformats.org/officeDocument/2006/relationships/slideLayout" Target="../slideLayouts/slideLayout55.xml"/><Relationship Id="rId17" Type="http://schemas.openxmlformats.org/officeDocument/2006/relationships/slideLayout" Target="../slideLayouts/slideLayout56.xml"/><Relationship Id="rId18" Type="http://schemas.openxmlformats.org/officeDocument/2006/relationships/slideLayout" Target="../slideLayouts/slideLayout57.xml"/><Relationship Id="rId19" Type="http://schemas.openxmlformats.org/officeDocument/2006/relationships/slideLayout" Target="../slideLayouts/slideLayout58.xml"/><Relationship Id="rId20" Type="http://schemas.openxmlformats.org/officeDocument/2006/relationships/slideLayout" Target="../slideLayouts/slideLayout59.xml"/><Relationship Id="rId21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19.png"/><Relationship Id="rId4" Type="http://schemas.openxmlformats.org/officeDocument/2006/relationships/image" Target="../media/image3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ф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Рисунок 7" descr="в.png"/>
          <p:cNvPicPr/>
          <p:nvPr/>
        </p:nvPicPr>
        <p:blipFill>
          <a:blip r:embed="rId3"/>
          <a:srcRect l="5938" t="2501" r="4063" b="81254"/>
          <a:stretch/>
        </p:blipFill>
        <p:spPr>
          <a:xfrm>
            <a:off x="285840" y="214200"/>
            <a:ext cx="8643960" cy="1285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ursiv95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 2" charset="2"/>
              <a:buChar char="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F334B-CB0D-4866-BCBD-597CA07B3C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Рисунок 8" descr="hjvk.png"/>
          <p:cNvPicPr/>
          <p:nvPr/>
        </p:nvPicPr>
        <p:blipFill>
          <a:blip r:embed="rId4"/>
          <a:stretch/>
        </p:blipFill>
        <p:spPr>
          <a:xfrm>
            <a:off x="0" y="428760"/>
            <a:ext cx="1380960" cy="135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9" descr="ф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10" descr="р.png"/>
          <p:cNvPicPr/>
          <p:nvPr/>
        </p:nvPicPr>
        <p:blipFill>
          <a:blip r:embed="rId3"/>
          <a:stretch/>
        </p:blipFill>
        <p:spPr>
          <a:xfrm>
            <a:off x="6929280" y="5072040"/>
            <a:ext cx="1881360" cy="164304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11" descr="hk.png"/>
          <p:cNvPicPr/>
          <p:nvPr/>
        </p:nvPicPr>
        <p:blipFill>
          <a:blip r:embed="rId4"/>
          <a:stretch/>
        </p:blipFill>
        <p:spPr>
          <a:xfrm>
            <a:off x="0" y="3786120"/>
            <a:ext cx="2595600" cy="292896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12" descr="к.png"/>
          <p:cNvPicPr/>
          <p:nvPr/>
        </p:nvPicPr>
        <p:blipFill>
          <a:blip r:embed="rId5"/>
          <a:stretch/>
        </p:blipFill>
        <p:spPr>
          <a:xfrm>
            <a:off x="1143000" y="2000160"/>
            <a:ext cx="6858000" cy="178596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13" descr=",fбачки.png"/>
          <p:cNvPicPr/>
          <p:nvPr/>
        </p:nvPicPr>
        <p:blipFill>
          <a:blip r:embed="rId6"/>
          <a:stretch/>
        </p:blipFill>
        <p:spPr>
          <a:xfrm>
            <a:off x="1285920" y="3714840"/>
            <a:ext cx="1357200" cy="121428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14" descr=",fбачки.png"/>
          <p:cNvPicPr/>
          <p:nvPr/>
        </p:nvPicPr>
        <p:blipFill>
          <a:blip r:embed="rId7"/>
          <a:stretch/>
        </p:blipFill>
        <p:spPr>
          <a:xfrm rot="19900200">
            <a:off x="6786360" y="571680"/>
            <a:ext cx="1571400" cy="1143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ursiv95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 2" charset="2"/>
              <a:buChar char="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2A335-D582-4200-B917-E979770358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6" descr="ф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7" descr="в.png"/>
          <p:cNvPicPr/>
          <p:nvPr/>
        </p:nvPicPr>
        <p:blipFill>
          <a:blip r:embed="rId3"/>
          <a:srcRect l="5938" t="2501" r="4063" b="81254"/>
          <a:stretch/>
        </p:blipFill>
        <p:spPr>
          <a:xfrm>
            <a:off x="285840" y="214200"/>
            <a:ext cx="8643960" cy="128592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8" descr="hjvk.png"/>
          <p:cNvPicPr/>
          <p:nvPr/>
        </p:nvPicPr>
        <p:blipFill>
          <a:blip r:embed="rId4"/>
          <a:stretch/>
        </p:blipFill>
        <p:spPr>
          <a:xfrm>
            <a:off x="0" y="428760"/>
            <a:ext cx="1380960" cy="135720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9" descr="р1.png"/>
          <p:cNvPicPr/>
          <p:nvPr/>
        </p:nvPicPr>
        <p:blipFill>
          <a:blip r:embed="rId5"/>
          <a:stretch/>
        </p:blipFill>
        <p:spPr>
          <a:xfrm rot="18241200">
            <a:off x="4068360" y="5878800"/>
            <a:ext cx="928440" cy="100008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ursiv95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 2" charset="2"/>
              <a:buChar char="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41C63-DEF9-4A65-8772-83434EA2DE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Рисунок 6" descr="ф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7" descr="в.png"/>
          <p:cNvPicPr/>
          <p:nvPr/>
        </p:nvPicPr>
        <p:blipFill>
          <a:blip r:embed="rId3"/>
          <a:srcRect l="5938" t="2501" r="4063" b="81254"/>
          <a:stretch/>
        </p:blipFill>
        <p:spPr>
          <a:xfrm>
            <a:off x="285840" y="214200"/>
            <a:ext cx="8643960" cy="128592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8" descr="hjvk.png"/>
          <p:cNvPicPr/>
          <p:nvPr/>
        </p:nvPicPr>
        <p:blipFill>
          <a:blip r:embed="rId4"/>
          <a:stretch/>
        </p:blipFill>
        <p:spPr>
          <a:xfrm>
            <a:off x="0" y="428760"/>
            <a:ext cx="1380960" cy="135720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9" descr="р1.png"/>
          <p:cNvPicPr/>
          <p:nvPr/>
        </p:nvPicPr>
        <p:blipFill>
          <a:blip r:embed="rId5"/>
          <a:stretch/>
        </p:blipFill>
        <p:spPr>
          <a:xfrm rot="18241200">
            <a:off x="4068360" y="5878800"/>
            <a:ext cx="928440" cy="100008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ursiv95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 2" charset="2"/>
              <a:buChar char="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82089-D4CF-4FAB-8051-CE410AD2DB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Рисунок 6" descr="ф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2" name="Рисунок 7" descr="в.png"/>
          <p:cNvPicPr/>
          <p:nvPr/>
        </p:nvPicPr>
        <p:blipFill>
          <a:blip r:embed="rId3"/>
          <a:srcRect l="5938" t="2501" r="4063" b="81254"/>
          <a:stretch/>
        </p:blipFill>
        <p:spPr>
          <a:xfrm>
            <a:off x="285840" y="214200"/>
            <a:ext cx="8643960" cy="1285920"/>
          </a:xfrm>
          <a:prstGeom prst="rect">
            <a:avLst/>
          </a:prstGeom>
          <a:ln w="0">
            <a:noFill/>
          </a:ln>
        </p:spPr>
      </p:pic>
      <p:pic>
        <p:nvPicPr>
          <p:cNvPr id="183" name="Рисунок 8" descr="hjvk.png"/>
          <p:cNvPicPr/>
          <p:nvPr/>
        </p:nvPicPr>
        <p:blipFill>
          <a:blip r:embed="rId4"/>
          <a:stretch/>
        </p:blipFill>
        <p:spPr>
          <a:xfrm>
            <a:off x="0" y="428760"/>
            <a:ext cx="1380960" cy="1357200"/>
          </a:xfrm>
          <a:prstGeom prst="rect">
            <a:avLst/>
          </a:prstGeom>
          <a:ln w="0">
            <a:noFill/>
          </a:ln>
        </p:spPr>
      </p:pic>
      <p:pic>
        <p:nvPicPr>
          <p:cNvPr id="184" name="Рисунок 9" descr="р1.png"/>
          <p:cNvPicPr/>
          <p:nvPr/>
        </p:nvPicPr>
        <p:blipFill>
          <a:blip r:embed="rId5"/>
          <a:stretch/>
        </p:blipFill>
        <p:spPr>
          <a:xfrm rot="15733200">
            <a:off x="8050320" y="6325560"/>
            <a:ext cx="479160" cy="51732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10" descr="р1.png"/>
          <p:cNvPicPr/>
          <p:nvPr/>
        </p:nvPicPr>
        <p:blipFill>
          <a:blip r:embed="rId6"/>
          <a:stretch/>
        </p:blipFill>
        <p:spPr>
          <a:xfrm rot="15811800">
            <a:off x="8360280" y="4943520"/>
            <a:ext cx="803160" cy="865080"/>
          </a:xfrm>
          <a:prstGeom prst="rect">
            <a:avLst/>
          </a:prstGeom>
          <a:ln w="0">
            <a:noFill/>
          </a:ln>
        </p:spPr>
      </p:pic>
      <p:pic>
        <p:nvPicPr>
          <p:cNvPr id="186" name="Рисунок 11" descr="р1.png"/>
          <p:cNvPicPr/>
          <p:nvPr/>
        </p:nvPicPr>
        <p:blipFill>
          <a:blip r:embed="rId7"/>
          <a:stretch/>
        </p:blipFill>
        <p:spPr>
          <a:xfrm rot="18241200">
            <a:off x="7369920" y="6121800"/>
            <a:ext cx="684000" cy="736560"/>
          </a:xfrm>
          <a:prstGeom prst="rect">
            <a:avLst/>
          </a:prstGeom>
          <a:ln w="0">
            <a:noFill/>
          </a:ln>
        </p:spPr>
      </p:pic>
      <p:pic>
        <p:nvPicPr>
          <p:cNvPr id="187" name="Рисунок 12" descr="р.png"/>
          <p:cNvPicPr/>
          <p:nvPr/>
        </p:nvPicPr>
        <p:blipFill>
          <a:blip r:embed="rId8"/>
          <a:stretch/>
        </p:blipFill>
        <p:spPr>
          <a:xfrm rot="2554800">
            <a:off x="7536960" y="5178240"/>
            <a:ext cx="1532160" cy="1338120"/>
          </a:xfrm>
          <a:prstGeom prst="rect">
            <a:avLst/>
          </a:prstGeom>
          <a:ln w="0">
            <a:noFill/>
          </a:ln>
        </p:spPr>
      </p:pic>
      <p:pic>
        <p:nvPicPr>
          <p:cNvPr id="188" name="Рисунок 13" descr=",fбачки.png"/>
          <p:cNvPicPr/>
          <p:nvPr/>
        </p:nvPicPr>
        <p:blipFill>
          <a:blip r:embed="rId9"/>
          <a:stretch/>
        </p:blipFill>
        <p:spPr>
          <a:xfrm>
            <a:off x="7215120" y="5500800"/>
            <a:ext cx="743040" cy="11430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ursiv95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 2" charset="2"/>
              <a:buChar char="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9B709-F983-487D-963A-7C4C6BAB20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0"/>
    <p:sldLayoutId id="2147483702" r:id="rId11"/>
    <p:sldLayoutId id="2147483703" r:id="rId12"/>
    <p:sldLayoutId id="2147483704" r:id="rId13"/>
    <p:sldLayoutId id="2147483705" r:id="rId14"/>
    <p:sldLayoutId id="2147483706" r:id="rId15"/>
    <p:sldLayoutId id="2147483707" r:id="rId16"/>
    <p:sldLayoutId id="2147483708" r:id="rId17"/>
    <p:sldLayoutId id="2147483709" r:id="rId18"/>
    <p:sldLayoutId id="2147483710" r:id="rId19"/>
    <p:sldLayoutId id="2147483711" r:id="rId20"/>
    <p:sldLayoutId id="2147483712" r:id="rId21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Рисунок 9" descr="ф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1" name="Рисунок 10" descr="ром.png"/>
          <p:cNvPicPr/>
          <p:nvPr/>
        </p:nvPicPr>
        <p:blipFill>
          <a:blip r:embed="rId3"/>
          <a:stretch/>
        </p:blipFill>
        <p:spPr>
          <a:xfrm rot="20690400">
            <a:off x="214200" y="4500360"/>
            <a:ext cx="1857600" cy="2076120"/>
          </a:xfrm>
          <a:prstGeom prst="rect">
            <a:avLst/>
          </a:prstGeom>
          <a:ln w="0">
            <a:noFill/>
          </a:ln>
        </p:spPr>
      </p:pic>
      <p:pic>
        <p:nvPicPr>
          <p:cNvPr id="232" name="Рисунок 11" descr=",fбачки.png"/>
          <p:cNvPicPr/>
          <p:nvPr/>
        </p:nvPicPr>
        <p:blipFill>
          <a:blip r:embed="rId4"/>
          <a:stretch/>
        </p:blipFill>
        <p:spPr>
          <a:xfrm rot="18672000">
            <a:off x="7472880" y="366840"/>
            <a:ext cx="1428840" cy="995400"/>
          </a:xfrm>
          <a:prstGeom prst="rect">
            <a:avLst/>
          </a:prstGeom>
          <a:ln w="0">
            <a:noFill/>
          </a:ln>
        </p:spPr>
      </p:pic>
      <p:pic>
        <p:nvPicPr>
          <p:cNvPr id="233" name="Рисунок 12" descr=",fбачки.png"/>
          <p:cNvPicPr/>
          <p:nvPr/>
        </p:nvPicPr>
        <p:blipFill>
          <a:blip r:embed="rId5"/>
          <a:stretch/>
        </p:blipFill>
        <p:spPr>
          <a:xfrm>
            <a:off x="214200" y="3500280"/>
            <a:ext cx="790560" cy="857520"/>
          </a:xfrm>
          <a:prstGeom prst="rect">
            <a:avLst/>
          </a:prstGeom>
          <a:ln w="0">
            <a:noFill/>
          </a:ln>
        </p:spPr>
      </p:pic>
      <p:pic>
        <p:nvPicPr>
          <p:cNvPr id="234" name="Рисунок 13" descr=",fбачки.png"/>
          <p:cNvPicPr/>
          <p:nvPr/>
        </p:nvPicPr>
        <p:blipFill>
          <a:blip r:embed="rId6"/>
          <a:stretch/>
        </p:blipFill>
        <p:spPr>
          <a:xfrm>
            <a:off x="1714680" y="5214960"/>
            <a:ext cx="958680" cy="121428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ursiv95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 2" charset="2"/>
              <a:buChar char="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0E04F-8D23-4CEC-BCBF-324099B9CE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Рисунок 9" descr="ф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77" name="Рисунок 10" descr="в.png"/>
          <p:cNvPicPr/>
          <p:nvPr/>
        </p:nvPicPr>
        <p:blipFill>
          <a:blip r:embed="rId3"/>
          <a:srcRect l="5938" t="2501" r="4063" b="81254"/>
          <a:stretch/>
        </p:blipFill>
        <p:spPr>
          <a:xfrm>
            <a:off x="285840" y="214200"/>
            <a:ext cx="3214440" cy="1285920"/>
          </a:xfrm>
          <a:prstGeom prst="rect">
            <a:avLst/>
          </a:prstGeom>
          <a:ln w="0">
            <a:noFill/>
          </a:ln>
        </p:spPr>
      </p:pic>
      <p:pic>
        <p:nvPicPr>
          <p:cNvPr id="278" name="Рисунок 11" descr="р.png"/>
          <p:cNvPicPr/>
          <p:nvPr/>
        </p:nvPicPr>
        <p:blipFill>
          <a:blip r:embed="rId4"/>
          <a:stretch/>
        </p:blipFill>
        <p:spPr>
          <a:xfrm rot="2554800">
            <a:off x="250920" y="5270400"/>
            <a:ext cx="1531800" cy="133848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ursiv95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 2" charset="2"/>
              <a:buChar char="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85AF7-D8B1-4712-953C-43C5F6CAED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Рисунок 9" descr="ф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1" name="Рисунок 10" descr="в.png"/>
          <p:cNvPicPr/>
          <p:nvPr/>
        </p:nvPicPr>
        <p:blipFill>
          <a:blip r:embed="rId3"/>
          <a:stretch/>
        </p:blipFill>
        <p:spPr>
          <a:xfrm>
            <a:off x="1714680" y="4786200"/>
            <a:ext cx="5715000" cy="642960"/>
          </a:xfrm>
          <a:prstGeom prst="rect">
            <a:avLst/>
          </a:prstGeom>
          <a:ln w="0">
            <a:noFill/>
          </a:ln>
        </p:spPr>
      </p:pic>
      <p:pic>
        <p:nvPicPr>
          <p:cNvPr id="322" name="Рисунок 11" descr="hjvk.png"/>
          <p:cNvPicPr/>
          <p:nvPr/>
        </p:nvPicPr>
        <p:blipFill>
          <a:blip r:embed="rId4"/>
          <a:stretch/>
        </p:blipFill>
        <p:spPr>
          <a:xfrm rot="19526400">
            <a:off x="263160" y="5415120"/>
            <a:ext cx="1380960" cy="1357200"/>
          </a:xfrm>
          <a:prstGeom prst="rect">
            <a:avLst/>
          </a:prstGeom>
          <a:ln w="0">
            <a:noFill/>
          </a:ln>
        </p:spPr>
      </p:pic>
      <p:pic>
        <p:nvPicPr>
          <p:cNvPr id="323" name="Рисунок 12" descr=",fбачки.png"/>
          <p:cNvPicPr/>
          <p:nvPr/>
        </p:nvPicPr>
        <p:blipFill>
          <a:blip r:embed="rId5"/>
          <a:stretch/>
        </p:blipFill>
        <p:spPr>
          <a:xfrm rot="20262000">
            <a:off x="6694200" y="-4320"/>
            <a:ext cx="1357200" cy="128592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ursiv95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 2" charset="2"/>
              <a:buChar char="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96F11-80A3-4E3A-A011-5C0ADDE105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Рисунок 9" descr="ф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66" name="Рисунок 10" descr="р.png"/>
          <p:cNvPicPr/>
          <p:nvPr/>
        </p:nvPicPr>
        <p:blipFill>
          <a:blip r:embed="rId3"/>
          <a:stretch/>
        </p:blipFill>
        <p:spPr>
          <a:xfrm rot="2554800">
            <a:off x="7536960" y="5178240"/>
            <a:ext cx="1532160" cy="133812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ursiv95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 2" charset="2"/>
              <a:buChar char="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69F18-ADCE-48BB-9544-EC12E4983A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3276720" y="4005360"/>
            <a:ext cx="5867280" cy="28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Автор: Магон Мария,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ученица 5 класса «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Учитель: Шашкова В.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.Шумяч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2018 го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title"/>
          </p:nvPr>
        </p:nvSpPr>
        <p:spPr>
          <a:xfrm>
            <a:off x="2230560" y="1196640"/>
            <a:ext cx="6913440" cy="25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Kursiv95"/>
              </a:rPr>
              <a:t>Проект</a:t>
            </a:r>
            <a:br>
              <a:rPr sz="6300"/>
            </a:br>
            <a:r>
              <a:rPr b="1" lang="ru-RU" sz="4800" spc="-1" strike="noStrike">
                <a:solidFill>
                  <a:srgbClr val="800080"/>
                </a:solidFill>
                <a:latin typeface="Kursiv95"/>
              </a:rPr>
              <a:t>«Что    в имени тебе моём?»</a:t>
            </a:r>
            <a:endParaRPr b="0" lang="en-US" sz="48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417" name="Rectangle 6"/>
          <p:cNvSpPr/>
          <p:nvPr/>
        </p:nvSpPr>
        <p:spPr>
          <a:xfrm>
            <a:off x="1116000" y="333360"/>
            <a:ext cx="58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МБОУ  «Шумячская СШ им. В.Ф. Алешин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1"/>
          <p:cNvSpPr/>
          <p:nvPr/>
        </p:nvSpPr>
        <p:spPr>
          <a:xfrm>
            <a:off x="0" y="-1549800"/>
            <a:ext cx="914400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Имя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«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ар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имеет древнееврейское происхождение. Существует несколько значений имен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горькая, любимая, упрямая.  Очень ранима, тяжело переживает даже небольшое замечание в свой адрес. В то же время в её характере присутствует твёрдость, достоинство, способность постоять за себя. Действия её иногда носят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импульсивный характер.  Её ценят за трудолюбие,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пособность проявить сочувствие.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ария  излучает вокруг себя тепло, ласку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нимание.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1"/>
          <p:cNvSpPr/>
          <p:nvPr/>
        </p:nvSpPr>
        <p:spPr>
          <a:xfrm>
            <a:off x="684360" y="-1261440"/>
            <a:ext cx="7920000" cy="58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Из словаря Петровског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МАРИЯ, -и, ж.; разг. Марья, -и; прост. Марея, -и. Древ.-евр. имя Miriām - Мариам. Предположительно от др.-евр. mārā — противиться, отвергать или от mārar — быть горьк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Производные: Марийка; Мариша; Маря (Мара); Марюня (Маруня); Маруля; Муля; Маруся; Муся; Мася; Масята; Марюта; Марюха (Маруха); Марюша (Маруша); Муша; Маня; Манюня; Манюра; Манюся; Манюта; Манюха; Манюша; Манятка; Мака; Маняша; Маша; Машаня; Машоня; Машука; Машуня; Муня;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Машура; Мура; Шура; Машара; Машута; Мута; Машуха;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Моря; Марьюшка; Марьяш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1"/>
          <p:cNvSpPr/>
          <p:nvPr/>
        </p:nvSpPr>
        <p:spPr>
          <a:xfrm>
            <a:off x="1332000" y="897120"/>
            <a:ext cx="7488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-38160" rIns="954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Зодиак Марии – Де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Планета – Прозерп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Цвет имени Мария - сиз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Благоприятное дерево – бере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Заветное растение Марии – васил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Покровитель имени Мария – голуб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Камень-талисман Марии – алм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1"/>
          <p:cNvSpPr/>
          <p:nvPr/>
        </p:nvSpPr>
        <p:spPr>
          <a:xfrm>
            <a:off x="611280" y="658800"/>
            <a:ext cx="7848360" cy="40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51515"/>
                </a:solidFill>
                <a:latin typeface="Arial"/>
                <a:ea typeface="Times New Roman"/>
              </a:rPr>
              <a:t>День ангела Марии</a:t>
            </a:r>
            <a:r>
              <a:rPr b="0" lang="ru-RU" sz="2000" spc="-1" strike="noStrike">
                <a:solidFill>
                  <a:srgbClr val="151515"/>
                </a:solidFill>
                <a:latin typeface="Arial"/>
                <a:ea typeface="Times New Roman"/>
              </a:rPr>
              <a:t>: Имя трижды в году отмечает именин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-14 (1) апреля – Преподобная Мария Египетская двенадцати лет ушла из дома родительского и семь лет вела греховную жизнь, потом обратилась в Иерусалиме на путь праведный и сорок восемь лет жила уединенно в великих подвигах поста и молитвы в пустыне Иорданской (VI в.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-5 июня (23 мая) – Св. Мария Клеопова (то есть жена Клеопы) -дочь Иосифа Обручника; она жила в доме отца вместе с Пресвятой Девой Марией; они любили друг друга как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ближайшие родственницы, отчего Евангелие называет ее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"сестрой Матери Иисусовой"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              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- 21 (8) сентября – Рождество Пресвятой Богородиц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1"/>
          <p:cNvSpPr/>
          <p:nvPr/>
        </p:nvSpPr>
        <p:spPr>
          <a:xfrm>
            <a:off x="179280" y="-2520"/>
            <a:ext cx="8496360" cy="61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51515"/>
                </a:solidFill>
                <a:latin typeface="Arial"/>
                <a:ea typeface="Times New Roman"/>
              </a:rPr>
              <a:t>Судьба имени Мария в истории</a:t>
            </a:r>
            <a:r>
              <a:rPr b="0" lang="ru-RU" sz="1200" spc="-1" strike="noStrike">
                <a:solidFill>
                  <a:srgbClr val="151515"/>
                </a:solidFill>
                <a:latin typeface="Arial"/>
                <a:ea typeface="Times New Roman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Arial"/>
                <a:ea typeface="Times New Roman"/>
              </a:rPr>
              <a:t>Мария – одно из популярнейших имен и в России, и во всем мире, в сказках, в литературе, в истор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Arial"/>
                <a:ea typeface="Times New Roman"/>
              </a:rPr>
              <a:t>Мария – Пресвятая Дева в Назарете, мать Иисуса Христа. Дева Мария, Богородица, Богоматерь, Мадонна - земная мать Иисуса Христа. Упоминание о ней в четырех Евангелиях очень кратки, возникли многочисленные дополнения в апокрифах - новые евангельские сказания, официально не признанные церковью. Трагическая история женщины, которая растила сына, наперед зная, что его отнимут у нее и замучат, не могла не тревожить воображение люд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Arial"/>
                <a:ea typeface="Times New Roman"/>
              </a:rPr>
              <a:t>Княгиня Мария Николаевна Волконская (1806–1863) – жена декабриста князя Сергея Григорьевича Волконского, добровольно разделившая с ним ссылку. Дочь известного героя 12-го года, Н.Н. Раевского, она в 18 лет, по воле отца, вышла замуж за генерала Волконского, бывшего гораздо старше ее. Как и жены других декабристов, она узнала о существовании тайного общества только тогда, когда большинство заговорщиков уже было в крепости. В 1863 г. Волконская умерла от нажитой в Сибири болезни сердца. После нее остались записки, замечательный по скромности, искренности и простоте человеческий документ. Ее отец, Н.Н. Раевский, со всей суровостью человека военной дисциплины пытавшийся удержать дочь от поездки в Сибирь, сказал перед смертью, указывая на ее портрет: "Это самая удивительная женщина, которую я знал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Arial"/>
                <a:ea typeface="Times New Roman"/>
              </a:rPr>
              <a:t>Мария Романова (1907 - 1951) - с рождения носила титул Светлейшей княжны Кирилловской; титул Княжны Крови Императорской признан за ней 28 июля 1907 года, с 1925 года — наследная принцесса Лейнингенская, с 1939 года — княгиня Лейнингенская. Старшая дочь Великого Князя Кирилла Владимировича и Великой Княгини Виктории Фёдоровны (урождённой принцессы Саксен-Кобург-Готской и Великобританской). Родилась в январе 1907 года и, в соответствии с указом Николая II, была причислена к Российскому Императорскому Дому. В 1924 году княжна императорской крови Мария Кирилловна получила от своего отца, принявшего титул императора Всероссийского Кирилла I, титул Великой Княжны. В 1930-х годах в Нови-Сад под покровительством королевы Марии действовало Русско-сербское благотворительное общество Великой княжны Марии Кирилловны, оказывавшее помощь нуждающимся русским беженца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Arial"/>
                <a:ea typeface="Times New Roman"/>
              </a:rPr>
              <a:t>Мария Медичи (1575 - 1642) - королева Франции, дочь великого герцога Франческо I Тосканского и Иоанны Австрийской. Королева-консорт Франции, супруга Генриха IV, мать Людовика XII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Arial"/>
                <a:ea typeface="Times New Roman"/>
              </a:rPr>
              <a:t>Марлен Дитрих (1901 - 1992) - урождённая - Мария Магдалена Дитрих; немецкая и американская актриса и певица, создавшая один из совершенных кинематографических женских образов. Её «знойная женщина со стальным позвоночником» отличалась как от «загадочной женщины» Греты Гарбо, так и от естественности, воплощенной в женских образах Ингрид Бергман, не походила на интеллектуальную изысканность, которой блистала Клодетт Колбер. Кинематографическая судьба Дитрих во многом определена Джозефом фон Штернбергом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Arial"/>
                <a:ea typeface="Times New Roman"/>
              </a:rPr>
              <a:t>                          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333333"/>
                </a:solidFill>
                <a:latin typeface="Arial"/>
                <a:ea typeface="Times New Roman"/>
              </a:rPr>
              <a:t>И ещё много-много других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Прямоугольник 3"/>
          <p:cNvSpPr/>
          <p:nvPr/>
        </p:nvSpPr>
        <p:spPr>
          <a:xfrm>
            <a:off x="684360" y="0"/>
            <a:ext cx="820872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80"/>
                </a:solidFill>
                <a:latin typeface="Arial"/>
              </a:rPr>
              <a:t>Немного о моей фамил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вольно большая часть фамилий с балтийской основой образов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 древне-литовских и древне-латышских имен и прозвищ. Мног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них происходят от слов, означающих природные явлени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бесные тела, растения или от названий рек и местн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и имена и прозвища подчеркивают близость балтов к природе, их трепетное отношение к ней. Однако не всегда возможно определить, от чего именно была образована фамилия: от имени или от прозвища. Имеющие один и тот же корень имена и прозвища выполняли различную функцию. Так, давая ребенку имя Saule (Солнце), родители надеялись, что он вырастет счастливым, в его жизни будет много солнечных дней. В свою очередь, прозвище Saule могли дать веселому человеку или тому, кто имел рыжие волосы. Фамилия Магон, скорее всего, образована от аналогичного имени. Оно берет начало от латышского существительного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magone со значением «мак». Наречение ребенка именем, представляющим собой название животного или растения, было очень распространенной традицией. Это соответствовало язычески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ставлениям человека о мире. Давая младенцу имя с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ением «мак», родители хотели, чтобы приро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принимала ребенка как своего, чтобы к нему переш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 полезные качества, которыми наделено это растение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огда    же именование главы семейства переходило к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томку в неизменной форм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971280" y="692280"/>
            <a:ext cx="7993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Какие бы имена мы ни носили, что бы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и предопределяли нам они, мы всегда   остаёмся хозяевами нашей судьбы. Только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т нас зависит,  какой след оставит наш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имя на земл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80"/>
                </a:solidFill>
                <a:latin typeface="Monotype Corsiva"/>
              </a:rPr>
              <a:t>                  </a:t>
            </a:r>
            <a:r>
              <a:rPr b="1" lang="ru-RU" sz="4800" spc="-1" strike="noStrike">
                <a:solidFill>
                  <a:srgbClr val="800080"/>
                </a:solidFill>
                <a:latin typeface="Calibri"/>
              </a:rPr>
              <a:t>«</a:t>
            </a:r>
            <a:r>
              <a:rPr b="1" lang="ru-RU" sz="4800" spc="-1" strike="noStrike">
                <a:solidFill>
                  <a:srgbClr val="800080"/>
                </a:solidFill>
                <a:latin typeface="Monotype Corsiva"/>
              </a:rPr>
              <a:t>Не имя красит человека,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844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80"/>
                </a:solidFill>
                <a:latin typeface="Monotype Corsiva"/>
              </a:rPr>
              <a:t>                             </a:t>
            </a:r>
            <a:r>
              <a:rPr b="1" lang="ru-RU" sz="4800" spc="-1" strike="noStrike">
                <a:solidFill>
                  <a:srgbClr val="800080"/>
                </a:solidFill>
                <a:latin typeface="Monotype Corsiva"/>
              </a:rPr>
              <a:t>а человек имя.</a:t>
            </a:r>
            <a:r>
              <a:rPr b="1" lang="ru-RU" sz="4800" spc="-1" strike="noStrike">
                <a:solidFill>
                  <a:srgbClr val="800080"/>
                </a:solidFill>
                <a:latin typeface="Calibri"/>
              </a:rPr>
              <a:t>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1"/>
          <p:cNvSpPr/>
          <p:nvPr/>
        </p:nvSpPr>
        <p:spPr>
          <a:xfrm>
            <a:off x="0" y="267840"/>
            <a:ext cx="9144000" cy="47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Используемая литератур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етровский Н.А. Словарь русских личных имён. – М.: Русские словари, 2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етровский Н.А. Словарь русских личных имён. – Электронная версия, «ГРАМОТА.РУ», 200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уперанская А.В. Словарь русских личных имён. – М.: АСТ, 199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услова А.В., Суперанская А.В. О русских именах. – Л.: Лениздат, 199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Успенский Л.В. Слово о словах. Ты и твое имя. – Л., 197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596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Kursiv95"/>
              </a:rPr>
              <a:t>Паспорт проектной работы</a:t>
            </a:r>
            <a:br>
              <a:rPr sz="1400"/>
            </a:br>
            <a:br>
              <a:rPr sz="1400"/>
            </a:br>
            <a:r>
              <a:rPr b="0" lang="ru-RU" sz="2000" spc="-1" strike="noStrike">
                <a:solidFill>
                  <a:srgbClr val="000000"/>
                </a:solidFill>
                <a:latin typeface="Kursiv95"/>
              </a:rPr>
              <a:t>1.Тема проекта : «Что в имени тебе моём?»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Kursiv95"/>
              </a:rPr>
              <a:t>2.Автор проекта: Магон Мари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Kursiv95"/>
              </a:rPr>
              <a:t>3.Возраст учащегося: 5 класс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Kursiv95"/>
              </a:rPr>
              <a:t>4.Руководитель проекта: Шашкова В.В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Kursiv95"/>
              </a:rPr>
              <a:t>5.Учебный предмет, в рамках которого проводится работу по проекту: русский язык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Kursiv95"/>
              </a:rPr>
              <a:t>6.Тип проекта: поисково-творческий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Kursiv95"/>
              </a:rPr>
              <a:t>7.Цель проекта: самостоятельное приобретение новых знаний о своём имени и фамили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Kursiv95"/>
              </a:rPr>
              <a:t>          8.Задачи проекта:  1) развитие интереса к значению своего имени и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Kursiv95"/>
              </a:rPr>
              <a:t>                                                   фамилии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Kursiv95"/>
              </a:rPr>
              <a:t>                                                2)развитие навыков творческой деятельности при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Kursiv95"/>
              </a:rPr>
              <a:t>                                                    оформлении продукта проекта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Kursiv95"/>
              </a:rPr>
              <a:t>                                                3) развитие навыков монологической речи   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Kursiv95"/>
              </a:rPr>
              <a:t>                                                     коммуникативности при защите проект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Kursiv95"/>
              </a:rPr>
              <a:t>                                                9.Форма работы: внеурочна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Kursiv95"/>
              </a:rPr>
              <a:t>                                                10.Оборудование: сайты Интернета,  СМИ, книги 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Kursiv95"/>
              </a:rPr>
              <a:t>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Kursiv95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1"/>
          <p:cNvSpPr/>
          <p:nvPr/>
        </p:nvSpPr>
        <p:spPr>
          <a:xfrm>
            <a:off x="900000" y="802440"/>
            <a:ext cx="7488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ан работы над проек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Выяснить, почему меня назвали таким имен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Узнать о происхождении и значении своего имени и фамил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Узнать, кто из известных людей носил или носит имя Мар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Узнать о талисманах и покровителях моего име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0" y="83808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Прямоугольник 7"/>
          <p:cNvSpPr/>
          <p:nvPr/>
        </p:nvSpPr>
        <p:spPr>
          <a:xfrm>
            <a:off x="611280" y="1028880"/>
            <a:ext cx="8208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нот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актуальность проекта, значимость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годня мы очень активно интересуемся нашим прошлым, историей. Имена людей - это часть истории народа. В них отражается быт, верования, фантазии, творчество народа, исторические связи. Роль имени в жизни человека огромна. Оно служит для обозначения отдельного человека, даётся ему в индивидуальном порядке для того, чтобы иметь возможность к нему обращаться, а также говорить о нём с другими. Человеку необходимо знать, как появилось его имя, что оно обозначает, чтобы носить его с гордостью. Очень интересно знать, что означают имена одноклассников и их фамилии, почему их так назвали. Каждый человек имеет право на выбор имени и фамил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/>
          </p:nvPr>
        </p:nvSpPr>
        <p:spPr>
          <a:xfrm>
            <a:off x="2339640" y="5367240"/>
            <a:ext cx="626436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Wingdings 2" charset="2"/>
              <a:buChar char="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Это я – Магон Мар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3" name="Picture 6" descr="E:\100DSCIM\PICT2054.JPG"/>
          <p:cNvPicPr/>
          <p:nvPr/>
        </p:nvPicPr>
        <p:blipFill>
          <a:blip r:embed="rId1"/>
          <a:stretch/>
        </p:blipFill>
        <p:spPr>
          <a:xfrm>
            <a:off x="2268360" y="189000"/>
            <a:ext cx="45356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pic>
        <p:nvPicPr>
          <p:cNvPr id="425" name="Picture 4" descr="PE02285_"/>
          <p:cNvPicPr/>
          <p:nvPr/>
        </p:nvPicPr>
        <p:blipFill>
          <a:blip r:embed="rId1"/>
          <a:stretch/>
        </p:blipFill>
        <p:spPr>
          <a:xfrm>
            <a:off x="5853240" y="2781360"/>
            <a:ext cx="2813040" cy="4076640"/>
          </a:xfrm>
          <a:prstGeom prst="rect">
            <a:avLst/>
          </a:prstGeom>
          <a:ln w="0">
            <a:noFill/>
          </a:ln>
        </p:spPr>
      </p:pic>
      <p:sp>
        <p:nvSpPr>
          <p:cNvPr id="426" name="Rectangle 5"/>
          <p:cNvSpPr/>
          <p:nvPr/>
        </p:nvSpPr>
        <p:spPr>
          <a:xfrm>
            <a:off x="2256480" y="-3291840"/>
            <a:ext cx="4630680" cy="70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0000"/>
                </a:solidFill>
                <a:latin typeface="Arial"/>
                <a:ea typeface="Times New Roman"/>
              </a:rPr>
              <a:t>Предназначено богом или судьбой</a:t>
            </a:r>
            <a:br>
              <a:rPr sz="1800"/>
            </a:br>
            <a:r>
              <a:rPr b="0" lang="ru-RU" sz="1800" spc="-1" strike="noStrike">
                <a:solidFill>
                  <a:srgbClr val="400000"/>
                </a:solidFill>
                <a:latin typeface="Arial"/>
                <a:ea typeface="Times New Roman"/>
              </a:rPr>
              <a:t>В этой жизни мне быть госпожой,</a:t>
            </a:r>
            <a:br>
              <a:rPr sz="1800"/>
            </a:br>
            <a:r>
              <a:rPr b="0" lang="ru-RU" sz="1800" spc="-1" strike="noStrike">
                <a:solidFill>
                  <a:srgbClr val="400000"/>
                </a:solidFill>
                <a:latin typeface="Arial"/>
                <a:ea typeface="Times New Roman"/>
              </a:rPr>
              <a:t>В честь девицы святой наречённая я,</a:t>
            </a:r>
            <a:br>
              <a:rPr sz="1800"/>
            </a:br>
            <a:r>
              <a:rPr b="0" lang="ru-RU" sz="1800" spc="-1" strike="noStrike">
                <a:solidFill>
                  <a:srgbClr val="400000"/>
                </a:solidFill>
                <a:latin typeface="Arial"/>
                <a:ea typeface="Times New Roman"/>
              </a:rPr>
              <a:t>Моё имя Мария - я высь и зем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0000"/>
                </a:solidFill>
                <a:latin typeface="Arial"/>
                <a:ea typeface="Times New Roman"/>
              </a:rPr>
              <a:t>В моём имени рядом и солнце, и тьма,</a:t>
            </a:r>
            <a:br>
              <a:rPr sz="1800"/>
            </a:br>
            <a:r>
              <a:rPr b="0" lang="ru-RU" sz="1800" spc="-1" strike="noStrike">
                <a:solidFill>
                  <a:srgbClr val="400000"/>
                </a:solidFill>
                <a:latin typeface="Arial"/>
                <a:ea typeface="Times New Roman"/>
              </a:rPr>
              <a:t>И манящее лето, и злая зима,</a:t>
            </a:r>
            <a:br>
              <a:rPr sz="1800"/>
            </a:br>
            <a:r>
              <a:rPr b="0" lang="ru-RU" sz="1800" spc="-1" strike="noStrike">
                <a:solidFill>
                  <a:srgbClr val="400000"/>
                </a:solidFill>
                <a:latin typeface="Arial"/>
                <a:ea typeface="Times New Roman"/>
              </a:rPr>
              <a:t>И горящие искры, и серебряный снег,</a:t>
            </a:r>
            <a:br>
              <a:rPr sz="1800"/>
            </a:br>
            <a:r>
              <a:rPr b="0" lang="ru-RU" sz="1800" spc="-1" strike="noStrike">
                <a:solidFill>
                  <a:srgbClr val="400000"/>
                </a:solidFill>
                <a:latin typeface="Arial"/>
                <a:ea typeface="Times New Roman"/>
              </a:rPr>
              <a:t>Мое имя мгновенье и длительный в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0000"/>
                </a:solidFill>
                <a:latin typeface="Arial"/>
                <a:ea typeface="Times New Roman"/>
              </a:rPr>
              <a:t>В день июльский и жаркий рожденная я,</a:t>
            </a:r>
            <a:br>
              <a:rPr sz="1800"/>
            </a:br>
            <a:r>
              <a:rPr b="0" lang="ru-RU" sz="1800" spc="-1" strike="noStrike">
                <a:solidFill>
                  <a:srgbClr val="400000"/>
                </a:solidFill>
                <a:latin typeface="Arial"/>
                <a:ea typeface="Times New Roman"/>
              </a:rPr>
              <a:t>Три святых в этой жизни спасают меня.</a:t>
            </a:r>
            <a:br>
              <a:rPr sz="1800"/>
            </a:br>
            <a:r>
              <a:rPr b="0" lang="ru-RU" sz="1800" spc="-1" strike="noStrike">
                <a:solidFill>
                  <a:srgbClr val="400000"/>
                </a:solidFill>
                <a:latin typeface="Arial"/>
                <a:ea typeface="Times New Roman"/>
              </a:rPr>
              <a:t>Я младенцем крещенная в церкви святой</a:t>
            </a:r>
            <a:br>
              <a:rPr sz="1800"/>
            </a:br>
            <a:r>
              <a:rPr b="0" lang="ru-RU" sz="1800" spc="-1" strike="noStrike">
                <a:solidFill>
                  <a:srgbClr val="400000"/>
                </a:solidFill>
                <a:latin typeface="Arial"/>
                <a:ea typeface="Times New Roman"/>
              </a:rPr>
              <a:t>Моё имя Мария - я власть и по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3"/>
          <p:cNvSpPr/>
          <p:nvPr/>
        </p:nvSpPr>
        <p:spPr>
          <a:xfrm>
            <a:off x="1116000" y="1762200"/>
            <a:ext cx="698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ня назвали Марией в честь моей прабабушки – Исачкиной Марии Фроловны, инвалида Великой Отечественной  войны, прекрасного врача и просто  хорошего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39640" y="1125000"/>
            <a:ext cx="7212240" cy="445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ccff"/>
                </a:solidFill>
                <a:latin typeface="Calibri"/>
              </a:rPr>
              <a:t>     </a:t>
            </a:r>
            <a:r>
              <a:rPr b="1" i="1" lang="ru-RU" sz="3200" spc="-1" strike="noStrike">
                <a:solidFill>
                  <a:srgbClr val="4f81bd"/>
                </a:solidFill>
                <a:latin typeface="Times New Roman"/>
              </a:rPr>
              <a:t>По словарю В.И. Даля:</a:t>
            </a:r>
            <a:r>
              <a:rPr b="1" i="1" lang="ru-RU" sz="2400" spc="-1" strike="noStrike">
                <a:solidFill>
                  <a:srgbClr val="4f81bd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80"/>
                </a:solidFill>
                <a:latin typeface="Calibri"/>
              </a:rPr>
              <a:t>«</a:t>
            </a:r>
            <a:r>
              <a:rPr b="1" lang="ru-RU" sz="3600" spc="-1" strike="noStrike">
                <a:solidFill>
                  <a:srgbClr val="800080"/>
                </a:solidFill>
                <a:latin typeface="Times New Roman"/>
              </a:rPr>
              <a:t>Имя -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это слово, которым зовут,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значают особь, личность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0" name="Picture 3" descr="bigbook1_e0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3573360"/>
            <a:ext cx="2736720" cy="27370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Rectangle 4"/>
          <p:cNvSpPr/>
          <p:nvPr/>
        </p:nvSpPr>
        <p:spPr>
          <a:xfrm>
            <a:off x="2050920" y="-171360"/>
            <a:ext cx="7093080" cy="70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Этапы развит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мён на Рус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дохристианск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80"/>
                </a:solidFill>
                <a:latin typeface="Times New Roman"/>
              </a:rPr>
              <a:t>   </a:t>
            </a:r>
            <a:r>
              <a:rPr b="1" i="1" lang="ru-RU" sz="3200" spc="-1" strike="noStrike">
                <a:solidFill>
                  <a:srgbClr val="800080"/>
                </a:solidFill>
                <a:latin typeface="Times New Roman"/>
              </a:rPr>
              <a:t>(</a:t>
            </a:r>
            <a:r>
              <a:rPr b="1" i="1" lang="ru-RU" sz="2800" spc="-1" strike="noStrike">
                <a:solidFill>
                  <a:srgbClr val="800080"/>
                </a:solidFill>
                <a:latin typeface="Times New Roman"/>
              </a:rPr>
              <a:t>Чернавка, Мал, Молчан, Лобан – имена-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80"/>
                </a:solidFill>
                <a:latin typeface="Times New Roman"/>
              </a:rPr>
              <a:t>    </a:t>
            </a:r>
            <a:r>
              <a:rPr b="1" i="1" lang="ru-RU" sz="2800" spc="-1" strike="noStrike">
                <a:solidFill>
                  <a:srgbClr val="800080"/>
                </a:solidFill>
                <a:latin typeface="Times New Roman"/>
              </a:rPr>
              <a:t>прозвищ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ериод после принятия Христиан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Times New Roman"/>
              </a:rPr>
              <a:t>    </a:t>
            </a:r>
            <a:r>
              <a:rPr b="1" i="1" lang="ru-RU" sz="2800" spc="-1" strike="noStrike">
                <a:solidFill>
                  <a:srgbClr val="800080"/>
                </a:solidFill>
                <a:latin typeface="Times New Roman"/>
              </a:rPr>
              <a:t>(Анастасия, Александр, Никита,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80"/>
                </a:solidFill>
                <a:latin typeface="Times New Roman"/>
              </a:rPr>
              <a:t>     </a:t>
            </a:r>
            <a:r>
              <a:rPr b="1" i="1" lang="ru-RU" sz="2800" spc="-1" strike="noStrike">
                <a:solidFill>
                  <a:srgbClr val="800080"/>
                </a:solidFill>
                <a:latin typeface="Times New Roman"/>
              </a:rPr>
              <a:t>Дмитрий, Кирилл и др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новый этап, начавшийся пос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ктябрьс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революции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80"/>
                </a:solidFill>
                <a:latin typeface="Times New Roman"/>
              </a:rPr>
              <a:t>    </a:t>
            </a:r>
            <a:r>
              <a:rPr b="1" i="1" lang="ru-RU" sz="2800" spc="-1" strike="noStrike">
                <a:solidFill>
                  <a:srgbClr val="800080"/>
                </a:solidFill>
                <a:latin typeface="Times New Roman"/>
              </a:rPr>
              <a:t>(Жанна, Инесса, Эдуард, Тимур и др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5" descr="bd00146_"/>
          <p:cNvPicPr/>
          <p:nvPr/>
        </p:nvPicPr>
        <p:blipFill>
          <a:blip r:embed="rId1"/>
          <a:stretch/>
        </p:blipFill>
        <p:spPr>
          <a:xfrm>
            <a:off x="0" y="0"/>
            <a:ext cx="2124000" cy="210492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20:00:50Z</dcterms:created>
  <dc:creator>Customer</dc:creator>
  <dc:description/>
  <dc:language>en-US</dc:language>
  <cp:lastModifiedBy>Valentina</cp:lastModifiedBy>
  <dcterms:modified xsi:type="dcterms:W3CDTF">2018-07-21T10:17:25Z</dcterms:modified>
  <cp:revision>43</cp:revision>
  <dc:subject/>
  <dc:title>«Наши имена»</dc:title>
</cp:coreProperties>
</file>