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gif" ContentType="image/gif"/>
  <Override PartName="/ppt/media/image24.wmf" ContentType="image/x-wmf"/>
  <Override PartName="/ppt/media/image22.wmf" ContentType="image/x-wmf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E2C9-1010-41CF-BFE5-EDC638CF12A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C93E-7789-4369-B212-BE86001003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0581-D637-4C02-8B33-E956B304F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7347-C883-4FAE-BC61-07EB7467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06656C-4444-4BC6-B2C0-752D68F0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43EB0-7640-4588-B668-CA6E59FB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6AA62E-2B9A-450B-9326-20FC63EE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60F8C-F44F-4247-8D51-F04370CD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E2708-5653-43D8-9A16-C57B479F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F8BED1-6CF3-433E-BB24-29528D3F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E5898-7A81-4A70-A6A6-A18BD34F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C6977C-A1BD-4BC0-B767-FC552FC4B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2CB79-05BA-4856-A0DE-A9A2C4E0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F939-9CDF-486F-8FC5-BB6FA82A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125-827B-4A8E-B248-60B680A1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459D-3883-44DA-BC7A-94D08460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2D7C-A49F-41F2-8798-51622591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32A0D-428C-4534-93FA-FAF3735D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77F82-DCBA-4100-B7E9-39E151E50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41057-C5A0-4625-9A97-C7CAD68B8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7ACF-F84D-4A25-8526-B5594AD7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DF15-609E-4F72-9A38-96D5673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B588-1C22-4294-8BA4-232D105B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3123-B0D8-4E6A-852B-A6CE7879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181E-7609-452A-BCEB-50AE9AED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68FF-FB8D-48CD-B319-AE42F14D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5A459-9381-4BDA-BC63-3FFA3AFA3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745A6-7511-40C3-BAB3-F8A54980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B933E-D07E-4159-B6D3-D07737A0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5C6152-0ED2-4C8D-86D5-72BCF7B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04455-30B5-454E-ABAE-1A441D35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9B9F3-109B-45BF-B29E-0D8C16EF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FD4C7-C0F2-435E-AD17-CCB470B97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90AC-15DD-466F-835A-419E94BC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848E-093C-471B-9472-8E22A7D5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7771F-3005-4F75-A520-15C5762E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DA502-695C-4202-9412-EEDB1698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AE237-00BE-42DB-BBE6-2C59BB109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3B17E-09C8-40BB-8B35-0184A93D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9B3A28-9408-422C-9625-82CD8ABCC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6E665-32E8-4C09-81AF-89AE79634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AC17-4287-4CFD-893A-CA1A188D9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2DEB7-19E6-4458-8679-3559714B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7BC0F-2D71-45B2-8761-A1698CE5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F872-C417-45F9-A93A-E0DBE506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32834-A97F-4461-BA47-373A0B104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C181B-953B-41D8-9147-8E54ECD5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F3FF0-3109-4055-929B-52100A81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6C44BA-9912-417C-B8A1-5F28957E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574A3-AD3E-4243-BB8A-FCCA68BC0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85DF2-2EF2-446A-A28F-42B3EA07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45299F-2A52-4C81-8D6E-E20845F2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AB0F9-F88E-44C9-B940-552AAECF9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B4745C-B6B6-44B4-AF0F-CC0289FAE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3A91B-3AE7-4886-A704-A220AD5B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4AE-35A4-4B23-ABB9-6672ECEB3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56840-3AB0-4A08-A96B-7D5D21981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FEC98-C52E-48A0-9B9C-475495D6D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B61E3-2079-45D9-A4FF-C10C71D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B7270-C66D-4F8E-B227-EBE07987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DA97D-88CD-4FD7-9DF3-C98C0C6CB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160EF-4743-44A7-98A7-B802DB533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F9387F-3DEE-43E1-AA2B-59043A7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78E6C-E370-41D1-9E96-E9B435DE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EFF1B-0683-4B20-A2BB-8D82BCC1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4F2F50-AF98-4C8F-9C5A-469EED6D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E777-05FC-4106-A491-AB30E281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A428A-94BF-4E24-ACC0-10A46CEEA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16A19-0D25-4B53-8AAA-9603D7A9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3EDDC7-5A79-4E6D-8250-FB850AD5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CB5FD-13EA-48F9-BD49-7F916A7EF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094039-DCE9-404E-8414-09860251B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CEC1B-FCE1-4BBA-82A8-560FD876F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A3201-3D89-4174-8E18-8E2919AB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A144C-B05B-44DE-996A-D4C63245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9ACEE-7E6A-492B-B513-76AC60DC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E326C-C2AB-48AC-B4A6-23177829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0245-1787-4B32-BDCE-FF2A2168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52525-F4F4-431D-B1A1-06921C08B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302162-0444-409E-9559-4D2A47FCD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C1DB4-5533-4D4D-8807-042778B7A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00F67-EE33-41DF-825C-E07918E0A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3AFD2A-6C0F-460D-8322-9101E27E8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9E9E7-D690-4815-B69A-993F2EA7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44F600-5397-4502-8C94-8C5DB1C2F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801D52-65CB-44DE-93B2-0156F167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D7C5F-85FA-4022-BF6F-E28718AB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9FE07-8701-4A64-BBFE-1EC7364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A0D9-27AC-40DA-A8FF-22123697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109398-1E3E-4744-8A99-2B15A4F7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A3AC9-7686-4B20-A757-FC53CFE3A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A2637-B010-4B06-B7DF-81AA47B7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51E34-9E41-4E13-943E-318B91E8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FB9FDF-3DAD-417A-AE77-25C15741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656AFB-7F07-4F3E-9821-9C44B89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66F84C-1E6A-48EF-9D13-BD0886445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52078-2EB5-472B-8D57-4BBEC487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AE840C-E4DB-473B-B181-228BF1FCE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46E509-885D-4E0E-931E-C4DE1E1C4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4847-ED44-4AEE-BF3B-EC60FB69C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AD5AB2-C32A-4970-A35E-2DD495ABD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161A1-5825-4FD8-A007-7E5ADDD04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9E65F-D792-4B18-A6EA-F9F6812F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52F883-9C07-4851-A530-825A2BBBF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3B2C37-A704-4C19-8F33-7BED30EF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13A1D9-239F-499D-9809-78884F967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71AA6-2236-43DD-A49C-B66BBE478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21529-DD37-47B7-A4AA-94CBBBDC0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182CB3-B908-401D-8F4A-5451B7E2B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E7A14-6EB1-47A5-B5ED-47224ADF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19.png"/><Relationship Id="rId4" Type="http://schemas.openxmlformats.org/officeDocument/2006/relationships/image" Target="../media/image3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C548-7BA5-49DB-AAE7-EEB65570CFB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10" descr="р.png"/>
          <p:cNvPicPr/>
          <p:nvPr/>
        </p:nvPicPr>
        <p:blipFill>
          <a:blip r:embed="rId3"/>
          <a:stretch/>
        </p:blipFill>
        <p:spPr>
          <a:xfrm>
            <a:off x="6929280" y="5072040"/>
            <a:ext cx="1881360" cy="16430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11" descr="hk.png"/>
          <p:cNvPicPr/>
          <p:nvPr/>
        </p:nvPicPr>
        <p:blipFill>
          <a:blip r:embed="rId4"/>
          <a:stretch/>
        </p:blipFill>
        <p:spPr>
          <a:xfrm>
            <a:off x="0" y="3786120"/>
            <a:ext cx="2595600" cy="292896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2" descr="к.png"/>
          <p:cNvPicPr/>
          <p:nvPr/>
        </p:nvPicPr>
        <p:blipFill>
          <a:blip r:embed="rId5"/>
          <a:stretch/>
        </p:blipFill>
        <p:spPr>
          <a:xfrm>
            <a:off x="1143000" y="2000160"/>
            <a:ext cx="6858000" cy="178596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3" descr=",fбачки.png"/>
          <p:cNvPicPr/>
          <p:nvPr/>
        </p:nvPicPr>
        <p:blipFill>
          <a:blip r:embed="rId6"/>
          <a:stretch/>
        </p:blipFill>
        <p:spPr>
          <a:xfrm>
            <a:off x="1285920" y="3714840"/>
            <a:ext cx="13572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14" descr=",fбачки.png"/>
          <p:cNvPicPr/>
          <p:nvPr/>
        </p:nvPicPr>
        <p:blipFill>
          <a:blip r:embed="rId7"/>
          <a:stretch/>
        </p:blipFill>
        <p:spPr>
          <a:xfrm rot="19900200">
            <a:off x="6786360" y="571680"/>
            <a:ext cx="1571400" cy="1143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0B8A-581F-4F8E-8E5F-7B2971CC8D5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9" descr="р1.png"/>
          <p:cNvPicPr/>
          <p:nvPr/>
        </p:nvPicPr>
        <p:blipFill>
          <a:blip r:embed="rId5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8E39-AEFB-44BB-8CE5-7A58F315940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9" descr="р1.png"/>
          <p:cNvPicPr/>
          <p:nvPr/>
        </p:nvPicPr>
        <p:blipFill>
          <a:blip r:embed="rId5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9188-7C16-4C85-A609-93AA2C33AD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9" descr="р1.png"/>
          <p:cNvPicPr/>
          <p:nvPr/>
        </p:nvPicPr>
        <p:blipFill>
          <a:blip r:embed="rId5"/>
          <a:stretch/>
        </p:blipFill>
        <p:spPr>
          <a:xfrm rot="15733200">
            <a:off x="8050320" y="6325560"/>
            <a:ext cx="479160" cy="51732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0" descr="р1.png"/>
          <p:cNvPicPr/>
          <p:nvPr/>
        </p:nvPicPr>
        <p:blipFill>
          <a:blip r:embed="rId6"/>
          <a:stretch/>
        </p:blipFill>
        <p:spPr>
          <a:xfrm rot="15811800">
            <a:off x="8360280" y="4943520"/>
            <a:ext cx="803160" cy="865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11" descr="р1.png"/>
          <p:cNvPicPr/>
          <p:nvPr/>
        </p:nvPicPr>
        <p:blipFill>
          <a:blip r:embed="rId7"/>
          <a:stretch/>
        </p:blipFill>
        <p:spPr>
          <a:xfrm rot="18241200">
            <a:off x="7369920" y="6121800"/>
            <a:ext cx="684000" cy="73656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12" descr="р.png"/>
          <p:cNvPicPr/>
          <p:nvPr/>
        </p:nvPicPr>
        <p:blipFill>
          <a:blip r:embed="rId8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13" descr=",fбачки.png"/>
          <p:cNvPicPr/>
          <p:nvPr/>
        </p:nvPicPr>
        <p:blipFill>
          <a:blip r:embed="rId9"/>
          <a:stretch/>
        </p:blipFill>
        <p:spPr>
          <a:xfrm>
            <a:off x="7215120" y="5500800"/>
            <a:ext cx="743040" cy="1143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F87E0-5D0E-4786-AF0C-CB2F7FAA1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0" descr="ром.png"/>
          <p:cNvPicPr/>
          <p:nvPr/>
        </p:nvPicPr>
        <p:blipFill>
          <a:blip r:embed="rId3"/>
          <a:stretch/>
        </p:blipFill>
        <p:spPr>
          <a:xfrm rot="20690400">
            <a:off x="214200" y="4500360"/>
            <a:ext cx="1857600" cy="207612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1" descr=",fбачки.png"/>
          <p:cNvPicPr/>
          <p:nvPr/>
        </p:nvPicPr>
        <p:blipFill>
          <a:blip r:embed="rId4"/>
          <a:stretch/>
        </p:blipFill>
        <p:spPr>
          <a:xfrm rot="18672000">
            <a:off x="7472880" y="366840"/>
            <a:ext cx="1428840" cy="99540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12" descr=",fбачки.png"/>
          <p:cNvPicPr/>
          <p:nvPr/>
        </p:nvPicPr>
        <p:blipFill>
          <a:blip r:embed="rId5"/>
          <a:stretch/>
        </p:blipFill>
        <p:spPr>
          <a:xfrm>
            <a:off x="214200" y="3500280"/>
            <a:ext cx="790560" cy="85752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13" descr=",fбачки.png"/>
          <p:cNvPicPr/>
          <p:nvPr/>
        </p:nvPicPr>
        <p:blipFill>
          <a:blip r:embed="rId6"/>
          <a:stretch/>
        </p:blipFill>
        <p:spPr>
          <a:xfrm>
            <a:off x="1714680" y="5214960"/>
            <a:ext cx="958680" cy="121428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26D66-28D4-4F85-B871-31B607220EB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0" descr="в.png"/>
          <p:cNvPicPr/>
          <p:nvPr/>
        </p:nvPicPr>
        <p:blipFill>
          <a:blip r:embed="rId3"/>
          <a:srcRect l="5938" t="2501" r="4063" b="81254"/>
          <a:stretch/>
        </p:blipFill>
        <p:spPr>
          <a:xfrm>
            <a:off x="285840" y="214200"/>
            <a:ext cx="3214440" cy="12859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1" descr="р.png"/>
          <p:cNvPicPr/>
          <p:nvPr/>
        </p:nvPicPr>
        <p:blipFill>
          <a:blip r:embed="rId4"/>
          <a:stretch/>
        </p:blipFill>
        <p:spPr>
          <a:xfrm rot="2554800">
            <a:off x="250920" y="5270400"/>
            <a:ext cx="1531800" cy="13384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C9B7F-8153-49EC-8A4D-3766458EC3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0" descr="в.png"/>
          <p:cNvPicPr/>
          <p:nvPr/>
        </p:nvPicPr>
        <p:blipFill>
          <a:blip r:embed="rId3"/>
          <a:stretch/>
        </p:blipFill>
        <p:spPr>
          <a:xfrm>
            <a:off x="1714680" y="4786200"/>
            <a:ext cx="5715000" cy="64296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1" descr="hjvk.png"/>
          <p:cNvPicPr/>
          <p:nvPr/>
        </p:nvPicPr>
        <p:blipFill>
          <a:blip r:embed="rId4"/>
          <a:stretch/>
        </p:blipFill>
        <p:spPr>
          <a:xfrm rot="19526400">
            <a:off x="263160" y="541512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2" descr=",fбачки.png"/>
          <p:cNvPicPr/>
          <p:nvPr/>
        </p:nvPicPr>
        <p:blipFill>
          <a:blip r:embed="rId5"/>
          <a:stretch/>
        </p:blipFill>
        <p:spPr>
          <a:xfrm rot="20262000">
            <a:off x="6694200" y="-4320"/>
            <a:ext cx="1357200" cy="128592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C6990-0BC5-480C-9A76-80D5D299F04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0" descr="р.png"/>
          <p:cNvPicPr/>
          <p:nvPr/>
        </p:nvPicPr>
        <p:blipFill>
          <a:blip r:embed="rId3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6693-8D1A-4906-B780-DFB3EDC4CC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3276720" y="4005360"/>
            <a:ext cx="5867280" cy="28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Автор: Магон Мария,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еница 5 класса «А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Учитель: Шашкова В.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п.Шумя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2018 го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2230560" y="1196640"/>
            <a:ext cx="6913440" cy="25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Kursiv95"/>
              </a:rPr>
              <a:t>Проект</a:t>
            </a:r>
            <a:br>
              <a:rPr sz="6300"/>
            </a:br>
            <a:r>
              <a:rPr b="1" lang="ru-RU" sz="4800" spc="-1" strike="noStrike">
                <a:solidFill>
                  <a:srgbClr val="800080"/>
                </a:solidFill>
                <a:latin typeface="Kursiv95"/>
              </a:rPr>
              <a:t>«Что    в имени тебе моём?»</a:t>
            </a:r>
            <a:endParaRPr b="0" lang="en-US" sz="48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1116000" y="333360"/>
            <a:ext cx="583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БОУ  «Шумячская СШ им. В.Ф. Алеш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"/>
          <p:cNvSpPr/>
          <p:nvPr/>
        </p:nvSpPr>
        <p:spPr>
          <a:xfrm>
            <a:off x="0" y="-1549800"/>
            <a:ext cx="9144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я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«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»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имеет древнееврейское происхождение. Существует несколько значений имен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горькая, любимая, упрямая.  Очень ранима, тяжело переживает даже небольшое замечание в свой адрес. В то же время в её характере присутствует твёрдость, достоинство, способность постоять за себя. Действия её иногда носят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импульсивный характер.  Её ценят за трудолюбие,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особность проявить сочувствие.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Мария  излучает вокруг себя тепло, ласку,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нимание.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"/>
          <p:cNvSpPr/>
          <p:nvPr/>
        </p:nvSpPr>
        <p:spPr>
          <a:xfrm>
            <a:off x="684360" y="-1261440"/>
            <a:ext cx="7920000" cy="58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Из словаря Петровског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АРИЯ, -и, ж.; разг. Марья, -и; прост. Марея, -и. Древ.-евр. имя Miriām - Мариам. Предположительно от др.-евр. mārā — противиться, отвергать или от mārar — быть горь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оизводные: Марийка; Мариша; Маря (Мара); Марюня (Маруня); Маруля; Муля; Маруся; Муся; Мася; Масята; Марюта; Марюха (Маруха); Марюша (Маруша); Муша; Маня; Манюня; Манюра; Манюся; Манюта; Манюха; Манюша; Манятка; Мака; Маняша; Маша; Машаня; Машоня; Машука; Машуня; Муня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ашура; Мура; Шура; Машара; Машута; Мута; Машуха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Моря; Марьюшка; Марья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"/>
          <p:cNvSpPr/>
          <p:nvPr/>
        </p:nvSpPr>
        <p:spPr>
          <a:xfrm>
            <a:off x="1332000" y="897120"/>
            <a:ext cx="748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38160" rIns="954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Зодиак Марии – Де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Планета – Прозерп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Цвет имени Мария - сиз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Благоприятное дерево – бер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Заветное растение Марии – васи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Покровитель имени Мария – голу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  <a:ea typeface="Times New Roman"/>
              </a:rPr>
              <a:t>Камень-талисман Марии – алм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1"/>
          <p:cNvSpPr/>
          <p:nvPr/>
        </p:nvSpPr>
        <p:spPr>
          <a:xfrm>
            <a:off x="611280" y="658800"/>
            <a:ext cx="78483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151515"/>
                </a:solidFill>
                <a:latin typeface="Arial"/>
                <a:ea typeface="Times New Roman"/>
              </a:rPr>
              <a:t>День ангела Марии</a:t>
            </a:r>
            <a:r>
              <a:rPr b="0" lang="ru-RU" sz="2000" spc="-1" strike="noStrike">
                <a:solidFill>
                  <a:srgbClr val="151515"/>
                </a:solidFill>
                <a:latin typeface="Arial"/>
                <a:ea typeface="Times New Roman"/>
              </a:rPr>
              <a:t>: Имя трижды в году отмечает имен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-14 (1) апреля – Преподобная Мария Египетская двенадцати лет ушла из дома родительского и семь лет вела греховную жизнь, потом обратилась в Иерусалиме на путь праведный и сорок восемь лет жила уединенно в великих подвигах поста и молитвы в пустыне Иорданской (VI в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-5 июня (23 мая) – Св. Мария Клеопова (то есть жена Клеопы) -дочь Иосифа Обручника; она жила в доме отца вместе с Пресвятой Девой Марией; они любили друг друга ка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ближайшие родственницы, отчего Евангелие называет ее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"сестрой Матери Иисусовой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              </a:t>
            </a:r>
            <a:r>
              <a:rPr b="0" lang="ru-RU" sz="2000" spc="-1" strike="noStrike">
                <a:solidFill>
                  <a:srgbClr val="333333"/>
                </a:solidFill>
                <a:latin typeface="Arial"/>
                <a:ea typeface="Times New Roman"/>
              </a:rPr>
              <a:t>- 21 (8) сентября – Рождество Пресвятой Богород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1"/>
          <p:cNvSpPr/>
          <p:nvPr/>
        </p:nvSpPr>
        <p:spPr>
          <a:xfrm>
            <a:off x="179280" y="-2520"/>
            <a:ext cx="849636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51515"/>
                </a:solidFill>
                <a:latin typeface="Arial"/>
                <a:ea typeface="Times New Roman"/>
              </a:rPr>
              <a:t>Судьба имени Мария в истории</a:t>
            </a:r>
            <a:r>
              <a:rPr b="0" lang="ru-RU" sz="1200" spc="-1" strike="noStrike">
                <a:solidFill>
                  <a:srgbClr val="151515"/>
                </a:solidFill>
                <a:latin typeface="Arial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– одно из популярнейших имен и в России, и во всем мире, в сказках, в литературе, в истор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– Пресвятая Дева в Назарете, мать Иисуса Христа. Дева Мария, Богородица, Богоматерь, Мадонна - земная мать Иисуса Христа. Упоминание о ней в четырех Евангелиях очень кратки, возникли многочисленные дополнения в апокрифах - новые евангельские сказания, официально не признанные церковью. Трагическая история женщины, которая растила сына, наперед зная, что его отнимут у нее и замучат, не могла не тревожить воображение лю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Княгиня Мария Николаевна Волконская (1806–1863) – жена декабриста князя Сергея Григорьевича Волконского, добровольно разделившая с ним ссылку. Дочь известного героя 12-го года, Н.Н. Раевского, она в 18 лет, по воле отца, вышла замуж за генерала Волконского, бывшего гораздо старше ее. Как и жены других декабристов, она узнала о существовании тайного общества только тогда, когда большинство заговорщиков уже было в крепости. В 1863 г. Волконская умерла от нажитой в Сибири болезни сердца. После нее остались записки, замечательный по скромности, искренности и простоте человеческий документ. Ее отец, Н.Н. Раевский, со всей суровостью человека военной дисциплины пытавшийся удержать дочь от поездки в Сибирь, сказал перед смертью, указывая на ее портрет: "Это самая удивительная женщина, которую я знал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Романова (1907 - 1951) - с рождения носила титул Светлейшей княжны Кирилловской; титул Княжны Крови Императорской признан за ней 28 июля 1907 года, с 1925 года — наследная принцесса Лейнингенская, с 1939 года — княгиня Лейнингенская. Старшая дочь Великого Князя Кирилла Владимировича и Великой Княгини Виктории Фёдоровны (урождённой принцессы Саксен-Кобург-Готской и Великобританской). Родилась в январе 1907 года и, в соответствии с указом Николая II, была причислена к Российскому Императорскому Дому. В 1924 году княжна императорской крови Мария Кирилловна получила от своего отца, принявшего титул императора Всероссийского Кирилла I, титул Великой Княжны. В 1930-х годах в Нови-Сад под покровительством королевы Марии действовало Русско-сербское благотворительное общество Великой княжны Марии Кирилловны, оказывавшее помощь нуждающимся русским беженца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ия Медичи (1575 - 1642) - королева Франции, дочь великого герцога Франческо I Тосканского и Иоанны Австрийской. Королева-консорт Франции, супруга Генриха IV, мать Людовика XII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Марлен Дитрих (1901 - 1992) - урождённая - Мария Магдалена Дитрих; немецкая и американская актриса и певица, создавшая один из совершенных кинематографических женских образов. Её «знойная женщина со стальным позвоночником» отличалась как от «загадочной женщины» Греты Гарбо, так и от естественности, воплощенной в женских образах Ингрид Бергман, не походила на интеллектуальную изысканность, которой блистала Клодетт Колбер. Кинематографическая судьба Дитрих во многом определена Джозефом фон Штернберго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                            </a:t>
            </a:r>
            <a:r>
              <a:rPr b="0" lang="ru-RU" sz="1200" spc="-1" strike="noStrike">
                <a:solidFill>
                  <a:srgbClr val="333333"/>
                </a:solidFill>
                <a:latin typeface="Arial"/>
                <a:ea typeface="Times New Roman"/>
              </a:rPr>
              <a:t>И ещё много-много других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Прямоугольник 3"/>
          <p:cNvSpPr/>
          <p:nvPr/>
        </p:nvSpPr>
        <p:spPr>
          <a:xfrm>
            <a:off x="684360" y="0"/>
            <a:ext cx="8208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80"/>
                </a:solidFill>
                <a:latin typeface="Arial"/>
              </a:rPr>
              <a:t>Немного о моей фамил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вольно большая часть фамилий с балтийской основой образов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древне-литовских и древне-латышских имен и прозвищ. Мног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них происходят от слов, означающих природные яв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бесные тела, растения или от названий рек и мест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и имена и прозвища подчеркивают близость балтов к природе, их трепетное отношение к ней. Однако не всегда возможно определить, от чего именно была образована фамилия: от имени или от прозвища. Имеющие один и тот же корень имена и прозвища выполняли различную функцию. Так, давая ребенку имя Saule (Солнце), родители надеялись, что он вырастет счастливым, в его жизни будет много солнечных дней. В свою очередь, прозвище Saule могли дать веселому человеку или тому, кто имел рыжие волосы. Фамилия Магон, скорее всего, образована от аналогичного имени. Оно берет начало от латышского существительного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magone со значением «мак». Наречение ребенка именем, представляющим собой название животного или растения, было очень распространенной традицией. Это соответствовало языческ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ениям человека о мире. Давая младенцу имя 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ением «мак», родители хотели, чтобы приро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ринимала ребенка как своего, чтобы к нему переш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 полезные качества, которыми наделено это растени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огда    же именование главы семейства переходило к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омку в неизменной форм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71280" y="69228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кие бы имена мы ни носили, что б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ни предопределяли нам они, мы всегда   остаёмся хозяевами нашей судьбы. Тольк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от нас зависит,  какой след оставит наш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имя на земл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Monotype Corsiva"/>
              </a:rPr>
              <a:t>       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«</a:t>
            </a: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Не имя красит человека,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2844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                             </a:t>
            </a:r>
            <a:r>
              <a:rPr b="1" lang="ru-RU" sz="4800" spc="-1" strike="noStrike">
                <a:solidFill>
                  <a:srgbClr val="800080"/>
                </a:solidFill>
                <a:latin typeface="Monotype Corsiva"/>
              </a:rPr>
              <a:t>а человек имя.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»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"/>
          <p:cNvSpPr/>
          <p:nvPr/>
        </p:nvSpPr>
        <p:spPr>
          <a:xfrm>
            <a:off x="0" y="267840"/>
            <a:ext cx="9144000" cy="47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емая литерату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овский Н.А. Словарь русских личных имён. – М.: Русские словари, 2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Петровский Н.А. Словарь русских личных имён. – Электронная версия, «ГРАМОТА.РУ», 200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перанская А.В. Словарь русских личных имён. – М.: АСТ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Суслова А.В., Суперанская А.В. О русских именах. – Л.: Лениздат,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Успенский Л.В. Слово о словах. Ты и твое имя. – Л., 197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596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Kursiv95"/>
              </a:rPr>
              <a:t>Паспорт проектной работы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1.Тема проекта : «Что в имени тебе моём?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2.Автор проекта: Магон Мари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3.Возраст учащегося: 5 клас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4.Руководитель проекта: Шашкова В.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5.Учебный предмет, в рамках которого проводится работу по проекту: русский язы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6.Тип проекта: поисково-творческий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7.Цель проекта: самостоятельное приобретение новых знаний о своём имени и фамили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8.Задачи проекта:  1) развитие интереса к значению своего имени и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   фамили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2)развитие навыков творческой деятельности при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    оформлении продукта проек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3) развитие навыков монологической речи    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     коммуникативности при защите проект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9.Форма работы: внеурочная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Kursiv95"/>
              </a:rPr>
              <a:t>                                                10.Оборудование: сайты Интернета,  СМИ, книги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Kursiv95"/>
              </a:rPr>
              <a:t>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Kursiv9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900000" y="802440"/>
            <a:ext cx="7488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 работы над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Выяснить, почему меня назвали таким имен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Узнать о происхождении и значении своего имени и фами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Узнать, кто из известных людей носил или носит имя М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Узнать о талисманах и покровителях моего им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2"/>
          <p:cNvSpPr/>
          <p:nvPr/>
        </p:nvSpPr>
        <p:spPr>
          <a:xfrm>
            <a:off x="0" y="8380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Прямоугольник 7"/>
          <p:cNvSpPr/>
          <p:nvPr/>
        </p:nvSpPr>
        <p:spPr>
          <a:xfrm>
            <a:off x="611280" y="1028880"/>
            <a:ext cx="8208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нот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ктуальность проекта, значимость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годня мы очень активно интересуемся нашим прошлым, историей. Имена людей - это часть истории народа. В них отражается быт, верования, фантазии, творчество народа, исторические связи. Роль имени в жизни человека огромна. Оно служит для обозначения отдельного человека, даётся ему в индивидуальном порядке для того, чтобы иметь возможность к нему обращаться, а также говорить о нём с другими. Человеку необходимо знать, как появилось его имя, что оно обозначает, чтобы носить его с гордостью. Очень интересно знать, что означают имена одноклассников и их фамилии, почему их так назвали. Каждый человек имеет право на выбор имени и фамил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339640" y="5367240"/>
            <a:ext cx="626436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то я – Магон Мар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3" name="Picture 6" descr="E:\100DSCIM\PICT2054.JPG"/>
          <p:cNvPicPr/>
          <p:nvPr/>
        </p:nvPicPr>
        <p:blipFill>
          <a:blip r:embed="rId1"/>
          <a:stretch/>
        </p:blipFill>
        <p:spPr>
          <a:xfrm>
            <a:off x="2268360" y="189000"/>
            <a:ext cx="45356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pic>
        <p:nvPicPr>
          <p:cNvPr id="425" name="Picture 4" descr="PE02285_"/>
          <p:cNvPicPr/>
          <p:nvPr/>
        </p:nvPicPr>
        <p:blipFill>
          <a:blip r:embed="rId1"/>
          <a:stretch/>
        </p:blipFill>
        <p:spPr>
          <a:xfrm>
            <a:off x="5853240" y="2781360"/>
            <a:ext cx="2813040" cy="407664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5"/>
          <p:cNvSpPr/>
          <p:nvPr/>
        </p:nvSpPr>
        <p:spPr>
          <a:xfrm>
            <a:off x="2256480" y="-3291840"/>
            <a:ext cx="4630680" cy="70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Предназначено богом или судьбой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этой жизни мне быть госпожой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честь девицы святой наречённая я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Моё имя Мария - я высь и зем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моём имени рядом и солнце, и тьма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И манящее лето, и злая зима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И горящие искры, и серебряный снег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Мое имя мгновенье и длительный ве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В день июльский и жаркий рожденная я,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Три святых в этой жизни спасают меня.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Я младенцем крещенная в церкви святой</a:t>
            </a:r>
            <a:br>
              <a:rPr sz="1800"/>
            </a:br>
            <a:r>
              <a:rPr b="0" lang="ru-RU" sz="1800" spc="-1" strike="noStrike">
                <a:solidFill>
                  <a:srgbClr val="400000"/>
                </a:solidFill>
                <a:latin typeface="Arial"/>
                <a:ea typeface="Times New Roman"/>
              </a:rPr>
              <a:t>Моё имя Мария - я власть и по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3"/>
          <p:cNvSpPr/>
          <p:nvPr/>
        </p:nvSpPr>
        <p:spPr>
          <a:xfrm>
            <a:off x="1116000" y="176220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Меня назвали Марией в честь моей прабабушки – Исачкиной Марии Фроловны, инвалида Великой Отечественной  войны, прекрасного врача и просто  хороше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7212240" cy="44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ccff"/>
                </a:solidFill>
                <a:latin typeface="Calibri"/>
              </a:rPr>
              <a:t>     </a:t>
            </a:r>
            <a:r>
              <a:rPr b="1" i="1" lang="ru-RU" sz="3200" spc="-1" strike="noStrike">
                <a:solidFill>
                  <a:srgbClr val="4f81bd"/>
                </a:solidFill>
                <a:latin typeface="Times New Roman"/>
              </a:rPr>
              <a:t>По словарю В.И. Даля:</a:t>
            </a:r>
            <a:r>
              <a:rPr b="1" i="1" lang="ru-RU" sz="2400" spc="-1" strike="noStrike">
                <a:solidFill>
                  <a:srgbClr val="4f81bd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Calibri"/>
              </a:rPr>
              <a:t>«</a:t>
            </a:r>
            <a:r>
              <a:rPr b="1" lang="ru-RU" sz="3600" spc="-1" strike="noStrike">
                <a:solidFill>
                  <a:srgbClr val="800080"/>
                </a:solidFill>
                <a:latin typeface="Times New Roman"/>
              </a:rPr>
              <a:t>Имя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о слово, которым зовут,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значают особь, личность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0" name="Picture 3" descr="bigbook1_e0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3573360"/>
            <a:ext cx="2736720" cy="273708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2050920" y="-171360"/>
            <a:ext cx="7093080" cy="70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Этапы развит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имён на Руси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дохристиан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80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800080"/>
                </a:solidFill>
                <a:latin typeface="Times New Roman"/>
              </a:rPr>
              <a:t>(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Чернавка, Мал, Молчан, Лобан – имена-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прозвищ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ериод после принятия Христиа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(Анастасия, Александр, Никита,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 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Дмитрий, Кирилл и др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новый этап, начавшийся пос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Октябрь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еволюци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    </a:t>
            </a:r>
            <a:r>
              <a:rPr b="1" i="1" lang="ru-RU" sz="2800" spc="-1" strike="noStrike">
                <a:solidFill>
                  <a:srgbClr val="800080"/>
                </a:solidFill>
                <a:latin typeface="Times New Roman"/>
              </a:rPr>
              <a:t>(Жанна, Инесса, Эдуард, Тимур и др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5" descr="bd00146_"/>
          <p:cNvPicPr/>
          <p:nvPr/>
        </p:nvPicPr>
        <p:blipFill>
          <a:blip r:embed="rId1"/>
          <a:stretch/>
        </p:blipFill>
        <p:spPr>
          <a:xfrm>
            <a:off x="0" y="0"/>
            <a:ext cx="2124000" cy="2104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20:00:50Z</dcterms:created>
  <dc:creator>Customer</dc:creator>
  <dc:description/>
  <dc:language>en-US</dc:language>
  <cp:lastModifiedBy>Valentina</cp:lastModifiedBy>
  <dcterms:modified xsi:type="dcterms:W3CDTF">2018-07-21T10:17:25Z</dcterms:modified>
  <cp:revision>43</cp:revision>
  <dc:subject/>
  <dc:title>«Наши имена»</dc:title>
</cp:coreProperties>
</file>