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868-DF03-4A20-9234-80F09FA1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8B7-23C3-4EB2-B7EE-059013D4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D84-321E-47F2-9A12-C06F15A7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E7F-D63A-4035-BFB5-EE03E9C6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E62E-6C16-4A01-A86F-01A3F43E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CB32-BF1F-452E-9EDA-567890D7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136C-A5F2-4E1C-85FB-1CEC875C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0075-8445-4570-B223-19B8733B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0297-C59A-4CD5-952A-85613493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E3C3-1B14-435D-BE04-1E26DE19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AE22-78AE-4F76-98BC-A25275C8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D38-E36A-49C5-9C72-7A208A5E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5D3C-5AE3-44AA-80FB-637ED4A9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B4F7-8100-4E25-82CC-5B0531A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A3DA-2286-4253-B7E1-D9FB9B06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FB18-22F0-40C2-86B7-E68CF8B1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0812-1543-4122-96F7-838258D0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7F9-FBDA-4BA2-80F5-7F322D9A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2CB-7AE9-46B0-AA8B-B9EEBB93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F9B-AB5B-4ABC-BF77-9D93A6FF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4DF-30E7-467F-9E65-7663F204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C3E-FD69-4869-8D42-4CC12D1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B5C-1C7F-4E87-AF77-24CC7D58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01E-C4CC-4A79-911A-721F1A2D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518E-014C-4414-9576-242DD0622C6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514F-B8D0-4736-A9A1-909D53A931B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МБОУ «Партизанская СОШ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Проек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«Воспитание бережного отношения к здоровью в нашем классе»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или: учащиеся 4 Б класс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27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     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ы на свежем воздух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P1010729"/>
          <p:cNvPicPr/>
          <p:nvPr/>
        </p:nvPicPr>
        <p:blipFill>
          <a:blip r:embed="rId1"/>
          <a:stretch/>
        </p:blipFill>
        <p:spPr>
          <a:xfrm>
            <a:off x="1042920" y="1628640"/>
            <a:ext cx="726120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еседы, лекции, выступления учащихс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P1020070"/>
          <p:cNvPicPr/>
          <p:nvPr/>
        </p:nvPicPr>
        <p:blipFill>
          <a:blip r:embed="rId1"/>
          <a:stretch/>
        </p:blipFill>
        <p:spPr>
          <a:xfrm>
            <a:off x="857160" y="1428840"/>
            <a:ext cx="734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ользуйтесь нашими совет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будьте здоровы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42960" y="571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 информирование одноклассников о возможных способах  сохранения здоровья.</a:t>
            </a:r>
            <a:br>
              <a:rPr sz="2800"/>
            </a:b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Задачи: 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Акцентировать внимание  на сохранение и укрепление здоровья школьников, осознание ценности здоровь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Мотивировать на здоровый образ жизн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Знакомство с приёмами укрепления и сохранения здоровь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Занятия в спортивных секциях и на уроках физкультур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P1010732"/>
          <p:cNvPicPr/>
          <p:nvPr/>
        </p:nvPicPr>
        <p:blipFill>
          <a:blip r:embed="rId1"/>
          <a:stretch/>
        </p:blipFill>
        <p:spPr>
          <a:xfrm>
            <a:off x="971640" y="1773360"/>
            <a:ext cx="66247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99308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огулки в лес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26560" y="404640"/>
            <a:ext cx="76647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Ежедневные прогулки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P1010639"/>
          <p:cNvPicPr/>
          <p:nvPr/>
        </p:nvPicPr>
        <p:blipFill>
          <a:blip r:embed="rId1"/>
          <a:stretch/>
        </p:blipFill>
        <p:spPr>
          <a:xfrm>
            <a:off x="1116000" y="1447920"/>
            <a:ext cx="6985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воевременное пит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4" descr="P1010702"/>
          <p:cNvPicPr/>
          <p:nvPr/>
        </p:nvPicPr>
        <p:blipFill>
          <a:blip r:embed="rId1"/>
          <a:stretch/>
        </p:blipFill>
        <p:spPr>
          <a:xfrm>
            <a:off x="684360" y="1268280"/>
            <a:ext cx="77040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роведение мероприятий на тему «ЗДОРОВЬЕ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4" descr="P1020074"/>
          <p:cNvPicPr/>
          <p:nvPr/>
        </p:nvPicPr>
        <p:blipFill>
          <a:blip r:embed="rId1"/>
          <a:stretch/>
        </p:blipFill>
        <p:spPr>
          <a:xfrm>
            <a:off x="1042920" y="1413000"/>
            <a:ext cx="74167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одержание в чистоте кабине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P1010769"/>
          <p:cNvPicPr/>
          <p:nvPr/>
        </p:nvPicPr>
        <p:blipFill>
          <a:blip r:embed="rId1"/>
          <a:stretch/>
        </p:blipFill>
        <p:spPr>
          <a:xfrm>
            <a:off x="900000" y="1557360"/>
            <a:ext cx="712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облюдение личной гигиен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Содержимое 3" descr="147254455-612x612.jpg"/>
          <p:cNvPicPr/>
          <p:nvPr/>
        </p:nvPicPr>
        <p:blipFill>
          <a:blip r:embed="rId1"/>
          <a:stretch/>
        </p:blipFill>
        <p:spPr>
          <a:xfrm>
            <a:off x="1071720" y="1571760"/>
            <a:ext cx="67672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Чередование работы и отдых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4" descr="Image10"/>
          <p:cNvPicPr/>
          <p:nvPr/>
        </p:nvPicPr>
        <p:blipFill>
          <a:blip r:embed="rId1"/>
          <a:stretch/>
        </p:blipFill>
        <p:spPr>
          <a:xfrm>
            <a:off x="826920" y="1557360"/>
            <a:ext cx="75549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45:09Z</dcterms:created>
  <dc:creator>АНТОН</dc:creator>
  <dc:description/>
  <dc:language>en-US</dc:language>
  <cp:lastModifiedBy>Windows User</cp:lastModifiedBy>
  <dcterms:modified xsi:type="dcterms:W3CDTF">2018-07-21T05:03:35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