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BBF1-A4D8-4327-99C6-C0E289AE1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140C-B963-47E2-9810-BF87241E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D8E7-6933-4D8E-A18B-6E1355E2F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AA10-1755-4A9D-AECD-67A99FA3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9C48-7D4A-4285-88CB-83817DFE6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AD7A-4188-49D5-88D3-4801D690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6863-BABA-4FAB-B875-E8D10FA8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988D-B691-4EBD-B4A7-2E79E421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A416-E2E7-4A04-9BDA-E8249F33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88CC-20BD-4994-A655-30B3E70F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8B4D-5E43-45C6-9064-4942294C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78E2-5DC1-4DC7-A858-8342F9F5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BFA0-1072-4088-8430-4AD9F45C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2412-B859-49DC-A842-25114E8F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67C8-E4B8-4F08-8EBE-217F35D3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6FE6-3CF0-4C49-AE5D-55BE0DA2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FD66-EAC1-4D5F-836D-8BBDF4D82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B59F-A6F0-40F4-9388-C4E7234A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30C6-FFF1-4896-BB20-E031296A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6CA5-E873-4D18-9F4A-CF5334DC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21DB-BB55-4DE1-9FCC-4337776F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3678-3B74-4376-9086-296468EE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F960-B700-40BB-AA4A-074E177E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AE2D-D252-46A5-9068-36D8E0B4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6E09-7F1E-40F8-8714-61F7111EC472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920" y="58680"/>
              <a:ext cx="3623040" cy="6133680"/>
              <a:chOff x="5407920" y="58680"/>
              <a:chExt cx="3623040" cy="613368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416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660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800" y="258912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400" y="67068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48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844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56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9120" y="293040"/>
              <a:ext cx="893160" cy="824760"/>
              <a:chOff x="5649120" y="293040"/>
              <a:chExt cx="893160" cy="824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0720" y="78696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9600" y="46728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2840" y="3927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8880"/>
              <a:ext cx="1059120" cy="829800"/>
              <a:chOff x="968760" y="525888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348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400" y="573408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34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1720"/>
              <a:ext cx="1690200" cy="1146600"/>
              <a:chOff x="375840" y="44172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020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908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7200" y="3712320"/>
              <a:ext cx="1155600" cy="1607760"/>
              <a:chOff x="738720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192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264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520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F716-A56B-4ABE-8920-772289992D80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МБОУ «Партизанская СОШ»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Verdana"/>
              </a:rPr>
              <a:t>            </a:t>
            </a:r>
            <a:r>
              <a:rPr b="0" lang="ru-RU" sz="4800" spc="-1" strike="noStrike">
                <a:solidFill>
                  <a:srgbClr val="006699"/>
                </a:solidFill>
                <a:latin typeface="Verdana"/>
              </a:rPr>
              <a:t>Проект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2707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«Воспитание бережного отношения к здоровью в нашем классе»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ыполнили: учащиеся 4 Б класс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707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2707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Verdana"/>
              </a:rPr>
              <a:t>       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2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гры на свежем воздух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Picture 4" descr="P1010729"/>
          <p:cNvPicPr/>
          <p:nvPr/>
        </p:nvPicPr>
        <p:blipFill>
          <a:blip r:embed="rId1"/>
          <a:stretch/>
        </p:blipFill>
        <p:spPr>
          <a:xfrm>
            <a:off x="1042920" y="1628640"/>
            <a:ext cx="7261200" cy="47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Беседы, лекции, выступления учащихс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6" name="Picture 5" descr="P1020070"/>
          <p:cNvPicPr/>
          <p:nvPr/>
        </p:nvPicPr>
        <p:blipFill>
          <a:blip r:embed="rId1"/>
          <a:stretch/>
        </p:blipFill>
        <p:spPr>
          <a:xfrm>
            <a:off x="857160" y="1428840"/>
            <a:ext cx="7345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оспользуйтесь нашими советам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 будьте здоровы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42960" y="5716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Цель: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 информирование одноклассников о возможных способах  сохранения здоровья.</a:t>
            </a:r>
            <a:br>
              <a:rPr sz="2800"/>
            </a:b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Задачи: </a:t>
            </a:r>
            <a:br>
              <a:rPr sz="28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1. Акцентировать внимание  на сохранение и укрепление здоровья школьников, осознание ценности здоровья;</a:t>
            </a:r>
            <a:br>
              <a:rPr sz="28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2. Мотивировать на здоровый образ жизн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3. Знакомство с приёмами укрепления и сохранения здоровь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Занятия в спортивных секциях и на уроках физкультуры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Picture 4" descr="P1010732"/>
          <p:cNvPicPr/>
          <p:nvPr/>
        </p:nvPicPr>
        <p:blipFill>
          <a:blip r:embed="rId1"/>
          <a:stretch/>
        </p:blipFill>
        <p:spPr>
          <a:xfrm>
            <a:off x="971640" y="1773360"/>
            <a:ext cx="662472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993080" cy="358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Прогулки в лес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26560" y="404640"/>
            <a:ext cx="766476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Ежедневные прогулки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4" descr="P1010639"/>
          <p:cNvPicPr/>
          <p:nvPr/>
        </p:nvPicPr>
        <p:blipFill>
          <a:blip r:embed="rId1"/>
          <a:stretch/>
        </p:blipFill>
        <p:spPr>
          <a:xfrm>
            <a:off x="1116000" y="1447920"/>
            <a:ext cx="698508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воевременное пит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Picture 4" descr="P1010702"/>
          <p:cNvPicPr/>
          <p:nvPr/>
        </p:nvPicPr>
        <p:blipFill>
          <a:blip r:embed="rId1"/>
          <a:stretch/>
        </p:blipFill>
        <p:spPr>
          <a:xfrm>
            <a:off x="684360" y="1268280"/>
            <a:ext cx="770400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44000" cy="102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Проведение мероприятий на тему «ЗДОРОВЬЕ»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Picture 4" descr="P1020074"/>
          <p:cNvPicPr/>
          <p:nvPr/>
        </p:nvPicPr>
        <p:blipFill>
          <a:blip r:embed="rId1"/>
          <a:stretch/>
        </p:blipFill>
        <p:spPr>
          <a:xfrm>
            <a:off x="1042920" y="1413000"/>
            <a:ext cx="741672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одержание в чистоте кабине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Picture 4" descr="P1010769"/>
          <p:cNvPicPr/>
          <p:nvPr/>
        </p:nvPicPr>
        <p:blipFill>
          <a:blip r:embed="rId1"/>
          <a:stretch/>
        </p:blipFill>
        <p:spPr>
          <a:xfrm>
            <a:off x="900000" y="1557360"/>
            <a:ext cx="7128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Соблюдение личной гигиен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7" name="Содержимое 3" descr="147254455-612x612.jpg"/>
          <p:cNvPicPr/>
          <p:nvPr/>
        </p:nvPicPr>
        <p:blipFill>
          <a:blip r:embed="rId1"/>
          <a:stretch/>
        </p:blipFill>
        <p:spPr>
          <a:xfrm>
            <a:off x="1071720" y="1571760"/>
            <a:ext cx="67672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Чередование работы и отдых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0" name="Picture 4" descr="Image10"/>
          <p:cNvPicPr/>
          <p:nvPr/>
        </p:nvPicPr>
        <p:blipFill>
          <a:blip r:embed="rId1"/>
          <a:stretch/>
        </p:blipFill>
        <p:spPr>
          <a:xfrm>
            <a:off x="826920" y="1557360"/>
            <a:ext cx="755496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6:45:09Z</dcterms:created>
  <dc:creator>АНТОН</dc:creator>
  <dc:description/>
  <dc:language>en-US</dc:language>
  <cp:lastModifiedBy>Windows User</cp:lastModifiedBy>
  <dcterms:modified xsi:type="dcterms:W3CDTF">2018-07-21T05:03:35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