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EDBD-0295-4306-AA97-86E8ECD4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7BD9-280E-4CF5-BC28-36C08D41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6B31-8F80-4FE9-886D-150DF8A1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8DE2-8D63-42B0-837E-78CC4F6F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6703-EE1B-43EF-8870-37FD2CAA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B654-77ED-4C1D-A2C5-67CC460E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CC69-237B-43CA-A37C-22C2C9D2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EDF6-AAF3-454B-A5FD-9F5A78C3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8260-3033-4C37-93DC-CE0524D5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7466-1286-413F-9CD4-20587C6C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E6C9-071F-4A87-B73A-39DED125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82D9-41BE-4A10-BC9D-6FC92A86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C6EB-83B5-4D66-B3FD-DC819504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7F29-A68A-42DA-AD47-D96A5B5C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0522-70CD-4D46-901A-A73B74F6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81E5-1183-4DBE-AC21-8B2D77E7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01FF-4CAA-4410-9955-0C7264FB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FED92-4E5C-4B6C-BB6E-CFBD1C9F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9B94D-D24D-412A-967D-3759C433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3FE31-487C-4B8F-A618-B6042598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8B662-2473-416E-AEB8-01A52D2F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4E244-7892-4EC5-AA65-DC239938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F05-4611-4F97-8662-4A299E55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CAA74-34DE-4787-A78C-F6A73456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8DA0C-A695-404D-84AE-26AF7033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5E499-7633-4BAF-A674-29724E6C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34BE2-4685-4574-8316-6237EBAB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F46FA-02D1-4C12-8ECA-83C5E880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17542-D1FF-441B-AC22-9735D883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C658D-B635-4783-BE95-A793D097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807FB-BF09-4A29-AC69-9732EC9D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2DC88-F276-4A41-9940-08404CEB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3AC7D-35E3-4FC9-BC22-55C728F5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1F7F-AE0D-40EE-A7FA-718D12CC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9C4DF-E7AC-488C-BDB4-6908FAFE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B390F-B28D-42E0-B088-D07407AB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E158C-4A21-4401-89C5-DF368F1F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FF250-ED28-45F7-AF63-AA15A570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6968C-144F-4080-AAE6-A156DC85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F7D2A-5906-4934-80E5-E816F71B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B1B69-9596-406A-A173-2E623D0F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FEE03-7BD6-420A-9449-92239C5B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A96BF-72E0-4026-855C-36466AFC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5311E-8B47-41CD-B1F9-89C26CAE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7751-1DCB-4BEB-B641-1AC4BA15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2BD57-CC2F-47FD-B6EE-7891ECCF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A3D81-E0BC-4DFF-8E93-408B1C34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BA7A4-94BA-4ED2-9619-3AB3151C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798D2-B86A-4E4F-B733-C61593B8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C6690-5714-45B8-8B4C-811CDBCB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B83E0-E32E-49A7-A92A-25AA4864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A4EA6-6A59-49A7-A216-7BDAF070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25FD1-4BBD-4B0F-9095-5FED6281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498A5-4EF4-4DD3-A295-8D373ABB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80FED-ADEF-4A87-A1EC-6202A530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645C-3A10-4413-B532-98580EDD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DF46B-E41A-4CA1-9860-DDF2B27D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C917-00BA-4911-B30F-814C546F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A9EC-B106-4E23-844C-FAD24402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5A1-0BC5-4DDB-8953-87759CF6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F1D4-73C1-4C91-B373-882E47EC8B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84E5-8AD5-4F30-9668-2A3D3F6CEE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A3A8-FF3C-4D87-879A-44E8EC14FA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C6F5-B04D-4FDA-BCC9-EFD90A4AD8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CAD0-55F5-47A1-91B6-BE492AA1EE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42760" y="476280"/>
            <a:ext cx="600084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 образования администрации Владимирской области Государственное бюджетное профессионально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учреждение Владимирской област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Муромский педагогический колледж»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КР по МДК 01.02 Теоретические о методические основы физического воспитания и развития детей раннего и дошкольного возраста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 Здоровьесберегающие Технологии В ДОУ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859280" y="5013360"/>
            <a:ext cx="385776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студентка : Прибоченкова Ири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: ЗД-22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нятия из серии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 Азбука здоровь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2" descr="C:\Users\Роман\Desktop\0007-016-Den-zdorovja.jpg"/>
          <p:cNvPicPr/>
          <p:nvPr/>
        </p:nvPicPr>
        <p:blipFill>
          <a:blip r:embed="rId1"/>
          <a:stretch/>
        </p:blipFill>
        <p:spPr>
          <a:xfrm>
            <a:off x="5003640" y="3645000"/>
            <a:ext cx="3276720" cy="2703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Users\Роман\Desktop\f09164ce1981db519afc3ab18976d1ee.jpg.jpg"/>
          <p:cNvPicPr/>
          <p:nvPr/>
        </p:nvPicPr>
        <p:blipFill>
          <a:blip r:embed="rId2"/>
          <a:stretch/>
        </p:blipFill>
        <p:spPr>
          <a:xfrm>
            <a:off x="755640" y="1916280"/>
            <a:ext cx="3933720" cy="2592360"/>
          </a:xfrm>
          <a:prstGeom prst="rect">
            <a:avLst/>
          </a:prstGeom>
          <a:ln w="0">
            <a:noFill/>
          </a:ln>
        </p:spPr>
      </p:pic>
      <p:sp>
        <p:nvSpPr>
          <p:cNvPr id="241" name="TextBox 4"/>
          <p:cNvSpPr/>
          <p:nvPr/>
        </p:nvSpPr>
        <p:spPr>
          <a:xfrm>
            <a:off x="5219640" y="2060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одятся валеологические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масс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C:\Users\Роман\Desktop\rekk1.jpg"/>
          <p:cNvPicPr/>
          <p:nvPr/>
        </p:nvPicPr>
        <p:blipFill>
          <a:blip r:embed="rId1"/>
          <a:stretch/>
        </p:blipFill>
        <p:spPr>
          <a:xfrm>
            <a:off x="826920" y="2205000"/>
            <a:ext cx="3278520" cy="2232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Users\Роман\Desktop\ca01-1401979333-17.jpg"/>
          <p:cNvPicPr/>
          <p:nvPr/>
        </p:nvPicPr>
        <p:blipFill>
          <a:blip r:embed="rId2"/>
          <a:stretch/>
        </p:blipFill>
        <p:spPr>
          <a:xfrm>
            <a:off x="4427640" y="4076640"/>
            <a:ext cx="3384360" cy="2232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5003640" y="1341360"/>
            <a:ext cx="331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ствует психо-эмоциональной устойчивости к физическому здоровью, тонизирует весь организм. Самомассаж проводиться в игровой форме ежедневно, в виде пятиминутного занятия или в виде динамической паузы на занят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ивный отд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C:\Users\Роман\Desktop\DSCF2082.JPG"/>
          <p:cNvPicPr/>
          <p:nvPr/>
        </p:nvPicPr>
        <p:blipFill>
          <a:blip r:embed="rId1"/>
          <a:stretch/>
        </p:blipFill>
        <p:spPr>
          <a:xfrm>
            <a:off x="2195640" y="4724280"/>
            <a:ext cx="2038320" cy="14097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C:\Users\Роман\Desktop\8ecd1ed35bcb95f86fc809ed5a88802b.jpg"/>
          <p:cNvPicPr/>
          <p:nvPr/>
        </p:nvPicPr>
        <p:blipFill>
          <a:blip r:embed="rId2"/>
          <a:stretch/>
        </p:blipFill>
        <p:spPr>
          <a:xfrm>
            <a:off x="755640" y="1773360"/>
            <a:ext cx="3816360" cy="2663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C:\Users\Роман\Desktop\1344948185_DSCN1492.JPG"/>
          <p:cNvPicPr/>
          <p:nvPr/>
        </p:nvPicPr>
        <p:blipFill>
          <a:blip r:embed="rId3"/>
          <a:stretch/>
        </p:blipFill>
        <p:spPr>
          <a:xfrm>
            <a:off x="4716360" y="285264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250" name="TextBox 5"/>
          <p:cNvSpPr/>
          <p:nvPr/>
        </p:nvSpPr>
        <p:spPr>
          <a:xfrm>
            <a:off x="971640" y="1341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культурные праздники, досуги, развлечения, дни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1187280" y="1484280"/>
            <a:ext cx="59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Забота о здоровье детей – это             важнейший  труд воспитателя.            От жизнерадостности, бодрости детей зависит их духовная жизнь, мировоззрение, умственное развитие, прочность знаний и самое главное вера в свои силы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А. Сухом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0726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остояние полного физического,психического и социального благополучия, а не просто отсутствие болезней или физических дефектов.</a:t>
            </a:r>
            <a:br>
              <a:rPr sz="24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(Всемирная организация здравоохранени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3" descr="C:\Users\Роман\Desktop\zhit_zdorovo_za_9_sentjabrja_2015.jpg"/>
          <p:cNvPicPr/>
          <p:nvPr/>
        </p:nvPicPr>
        <p:blipFill>
          <a:blip r:embed="rId1"/>
          <a:stretch/>
        </p:blipFill>
        <p:spPr>
          <a:xfrm>
            <a:off x="755640" y="2060640"/>
            <a:ext cx="3095640" cy="2442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C:\Users\Роман\Desktop\721476_html_m53607eb0.jpg"/>
          <p:cNvPicPr/>
          <p:nvPr/>
        </p:nvPicPr>
        <p:blipFill>
          <a:blip r:embed="rId2"/>
          <a:stretch/>
        </p:blipFill>
        <p:spPr>
          <a:xfrm>
            <a:off x="2771640" y="4724280"/>
            <a:ext cx="4821480" cy="1581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Users\Роман\Desktop\Здоровье-Маша4.jpg"/>
          <p:cNvPicPr/>
          <p:nvPr/>
        </p:nvPicPr>
        <p:blipFill>
          <a:blip r:embed="rId3"/>
          <a:stretch/>
        </p:blipFill>
        <p:spPr>
          <a:xfrm>
            <a:off x="5219640" y="2492280"/>
            <a:ext cx="24480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2"/>
          <p:cNvSpPr/>
          <p:nvPr/>
        </p:nvSpPr>
        <p:spPr>
          <a:xfrm>
            <a:off x="642960" y="64296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ие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трелка вниз 4"/>
          <p:cNvSpPr/>
          <p:nvPr/>
        </p:nvSpPr>
        <p:spPr>
          <a:xfrm>
            <a:off x="4071960" y="1357200"/>
            <a:ext cx="71424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1357200" y="1989000"/>
            <a:ext cx="67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стная система воспитательно-оздоровительных, коррекционных и профилактических мер которые осуществляются в процессе 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низ 7"/>
          <p:cNvSpPr/>
          <p:nvPr/>
        </p:nvSpPr>
        <p:spPr>
          <a:xfrm rot="2326800">
            <a:off x="1856880" y="2928960"/>
            <a:ext cx="42876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трелка вниз 8"/>
          <p:cNvSpPr/>
          <p:nvPr/>
        </p:nvSpPr>
        <p:spPr>
          <a:xfrm>
            <a:off x="4214880" y="3000240"/>
            <a:ext cx="428400" cy="7146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трелка вниз 9"/>
          <p:cNvSpPr/>
          <p:nvPr/>
        </p:nvSpPr>
        <p:spPr>
          <a:xfrm rot="20001000">
            <a:off x="6357600" y="2928600"/>
            <a:ext cx="42876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0"/>
          <p:cNvSpPr/>
          <p:nvPr/>
        </p:nvSpPr>
        <p:spPr>
          <a:xfrm>
            <a:off x="928800" y="36432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ка и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3571920" y="378612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ка и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6143760" y="37148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ка и до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здоровьесберегающих технологий в ДО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1692360" y="1989000"/>
            <a:ext cx="695160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тельно к ребенку – обеспечение высокого уровня реального здоровья воспитаннику детского сада и воспитание валеологической культуры как совокупности осознанного отношения ребенка к здоровью и жизни человека, знаний о здоровье и умений оберегать, поддерживать и охранять его, валеологической компетентности, позволяющей дошкольнику самостоятельно и эффективно решать задачи здорового образа жизни и безопасного поведения, задачи, связанные с оказанием элементарной медицинской, психологической самопомощи и помо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тельно к взрослым – содействие становлению культуры здоровья, в том числе культуры профессионального здоровья воспитателей ДОУ и валеологическому просвещению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стема здоровьесбережения в ДО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1763640" y="1341360"/>
            <a:ext cx="6840720" cy="48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азличные оздоровительные режимы (адаптационный, на время каникул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омплекс закаливающих мероприятий (воздушное закаливание, хождение по “дорожкам здоровья”, профилактика плоскостопия; максимальное пребывание детей на свежем воздухе, бодрящая гимнастик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епосредственная образовательная деятельность по физической культуре всех тип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птимизация двигательного режима: традиционная двигательная деятельность детей (утренняя гимнастика, физкультурные занятия, проведение подвижных игр, прогулки)  и инновационные технологии оздоровления и профилактики (ритмопластика, логоритмика, тактильные дорожк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рганизация рационального 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едико-профилактическая работа с детьми и родител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облюдение требований СанПиНа к организации педагогического проце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омплекс мероприятий по сохранению физического и психологического здоровья педаг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я работы по  здоровьесбережению в ДОУ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692360" y="1484280"/>
            <a:ext cx="676728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задач физкультурно-оздоровительной работы в различные виды совмест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инновационных здоровьесберегающих технологий в воспитательно-образовательный процесс ДО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ие форм физкультурно - досуговой деятельности с дошколь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ривычки к здоровому образу жизни у дошкольников, педагогов и 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физических качеств и обеспечение нормального уровня физической подготовленности в соответствии с возможностями и состоянием здоровья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интересов, склонностей и способностей детей в двигательной деятельности и реализация их через систему спортивно-оздоровительн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физического и психического благополучия каждого ребёнка в ДО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я обучения здоровому образу жизн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2195640" y="2060640"/>
            <a:ext cx="626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енняя гимнас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урные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из серии « Азбука здоров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масс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й отд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тренняя гимна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C:\Users\Роман\Desktop\2417da7481a80944c6d11292c83db6d4.jpg.jpg"/>
          <p:cNvPicPr/>
          <p:nvPr/>
        </p:nvPicPr>
        <p:blipFill>
          <a:blip r:embed="rId1"/>
          <a:stretch/>
        </p:blipFill>
        <p:spPr>
          <a:xfrm>
            <a:off x="4572000" y="3645000"/>
            <a:ext cx="3911760" cy="2705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Users\Роман\Desktop\c99add0311ef3d1f71e0f28d300ba535.jpg.jpg"/>
          <p:cNvPicPr/>
          <p:nvPr/>
        </p:nvPicPr>
        <p:blipFill>
          <a:blip r:embed="rId2"/>
          <a:stretch/>
        </p:blipFill>
        <p:spPr>
          <a:xfrm>
            <a:off x="611280" y="2060640"/>
            <a:ext cx="3890880" cy="259236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4716360" y="1557360"/>
            <a:ext cx="38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о знаем: по утр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м всем и малыш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стать сильным и здоров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леть и быть весел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быстро просыпаться и зарядкой заним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культурные занят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2" descr="C:\Users\Роман\Desktop\1300887635_DSCN4140.JPG"/>
          <p:cNvPicPr/>
          <p:nvPr/>
        </p:nvPicPr>
        <p:blipFill>
          <a:blip r:embed="rId1"/>
          <a:stretch/>
        </p:blipFill>
        <p:spPr>
          <a:xfrm>
            <a:off x="2340000" y="4365720"/>
            <a:ext cx="2232000" cy="1817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Users\Роман\Desktop\detsad.jpg"/>
          <p:cNvPicPr/>
          <p:nvPr/>
        </p:nvPicPr>
        <p:blipFill>
          <a:blip r:embed="rId2"/>
          <a:stretch/>
        </p:blipFill>
        <p:spPr>
          <a:xfrm>
            <a:off x="5867280" y="4653000"/>
            <a:ext cx="2089440" cy="1590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C:\Users\Роман\Desktop\713bde5c89b0515f639d6358daef35d4.jpg"/>
          <p:cNvPicPr/>
          <p:nvPr/>
        </p:nvPicPr>
        <p:blipFill>
          <a:blip r:embed="rId3"/>
          <a:stretch/>
        </p:blipFill>
        <p:spPr>
          <a:xfrm rot="19706400">
            <a:off x="928440" y="2257200"/>
            <a:ext cx="2087280" cy="1800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C:\Users\Роман\Desktop\1082_8411.jpg"/>
          <p:cNvPicPr/>
          <p:nvPr/>
        </p:nvPicPr>
        <p:blipFill>
          <a:blip r:embed="rId4"/>
          <a:stretch/>
        </p:blipFill>
        <p:spPr>
          <a:xfrm rot="1305000">
            <a:off x="6394320" y="2128680"/>
            <a:ext cx="1924200" cy="2041560"/>
          </a:xfrm>
          <a:prstGeom prst="rect">
            <a:avLst/>
          </a:prstGeom>
          <a:ln w="0">
            <a:noFill/>
          </a:ln>
        </p:spPr>
      </p:pic>
      <p:sp>
        <p:nvSpPr>
          <p:cNvPr id="237" name="TextBox 6"/>
          <p:cNvSpPr/>
          <p:nvPr/>
        </p:nvSpPr>
        <p:spPr>
          <a:xfrm>
            <a:off x="3564000" y="177336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ятия проводятся в соответствии программы, по которой работает ДОУ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53:09Z</dcterms:created>
  <dc:creator>Федотова Виктория Александровна</dc:creator>
  <dc:description/>
  <dc:language>en-US</dc:language>
  <cp:lastModifiedBy>Admin</cp:lastModifiedBy>
  <dcterms:modified xsi:type="dcterms:W3CDTF">2016-07-27T10:24:10Z</dcterms:modified>
  <cp:revision>39</cp:revision>
  <dc:subject/>
  <dc:title>Слайд 1</dc:title>
</cp:coreProperties>
</file>