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D45-2AE0-43F7-9439-CCFF320A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03A-9FDA-417A-A86E-D831B42A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D7B-95FD-40B6-B25D-8F7B0E01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7CC-3FEC-4071-934A-4672B9F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9172-2957-49AD-8371-8B02537A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771F-FBAE-4984-888E-9561530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6DBA-6516-446C-BE5D-95A7448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0BC-1432-4987-B1A5-52C0A83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8AD-121B-4A1E-AFFC-8333666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8BE6-7BBB-403C-95B9-668B8BE0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8065-61F8-43D9-BFAF-D8B24B1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C74-1AC7-4797-A2C4-49F466C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2C30-2DBF-458D-9CCA-95F35E7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2E8-30E6-4F66-A86B-566C854E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1B3C-61BD-4459-82B6-8AF8AF47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4AB-1A2E-4BF0-B29D-54944B8E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14AE-61D8-4C0C-8D25-7566FC71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D6AC-5031-478D-A45C-FBBFDA13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7E55-3616-4A54-BB24-B6D4799C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6FD8-0BD6-4F72-8925-06D7CCC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0FC6-5E04-4CD7-AD8E-1445152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088A-51A2-4F80-9C53-7E1AFEE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0ED-52B4-464A-B240-BDFDD75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A204-BDF5-4571-B809-9C575C11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21E7-0FF7-4C66-9A9E-F5CC7DFE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30D2-3A90-4D75-84C5-663C917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3324-2751-4B4C-B29F-39749F7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6B3E-5E36-45B6-8E78-9AE13239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F851-2B95-4B82-AF66-7090AC76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57B8-D636-47B1-877F-62292FC6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64B9-465D-4DF4-BAEF-38EC89F8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67E6-A067-4B0F-9DC1-9D63ADFC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0BB1-A43F-4D71-8ABF-610BE977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641-EA40-4146-B971-FAB748E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7708-2C96-4285-8A78-9F7A5B49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0913-3C34-4491-9E88-7DC7656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04CB-7325-46DE-8EFE-983C4B7A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FDE44-1DAE-452B-8D50-07D5D74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57BC-59F6-4098-B26B-3699B04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721B-A7A7-46D9-870F-0F3CA77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1F58-75C2-4786-B330-BC34976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871D-EC73-42FF-87FE-7B2243C6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7215-EC68-45D7-8C14-9FEF1793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67535-3026-4BD8-AC2A-480D3501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AF6-A4DD-4B0F-B00A-A278BB02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EDC0-CAD7-4285-9813-8F4E3404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8368-1D6D-4879-A0A8-41B5A2BE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89518-7717-42EA-A467-AE0C5746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DF82-B2C1-4363-8BB2-7E518BC4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662E-EBDC-4946-A092-A8436F7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7F50-7D56-4C3E-974A-6C594EC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F5FF1-C386-4602-90C4-B965377A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3B84-F9BB-46A2-8A89-9E96A32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D790-F60C-469E-927D-A1A309E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F102-7802-404F-9495-CA18F699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9E5-E62C-4605-9F2F-F15D82E0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A9B7-1778-43AF-B135-280AE38C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5CC-3177-4072-ADEE-7390350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2EC-F8CB-4F0B-9955-A94212D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3FA-F71C-4C89-ACB8-CB0E7BE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F7EC-C707-4715-8B98-D977D7DE9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24FF-EF31-44BC-AE65-461BA082A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04D-A29C-46DD-9055-FBE76865B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C075-AF9A-43BB-9D05-CE74AFC9E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004F-031B-4AEA-8E76-F8BA1C96B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2760" y="476280"/>
            <a:ext cx="60008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 администрации Владимирской области Государственное бюджетное профессиональ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учреждение Владимир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уромский педагогический колледж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Р по МДК 01.02 Теоретические о методические основы физического воспитания и развития детей раннего и дошкольного возраста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 Здоровьесберегающие Технологии В ДО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859280" y="5013360"/>
            <a:ext cx="38577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студентка : Прибоченкова Ир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: ЗД-22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я из сери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Азбука здоро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Users\Роман\Desktop\0007-016-Den-zdorovja.jpg"/>
          <p:cNvPicPr/>
          <p:nvPr/>
        </p:nvPicPr>
        <p:blipFill>
          <a:blip r:embed="rId1"/>
          <a:stretch/>
        </p:blipFill>
        <p:spPr>
          <a:xfrm>
            <a:off x="5003640" y="3645000"/>
            <a:ext cx="3276720" cy="2703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Роман\Desktop\f09164ce1981db519afc3ab18976d1ee.jpg.jpg"/>
          <p:cNvPicPr/>
          <p:nvPr/>
        </p:nvPicPr>
        <p:blipFill>
          <a:blip r:embed="rId2"/>
          <a:stretch/>
        </p:blipFill>
        <p:spPr>
          <a:xfrm>
            <a:off x="755640" y="1916280"/>
            <a:ext cx="3933720" cy="2592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521964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ятся валеологическ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масс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Роман\Desktop\rekk1.jpg"/>
          <p:cNvPicPr/>
          <p:nvPr/>
        </p:nvPicPr>
        <p:blipFill>
          <a:blip r:embed="rId1"/>
          <a:stretch/>
        </p:blipFill>
        <p:spPr>
          <a:xfrm>
            <a:off x="826920" y="2205000"/>
            <a:ext cx="3278520" cy="2232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Роман\Desktop\ca01-1401979333-17.jpg"/>
          <p:cNvPicPr/>
          <p:nvPr/>
        </p:nvPicPr>
        <p:blipFill>
          <a:blip r:embed="rId2"/>
          <a:stretch/>
        </p:blipFill>
        <p:spPr>
          <a:xfrm>
            <a:off x="4427640" y="4076640"/>
            <a:ext cx="3384360" cy="2232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5003640" y="1341360"/>
            <a:ext cx="33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ствует психо-эмоциональной устойчивости к физическому здоровью, тонизирует весь организм. Самомассаж проводиться в игровой форме ежедневно, в виде пятиминутного занятия или в виде динамической паузы на зан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й отд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Роман\Desktop\DSCF2082.JPG"/>
          <p:cNvPicPr/>
          <p:nvPr/>
        </p:nvPicPr>
        <p:blipFill>
          <a:blip r:embed="rId1"/>
          <a:stretch/>
        </p:blipFill>
        <p:spPr>
          <a:xfrm>
            <a:off x="2195640" y="4724280"/>
            <a:ext cx="2038320" cy="1409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Роман\Desktop\8ecd1ed35bcb95f86fc809ed5a88802b.jpg"/>
          <p:cNvPicPr/>
          <p:nvPr/>
        </p:nvPicPr>
        <p:blipFill>
          <a:blip r:embed="rId2"/>
          <a:stretch/>
        </p:blipFill>
        <p:spPr>
          <a:xfrm>
            <a:off x="755640" y="1773360"/>
            <a:ext cx="3816360" cy="266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Роман\Desktop\1344948185_DSCN1492.JPG"/>
          <p:cNvPicPr/>
          <p:nvPr/>
        </p:nvPicPr>
        <p:blipFill>
          <a:blip r:embed="rId3"/>
          <a:stretch/>
        </p:blipFill>
        <p:spPr>
          <a:xfrm>
            <a:off x="4716360" y="285264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971640" y="134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культурные праздники, досуги, развлечения, дн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187280" y="1484280"/>
            <a:ext cx="59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бота о здоровье детей – это             важнейший  труд воспитателя.            От жизнерадостности, бодрости детей зависит их духовная жизнь, мировоззрение, умственное развитие, прочность знаний и самое главное вера в свои силы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072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стояние полного физического,психического и социального благополучия, а не просто отсутствие болезней или физических дефектов.</a:t>
            </a:r>
            <a:br>
              <a:rPr sz="24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(Всемирная организация здравоохранен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C:\Users\Роман\Desktop\zhit_zdorovo_za_9_sentjabrja_2015.jpg"/>
          <p:cNvPicPr/>
          <p:nvPr/>
        </p:nvPicPr>
        <p:blipFill>
          <a:blip r:embed="rId1"/>
          <a:stretch/>
        </p:blipFill>
        <p:spPr>
          <a:xfrm>
            <a:off x="755640" y="2060640"/>
            <a:ext cx="3095640" cy="24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Роман\Desktop\721476_html_m53607eb0.jpg"/>
          <p:cNvPicPr/>
          <p:nvPr/>
        </p:nvPicPr>
        <p:blipFill>
          <a:blip r:embed="rId2"/>
          <a:stretch/>
        </p:blipFill>
        <p:spPr>
          <a:xfrm>
            <a:off x="2771640" y="4724280"/>
            <a:ext cx="4821480" cy="158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Роман\Desktop\Здоровье-Маша4.jpg"/>
          <p:cNvPicPr/>
          <p:nvPr/>
        </p:nvPicPr>
        <p:blipFill>
          <a:blip r:embed="rId3"/>
          <a:stretch/>
        </p:blipFill>
        <p:spPr>
          <a:xfrm>
            <a:off x="5219640" y="2492280"/>
            <a:ext cx="2448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642960" y="6429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низ 4"/>
          <p:cNvSpPr/>
          <p:nvPr/>
        </p:nvSpPr>
        <p:spPr>
          <a:xfrm>
            <a:off x="4071960" y="1357200"/>
            <a:ext cx="7142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1357200" y="19890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стная система воспитательно-оздоровительных, коррекционных и профилактических мер которые осуществляются в процесс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низ 7"/>
          <p:cNvSpPr/>
          <p:nvPr/>
        </p:nvSpPr>
        <p:spPr>
          <a:xfrm rot="2326800">
            <a:off x="1856880" y="292896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8"/>
          <p:cNvSpPr/>
          <p:nvPr/>
        </p:nvSpPr>
        <p:spPr>
          <a:xfrm>
            <a:off x="4214880" y="3000240"/>
            <a:ext cx="428400" cy="7146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низ 9"/>
          <p:cNvSpPr/>
          <p:nvPr/>
        </p:nvSpPr>
        <p:spPr>
          <a:xfrm rot="20001000">
            <a:off x="6357600" y="292860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928800" y="3643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3571920" y="37861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6143760" y="3714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и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здоровьесберегающих технологий в ДО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692360" y="1989000"/>
            <a:ext cx="6951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ельно к ребенку – обеспечение высокого уровня реального здоровья воспитаннику детского сада и воспитание валеологической культуры как совокупности осознанного отношения ребенка к здоровью и жизни человека, знаний о здоровье и умений оберегать, поддерживать и охранять его, валеологической компетентности, позволяющей дошкольнику самостоятельно и эффективно решать задачи здорового образа жизни и безопасного поведения, задачи, связанные с оказанием элементарной медицинской, психологической самопомощи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ельно к взрослым – содействие становлению культуры здоровья, в том числе культуры профессионального здоровья воспитателей ДОУ и валеологическому просвещению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а здоровьесбережения в ДО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763640" y="1341360"/>
            <a:ext cx="684072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личные оздоровительные режимы (адаптационный, на время канику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мплекс закаливающих мероприятий (воздушное закаливание, хождение по “дорожкам здоровья”, профилактика плоскостопия; максимальное пребывание детей на свежем воздухе, бодрящая гимнаст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посредственная образовательная деятельность по физической культуре всех тип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тимизация двигательного режима: традиционная двигательная деятельность детей (утренняя гимнастика, физкультурные занятия, проведение подвижных игр, прогулки)  и инновационные технологии оздоровления и профилактики (ритмопластика, логоритмика, тактильные дорож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рганизация рационально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едико-профилактическая работа с детьми и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блюдение требований СанПиНа к организации педагогическ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мплекс мероприятий по сохранению физического и психологического здоровья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я работы по  здоровьесбережению в ДО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692360" y="1484280"/>
            <a:ext cx="676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задач физкультурно-оздоровительной работы в различные виды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инновационных здоровьесберегающих технологий в воспитательно-образовательный процесс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форм физкультурно - досуговой деятельности с до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ивычки к здоровому образу жизни у дошкольников, педагогов и 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физических качеств и обеспечение нормального уровня физической подготовленности в соответствии с возможностями и состоянием здоровь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тересов, склонностей и способностей детей в двигательной деятельности и реализация их через систему спортивно-оздорови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физического и психического благополучия каждого ребёнка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обучения здоровому образу жиз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195640" y="2060640"/>
            <a:ext cx="62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из серии « Азбука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отд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C:\Users\Роман\Desktop\2417da7481a80944c6d11292c83db6d4.jpg.jpg"/>
          <p:cNvPicPr/>
          <p:nvPr/>
        </p:nvPicPr>
        <p:blipFill>
          <a:blip r:embed="rId1"/>
          <a:stretch/>
        </p:blipFill>
        <p:spPr>
          <a:xfrm>
            <a:off x="4572000" y="3645000"/>
            <a:ext cx="3911760" cy="2705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Роман\Desktop\c99add0311ef3d1f71e0f28d300ba535.jpg.jpg"/>
          <p:cNvPicPr/>
          <p:nvPr/>
        </p:nvPicPr>
        <p:blipFill>
          <a:blip r:embed="rId2"/>
          <a:stretch/>
        </p:blipFill>
        <p:spPr>
          <a:xfrm>
            <a:off x="611280" y="2060640"/>
            <a:ext cx="3890880" cy="25923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716360" y="155736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знаем: по ут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 всем и малыш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тать сильным и здоро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ть и быть весел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быстро просыпаться и зарядкой зани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урные занят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C:\Users\Роман\Desktop\1300887635_DSCN4140.JPG"/>
          <p:cNvPicPr/>
          <p:nvPr/>
        </p:nvPicPr>
        <p:blipFill>
          <a:blip r:embed="rId1"/>
          <a:stretch/>
        </p:blipFill>
        <p:spPr>
          <a:xfrm>
            <a:off x="2340000" y="4365720"/>
            <a:ext cx="2232000" cy="181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Роман\Desktop\detsad.jpg"/>
          <p:cNvPicPr/>
          <p:nvPr/>
        </p:nvPicPr>
        <p:blipFill>
          <a:blip r:embed="rId2"/>
          <a:stretch/>
        </p:blipFill>
        <p:spPr>
          <a:xfrm>
            <a:off x="5867280" y="4653000"/>
            <a:ext cx="2089440" cy="1590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Роман\Desktop\713bde5c89b0515f639d6358daef35d4.jpg"/>
          <p:cNvPicPr/>
          <p:nvPr/>
        </p:nvPicPr>
        <p:blipFill>
          <a:blip r:embed="rId3"/>
          <a:stretch/>
        </p:blipFill>
        <p:spPr>
          <a:xfrm rot="19706400">
            <a:off x="928440" y="2257200"/>
            <a:ext cx="2087280" cy="180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Users\Роман\Desktop\1082_8411.jpg"/>
          <p:cNvPicPr/>
          <p:nvPr/>
        </p:nvPicPr>
        <p:blipFill>
          <a:blip r:embed="rId4"/>
          <a:stretch/>
        </p:blipFill>
        <p:spPr>
          <a:xfrm rot="1305000">
            <a:off x="6394320" y="2128680"/>
            <a:ext cx="1924200" cy="204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356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я проводятся в соответствии программы, по которой работает ДО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Admin</cp:lastModifiedBy>
  <dcterms:modified xsi:type="dcterms:W3CDTF">2016-07-27T10:24:10Z</dcterms:modified>
  <cp:revision>39</cp:revision>
  <dc:subject/>
  <dc:title>Слайд 1</dc:title>
</cp:coreProperties>
</file>