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5B30-E66A-4A9F-B86B-6AB664001D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52151-2DA4-41B4-AF75-01F1CDA4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29728-B829-4E4B-8C25-EE65F0D7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DFE55-3ACD-4CD1-B1D5-B551AC1FC7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29A6B-19A6-4B22-AC8D-46EF83C0C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BDC2-B086-4416-962C-31CAF9F3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D1E45-3F85-457D-AC58-859001F3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D8D47-AB42-43C3-8C83-EAB91B487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-252720"/>
            <a:ext cx="74660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49D9-2A27-4726-AEC1-FC61DF03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80E8-551C-44B2-BE24-7CF1F7B4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37392-411C-4571-AF70-02EE0D75B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AAAF3-2834-42E1-B963-F9994E84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8952EB-E786-446B-B4F8-C93B534481A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144720"/>
            <a:ext cx="90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униципальное бюджетное образовательное учреждение дополнительного образования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«Дом детского творчества г. Льгов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42960" y="109116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курсионный маршр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Улицы нашего города. Улица Советская. Брежинский колодец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571920" y="2667600"/>
            <a:ext cx="52038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готовили обучающиеся детского объединения «Нафан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уководитель педагог дополнительного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роухова Марина Георги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75120" y="6488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ьгов-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20:29:51Z</dcterms:created>
  <dc:creator>Admin</dc:creator>
  <dc:description/>
  <dc:language>en-US</dc:language>
  <cp:lastModifiedBy>Admin</cp:lastModifiedBy>
  <dcterms:modified xsi:type="dcterms:W3CDTF">2018-07-22T17:08:59Z</dcterms:modified>
  <cp:revision>102</cp:revision>
  <dc:subject/>
  <dc:title>Слайд 1</dc:title>
</cp:coreProperties>
</file>