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8147E-64D8-4346-AE69-6BA2577DAA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7D3F6-ECD5-4739-8C12-2316DB8B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C35A-687F-4139-A0FF-A8DB2C885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16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5480" y="16002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16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5480" y="3963600"/>
            <a:ext cx="24037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F471C-6126-494A-8D42-E106E694B5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C7BAC-76A8-42F0-B863-9408819A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A74E-DDE9-4EB0-AF19-DF6EAC65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0D4A7-91C2-4685-9A1E-59D1ED0A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23D1C-F002-4D5B-8FA8-6E03D22D2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-252720"/>
            <a:ext cx="746604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0388C-4A06-485B-BA84-76E383E7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7419-4B8A-4432-AA75-B58FA5A44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2560" y="39636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3469-B0DB-459D-9337-CB9CEAAD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2560" y="1600200"/>
            <a:ext cx="36432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3600"/>
            <a:ext cx="74660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7BAC8-EB39-4565-A883-8015E990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7315200" y="0"/>
            <a:ext cx="1828800" cy="6858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-252720"/>
            <a:ext cx="7466040" cy="219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60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41988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3124080" y="641988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152920" y="641988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E3F075-7EA8-4579-B72C-2E0C9D7EA2D5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"/>
          <p:cNvSpPr/>
          <p:nvPr/>
        </p:nvSpPr>
        <p:spPr>
          <a:xfrm>
            <a:off x="0" y="144720"/>
            <a:ext cx="900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Муниципальное бюджетное образовательное учреждение дополнительного образования дете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«Дом детского творчества г. Льгова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42960" y="1091160"/>
            <a:ext cx="7786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Экскурсионный маршру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«Улицы нашего города. Улица Советская. Брежинский колодец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3571920" y="2667600"/>
            <a:ext cx="5203800" cy="39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дготовили обучающиеся детского объединения «Нафаня»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Руководитель педагог дополнительного образова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Остроухова Марина Георги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3075120" y="6488280"/>
            <a:ext cx="15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Льгов- 20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20:29:51Z</dcterms:created>
  <dc:creator>Admin</dc:creator>
  <dc:description/>
  <dc:language>en-US</dc:language>
  <cp:lastModifiedBy>Admin</cp:lastModifiedBy>
  <dcterms:modified xsi:type="dcterms:W3CDTF">2018-07-22T17:08:59Z</dcterms:modified>
  <cp:revision>102</cp:revision>
  <dc:subject/>
  <dc:title>Слайд 1</dc:title>
</cp:coreProperties>
</file>