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D0D-B530-4B64-9C0F-83D868DB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806-DB05-46F1-9F82-7C290C38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C21-A10F-4B3C-BE72-02DEBD30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53B-F31C-46A8-939D-E06623C6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241-AE69-4D62-AA80-AA6D689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71A-711F-4805-9249-E1F3545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DE8-15F8-4699-AFA6-E88C4D46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90F-8461-46B2-8F62-0D0B6E9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A21-BDD3-47C7-9BD3-B2C4F8F8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76D-C33E-4052-BBE2-EFF6B24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C21-86A5-4770-BB6E-BC03B16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F95-F346-495A-A69B-A0CE457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BCA4-F1E6-4C23-8C31-BB212A7A3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928800" y="2421000"/>
            <a:ext cx="6143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направленност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познавате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участников: групп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должительност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 (май 2018-май 2019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 про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площадка Д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экологическая комна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971640" y="907920"/>
            <a:ext cx="58863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теостанция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ологической тропинке в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наблюдать за изменениями погоды, анализировать, делать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286000" y="5732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воспитатель: Ермолина С.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2286000" y="98100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е – барометры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казывать погоду помог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755640" y="1700280"/>
            <a:ext cx="720108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начинает скрести когтями всё, что подвернётся под лапу: пол, стены, входную дверь? Летом примета предвещает сильный ветер, зимой — ме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закрывает лапами н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мор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лежит брюхом вверх – к теп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приводит в порядок лапки – к хорошей пог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https://cdn2.arhivurokov.ru/multiurok/html/2017/12/09/s_5a2bcbc45605f/img5.jpg"/>
          <p:cNvPicPr/>
          <p:nvPr/>
        </p:nvPicPr>
        <p:blipFill>
          <a:blip r:embed="rId2"/>
          <a:srcRect l="38768" t="40950" r="4539" b="3931"/>
          <a:stretch/>
        </p:blipFill>
        <p:spPr>
          <a:xfrm>
            <a:off x="6156360" y="2421000"/>
            <a:ext cx="1224000" cy="89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images.myshared.ru/35/1331413/slide_4.jpg"/>
          <p:cNvPicPr/>
          <p:nvPr/>
        </p:nvPicPr>
        <p:blipFill>
          <a:blip r:embed="rId3"/>
          <a:srcRect l="46306" t="23463" r="18731" b="47561"/>
          <a:stretch/>
        </p:blipFill>
        <p:spPr>
          <a:xfrm>
            <a:off x="6024600" y="3716280"/>
            <a:ext cx="1787400" cy="1111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ttps://get.wallhere.com/photo/cat-whiskers-kitten-mammal-lying-spotted-playful-vertebrate-cat-like-mammal-small-to-medium-sized-cats-bengal-602057.jpg"/>
          <p:cNvPicPr/>
          <p:nvPr/>
        </p:nvPicPr>
        <p:blipFill>
          <a:blip r:embed="rId4"/>
          <a:srcRect l="7683" t="10261" r="0" b="17941"/>
          <a:stretch/>
        </p:blipFill>
        <p:spPr>
          <a:xfrm>
            <a:off x="4356000" y="3284640"/>
            <a:ext cx="135756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http://c.files.bbci.co.uk/51E6/production/_96466902_poo1.jpg"/>
          <p:cNvPicPr/>
          <p:nvPr/>
        </p:nvPicPr>
        <p:blipFill>
          <a:blip r:embed="rId5"/>
          <a:stretch/>
        </p:blipFill>
        <p:spPr>
          <a:xfrm>
            <a:off x="826920" y="4869000"/>
            <a:ext cx="1968840" cy="110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http://88.r.photoshare.ru/00888/00878df62e1b7f252459be79ba5f95724b7a058b.jpg"/>
          <p:cNvPicPr/>
          <p:nvPr/>
        </p:nvPicPr>
        <p:blipFill>
          <a:blip r:embed="rId6"/>
          <a:srcRect l="41732" t="23894" r="7943" b="25099"/>
          <a:stretch/>
        </p:blipFill>
        <p:spPr>
          <a:xfrm>
            <a:off x="1619280" y="2421000"/>
            <a:ext cx="1336680" cy="974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5"/>
          <p:cNvSpPr/>
          <p:nvPr/>
        </p:nvSpPr>
        <p:spPr>
          <a:xfrm>
            <a:off x="3132000" y="5013360"/>
            <a:ext cx="547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катается по траве – будет дождливо и ветре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ющийся в снегу пес предупреждает о ме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с лезет в воду – возможен лив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900000" y="1197000"/>
            <a:ext cx="705672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организаци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в различные биоценозы: на луг,  реч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рогулки: в парк, сквер, улицу  посел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 на метеостан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образовательная деятельность в уголках прир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образовательная деятельность на метеоплощад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е наблюдения  в живой и неживой природе; Проверка в практической деятельности народных примет (зарисовка и рифмовка примет); Чтение  природоведческой литературы; Моделирование; Экспериментирование; Труд в комнате природы и на метеоплощадке; Домаш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гуманно – ценностного отношения к природе: увлечение познанием природы, открытием ее законов, пониманием языка прир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е отношение к изменениям в животном и растительном ми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развитие детей: расширение кругозора, формирование умений  описывать природу, изображать её в разнообразных техни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826920" y="907920"/>
            <a:ext cx="640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ированное  занятие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рибной дожд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образовательных областей: чтение х/литературы и леп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971640" y="1916280"/>
            <a:ext cx="662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 развивать наблюдательность, творческое воображение, познавательный интерес к окружающему миру, а также память, связную речь, умение анализировать и дел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SAM_1305.JPG"/>
          <p:cNvPicPr/>
          <p:nvPr/>
        </p:nvPicPr>
        <p:blipFill>
          <a:blip r:embed="rId2"/>
          <a:srcRect l="11424" t="31098" r="10622" b="0"/>
          <a:stretch/>
        </p:blipFill>
        <p:spPr>
          <a:xfrm>
            <a:off x="900000" y="2492280"/>
            <a:ext cx="1646280" cy="1090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971640" y="3357720"/>
            <a:ext cx="6985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ждь и солнечный день чудес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музыка, физическое развит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интерес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к окружающему ми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SAM_1326.JPG"/>
          <p:cNvPicPr/>
          <p:nvPr/>
        </p:nvPicPr>
        <p:blipFill>
          <a:blip r:embed="rId3"/>
          <a:srcRect l="8005" t="3556" r="3980" b="11104"/>
          <a:stretch/>
        </p:blipFill>
        <p:spPr>
          <a:xfrm>
            <a:off x="5580000" y="4292640"/>
            <a:ext cx="21240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DSCN9793.JPG"/>
          <p:cNvPicPr/>
          <p:nvPr/>
        </p:nvPicPr>
        <p:blipFill>
          <a:blip r:embed="rId2"/>
          <a:srcRect l="0" t="0" r="11201" b="0"/>
          <a:stretch/>
        </p:blipFill>
        <p:spPr>
          <a:xfrm>
            <a:off x="3348000" y="2492280"/>
            <a:ext cx="1774800" cy="11257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8"/>
          <p:cNvSpPr/>
          <p:nvPr/>
        </p:nvSpPr>
        <p:spPr>
          <a:xfrm>
            <a:off x="1116000" y="98100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теме «Очень нужная профессия - метеороло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900000" y="175500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: »Познавательное развитие»,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ирование представления о значении погоды в жизни человека, 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 частях свет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комить детей с профессией метеоролога, с понятием «прогноз пог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746440" y="371628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теме «Рисуем пог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042920" y="414972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: «Художественно-эстетическое развит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вать умение детей образно отражать в рисунках впечатления от окружающ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DSCN9822.JPG"/>
          <p:cNvPicPr/>
          <p:nvPr/>
        </p:nvPicPr>
        <p:blipFill>
          <a:blip r:embed="rId3"/>
          <a:srcRect l="18500" t="0" r="0" b="0"/>
          <a:stretch/>
        </p:blipFill>
        <p:spPr>
          <a:xfrm>
            <a:off x="3492360" y="5084640"/>
            <a:ext cx="1619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DSCN9787.JPG"/>
          <p:cNvPicPr/>
          <p:nvPr/>
        </p:nvPicPr>
        <p:blipFill>
          <a:blip r:embed="rId2"/>
          <a:srcRect l="7999" t="30315" r="10105" b="12508"/>
          <a:stretch/>
        </p:blipFill>
        <p:spPr>
          <a:xfrm>
            <a:off x="1042920" y="3068640"/>
            <a:ext cx="1736640" cy="161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DSCN9779.JPG"/>
          <p:cNvPicPr/>
          <p:nvPr/>
        </p:nvPicPr>
        <p:blipFill>
          <a:blip r:embed="rId3"/>
          <a:stretch/>
        </p:blipFill>
        <p:spPr>
          <a:xfrm>
            <a:off x="5796000" y="3141720"/>
            <a:ext cx="1884240" cy="1412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DSCN9789.JPG"/>
          <p:cNvPicPr/>
          <p:nvPr/>
        </p:nvPicPr>
        <p:blipFill>
          <a:blip r:embed="rId4"/>
          <a:srcRect l="2668" t="6013" r="0" b="3815"/>
          <a:stretch/>
        </p:blipFill>
        <p:spPr>
          <a:xfrm>
            <a:off x="3708360" y="2400480"/>
            <a:ext cx="1758960" cy="2171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DSCN9767.JPG"/>
          <p:cNvPicPr/>
          <p:nvPr/>
        </p:nvPicPr>
        <p:blipFill>
          <a:blip r:embed="rId5">
            <a:lum bright="-10000"/>
          </a:blip>
          <a:srcRect l="5897" t="37400" r="11417" b="13255"/>
          <a:stretch/>
        </p:blipFill>
        <p:spPr>
          <a:xfrm>
            <a:off x="2987640" y="4797360"/>
            <a:ext cx="3240000" cy="1449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755640" y="981000"/>
            <a:ext cx="7416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- с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кая погода - такие цве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ный сад вокруг метеоплощадки позволяет привлечь детей к труду в природе, а также наблюдению за ростом растений, их связи с насекомыми , и наблюдению осадков и народных прим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755640" y="1788840"/>
            <a:ext cx="66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торожно ве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литку вышел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верх, махи вправо, вле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чал в окошко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учим пальц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ежал по крыше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г на мест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чал тихон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ми черемух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вер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и вправо, вле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урил за что-то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льч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ев знакомых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ылья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правив гор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 кры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ел куда –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гонку с пылью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 стороны, махи руками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426040" y="1197000"/>
            <a:ext cx="40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сейчас немного отдохн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змину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Users\Светлана\Desktop\DSCN9833.JPG"/>
          <p:cNvPicPr/>
          <p:nvPr/>
        </p:nvPicPr>
        <p:blipFill>
          <a:blip r:embed="rId2">
            <a:lum bright="-10000"/>
          </a:blip>
          <a:srcRect l="16259" t="11105" r="11242" b="4438"/>
          <a:stretch/>
        </p:blipFill>
        <p:spPr>
          <a:xfrm>
            <a:off x="4284720" y="2133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Светлана\Desktop\DSCN9835.JPG"/>
          <p:cNvPicPr/>
          <p:nvPr/>
        </p:nvPicPr>
        <p:blipFill>
          <a:blip r:embed="rId3">
            <a:lum bright="-10000"/>
          </a:blip>
          <a:srcRect l="21241" t="30673" r="16372" b="904"/>
          <a:stretch/>
        </p:blipFill>
        <p:spPr>
          <a:xfrm>
            <a:off x="5435640" y="4005360"/>
            <a:ext cx="2340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627280" y="83664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Светлана\Desktop\фото к метеостнции\SAM_1201.JPG"/>
          <p:cNvPicPr/>
          <p:nvPr/>
        </p:nvPicPr>
        <p:blipFill>
          <a:blip r:embed="rId2">
            <a:lum bright="-10000"/>
          </a:blip>
          <a:srcRect l="11997" t="6842" r="12668" b="6381"/>
          <a:stretch/>
        </p:blipFill>
        <p:spPr>
          <a:xfrm>
            <a:off x="1619280" y="1773360"/>
            <a:ext cx="1333440" cy="1150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Светлана\Desktop\фото к метеостнции\SAM_1197.JPG"/>
          <p:cNvPicPr/>
          <p:nvPr/>
        </p:nvPicPr>
        <p:blipFill>
          <a:blip r:embed="rId3">
            <a:lum bright="-10000"/>
          </a:blip>
          <a:srcRect l="0" t="7694" r="10021" b="16841"/>
          <a:stretch/>
        </p:blipFill>
        <p:spPr>
          <a:xfrm>
            <a:off x="5435640" y="1628640"/>
            <a:ext cx="1236600" cy="1065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611280" y="1268280"/>
            <a:ext cx="727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родителей к изготовлению площадки и метеорологических приб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755640" y="2852640"/>
            <a:ext cx="741672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кет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такое эколог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 считаете домом только то место, где вы непосредственно живете с семь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, по вашему мнению «Общий дом» для всех  люд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ы часто гуляете  с ребенком? Гд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 ваш ребенок относится к объектам приро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ую погоду вы любите,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Зачем ваш  ребенок любит наблюдать? Как долго это происходи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Рассказываете ли вы ребенку о явлениях приро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Ваша беседа проходит в форме диалога, или монолога с вашей сторо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Как  ребенок  выражает  свои эмоции, если видит необычное в природе (радуга, гроза, роса…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Показываете  ли  вы  ребенку  фокусы  или  занимательные  опыты  с водой, снегом, льд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Как вы думаете, получает ли ваш ребенок знания о природе в детском са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116000" y="1974600"/>
            <a:ext cx="59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площад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еспечивает проведение практических работ, систематических наблюдений за погодой, сезонных явлений в окружающей природе, а также изучение микроклимата территории детского сада. Дети имеют возможность ежедневно поиграть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о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я не только самодельные приборы, но и настоящие. У детей появится огромный интерес снять показание с приборов и составить прогноз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131920" y="1484280"/>
            <a:ext cx="31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539640" y="620640"/>
            <a:ext cx="860436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год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ия температуры возду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и направление вет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осад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неба и солн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ость возду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показания имеют отношения к объектам и явлениям неживой природы, на которые дети не обращают внимание самостоя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задача педагога привлечь детское внимание в этом направлении и зажечь искру познавательной деятельности, помочь найти взаимосвязь между явлениями неживой и живой природыНаблюдения дошкольников за погодой определяется следующими момент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-перв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комый старшим дошкольникам процесс наблюдения за явлениями погоды можно сделать интересным, оборудовав на территории дошкольного учреждения метеорологическую стан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-втор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занятия юных метеорологов, которые дети воспринимают как новую интересную ролевую игру, помогут познакомить их с метеорологическими приборами и способами их применения на прак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-третьих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 детей в ходе организованной деятельности  будут развиваться умения выявлять проблему, наблюдать, проводить эксперимент, анализировать, обобщать.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 участке детского сада мы выбрали специальный участок, на котором 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оздали площадку 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еостанция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Детская 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еостанция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была выполнена компактно и теперь позволяет воспитанникам в доступной форме, самостоятельно или при помощи воспитателя вести наблюдение за изменением параметров погоды. «</a:t>
            </a:r>
            <a:r>
              <a:rPr b="1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еостанция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расположена таким образом, чтобы дети могли наглядно наблюдать и оценивать изменения внешнего вида окружающих площадку объектов 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экологической тропинки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в зависимости от времени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857160" y="1000080"/>
            <a:ext cx="6215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школьников не сформированы знания о погоде, недостаточно условий для практики организации наблюдений за явлениями погоды с использованием измерительных приборов.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84328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826920" y="2852640"/>
            <a:ext cx="831708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, поисковая активность- постоянное состояние  ребенка. Он будет настроен на познание окружающего мира, так как дети по природе своей – исследователи, ес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ребенка в исследовательскую деятельность, позволит значительно повысить образовательный эффект, способствует развитию его любознательности, внимания и  логи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бенка будет усиливаться, если педагогическая поддержка воспитывающих взрослых будет направлена на создание развивающей предметной среды, ориентирующей дошкольников на активную  субъектну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воспитательно–образовательного  процесса будет эмоциональным содержанием через организацию разнообразных видов творческой деятельности и общ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 у дошкольников гуманно - ценностного отношение к природе через понимание ценности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900000" y="3357720"/>
            <a:ext cx="770436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– информационно-аналит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литературы по созданию метеоплощадки на участке детского сад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опытом других педагог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детей со свойствами шишек, еловых веток, которые проявляются при изменении окружающей сре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бесед с детьми о народные приметах, указывающихна перемены пого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уровня знаний детей на тему погодных условий и заинтересованности их в более углубленном изучен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гипотезы проективной деятельности по тем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ект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анализ, подбор необходимых информационных источников по теме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900000" y="836640"/>
            <a:ext cx="63360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задач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детей с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площадко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специальными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бор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мпасом, термометром, барометром, дождемером, ветряным рукавом, флюгером, солнечными ча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учать детей снятию показаний приб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ть детям представление о зависимости климата в любой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ланеты от удаленности от Солн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ть представление о значении погоды в жизни человека, растительного и животного ми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ть представления о четырех частях св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знакомить детей с профессией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метеоролог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826920" y="981000"/>
            <a:ext cx="662472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й этап – Основ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ие необходимого собранного информационного матери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ресурсов для реализации проек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ка совместно с родителями и детьми метеорологической станции на участ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экспериментально-исследовательской деятельност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900000" y="3933720"/>
            <a:ext cx="72723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 реш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ть «образ будущего», представить модель того, что собираемся создав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ь требования и мнения всех участников создаваемого будуще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истему реализации идей на основе ре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и и возможностей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971640" y="2852640"/>
            <a:ext cx="6769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Заключительный этап: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эффективности проек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мониторинг уровня знани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971640" y="11984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логическое оборудование детской метеоплощад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900000" y="2662920"/>
            <a:ext cx="727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люг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ожде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ерм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етряной рук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олнеч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тол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Ла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азоны с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:\DCIM\114PHOTO\SAM_1291.JPG"/>
          <p:cNvPicPr/>
          <p:nvPr/>
        </p:nvPicPr>
        <p:blipFill>
          <a:blip r:embed="rId2">
            <a:lum bright="-10000"/>
          </a:blip>
          <a:srcRect l="2181" t="11628" r="10611" b="4070"/>
          <a:stretch/>
        </p:blipFill>
        <p:spPr>
          <a:xfrm>
            <a:off x="3564000" y="2852640"/>
            <a:ext cx="352908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1258920" y="1038600"/>
            <a:ext cx="6553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м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1111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ибор для измерения температуры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>
            <a:lum bright="-10000"/>
          </a:blip>
          <a:srcRect l="0" t="0" r="0" b="18074"/>
          <a:stretch/>
        </p:blipFill>
        <p:spPr>
          <a:xfrm>
            <a:off x="1332000" y="907920"/>
            <a:ext cx="84132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:\фото к метеостнции\SAM_1255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2340000" y="1916280"/>
            <a:ext cx="811080" cy="1081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2771640" y="2060640"/>
            <a:ext cx="567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жде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ибор для измерения количества осадков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2286000" y="3141720"/>
            <a:ext cx="567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лю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бор для определения направления и силы ве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G:\DCIM\114PHOTO\SAM_1290.JPG"/>
          <p:cNvPicPr/>
          <p:nvPr/>
        </p:nvPicPr>
        <p:blipFill>
          <a:blip r:embed="rId4"/>
          <a:srcRect l="8686" t="304" r="13041" b="18572"/>
          <a:stretch/>
        </p:blipFill>
        <p:spPr>
          <a:xfrm>
            <a:off x="1116000" y="3213000"/>
            <a:ext cx="111132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E:\фото к метеостнции\SAM_1249.JPG"/>
          <p:cNvPicPr/>
          <p:nvPr/>
        </p:nvPicPr>
        <p:blipFill>
          <a:blip r:embed="rId5">
            <a:lum bright="-10000"/>
          </a:blip>
          <a:srcRect l="0" t="0" r="0" b="13045"/>
          <a:stretch/>
        </p:blipFill>
        <p:spPr>
          <a:xfrm>
            <a:off x="1476360" y="4292640"/>
            <a:ext cx="101448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2"/>
          <p:cNvSpPr/>
          <p:nvPr/>
        </p:nvSpPr>
        <p:spPr>
          <a:xfrm>
            <a:off x="2843280" y="4221000"/>
            <a:ext cx="4572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неч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бор для определения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2" descr=""/>
          <p:cNvPicPr/>
          <p:nvPr/>
        </p:nvPicPr>
        <p:blipFill>
          <a:blip r:embed="rId6">
            <a:lum bright="-10000"/>
          </a:blip>
          <a:srcRect l="0" t="7804" r="0" b="0"/>
          <a:stretch/>
        </p:blipFill>
        <p:spPr>
          <a:xfrm>
            <a:off x="6875640" y="4851360"/>
            <a:ext cx="1009440" cy="1238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4"/>
          <p:cNvSpPr/>
          <p:nvPr/>
        </p:nvSpPr>
        <p:spPr>
          <a:xfrm>
            <a:off x="2771640" y="5157720"/>
            <a:ext cx="3961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тряной рук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бор для измерения силы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1000080" y="1058040"/>
            <a:ext cx="671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евья – предсказа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. Ветер поворачивает листья на деревьях верхней стороной вниз - к дожд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2. Листья клена начинают "лить слезы" ещё за 3-4 суток. Выделяя капельки сока у основания чер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2">
            <a:lum bright="-10000"/>
          </a:blip>
          <a:srcRect l="0" t="7463" r="0" b="12703"/>
          <a:stretch/>
        </p:blipFill>
        <p:spPr>
          <a:xfrm>
            <a:off x="1116000" y="2852640"/>
            <a:ext cx="2376360" cy="2530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635280" y="256536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солнух – помогает определить сторону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https://c.pxhere.com/photos/18/27/sunflower_flower_yellow_bloom_blooming_plant_seeds_nature-708887.jpg!d"/>
          <p:cNvPicPr/>
          <p:nvPr/>
        </p:nvPicPr>
        <p:blipFill>
          <a:blip r:embed="rId3"/>
          <a:srcRect l="0" t="12504" r="0" b="0"/>
          <a:stretch/>
        </p:blipFill>
        <p:spPr>
          <a:xfrm>
            <a:off x="6443640" y="3500280"/>
            <a:ext cx="1474920" cy="1935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3708360" y="3213000"/>
            <a:ext cx="2519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ветия подсолнечника поворачиваются вслед за солнцем в течение дня, а ночью снова меняют свое положение, чтобы с рассветом «смотреть» на восток. После того как подсолнухи отцветают, они прекращают поворачиваться в сторону солн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900000" y="1413000"/>
            <a:ext cx="691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тки развернули венчики рано ут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жидается ясная погода,  после полудн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ждь, гро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ьюнок закрывает свой венчик перед дождем, а накануне солнечного дня обязательно раскрывает его даже в пасмурную по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погоду с помощью василька совсем не сложно. Если цветки закрылись так, что не видно их голубых лепестков – это к дождю. Если они раскрыты и выделяется нектар - к хорошей пог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дуванчики ещё до рассвета чувствует, какой будет ден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мурая и дождливая погода, то цветок не раскроет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лнечная, то цветки раскроются в 6 часов у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 2-3 часов дня золотятся его гол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-3060720" y="2060640"/>
            <a:ext cx="280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2"/>
          <p:cNvSpPr/>
          <p:nvPr/>
        </p:nvSpPr>
        <p:spPr>
          <a:xfrm>
            <a:off x="1042920" y="9079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ения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«предсказатели»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пог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Users\Светлана\Pictures\матерьял за 17 -18\фото из сада\к собр 17\SAM_3261.JPG"/>
          <p:cNvPicPr/>
          <p:nvPr/>
        </p:nvPicPr>
        <p:blipFill>
          <a:blip r:embed="rId2"/>
          <a:srcRect l="7551" t="8499" r="11942" b="13219"/>
          <a:stretch/>
        </p:blipFill>
        <p:spPr>
          <a:xfrm>
            <a:off x="6372360" y="4508640"/>
            <a:ext cx="1199880" cy="1558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DSCN9811.JPG"/>
          <p:cNvPicPr/>
          <p:nvPr/>
        </p:nvPicPr>
        <p:blipFill>
          <a:blip r:embed="rId3"/>
          <a:srcRect l="11415" t="0" r="20077" b="0"/>
          <a:stretch/>
        </p:blipFill>
        <p:spPr>
          <a:xfrm>
            <a:off x="5076720" y="1484280"/>
            <a:ext cx="16560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0T18:35:25Z</dcterms:created>
  <dc:creator>Светлана Ермолина</dc:creator>
  <dc:description/>
  <dc:language>en-US</dc:language>
  <cp:lastModifiedBy>Светлана Ермолина</cp:lastModifiedBy>
  <dcterms:modified xsi:type="dcterms:W3CDTF">2018-07-22T08:10:03Z</dcterms:modified>
  <cp:revision>98</cp:revision>
  <dc:subject/>
  <dc:title>Проект метеостания</dc:title>
</cp:coreProperties>
</file>