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259-EC6D-4019-B817-D7647076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945-001C-4CB3-B17C-DBC1DFD4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672-9CD4-40C2-BBB9-471160C6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DCD-23CD-41AB-970D-54BAD51A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F3E-2949-4095-A0E1-631D7FB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497-855B-4446-9ED0-744624B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7B7-CEEB-440B-805C-E1FF5588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5FE-FC08-45D9-8321-F1372A3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E8D-B045-4DCE-8017-F6B1C2B8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B7B-DABC-41B4-A335-C212FEA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67E-3374-4651-8133-C11B8A0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3B8-786B-4208-B681-0DA4B4C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EBB7-69FB-4EA4-A484-F80948F1E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7010550"/>
          <p:cNvPicPr/>
          <p:nvPr/>
        </p:nvPicPr>
        <p:blipFill>
          <a:blip r:embed="rId1"/>
          <a:srcRect l="0" t="0" r="0" b="3346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475920"/>
            <a:ext cx="3817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МДОУ г.Энгель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«Детский сад №11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5003640" y="6237360"/>
            <a:ext cx="3818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апунова Н.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1332000" y="2205000"/>
            <a:ext cx="7812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огул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во второй младшей групп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етний период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70836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4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836640"/>
          <a:ext cx="8712360" cy="5211720"/>
        </p:xfrm>
        <a:graphic>
          <a:graphicData uri="http://schemas.openxmlformats.org/drawingml/2006/table">
            <a:tbl>
              <a:tblPr/>
              <a:tblGrid>
                <a:gridCol w="1871640"/>
                <a:gridCol w="4065840"/>
                <a:gridCol w="2774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лнц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ом солнце сильно греет, поэтому дети гуляют в шортиках и панамках: утром -  на открытых участках,а днём — в тени. Почему нельзя гулять под жарким  солнышком? Оно может обжечь нашу кожу. Летнее солнышко — горячее, яркое, высокое. Оно даёт свет и тепло растениям, птицам, животным, людям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е о солнце и его роли в жизни всего живого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-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адки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брое, хорошее, на людей глядит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людям на себя глядеть не вел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солнц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ёлтый в небе карава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юбит всех и согревае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ярко-ярко свети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скажите это дети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солнышко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дложить детям перепрыгнуть из обруча в обру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столик и скамее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70836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660240"/>
          <a:ext cx="8640720" cy="4480200"/>
        </p:xfrm>
        <a:graphic>
          <a:graphicData uri="http://schemas.openxmlformats.org/drawingml/2006/table">
            <a:tbl>
              <a:tblPr/>
              <a:tblGrid>
                <a:gridCol w="2473200"/>
                <a:gridCol w="3247920"/>
                <a:gridCol w="291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ё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Послушайте, как стучат по окну или крыше веранды капли дождя. Летний дождь теплый, быстро кончается. Он поливает растения, очищает от пыли и грязи всё вокруг, делает воздух чистым и свежим. Дождь очень нужен, особенно лет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ка, словно пушистая вата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лывёт и спешит всё время куда-т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чем опускается тучка та ниже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ем дождик становится ближе и ближ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-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Ловкий зайч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ыжки поочерёдно на двух ногах, на правой, на левой выполняются по коман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палываем сорняки на клумбах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16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5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907920"/>
          <a:ext cx="8424720" cy="4481640"/>
        </p:xfrm>
        <a:graphic>
          <a:graphicData uri="http://schemas.openxmlformats.org/drawingml/2006/table">
            <a:tbl>
              <a:tblPr/>
              <a:tblGrid>
                <a:gridCol w="2473200"/>
                <a:gridCol w="3248280"/>
                <a:gridCol w="2703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тр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 на верхушки деревьев. Что с ними происходит? Они слегка раскачиваются. Это — ветер. Как можно его почувствовать, заметить? Качаются ветки деревьев, бегут облак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 нам в окошко на урок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летел вдруг ветерок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слабо он подул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навеску шевельнул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ыгрался – в тот же ча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ал сильнее дуть на нас!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Гуси-лебед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Солдат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арш на мест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омы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635280" y="18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907920"/>
          <a:ext cx="8424720" cy="4664160"/>
        </p:xfrm>
        <a:graphic>
          <a:graphicData uri="http://schemas.openxmlformats.org/drawingml/2006/table">
            <a:tbl>
              <a:tblPr/>
              <a:tblGrid>
                <a:gridCol w="2546280"/>
                <a:gridCol w="3248280"/>
                <a:gridCol w="2630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а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небо, по нему плывут пушистые ,белые облака. Рассмотрите на что они похожи: вот — лошадка, вот — барашек, вот — большая бабочка. Что такое облака? Это  кристаллики воды высоко-высоко в неб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определении состояния погоды; развивать познавательный интерес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по небу бегут обла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начит их ветер спустил с повод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ёгкие лапы, уши и хвос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гче пушинки каждый барбос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вы так от природы лег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дОрово бегать На-пе-ре-гон-ки!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Зайцы и волк</a:t>
                      </a:r>
                      <a:r>
                        <a:rPr b="1" lang="ru-RU" sz="1200" spc="-1" strike="noStrike" baseline="30000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-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63528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549360"/>
          <a:ext cx="8713800" cy="5211720"/>
        </p:xfrm>
        <a:graphic>
          <a:graphicData uri="http://schemas.openxmlformats.org/drawingml/2006/table">
            <a:tbl>
              <a:tblPr/>
              <a:tblGrid>
                <a:gridCol w="1944720"/>
                <a:gridCol w="3849480"/>
                <a:gridCol w="29196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марами и мош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чего, выходя на прогулку, мы мажемся кремами от насекомых? Чтобы нас не беспокоили комары и мошки. Они пронзительно пищат и кусаются. Укус их не опасен, но  очень неприятен. Комар маленькое насекомое, а мошка ещё меньше, но жало у них очень острое, когда они кусают, можно и не заметить, почувствуешь тогда, когда укус начинает чесать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я о насекомых; развивать умение сравнивать; выделять общие и отличительные признаки; воспитывать наблюдательность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адки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зверь, не птица, а нос, как спиц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ит — пищит, а сядет — молч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 его убьёт, свою кровь прольё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комар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решенья не спроси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летел и укусил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комар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64000" y="18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9280" y="549360"/>
          <a:ext cx="8785440" cy="5943600"/>
        </p:xfrm>
        <a:graphic>
          <a:graphicData uri="http://schemas.openxmlformats.org/drawingml/2006/table">
            <a:tbl>
              <a:tblPr/>
              <a:tblGrid>
                <a:gridCol w="1944720"/>
                <a:gridCol w="3662280"/>
                <a:gridCol w="31784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дуванчи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полянку. Какие цветы вы увидели? Жёлтые, яркие, маленькие солнышки — это одуванчики. Их всегда очень много в солнечный денёк. Когда они цветут, всё вокруг становится ярким , солнечным и весёлы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у детей элементарные представления о цветущих одуванчиках.  Побуждать детей узнавать одуванчики и называть их. Развивать словарь прилагательных (желтые, золотые, как солнышко) воспитывать чувство симпатии, бережного отношения к растени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рос он сегодн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ямо на дорожке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елтый одуванчик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лнышко на ножке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оро нарядилс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новые одежки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елым стал, воздушным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ако на ножке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терок развеял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е пушинки-крошки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ысел он, бедный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нопочка на ножке..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лент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а участке камни и сухие вето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692280"/>
          <a:ext cx="8424720" cy="4297320"/>
        </p:xfrm>
        <a:graphic>
          <a:graphicData uri="http://schemas.openxmlformats.org/drawingml/2006/table">
            <a:tbl>
              <a:tblPr/>
              <a:tblGrid>
                <a:gridCol w="2089080"/>
                <a:gridCol w="3446640"/>
                <a:gridCol w="2889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абочк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, как над цветами порхают бабочки. Посмотрите какие у них яркие и большие крылышки. Они сами похожи на летающие цветочки. Это самые красивые насекомы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узнавать и называть уже  известных насекомых; воспитывать интерес и бережное отношение к насекомы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абочка-красавиц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ярком, цветном платьиц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кружилась, полетал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ела на цветок, устала…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Не для отдыха я сел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нектар цветочный ела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Бабочки и кот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Цапля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ойка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борка отцветших цветов и засохших листьев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692280"/>
          <a:ext cx="8496360" cy="4297320"/>
        </p:xfrm>
        <a:graphic>
          <a:graphicData uri="http://schemas.openxmlformats.org/drawingml/2006/table">
            <a:tbl>
              <a:tblPr/>
              <a:tblGrid>
                <a:gridCol w="2232000"/>
                <a:gridCol w="3375000"/>
                <a:gridCol w="2889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.шмел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 на внешний вид летающего над цветами шмеля. Он довольно крупный, яркий жёлто-чёрный, тело покрыто волосками. Сильно похож на пчёл. Питаются шмели пыльцой и цветочным нектар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узнавать и называть уже  известных насекомых; выделять их главные признаки; воспитывать интерес и бережное отношение к насекомы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Шмель тяжёлый, полосаты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лый день летал в сад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не просто так летал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цветы в саду счит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 ворчал: «Трудна работа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ь цветам в саду нет счёта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692280"/>
          <a:ext cx="8642160" cy="5303880"/>
        </p:xfrm>
        <a:graphic>
          <a:graphicData uri="http://schemas.openxmlformats.org/drawingml/2006/table">
            <a:tbl>
              <a:tblPr/>
              <a:tblGrid>
                <a:gridCol w="2017440"/>
                <a:gridCol w="3662640"/>
                <a:gridCol w="2962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евым черв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ле дождя можно встретить на земле дождевого червя. Посмотрите какой он длинный, гладкий, розовый. Это очень полезный червь, он рыхлит почву и корни растений , благодаря ему, получают кислород(воздух, которым они дышат). Кода идёт дождь, червь выползает на поверхность земли, за это его и прозвали — дождевой червяк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знакомить с многообразием животного мира планеты; развивать познавательный интерес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чему на огороде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ервяков не видно, вроде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тому что червя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дыхают у реки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ю неделю без лопат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рекапывали грядки!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т и мыш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707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776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6"/>
          <p:cNvSpPr/>
          <p:nvPr/>
        </p:nvSpPr>
        <p:spPr>
          <a:xfrm>
            <a:off x="0" y="630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549360"/>
          <a:ext cx="8424720" cy="5667120"/>
        </p:xfrm>
        <a:graphic>
          <a:graphicData uri="http://schemas.openxmlformats.org/drawingml/2006/table">
            <a:tbl>
              <a:tblPr/>
              <a:tblGrid>
                <a:gridCol w="1800360"/>
                <a:gridCol w="3735360"/>
                <a:gridCol w="2889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узнечик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лушайте, как в траве трещат кузнечики. Рассмотрите зелёное под цвет травы тело и длинные усы кузнечика. Он прыгает, у него длинные ноги. Если посадить его на ладонь, он подпрыгнет, развернёт крылья и отлетит в сторону. Живёт кузнечик в траве и сам похож на травинк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ить представление о насекомых; учить выделять их главные признаки; знакомить с особенностями внешнего строени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з травы, с зелёной кочки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даётся странный зву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то рядом молоточк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бивают: тук-тук-тук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то к наковальне вста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чень ловкий человече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 в траве застрекота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аленький кузнец — кузнечик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Лохматый пес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3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56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620640"/>
          <a:ext cx="8856720" cy="5756400"/>
        </p:xfrm>
        <a:graphic>
          <a:graphicData uri="http://schemas.openxmlformats.org/drawingml/2006/table">
            <a:tbl>
              <a:tblPr/>
              <a:tblGrid>
                <a:gridCol w="1728720"/>
                <a:gridCol w="4610160"/>
                <a:gridCol w="2517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погодо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росить детей посмотреть на небо, есть ли на небе солнышко или тучи. Отметить какое небо, какая погод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ь внимание детей на верхушки деревьев (раскачиваются – дует ветер)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знаний детей о погоде и погодных явлениях. Развивать наблюдательнос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а прячется за лес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мотрит солнышко с небес –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такое чистое, доброе, лучисто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сли б мы его достали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б его расцелова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ививать любовь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робушки и автомобил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быстро бегать по сигналу, не наталкиваясь друг на друг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ешочки с песком, обручи, мячи, мелкие игруш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здание условий для самостоятельной деятельност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Флажки вверх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стихотворение и просит выполнить все действия, которые в нём описан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руки мы возьмём флажк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ва флажка в две ру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верх поднимем, опуск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ова к небу подним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стараемся, игр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флажочки поднимае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,  ловкость, координацию движений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тереть влажной тряпочкой скамейку  от пы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помочь воспитателю в подготовке участка к прогулк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7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620640"/>
          <a:ext cx="8642160" cy="5396040"/>
        </p:xfrm>
        <a:graphic>
          <a:graphicData uri="http://schemas.openxmlformats.org/drawingml/2006/table">
            <a:tbl>
              <a:tblPr/>
              <a:tblGrid>
                <a:gridCol w="2016000"/>
                <a:gridCol w="3591000"/>
                <a:gridCol w="30351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ом цветов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Любите ли вы купаться в ванне и под душем? Растения тоже любят, кода их поливают, смывают с них пыль, дают напиться корням. Всё растение целиком поливают только вечером. Чтобы солнышко его не обожгло,  днём поливают только под корен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учать способам полива растений, приучать не лить воду без нужд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йка, воду не жалей-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лумбы, грядочки полей-ка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ждик прыгает по грядкам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ает по порядку: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удут свежими цвет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бывалой красот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Тренируем мя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яч вокруг себя ката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а из рук не выпуска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енируйся, не ленись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щё раз не торопись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549360"/>
          <a:ext cx="8785440" cy="6035760"/>
        </p:xfrm>
        <a:graphic>
          <a:graphicData uri="http://schemas.openxmlformats.org/drawingml/2006/table">
            <a:tbl>
              <a:tblPr/>
              <a:tblGrid>
                <a:gridCol w="1765440"/>
                <a:gridCol w="4356000"/>
                <a:gridCol w="2664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чёл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д цветами жужжат пчёлки, собирают сладкий нектар. Давайте и мы с вами пожужжим, как пчёлки. Дети произносят звук «ж»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уда потом полетят пчёлки с нектаром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свои домики, ульи, чтобы превратить нектар в мёд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чёл не стоит бояться, главное при встрече с пчелой не размахивать руками, не пугать пчелу. Кусает лишь напуганное насекомое, а после укуса она погибает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пчёл). Воспитывать внимательное и бережное отношение к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то пчелкам целый день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ирать нектар не лень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несут его потом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улей-свой чудесный дом.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д цветком пчела жужжит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ектар собрать спеши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ь нектар, что соберет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вращает пчелка в мед.</a:t>
                      </a: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ечные зайчики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Догони обру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катывание обруча по земл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95280" y="692280"/>
          <a:ext cx="8569440" cy="5486400"/>
        </p:xfrm>
        <a:graphic>
          <a:graphicData uri="http://schemas.openxmlformats.org/drawingml/2006/table">
            <a:tbl>
              <a:tblPr/>
              <a:tblGrid>
                <a:gridCol w="2089080"/>
                <a:gridCol w="344664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туч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гда тучи приносят летний дождик, вся природа радуется. Тучки бегут по небу, как большие корзины, и несут в себе дожди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ого цвета тучи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 вы думаете, почему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ак они плывут по небу: легко или тяжело? (ответы дет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и наполнены водой. Им тяжело. А вот облака плывут легко. В них меньше вод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явлениях природы; развивать познавательный интерес, наблюдательность, память, мышлен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ча, туча, дай водич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меня и для сестрички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ля берёзки и осин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для тоненькой рябинки.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лк и овцы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с высоким подниманием колен, стараться коленями коснуться груд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3528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79280" y="333360"/>
          <a:ext cx="8856720" cy="6308640"/>
        </p:xfrm>
        <a:graphic>
          <a:graphicData uri="http://schemas.openxmlformats.org/drawingml/2006/table">
            <a:tbl>
              <a:tblPr/>
              <a:tblGrid>
                <a:gridCol w="2009880"/>
                <a:gridCol w="4762440"/>
                <a:gridCol w="2084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грозой (громом)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какой у меня барабан. Петя постучи в барабан. Как звучит барабан? «Бум-бум-бум, трам-там-там!» Спасибо, Петя. У нас барабан маленький. Гром гремит грозно и громко, как будто кто-то большой пребольшой стучит в огромный барабан. После раската грома всегда бывает молния. Она освещает всё небо яркой вспы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ознакомлению детей с природными явлениями (гром)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ремел на небе гр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трясается весь д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ь на улице гроз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зажмурила глаз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лнии сверкают ярко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тром было очень жарко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могу совсем я спат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учше спрячусь под кровать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т, совсем я не трусиха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сто посижу там тих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ляем знание понятий «правая» и «левая» стороны. Для этого используем кубики двух цветов. Перекладываем кубики по сигналу воспитателя: жёлтый — в левую, красный — в правую руки, и наоборо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576360"/>
          <a:ext cx="8785440" cy="6127560"/>
        </p:xfrm>
        <a:graphic>
          <a:graphicData uri="http://schemas.openxmlformats.org/drawingml/2006/table">
            <a:tbl>
              <a:tblPr/>
              <a:tblGrid>
                <a:gridCol w="1584360"/>
                <a:gridCol w="4535640"/>
                <a:gridCol w="266544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лягу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смотрите лягушку на картинке. Какая она? (описываем лягушку) А в каких сказках живёт лягушка? Молодцы, хорошо знаете сказ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вот в жизни лягушка не любит, чтобы её беспокоили. Она прячется в траве, в тенёчке. И если вы вдруг увидели её, то не спешите взять на руки, а лучше попробуйте её внимательно рассмотреть. Лягушка непоседливая, любопытная. Она ловит комаров и мошек. Любит плескаться в воде и погреться на  солнышк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знакомство детей с природой родного края и её обитателями. Рассказать детям о среде обитания лягушки, о том, как она питается, какую пользу приноси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ягушка-квакуш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лыбка до ушей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елая подруж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рыбок и мышей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рыгает по суше -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плавает в вод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селая лягушка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 пропадет нигде!</a:t>
                      </a: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Лягушат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ыжки на двух ногах в положении сид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дорожки, убрать мусор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692280"/>
          <a:ext cx="8713800" cy="4663800"/>
        </p:xfrm>
        <a:graphic>
          <a:graphicData uri="http://schemas.openxmlformats.org/drawingml/2006/table">
            <a:tbl>
              <a:tblPr/>
              <a:tblGrid>
                <a:gridCol w="2089080"/>
                <a:gridCol w="359100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: «Эхо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рассказывает детям про эхо. Если есть возможность его продемонстрировать, то непременно сделайте это. Эхо лучше всего звучит в горах, в лесу. В городских дворах многоэтажек тоже живёт эх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знакомить детей с природным явлением (эхо). Развивать наблюдательность, мышление. Воспитывать желание узнать больше об окружающем нас мире  вещей и явл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прячется в горах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камнями и в кустах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-то громко засмеетс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сразу отзовется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то-то громко закричит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хо тоже не смолчит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опади в круг»</a:t>
                      </a: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гони меня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Змейка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прочерченной на песке лини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635280" y="1152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8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620640"/>
          <a:ext cx="8785440" cy="5853240"/>
        </p:xfrm>
        <a:graphic>
          <a:graphicData uri="http://schemas.openxmlformats.org/drawingml/2006/table">
            <a:tbl>
              <a:tblPr/>
              <a:tblGrid>
                <a:gridCol w="1800360"/>
                <a:gridCol w="395136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ко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ратите внимание, кто там крадётся в траве осторожно, выслеживая воробышка? Это кошка. Какая она? Пушистая, ловкая. Любит умываться язычком, охотиться на птиц и мышей. Очень ласковая, но может и поцарапать, если ей что-то не понравится. Кошек на улице нельзя брать на ру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у детей знаний о домашних животных. Ознакомить детей с повадками кошки, её свободолюбием и независимостью. Воспитывать желание заботиться о домашних питомцах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тапки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пушистые лапки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шубка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пушистая шкур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оньке шарфик с бантом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кроется киска пушистым хвостом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чем нашей киске очки?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иски – большие зрачки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очью и днем киска видит прекрасно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о мышке играть с нашей киской опасно! </a:t>
                      </a: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одьба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6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9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9280" y="404640"/>
          <a:ext cx="8713800" cy="6126480"/>
        </p:xfrm>
        <a:graphic>
          <a:graphicData uri="http://schemas.openxmlformats.org/drawingml/2006/table">
            <a:tbl>
              <a:tblPr/>
              <a:tblGrid>
                <a:gridCol w="1728720"/>
                <a:gridCol w="3951360"/>
                <a:gridCol w="3033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ромашк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подводит детей к месту, где растут полевые ромашки. Внимательно рассматриваем строение растения, его высоту, цвет. Сравниваем с ромашками, которые растут на клумбе. С помощью взрослого дошкольники делают вывод, что ромашки в целом похожи, но есть и отличия. Педагог уточняет, что полевые ромашки рассеял ветер, а садовые посадили заботливые руки людей. Дети анализируют и делают вывод, для чего нужны цветы. Можно добавить в ходе наблюдения, что ромашковый чай полезен и вкусен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формированию у детей знаний о флоре и фауне родного края. Учить находить сходство и различие в полевых и садовых цветах. Развивать мышление. Объяснить, что бездумное срывание полевых цветов наносит урон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цвели ромаш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 лесной опуш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Белые рубашки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ёлтые макуш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лк и овцы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КР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ук «Н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стихотворение, ребёнок должен повторить слова со звуком «н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дем, едем на лошадке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ды, рады все ребятки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ды, рады прокатиться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онко цокают копытца: «Но-но-но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2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520560"/>
          <a:ext cx="8785440" cy="6153120"/>
        </p:xfrm>
        <a:graphic>
          <a:graphicData uri="http://schemas.openxmlformats.org/drawingml/2006/table">
            <a:tbl>
              <a:tblPr/>
              <a:tblGrid>
                <a:gridCol w="1441440"/>
                <a:gridCol w="4103640"/>
                <a:gridCol w="3240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елью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озле нашего участка растут ели.  Подойдём поближе к одной из них и погладим её  иголочки.  Рассмотрите их, они маленькие, пушистые и всегда зелёные, они не опадают осенью, как листья с деревьев, ель остается зеленой, даже когда холодно. Ёлочка смелая, храбрая, не боится осени,  холода и сильной зимней метел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представление о своеобразии ели -  Вызвать восхищение елочкой, которая не боится холодов; пробудить чувство любования ее красотой 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Ели на опушке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о небес макушки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лушают, молчат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мотрят на внуча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внучата — ёлочки 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нкие иголоч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лесных воро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дят хоровод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ечные зайчики»</a:t>
                      </a:r>
                      <a:r>
                        <a:rPr b="1" i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челки»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КР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Что чем делают?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метла — метлой подметаю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лопата — лопатой копаю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грабли — граблями бороня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топор — топором рубят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пила - 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ножницы - 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Это лейка  - ..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564000" y="-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2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0" y="678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0" y="685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476280"/>
          <a:ext cx="8642160" cy="5943600"/>
        </p:xfrm>
        <a:graphic>
          <a:graphicData uri="http://schemas.openxmlformats.org/drawingml/2006/table">
            <a:tbl>
              <a:tblPr/>
              <a:tblGrid>
                <a:gridCol w="1584360"/>
                <a:gridCol w="4095720"/>
                <a:gridCol w="29620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крапив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находит участок, на котором растёт крапива. С помощью перчатки или бумаги аккуратно наклоняет один стебель в сторону, чтобы дети смогли его как следует рассмотре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Это крапив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на может обжечь, её лучше голыми руками не трога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апива полезное растение, её считают лекарственным растением, в ней много витаминов. Листья тёмно-зелёные, словно кудрявые, стебель тонкий, высокий.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знакомить детей со свойствами крапивы (она жгучая, она лечебная, а значит — полезная). Развивать умение использовать накопленные знания в быту. Воспитывать интерес к лекарственным трава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забора, там, где слив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росла у нас крапив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ы её рукой не трон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жёт крапива, как огонь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, притаилась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пушистой притворилась!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тебя, крапива, зн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и за что срывать не стане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с мячом « Подбрось, поймай ! Мяч не роняй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бор крупного мусора (палочек, листьев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7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1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9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620640"/>
          <a:ext cx="8713800" cy="5578560"/>
        </p:xfrm>
        <a:graphic>
          <a:graphicData uri="http://schemas.openxmlformats.org/drawingml/2006/table">
            <a:tbl>
              <a:tblPr/>
              <a:tblGrid>
                <a:gridCol w="1944720"/>
                <a:gridCol w="3790800"/>
                <a:gridCol w="2978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птицами (вороб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говорить с детьми о птицах, которые обитают вблизи жилища людей, в городе. Это -воробьи. Их можно часто встретить на улице. Маленькие проворные птицы звонко чирикают, перелетая с места на место, как будто вовсе никого не боятся, но попробуй их поймай! Это очень сложно. Так стремительно они взлетают и держатся на безопасном расстоянии от всех. Оперение у них очень скромное, серое, неприметное, особенно у сам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ить работу по ознакомлению детей с птицами родного края. Расширить словарный запас детей. Воспитывать любовь и бережное отношение к природ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ачет, скачет воробей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личет маленьких детей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иньте крошек воробью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вам песенку спою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ик-чирик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любовь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оробышки и автомоби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Весёлые вагончи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Char char="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соблюдать правила игры, двигаться только по сигналу воспитателя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Char char="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влекать в игру малоподвижных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ули, самокаты, ведёрки, лопатки, формо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ть условия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едложить ребёнку покатать обруч по земле и пробежаться за ни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скопать песок, очистить его от мусор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воспитывать желание помогать взрослым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492360" y="403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Карточка №2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0" y="678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0" y="685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70"/>
          <p:cNvSpPr/>
          <p:nvPr/>
        </p:nvSpPr>
        <p:spPr>
          <a:xfrm>
            <a:off x="0" y="575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79280" y="836640"/>
          <a:ext cx="8856720" cy="5668920"/>
        </p:xfrm>
        <a:graphic>
          <a:graphicData uri="http://schemas.openxmlformats.org/drawingml/2006/table">
            <a:tbl>
              <a:tblPr/>
              <a:tblGrid>
                <a:gridCol w="1657440"/>
                <a:gridCol w="4248000"/>
                <a:gridCol w="2951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 свойствами воды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, прошёл дождь и на асфальте появились лужицы. Из чего они состоят? Конечно из воды. Сравните воду в моём ведёрке и в лужице.  Вода нагревается на солнце и становится теплой. Водой поливают растения, птицы пьют воду из луж Когда вода чистая, она прозрачная. Вода льется, ее можно переливать из одного сосуда в друг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казать свойства воды. Расширять знания детей о природе. Прививать бережное отношение к земным богатствам, в частности к в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да- это то, что всем жизнь нам дае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силы и бодрости нам придает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истально чиста или очень грязн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любом состоянии полезна она.</a:t>
                      </a:r>
                      <a:br>
                        <a:rPr sz="1200"/>
                      </a:br>
                      <a:br>
                        <a:rPr sz="1200"/>
                      </a:br>
                      <a:br>
                        <a:rPr sz="1200"/>
                      </a:b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шка и воробь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амолётик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по З К Р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вук «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читает </a:t>
                      </a:r>
                      <a:r>
                        <a:rPr b="1" lang="en-US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ихотворение и  просит повторить слова, в которых есть звук «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нашем доме поселился маленький сверч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лько вечер наступает, он берёт смычо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492360" y="403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65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0" y="6896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7580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612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644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703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0"/>
          <p:cNvSpPr/>
          <p:nvPr/>
        </p:nvSpPr>
        <p:spPr>
          <a:xfrm>
            <a:off x="0" y="593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3"/>
          <p:cNvSpPr/>
          <p:nvPr/>
        </p:nvSpPr>
        <p:spPr>
          <a:xfrm>
            <a:off x="0" y="60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836640"/>
          <a:ext cx="8785440" cy="5578560"/>
        </p:xfrm>
        <a:graphic>
          <a:graphicData uri="http://schemas.openxmlformats.org/drawingml/2006/table">
            <a:tbl>
              <a:tblPr/>
              <a:tblGrid>
                <a:gridCol w="1657440"/>
                <a:gridCol w="4537080"/>
                <a:gridCol w="25909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 свойствами песк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равните песок и землю: песок — жёлтый, а земля — чёрная, песок — рассыпчатый, а земля в виде комочков. С песком удобно и интересно играть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тром песок поливают, чтобы он был влажный и воздух на участке был свежий. Сухой песок рассыпается, а из влажного можно лепить куличики .На влажном песке можно рисовать, а если наступить , то останется след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нания о неживой природе, продолжать знакомить со свойствами песка, развивать любознательност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в песочнице игр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роим домик из песка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влеклись, не замечае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носки полны песка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инесли воды в ведёр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бы не сломался дом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расовался на пригорке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его водой польё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словарный запас детей, активизировать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День-ноч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Зайцы и волк</a:t>
                      </a:r>
                      <a:r>
                        <a:rPr b="1" lang="ru-RU" sz="1200" spc="-1" strike="noStrike" baseline="30000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Способствовать двигательной актив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, рули, обручи, скакал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 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детей прыжкам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мести веранду, протереть скам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300"/>
          <p:cNvSpPr/>
          <p:nvPr/>
        </p:nvSpPr>
        <p:spPr>
          <a:xfrm>
            <a:off x="0" y="712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7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8"/>
          <p:cNvSpPr/>
          <p:nvPr/>
        </p:nvSpPr>
        <p:spPr>
          <a:xfrm>
            <a:off x="3635280" y="18828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765000"/>
          <a:ext cx="8424720" cy="4846680"/>
        </p:xfrm>
        <a:graphic>
          <a:graphicData uri="http://schemas.openxmlformats.org/drawingml/2006/table">
            <a:tbl>
              <a:tblPr/>
              <a:tblGrid>
                <a:gridCol w="2016000"/>
                <a:gridCol w="3714840"/>
                <a:gridCol w="2693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  луговыми цвета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дагог предлагает детям пройтись по участку и найти в траве цветы, затем вернуться назад и рассказать, какой цветок нашёл. После того как все дети вернутся, следует их выслушать и на основании их рассказов рассказать о полевых и садовых цветах, о их пользе и красот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представление о том, что растения живые, они растут и изменяю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любовь к прир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цветок сорвать хотела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несла к нему ладонь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пчела с цветка слете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жужжит, жужжит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е тронь!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художественному слов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арусел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Медвежоно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бе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внимательно слушать команды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ориентироваться в пространств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ноцветные флажки, кегли, лейки, ведерки, мя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здать условия для самостоятельной деятельност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детей прыжкам на одной но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цветов на клумб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участвовать в уходе за растения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92360" y="11520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1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692280"/>
          <a:ext cx="8424720" cy="5575320"/>
        </p:xfrm>
        <a:graphic>
          <a:graphicData uri="http://schemas.openxmlformats.org/drawingml/2006/table">
            <a:tbl>
              <a:tblPr/>
              <a:tblGrid>
                <a:gridCol w="1728720"/>
                <a:gridCol w="3844800"/>
                <a:gridCol w="28512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берёзо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нимательно: какие деревья нас окружают? Да, они красивые, стройные, зелёные. А какое дерево называют белоствольным? Почему? Вспомните: какая она была осенью? Зимой? Весной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должать работу по формированию знаний о деревьях родного края. Закрепить знания детей о весенних явлениях, вызвать положительные эмоции. Развивать воображение. Воспитывать бережное отношение к природ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расы-берёзки платье серебри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 красы-берёзки зелены косиц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 двора к берёзке выскочили коз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тали грызть берёзку, а берёзка — в слёз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кинута на спинк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елёная косынка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платьице в полоску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любим все...  (берёзку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Учить детей отгадывать загад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Ручеек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епослушные гус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упражнять в бег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учить внимательно слушать команды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ёрки, ленточки, скакалки, лопатки, формо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учение ходьбе по узкой скамеечке с поддержкой воспитател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лив песка в песочниц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549360"/>
          <a:ext cx="8713800" cy="5627520"/>
        </p:xfrm>
        <a:graphic>
          <a:graphicData uri="http://schemas.openxmlformats.org/drawingml/2006/table">
            <a:tbl>
              <a:tblPr/>
              <a:tblGrid>
                <a:gridCol w="1944720"/>
                <a:gridCol w="3859200"/>
                <a:gridCol w="2909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муравьям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внимательно на землю и вы увидите маленьких черненьких насекомых, ползущих друг за другом, очень быстро. Это муравь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А какие они, муравьишки? Сами маленькие, ножки крошечные, усики тоненьк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они делают? Зачем? (ответы детей.) давайте за ними понаблюдаем. Что вы заметили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(муравьи друг друга не толкают, ничего друг у друга не отбирают. Они все заняты своим важным делом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3366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кие муравьи? (трудолюбивые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давайте и мы с вами будем играть дружно, так будет интереснее и веселе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муравьёв). Воспитывать бережное отношение к миру природы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шка - не бездельник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лый день он в муравейник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осит, носит без заминк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блетевшие хвоин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вуковую культуру речи. Расширять словарный запас детей и активировать их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Пузырь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аседка и цыплята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умения согласовывать свои движения с произносимыми словами. Развивать внимание 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ёрки, ленточки, скакалки, лопатки, формочк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гра «Какая? Какой?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чить высказываться, правильно подбирать слов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рать на участке сухие веточки и камн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2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33360"/>
          <a:ext cx="8713800" cy="6310440"/>
        </p:xfrm>
        <a:graphic>
          <a:graphicData uri="http://schemas.openxmlformats.org/drawingml/2006/table">
            <a:tbl>
              <a:tblPr/>
              <a:tblGrid>
                <a:gridCol w="2017440"/>
                <a:gridCol w="3772080"/>
                <a:gridCol w="29242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муравейник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те на этот муравьиный домик. Кто знает, как называется такой домик? Муравейник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 что он похож? (ответы детей.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авайте внимательно рассмотрим, из чего он сделан. Здесь и маленькие палочки, и соломинки, и травинки, и пушинки, и семена растений. Как много всего нужного принесли муравь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 муравейнике как в большом доме, имеются и спаленки, и детские, и множество коридорчиков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знания детей о жизни насекомых (муравьёв). Воспитывать бережное отношение к миру природы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смотри-ка, что за коч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 берёзой у пенёчка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 дорожкам там и ту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 кочке муравьи бегут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 соломку, то травинк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ружно тащат по тропинк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ей — это дом,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ями сделан он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уравьиный домик м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хранять с тобой должн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Формировать звуковую культуру речи. Расширять словарный запас детей и активировать их реч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Жил у бабушки козел”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Кот и мыши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ять в беге, ходьбе, ползани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координацию движений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:«прыжки с хлопкам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мары летают, вьютс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нам в руки не даю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качем с самого утра: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овим, ловим комара.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уличные игруш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7307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Карточка №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7670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0"/>
          <p:cNvSpPr/>
          <p:nvPr/>
        </p:nvSpPr>
        <p:spPr>
          <a:xfrm>
            <a:off x="0" y="744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981000"/>
          <a:ext cx="7993080" cy="5121360"/>
        </p:xfrm>
        <a:graphic>
          <a:graphicData uri="http://schemas.openxmlformats.org/drawingml/2006/table">
            <a:tbl>
              <a:tblPr/>
              <a:tblGrid>
                <a:gridCol w="1800000"/>
                <a:gridCol w="3859200"/>
                <a:gridCol w="233388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ужицами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ебята, а что с нашими дорожками случилось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шёл дождик и оставил лужи на дорожках. На что они похожи? На маленькие озёра. А что это там, в лужице? Это отображается небо и облака. А если мы посмотрим в лужицу, то увидим там себя. Каждая лужица как маленькое зеркальце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сширять представления детей о явлениях природы, об их значении в нашей жизни. Развивать речь, мышление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з лужицы водиц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икак нельзя умыть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ишь только у колодц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мыться  нам придётся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Жмурки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Наседка и цыплята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Паровоз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гудел парово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 вагончики повё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у-чу-чу! Чу-чу-чу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вагончики качу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-т-ту! Та-та-та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ы возьмём с собой к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звуковую культуру реч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брать на участке сухие веточки и камн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11280" y="692280"/>
          <a:ext cx="7993080" cy="274680"/>
        </p:xfrm>
        <a:graphic>
          <a:graphicData uri="http://schemas.openxmlformats.org/drawingml/2006/table">
            <a:tbl>
              <a:tblPr/>
              <a:tblGrid>
                <a:gridCol w="1800000"/>
                <a:gridCol w="3889440"/>
                <a:gridCol w="2303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tsvetyshhiy-may-shablon-2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0" y="748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492360" y="-72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очка №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785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762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3"/>
          <p:cNvSpPr/>
          <p:nvPr/>
        </p:nvSpPr>
        <p:spPr>
          <a:xfrm>
            <a:off x="0" y="675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404640"/>
          <a:ext cx="8785440" cy="5669280"/>
        </p:xfrm>
        <a:graphic>
          <a:graphicData uri="http://schemas.openxmlformats.org/drawingml/2006/table">
            <a:tbl>
              <a:tblPr/>
              <a:tblGrid>
                <a:gridCol w="1944720"/>
                <a:gridCol w="4248360"/>
                <a:gridCol w="2592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блюдение з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ополиным пухом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Обратите внимание на деревья с гроздьями белого пуха. Что это за растение? Белое, похожее на вату, свисает с ветвей, летает в воздухе и лежит на земле — это тополиный пух. Поздней весной и ранним летом тополиный пух опускается на землю, если приглядеться, можно увидеть маленькие семена тополя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Закреплять знания о деревьях; учить различать различные виды деревьев; воспитывать интерес к жизни раст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Художественное слово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Что за странная метель?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ег посыпал в жаркий день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Снежинки летают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От тепла не тают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Лезут всюду: в глаз и в нос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х! Оказалось, это … Пух!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интерес к  художественному слов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Мишка-медведь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«Солнышко и дождик»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внимание ловкость, быстроту.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ыносной материал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едерки, формочки, лопатки, мячики, машинки, леечки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- создание условий для самостоятельной деятельности дете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Индивидуальная работа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Упражнение «Послушный мяч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Я рукой катаю мяч 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ти-кач, кати-ка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не легко его ката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ати-кач, кати-ка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ередам руке другой 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Развивать основные виды движений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Моем столик и скамеечк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Воспитывать желание оказывать посильную помощь воспитателю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09:17:16Z</dcterms:created>
  <dc:creator>Марина</dc:creator>
  <dc:description/>
  <dc:language>en-US</dc:language>
  <cp:lastModifiedBy>User</cp:lastModifiedBy>
  <dcterms:modified xsi:type="dcterms:W3CDTF">2018-07-22T09:18:10Z</dcterms:modified>
  <cp:revision>21</cp:revision>
  <dc:subject/>
  <dc:title>Слайд 1</dc:title>
</cp:coreProperties>
</file>