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F96-9FC1-43B8-AADA-AEE24518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044-26C3-4916-851C-94F18089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83C-7CDE-4C29-92AB-5098241E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42B-5E86-4ADC-9E38-1F09A28E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895-B4FA-4895-9A7F-2AAE5622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D0F-50AD-48B3-BD82-C36E5826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7A4-39EB-4F54-A25A-6172C3B8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941-9FD6-471B-8B6C-B28786E8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E9B-BF38-4249-86E2-134D246E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C48-B191-4735-9BC1-92043B30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4D5-7104-4F53-8451-F34F8F74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043-66BA-4E04-8ADE-EFAA22AB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11FB-215C-4982-B530-9A3776177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9" descr="7010550"/>
          <p:cNvPicPr/>
          <p:nvPr/>
        </p:nvPicPr>
        <p:blipFill>
          <a:blip r:embed="rId1"/>
          <a:srcRect l="0" t="0" r="0" b="3346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5640" y="475920"/>
            <a:ext cx="3817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МДОУ г.Энгель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«Детский сад №11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5003640" y="6237360"/>
            <a:ext cx="3818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апунова Н.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1332000" y="2205000"/>
            <a:ext cx="7812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огул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о второй младшей групп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етний период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708360" y="18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4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836640"/>
          <a:ext cx="8712360" cy="5211720"/>
        </p:xfrm>
        <a:graphic>
          <a:graphicData uri="http://schemas.openxmlformats.org/drawingml/2006/table">
            <a:tbl>
              <a:tblPr/>
              <a:tblGrid>
                <a:gridCol w="1871640"/>
                <a:gridCol w="4065840"/>
                <a:gridCol w="27748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лнц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том солнце сильно греет, поэтому дети гуляют в шортиках и панамках: утром -  на открытых участках,а днём — в тени. Почему нельзя гулять под жарким  солнышком? Оно может обжечь нашу кожу. Летнее солнышко — горячее, яркое, высокое. Оно даёт свет и тепло растениям, птицам, животным, людям.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крепить представление о солнце и его роли в жизни всего живого; развивать познавательный интерес; воспитывать наблюдательность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-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гадки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брое, хорошее, на людей глядит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людям на себя глядеть не вели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(солнце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Жёлтый в небе карава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юбит всех и согревае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чень ярко-ярко свети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 скажите это дети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(солнышко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отгадывать загад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ышко и дождик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обру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едложить детям перепрыгнуть из обруча в обру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оем столик и скамееч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708360" y="18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2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660240"/>
          <a:ext cx="8640720" cy="4480200"/>
        </p:xfrm>
        <a:graphic>
          <a:graphicData uri="http://schemas.openxmlformats.org/drawingml/2006/table">
            <a:tbl>
              <a:tblPr/>
              <a:tblGrid>
                <a:gridCol w="2473200"/>
                <a:gridCol w="3247920"/>
                <a:gridCol w="2919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ждё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Послушайте, как стучат по окну или крыше веранды капли дождя. Летний дождь теплый, быстро кончается. Он поливает растения, очищает от пыли и грязи всё вокруг, делает воздух чистым и свежим. Дождь очень нужен, особенно лет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ять в определении состояния погоды; развивать познавательный интерес; воспитывать наблюдательность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учка, словно пушистая вата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лывёт и спешит всё время куда-т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чем опускается тучка та ниже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ем дождик становится ближе и ближ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ышко и дождик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обру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-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Ловкий зайчик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ыжки поочерёдно на двух ногах, на правой, на левой выполняются по команд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палываем сорняки на клумбах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16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635280" y="18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Карточка №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5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907920"/>
          <a:ext cx="8424720" cy="4481640"/>
        </p:xfrm>
        <a:graphic>
          <a:graphicData uri="http://schemas.openxmlformats.org/drawingml/2006/table">
            <a:tbl>
              <a:tblPr/>
              <a:tblGrid>
                <a:gridCol w="2473200"/>
                <a:gridCol w="3248280"/>
                <a:gridCol w="27032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тр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ратите внимание на верхушки деревьев. Что с ними происходит? Они слегка раскачиваются. Это — ветер. Как можно его почувствовать, заметить? Качаются ветки деревьев, бегут облак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ять в определении состояния погоды; развивать познавательный интерес; воспитывать наблюдательность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 нам в окошко на урок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летел вдруг ветерок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чень слабо он подул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навеску шевельнул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ыгрался – в тот же час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тал сильнее дуть на нас!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Гуси-лебед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ленто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Солдати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арш на мест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омыть скам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635280" y="18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907920"/>
          <a:ext cx="8424720" cy="4664160"/>
        </p:xfrm>
        <a:graphic>
          <a:graphicData uri="http://schemas.openxmlformats.org/drawingml/2006/table">
            <a:tbl>
              <a:tblPr/>
              <a:tblGrid>
                <a:gridCol w="2546280"/>
                <a:gridCol w="3248280"/>
                <a:gridCol w="2630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лак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на небо, по нему плывут пушистые ,белые облака. Рассмотрите на что они похожи: вот — лошадка, вот — барашек, вот — большая бабочка. Что такое облака? Это  кристаллики воды высоко-высоко в неб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ять в определении состояния погоды; развивать познавательный интерес; воспитывать наблюдательность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сли по небу бегут облак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начит их ветер спустил с поводк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ёгкие лапы, уши и хвост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гче пушинки каждый барбос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сли вы так от природы легки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дОрово бегать На-пе-ре-гон-ки!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Зайцы и волк</a:t>
                      </a:r>
                      <a:r>
                        <a:rPr b="1" lang="ru-RU" sz="1200" spc="-1" strike="noStrike" baseline="30000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ленто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-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по узкой скамеечке с поддержкой воспитател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ирать на участке камни и сухие веточ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635280" y="-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549360"/>
          <a:ext cx="8713800" cy="5211720"/>
        </p:xfrm>
        <a:graphic>
          <a:graphicData uri="http://schemas.openxmlformats.org/drawingml/2006/table">
            <a:tbl>
              <a:tblPr/>
              <a:tblGrid>
                <a:gridCol w="1944720"/>
                <a:gridCol w="3849480"/>
                <a:gridCol w="2919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омарами и мошк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ля чего, выходя на прогулку, мы мажемся кремами от насекомых? Чтобы нас не беспокоили комары и мошки. Они пронзительно пищат и кусаются. Укус их не опасен, но  очень неприятен. Комар маленькое насекомое, а мошка ещё меньше, но жало у них очень острое, когда они кусают, можно и не заметить, почувствуешь тогда, когда укус начинает чесать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крепить представления о насекомых; развивать умение сравнивать; выделять общие и отличительные признаки; воспитывать наблюдательность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гадки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 зверь, не птица, а нос, как спиц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тит — пищит, а сядет — молчи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то его убьёт, свою кровь прольё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(комар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решенья не спроси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летел и укусил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(комар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отгадывать загад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шка и воробь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ленто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Змейка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по прочерченной на песке лини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ирать на участке камни и сухие веточ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564000" y="18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9280" y="549360"/>
          <a:ext cx="8785440" cy="5943600"/>
        </p:xfrm>
        <a:graphic>
          <a:graphicData uri="http://schemas.openxmlformats.org/drawingml/2006/table">
            <a:tbl>
              <a:tblPr/>
              <a:tblGrid>
                <a:gridCol w="1944720"/>
                <a:gridCol w="3662280"/>
                <a:gridCol w="3178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дуванчик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на полянку. Какие цветы вы увидели? Жёлтые, яркие, маленькие солнышки — это одуванчики. Их всегда очень много в солнечный денёк. Когда они цветут, всё вокруг становится ярким , солнечным и весёлы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у детей элементарные представления о цветущих одуванчиках.  Побуждать детей узнавать одуванчики и называть их. Развивать словарь прилагательных (желтые, золотые, как солнышко) воспитывать чувство симпатии, бережного отношения к растени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рос он сегодня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ямо на дорожке-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Желтый одуванчик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лнышко на ножке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коро нарядился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новые одежки: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елым стал, воздушным-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лако на ножке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терок развеял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се пушинки-крошки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лысел он, бедный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нопочка на ножке..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шка и воробь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ленто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Змейка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по прочерченной на песке лини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ирать на участке камни и сухие веточ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692280"/>
          <a:ext cx="8424720" cy="4297320"/>
        </p:xfrm>
        <a:graphic>
          <a:graphicData uri="http://schemas.openxmlformats.org/drawingml/2006/table">
            <a:tbl>
              <a:tblPr/>
              <a:tblGrid>
                <a:gridCol w="2089080"/>
                <a:gridCol w="3446640"/>
                <a:gridCol w="2889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абочк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ратите внимание, как над цветами порхают бабочки. Посмотрите какие у них яркие и большие крылышки. Они сами похожи на летающие цветочки. Это самые красивые насекомы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узнавать и называть уже  известных насекомых; воспитывать интерес и бережное отношение к насекомы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абочка-красавиц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ярком, цветном платьиц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кружилась, полетал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ела на цветок, устала…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Не для отдыха я сел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нектар цветочный ела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Бабочки и кот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Автомобил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Цапля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тойка на одной ног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борка отцветших цветов и засохших листьев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5280" y="692280"/>
          <a:ext cx="8496360" cy="4297320"/>
        </p:xfrm>
        <a:graphic>
          <a:graphicData uri="http://schemas.openxmlformats.org/drawingml/2006/table">
            <a:tbl>
              <a:tblPr/>
              <a:tblGrid>
                <a:gridCol w="2232000"/>
                <a:gridCol w="3375000"/>
                <a:gridCol w="2889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.шмел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ратите внимание на внешний вид летающего над цветами шмеля. Он довольно крупный, яркий жёлто-чёрный, тело покрыто волосками. Сильно похож на пчёл. Питаются шмели пыльцой и цветочным нектар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узнавать и называть уже  известных насекомых; выделять их главные признаки; воспитывать интерес и бережное отношение к насекомым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Шмель тяжёлый, полосаты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Целый день летал в сад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н не просто так лета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н цветы в саду счит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н ворчал: «Трудна работа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ь цветам в саду нет счёта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чел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Автомобил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с мячом « Подбрось, поймай ! Мяч не роняй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692280"/>
          <a:ext cx="8642160" cy="5303880"/>
        </p:xfrm>
        <a:graphic>
          <a:graphicData uri="http://schemas.openxmlformats.org/drawingml/2006/table">
            <a:tbl>
              <a:tblPr/>
              <a:tblGrid>
                <a:gridCol w="2017440"/>
                <a:gridCol w="3662640"/>
                <a:gridCol w="2962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ждевым черв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ле дождя можно встретить на земле дождевого червя. Посмотрите какой он длинный, гладкий, розовый. Это очень полезный червь, он рыхлит почву и корни растений , благодаря ему, получают кислород(воздух, которым они дышат). Кода идёт дождь, червь выползает на поверхность земли, за это его и прозвали — дождевой червяк.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ать знакомить с многообразием животного мира планеты; развивать познавательный интерес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чему на огороде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ервяков не видно, вроде?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тому что червяк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тдыхают у реки -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сю неделю без лопатк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рекапывали грядки!</a:t>
                      </a:r>
                      <a:br>
                        <a:rPr sz="1200"/>
                      </a:b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арусел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т и мыш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с мячом « Подбрось, поймай ! Мяч не роняй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6"/>
          <p:cNvSpPr/>
          <p:nvPr/>
        </p:nvSpPr>
        <p:spPr>
          <a:xfrm>
            <a:off x="0" y="630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549360"/>
          <a:ext cx="8424720" cy="5667120"/>
        </p:xfrm>
        <a:graphic>
          <a:graphicData uri="http://schemas.openxmlformats.org/drawingml/2006/table">
            <a:tbl>
              <a:tblPr/>
              <a:tblGrid>
                <a:gridCol w="1800360"/>
                <a:gridCol w="3735360"/>
                <a:gridCol w="2889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узнечик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лушайте, как в траве трещат кузнечики. Рассмотрите зелёное под цвет травы тело и длинные усы кузнечика. Он прыгает, у него длинные ноги. Если посадить его на ладонь, он подпрыгнет, развернёт крылья и отлетит в сторону. Живёт кузнечик в траве и сам похож на травинк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крепить представление о насекомых; учить выделять их главные признаки; знакомить с особенностями внешнего строени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з травы, с зелёной кочки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даётся странный зву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удто рядом молоточк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бивают: тук-тук-тук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удто к наковальне вста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чень ловкий человече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о в траве застрекота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аленький кузнец — кузнечик.</a:t>
                      </a:r>
                      <a:br>
                        <a:rPr sz="1200"/>
                      </a:b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Лохматый пес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гони меня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с мячом « Подбрось, поймай ! Мяч не роняй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53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56"/>
          <p:cNvSpPr/>
          <p:nvPr/>
        </p:nvSpPr>
        <p:spPr>
          <a:xfrm>
            <a:off x="3635280" y="18828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620640"/>
          <a:ext cx="8856720" cy="5756400"/>
        </p:xfrm>
        <a:graphic>
          <a:graphicData uri="http://schemas.openxmlformats.org/drawingml/2006/table">
            <a:tbl>
              <a:tblPr/>
              <a:tblGrid>
                <a:gridCol w="1728720"/>
                <a:gridCol w="4610160"/>
                <a:gridCol w="25178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 погодо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просить детей посмотреть на небо, есть ли на небе солнышко или тучи. Отметить какое небо, какая погод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ратить внимание детей на верхушки деревьев (раскачиваются – дует ветер)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ать работу по формированию знаний детей о погоде и погодных явлениях. Развивать наблюдательност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уча прячется за лес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мотрит солнышко с небес –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такое чистое, доброе, лучисто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сли б мы его достали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б его расцелова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ививать любовь к художественному слов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Воробушки и автомобиль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опади в круг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быстро бегать по сигналу, не наталкиваясь друг на друг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ешочки с песком, обручи, мячи, мелкие игруш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здание условий для самостоятельной деятельност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Флажки вверх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читает стихотворение и просит выполнить все действия, которые в нём описан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руки мы возьмём флажк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ва флажка в две ру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верх поднимем, опуска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нова к небу поднима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стараемся, игра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флажочки поднима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,  ловкость, координацию движений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тереть влажной тряпочкой скамейку  от пы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помочь воспитателю в подготовке участка к прогулк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7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24000" y="620640"/>
          <a:ext cx="8642160" cy="5396040"/>
        </p:xfrm>
        <a:graphic>
          <a:graphicData uri="http://schemas.openxmlformats.org/drawingml/2006/table">
            <a:tbl>
              <a:tblPr/>
              <a:tblGrid>
                <a:gridCol w="2016000"/>
                <a:gridCol w="3591000"/>
                <a:gridCol w="3035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ом цветов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Любите ли вы купаться в ванне и под душем? Растения тоже любят, кода их поливают, смывают с них пыль, дают напиться корням. Всё растение целиком поливают только вечером. Чтобы солнышко его не обожгло,  днём поливают только под корен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учать способам полива растений, приучать не лить воду без нужд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йка, воду не жалей-к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лумбы, грядочки полей-ка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ждик прыгает по грядкам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ает по порядку: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удут свежими цвет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бывалой красот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опади в круг»</a:t>
                      </a: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гони меня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Тренируем мяч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яч вокруг себя ката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а из рук не выпуска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енируйся, не ленись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щё раз не торопись.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549360"/>
          <a:ext cx="8785440" cy="6035760"/>
        </p:xfrm>
        <a:graphic>
          <a:graphicData uri="http://schemas.openxmlformats.org/drawingml/2006/table">
            <a:tbl>
              <a:tblPr/>
              <a:tblGrid>
                <a:gridCol w="1765440"/>
                <a:gridCol w="4356000"/>
                <a:gridCol w="2664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чёлк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д цветами жужжат пчёлки, собирают сладкий нектар. Давайте и мы с вами пожужжим, как пчёлки. Дети произносят звук «ж»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куда потом полетят пчёлки с нектаром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свои домики, ульи, чтобы превратить нектар в мёд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чёл не стоит бояться, главное при встрече с пчелой не размахивать руками, не пугать пчелу. Кусает лишь напуганное насекомое, а после укуса она погибает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знания детей о жизни насекомых (пчёл). Воспитывать внимательное и бережное отношение к природ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то пчелкам целый день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ирать нектар не лень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тнесут его потом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улей-свой чудесный дом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д цветком пчела жужжит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нектар собрать спешит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сь нектар, что соберет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евращает пчелка в мед.</a:t>
                      </a: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ечные зайчики»</a:t>
                      </a: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чел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Догони обруч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катывание обруча по земл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 цветов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5280" y="692280"/>
          <a:ext cx="8569440" cy="5486400"/>
        </p:xfrm>
        <a:graphic>
          <a:graphicData uri="http://schemas.openxmlformats.org/drawingml/2006/table">
            <a:tbl>
              <a:tblPr/>
              <a:tblGrid>
                <a:gridCol w="2089080"/>
                <a:gridCol w="3446640"/>
                <a:gridCol w="3033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туч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огда тучи приносят летний дождик, вся природа радуется. Тучки бегут по небу, как большие корзины, и несут в себе дожди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акого цвета тучи? (ответы дет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ак вы думаете, почему? (ответы дет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как они плывут по небу: легко или тяжело? (ответы дет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ни наполнены водой. Им тяжело. А вот облака плывут легко. В них меньше вод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знания детей о явлениях природы; развивать познавательный интерес, наблюдательность, память, мышлени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уча, туча, дай водичк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ля меня и для сестрички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ля берёзки и осинки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для тоненькой рябинки.</a:t>
                      </a:r>
                      <a:br>
                        <a:rPr sz="1200"/>
                      </a:b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ышко и дождик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Волк и овцы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с высоким подниманием колен, стараться коленями коснуться груд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бор крупного мусора (палочек, листьев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635280" y="-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79280" y="333360"/>
          <a:ext cx="8856720" cy="6308640"/>
        </p:xfrm>
        <a:graphic>
          <a:graphicData uri="http://schemas.openxmlformats.org/drawingml/2006/table">
            <a:tbl>
              <a:tblPr/>
              <a:tblGrid>
                <a:gridCol w="2009880"/>
                <a:gridCol w="4762440"/>
                <a:gridCol w="2084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грозой (громом)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какой у меня барабан. Петя постучи в барабан. Как звучит барабан? «Бум-бум-бум, трам-там-там!» Спасибо, Петя. У нас барабан маленький. Гром гремит грозно и громко, как будто кто-то большой пребольшой стучит в огромный барабан. После раската грома всегда бывает молния. Она освещает всё небо яркой вспышк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ить работу по ознакомлению детей с природными явлениями (гром)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гремел на небе гро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трясается весь до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ь на улице гроз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зажмурила глаз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олнии сверкают ярко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тром было очень жарко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 могу совсем я спать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учше спрячусь под кровать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т, совсем я не трусиха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сто посижу там тих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арусел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крепляем знание понятий «правая» и «левая» стороны. Для этого используем кубики двух цветов. Перекладываем кубики по сигналу воспитателя: жёлтый — в левую, красный — в правую руки, и наоборо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бор крупного мусора (палочек, листьев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576360"/>
          <a:ext cx="8785440" cy="6127560"/>
        </p:xfrm>
        <a:graphic>
          <a:graphicData uri="http://schemas.openxmlformats.org/drawingml/2006/table">
            <a:tbl>
              <a:tblPr/>
              <a:tblGrid>
                <a:gridCol w="1584360"/>
                <a:gridCol w="4535640"/>
                <a:gridCol w="2665440"/>
              </a:tblGrid>
              <a:tr h="28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лягушк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смотрите лягушку на картинке. Какая она? (описываем лягушку) А в каких сказках живёт лягушка? Молодцы, хорошо знаете сказ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вот в жизни лягушка не любит, чтобы её беспокоили. Она прячется в траве, в тенёчке. И если вы вдруг увидели её, то не спешите взять на руки, а лучше попробуйте её внимательно рассмотреть. Лягушка непоседливая, любопытная. Она ловит комаров и мошек. Любит плескаться в воде и погреться на  солнышк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ать знакомство детей с природой родного края и её обитателями. Рассказать детям о среде обитания лягушки, о том, как она питается, какую пользу приноси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ягушка-квакушка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лыбка до ушей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селая подружка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рыбок и мышей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прыгает по суше -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плавает в вод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селая лягушка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 пропадет нигде!</a:t>
                      </a: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арусел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Лягушата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ыжки на двух ногах в положении сид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дорожки, убрать мусор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692280"/>
          <a:ext cx="8713800" cy="4663800"/>
        </p:xfrm>
        <a:graphic>
          <a:graphicData uri="http://schemas.openxmlformats.org/drawingml/2006/table">
            <a:tbl>
              <a:tblPr/>
              <a:tblGrid>
                <a:gridCol w="2089080"/>
                <a:gridCol w="3591000"/>
                <a:gridCol w="3033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: «Эхо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рассказывает детям про эхо. Если есть возможность его продемонстрировать, то непременно сделайте это. Эхо лучше всего звучит в горах, в лесу. В городских дворах многоэтажек тоже живёт эх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знакомить детей с природным явлением (эхо). Развивать наблюдательность, мышление. Воспитывать желание узнать больше об окружающем нас мире  вещей и явл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хо прячется в горах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 камнями и в кустах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то-то громко засмеется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хо сразу отзовется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то-то громко закричит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хо тоже не смолчит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опади в круг»</a:t>
                      </a: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гони меня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Змейка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по прочерченной на песке лини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 цветов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8"/>
          <p:cNvSpPr/>
          <p:nvPr/>
        </p:nvSpPr>
        <p:spPr>
          <a:xfrm>
            <a:off x="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620640"/>
          <a:ext cx="8785440" cy="5853240"/>
        </p:xfrm>
        <a:graphic>
          <a:graphicData uri="http://schemas.openxmlformats.org/drawingml/2006/table">
            <a:tbl>
              <a:tblPr/>
              <a:tblGrid>
                <a:gridCol w="1800360"/>
                <a:gridCol w="3951360"/>
                <a:gridCol w="3033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кошк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ратите внимание, кто там крадётся в траве осторожно, выслеживая воробышка? Это кошка. Какая она? Пушистая, ловкая. Любит умываться язычком, охотиться на птиц и мышей. Очень ласковая, но может и поцарапать, если ей что-то не понравится. Кошек на улице нельзя брать на ру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ать работу по формированию у детей знаний о домашних животных. Ознакомить детей с повадками кошки, её свободолюбием и независимостью. Воспитывать желание заботиться о домашних питомцах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чем нашей кисоньке тапки?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киски – пушистые лапки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чем нашей кисоньке шубка?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киски – пушистая шкурк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чем нашей кисоньке шарфик с бантом?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кроется киска пушистым хвостом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чем нашей киске очки?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киски – большие зрачки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ночью и днем киска видит прекрасно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о мышке играть с нашей киской опасно! </a:t>
                      </a:r>
                      <a:br>
                        <a:rPr sz="1200"/>
                      </a:b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шка и воробь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по узкой скамеечке с поддержкой воспитател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564000" y="-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6"/>
          <p:cNvSpPr/>
          <p:nvPr/>
        </p:nvSpPr>
        <p:spPr>
          <a:xfrm>
            <a:off x="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9"/>
          <p:cNvSpPr/>
          <p:nvPr/>
        </p:nvSpPr>
        <p:spPr>
          <a:xfrm>
            <a:off x="0" y="703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79280" y="404640"/>
          <a:ext cx="8713800" cy="6126480"/>
        </p:xfrm>
        <a:graphic>
          <a:graphicData uri="http://schemas.openxmlformats.org/drawingml/2006/table">
            <a:tbl>
              <a:tblPr/>
              <a:tblGrid>
                <a:gridCol w="1728720"/>
                <a:gridCol w="3951360"/>
                <a:gridCol w="3033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ромашк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подводит детей к месту, где растут полевые ромашки. Внимательно рассматриваем строение растения, его высоту, цвет. Сравниваем с ромашками, которые растут на клумбе. С помощью взрослого дошкольники делают вывод, что ромашки в целом похожи, но есть и отличия. Педагог уточняет, что полевые ромашки рассеял ветер, а садовые посадили заботливые руки людей. Дети анализируют и делают вывод, для чего нужны цветы. Можно добавить в ходе наблюдения, что ромашковый чай полезен и вкусен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ить работу по формированию у детей знаний о флоре и фауне родного края. Учить находить сходство и различие в полевых и садовых цветах. Развивать мышление. Объяснить, что бездумное срывание полевых цветов наносит урон природ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цвели ромашк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 лесной опушк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елые рубашки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Жёлтые макуш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ышко и дождик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Волк и овцы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 по ЗКР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вук «Н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читает стихотворение, ребёнок должен повторить слова со звуком «н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дем, едем на лошадке: «Но-но-но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ды, рады все ребятки: «Но-но-но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ды, рады прокатиться: «Но-но-но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вонко цокают копытца: «Но-но-но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звуковую культуру ре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3564000" y="-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7"/>
          <p:cNvSpPr/>
          <p:nvPr/>
        </p:nvSpPr>
        <p:spPr>
          <a:xfrm>
            <a:off x="0" y="703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520560"/>
          <a:ext cx="8785440" cy="6153120"/>
        </p:xfrm>
        <a:graphic>
          <a:graphicData uri="http://schemas.openxmlformats.org/drawingml/2006/table">
            <a:tbl>
              <a:tblPr/>
              <a:tblGrid>
                <a:gridCol w="1441440"/>
                <a:gridCol w="4103640"/>
                <a:gridCol w="3240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елью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возле нашего участка растут ели.  Подойдём поближе к одной из них и погладим её  иголочки.  Рассмотрите их, они маленькие, пушистые и всегда зелёные, они не опадают осенью, как листья с деревьев, ель остается зеленой, даже когда холодно. Ёлочка смелая, храбрая, не боится осени,  холода и сильной зимней метели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представление о своеобразии ели -  Вызвать восхищение елочкой, которая не боится холодов; пробудить чувство любования ее красотой 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ли на опушке -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 небес макушки -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лушают, молчат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мотрят на внучат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внучата — ёлочки -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онкие иголочк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лесных ворот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дят хоровод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ечные зайчики»</a:t>
                      </a:r>
                      <a:r>
                        <a:rPr b="1" i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челки»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 по ЗКР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Что чем делают?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метла — метлой подметают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лопата — лопатой копают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грабли — граблями боронят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топор — топором рубят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пила - …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ножницы - …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Это лейка  - ..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звуковую культуру речи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 цвето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564000" y="-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Карточка №2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0" y="6789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0" y="685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50920" y="476280"/>
          <a:ext cx="8642160" cy="5943600"/>
        </p:xfrm>
        <a:graphic>
          <a:graphicData uri="http://schemas.openxmlformats.org/drawingml/2006/table">
            <a:tbl>
              <a:tblPr/>
              <a:tblGrid>
                <a:gridCol w="1584360"/>
                <a:gridCol w="4095720"/>
                <a:gridCol w="2962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крапив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находит участок, на котором растёт крапива. С помощью перчатки или бумаги аккуратно наклоняет один стебель в сторону, чтобы дети смогли его как следует рассмотрет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крапив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на может обжечь, её лучше голыми руками не трогат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рапива полезное растение, её считают лекарственным растением, в ней много витаминов. Листья тёмно-зелёные, словно кудрявые, стебель тонкий, высокий.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знакомить детей со свойствами крапивы (она жгучая, она лечебная, а значит — полезная). Развивать умение использовать накопленные знания в быту. Воспитывать интерес к лекарственным травам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забора, там, где слив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росла у нас крапив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ы её рукой не тронь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Жжёт крапива, как огонь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, притаилась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пушистой притворилась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тебя, крапива, знае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и за что срывать не станем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арусел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с мячом « Подбрось, поймай ! Мяч не роняй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бор крупного мусора (палочек, листьев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7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1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9"/>
          <p:cNvSpPr/>
          <p:nvPr/>
        </p:nvSpPr>
        <p:spPr>
          <a:xfrm>
            <a:off x="3635280" y="18828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Карточка №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620640"/>
          <a:ext cx="8713800" cy="5578560"/>
        </p:xfrm>
        <a:graphic>
          <a:graphicData uri="http://schemas.openxmlformats.org/drawingml/2006/table">
            <a:tbl>
              <a:tblPr/>
              <a:tblGrid>
                <a:gridCol w="1944720"/>
                <a:gridCol w="3790800"/>
                <a:gridCol w="29782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птицами (вороб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говорить с детьми о птицах, которые обитают вблизи жилища людей, в городе. Это -воробьи. Их можно часто встретить на улице. Маленькие проворные птицы звонко чирикают, перелетая с места на место, как будто вовсе никого не боятся, но попробуй их поймай! Это очень сложно. Так стремительно они взлетают и держатся на безопасном расстоянии от всех. Оперение у них очень скромное, серое, неприметное, особенно у само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ить работу по ознакомлению детей с птицами родного края. Расширить словарный запас детей. Воспитывать любовь и бережное отношение к природ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качет, скачет воробей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личет маленьких детей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иньте крошек воробью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вам песенку спою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ик-чирик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любовь к художественному слов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Воробышки и автомобил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Весёлые вагончи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Char char="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соблюдать правила игры, двигаться только по сигналу воспитателя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Char char="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влекать в игру малоподвижных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ули, самокаты, ведёрки, лопатки, формо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ть условия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едложить ребёнку покатать обруч по земле и пробежаться за ни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скопать песок, очистить его от мусор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воспитывать желание помогать взрослым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492360" y="403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Карточка №2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0" y="6789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0" y="685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0"/>
          <p:cNvSpPr/>
          <p:nvPr/>
        </p:nvSpPr>
        <p:spPr>
          <a:xfrm>
            <a:off x="0" y="575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79280" y="836640"/>
          <a:ext cx="8856720" cy="5668920"/>
        </p:xfrm>
        <a:graphic>
          <a:graphicData uri="http://schemas.openxmlformats.org/drawingml/2006/table">
            <a:tbl>
              <a:tblPr/>
              <a:tblGrid>
                <a:gridCol w="1657440"/>
                <a:gridCol w="4248000"/>
                <a:gridCol w="29512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 свойствами воды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, прошёл дождь и на асфальте появились лужицы. Из чего они состоят? Конечно из воды. Сравните воду в моём ведёрке и в лужице.  Вода нагревается на солнце и становится теплой. Водой поливают растения, птицы пьют воду из луж Когда вода чистая, она прозрачная. Вода льется, ее можно переливать из одного сосуда в друг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казать свойства воды. Расширять знания детей о природе. Прививать бережное отношение к земным богатствам, в частности к вод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да- это то, что всем жизнь нам дает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 силы и бодрости нам придает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ристально чиста или очень грязн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любом состоянии полезна она.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шка и воробь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 по З К Р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вук «Ч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читает </a:t>
                      </a:r>
                      <a:r>
                        <a:rPr b="1" lang="en-US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тихотворение и  просит повторить слова, в которых есть звук «Ч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нашем доме поселился маленький сверчо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олько вечер наступает, он берёт смычо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звуковую культуру ре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492360" y="403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0" y="703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0"/>
          <p:cNvSpPr/>
          <p:nvPr/>
        </p:nvSpPr>
        <p:spPr>
          <a:xfrm>
            <a:off x="0" y="593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3"/>
          <p:cNvSpPr/>
          <p:nvPr/>
        </p:nvSpPr>
        <p:spPr>
          <a:xfrm>
            <a:off x="0" y="60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79280" y="836640"/>
          <a:ext cx="8785440" cy="5578560"/>
        </p:xfrm>
        <a:graphic>
          <a:graphicData uri="http://schemas.openxmlformats.org/drawingml/2006/table">
            <a:tbl>
              <a:tblPr/>
              <a:tblGrid>
                <a:gridCol w="1657440"/>
                <a:gridCol w="4537080"/>
                <a:gridCol w="25909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 свойствами песка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равните песок и землю: песок — жёлтый, а земля — чёрная, песок — рассыпчатый, а земля в виде комочков. С песком удобно и интересно играть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тром песок поливают, чтобы он был влажный и воздух на участке был свежий. Сухой песок рассыпается, а из влажного можно лепить куличики .На влажном песке можно рисовать, а если наступить , то останется след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Формировать знания о неживой природе, продолжать знакомить со свойствами песка, развивать любознательност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в песочнице играе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троим домик из песк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влеклись, не замечае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 носки полны песк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инесли воды в ведёрк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бы не сломался до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расовался на пригорк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его водой польё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Зайцы и волк</a:t>
                      </a:r>
                      <a:r>
                        <a:rPr b="1" lang="ru-RU" sz="1200" spc="-1" strike="noStrike" baseline="30000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детей прыжкам на одной ног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Rectangle 300"/>
          <p:cNvSpPr/>
          <p:nvPr/>
        </p:nvSpPr>
        <p:spPr>
          <a:xfrm>
            <a:off x="0" y="712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7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3635280" y="18828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765000"/>
          <a:ext cx="8424720" cy="4846680"/>
        </p:xfrm>
        <a:graphic>
          <a:graphicData uri="http://schemas.openxmlformats.org/drawingml/2006/table">
            <a:tbl>
              <a:tblPr/>
              <a:tblGrid>
                <a:gridCol w="2016000"/>
                <a:gridCol w="3714840"/>
                <a:gridCol w="26938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  луговыми цвет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предлагает детям пройтись по участку и найти в траве цветы, затем вернуться назад и рассказать, какой цветок нашёл. После того как все дети вернутся, следует их выслушать и на основании их рассказов рассказать о полевых и садовых цветах, о их пользе и красот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Формировать представление о том, что растения живые, они растут и изменяют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любовь к природ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цветок сорвать хотела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несла к нему ладонь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пчела с цветка слете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жужжит, жужжит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Не тронь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художественному слов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арусел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Медвежонок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ять в бег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внимательно слушать команды воспитател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ориентироваться в пространств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ноцветные флажки, кегли, лейки, ведерки, мя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здать условия для самостоятельной деятельност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детей прыжкам на одной ног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 цветов на клумб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участвовать в уходе за растения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492360" y="11520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Карточка №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1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692280"/>
          <a:ext cx="8424720" cy="5575320"/>
        </p:xfrm>
        <a:graphic>
          <a:graphicData uri="http://schemas.openxmlformats.org/drawingml/2006/table">
            <a:tbl>
              <a:tblPr/>
              <a:tblGrid>
                <a:gridCol w="1728720"/>
                <a:gridCol w="3844800"/>
                <a:gridCol w="28512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берёз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внимательно: какие деревья нас окружают? Да, они красивые, стройные, зелёные. А какое дерево называют белоствольным? Почему? Вспомните: какая она была осенью? Зимой? Весной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ать работу по формированию знаний о деревьях родного края. Закрепить знания детей о весенних явлениях, вызвать положительные эмоции. Развивать воображение. Воспитывать бережное отношение к природ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красы-берёзки платье серебрит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красы-берёзки зелены косиц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 двора к берёзке выскочили коз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тали грызть берёзку, а берёзка — в слёз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кинута на спинк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елёная косынка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платьице в полоск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любим все...  (берёзку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Учить детей отгадывать загад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Ручеек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Непослушные гус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упражнять в бег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учить внимательно слушать команды воспитател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ёрки, ленточки, скакалки, лопатки, формоч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учение ходьбе по узкой скамеечке с поддержкой воспитател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 песка в песочниц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492360" y="-72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549360"/>
          <a:ext cx="8713800" cy="5627520"/>
        </p:xfrm>
        <a:graphic>
          <a:graphicData uri="http://schemas.openxmlformats.org/drawingml/2006/table">
            <a:tbl>
              <a:tblPr/>
              <a:tblGrid>
                <a:gridCol w="1944720"/>
                <a:gridCol w="3859200"/>
                <a:gridCol w="29098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муравья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внимательно на землю и вы увидите маленьких черненьких насекомых, ползущих друг за другом, очень быстро. Это муравь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какие они, муравьишки? Сами маленькие, ножки крошечные, усики тоненьки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 они делают? Зачем? (ответы детей.) давайте за ними понаблюдаем. Что вы заметили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(муравьи друг друга не толкают, ничего друг у друга не отбирают. Они все заняты своим важным делом.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акие муравьи? (трудолюбивые.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давайте и мы с вами будем играть дружно, так будет интереснее и веселе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знания детей о жизни насекомых (муравьёв). Воспитывать бережное отношение к миру природы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уравьшка - не бездельник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Целый день он в муравейник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осит, носит без заминк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летевшие хвоин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Формировать звуковую культуру речи. Расширять словарный запас детей и активировать их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узырь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Наседка и цыплята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Формировать умения согласовывать свои движения с произносимыми словами. Развивать внимание 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ёрки, ленточки, скакалки, лопатки, формоч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гра «Какая? Какой?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высказываться, правильно подбирать слов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рать на участке сухие веточки и камн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492360" y="-72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2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33360"/>
          <a:ext cx="8713800" cy="6310440"/>
        </p:xfrm>
        <a:graphic>
          <a:graphicData uri="http://schemas.openxmlformats.org/drawingml/2006/table">
            <a:tbl>
              <a:tblPr/>
              <a:tblGrid>
                <a:gridCol w="2017440"/>
                <a:gridCol w="3772080"/>
                <a:gridCol w="29242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муравейник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на этот муравьиный домик. Кто знает, как называется такой домик? Муравейни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 что он похож? (ответы детей.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авайте внимательно рассмотрим, из чего он сделан. Здесь и маленькие палочки, и соломинки, и травинки, и пушинки, и семена растений. Как много всего нужного принесли муравь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муравейнике как в большом доме, имеются и спаленки, и детские, и множество коридорчиков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знания детей о жизни насекомых (муравьёв). Воспитывать бережное отношение к миру природы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-ка, что за коч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 берёзой у пенёчка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 дорожкам там и ту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 кочке муравьи бегу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о соломку, то травинк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ружно тащат по тропинк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уравей — это дом,  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уравьями сделан он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уравьиный домик м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хранять с тобой должн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Формировать звуковую культуру речи. Расширять словарный запас детей и активировать их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Жил у бабушки козел”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т и мыш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ять в беге, ходьбе, ползани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координацию движений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:«прыжки с хлопкам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омары летают, вьютс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нам в руки не дают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качем с самого утра:  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овим, ловим комара.  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оем уличные игруш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492360" y="-72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Карточка №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0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981000"/>
          <a:ext cx="7993080" cy="5121360"/>
        </p:xfrm>
        <a:graphic>
          <a:graphicData uri="http://schemas.openxmlformats.org/drawingml/2006/table">
            <a:tbl>
              <a:tblPr/>
              <a:tblGrid>
                <a:gridCol w="1800000"/>
                <a:gridCol w="3859200"/>
                <a:gridCol w="233388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ужицам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ебята, а что с нашими дорожками случилось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шёл дождик и оставил лужи на дорожках. На что они похожи? На маленькие озёра. А что это там, в лужице? Это отображается небо и облака. А если мы посмотрим в лужицу, то увидим там себя. Каждая лужица как маленькое зеркальц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представления детей о явлениях природы, об их значении в нашей жизни. Развивать речь, мышлени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з лужицы водиц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икак нельзя умыть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ишь только у колодц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мыться  нам придёт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Жмур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Наседка и цыплята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Паровоз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гудел паровоз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вагончики повёз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у-чу-чу! Чу-чу-чу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вагончики качу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-т-ту! Та-та-та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возьмём с собой к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звуковую культуру ре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рать на участке сухие веточки и камн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11280" y="692280"/>
          <a:ext cx="7993080" cy="274680"/>
        </p:xfrm>
        <a:graphic>
          <a:graphicData uri="http://schemas.openxmlformats.org/drawingml/2006/table">
            <a:tbl>
              <a:tblPr/>
              <a:tblGrid>
                <a:gridCol w="1800000"/>
                <a:gridCol w="3889440"/>
                <a:gridCol w="23036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492360" y="-72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3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404640"/>
          <a:ext cx="8785440" cy="5669280"/>
        </p:xfrm>
        <a:graphic>
          <a:graphicData uri="http://schemas.openxmlformats.org/drawingml/2006/table">
            <a:tbl>
              <a:tblPr/>
              <a:tblGrid>
                <a:gridCol w="1944720"/>
                <a:gridCol w="4248360"/>
                <a:gridCol w="2592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ополиным пух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Обратите внимание на деревья с гроздьями белого пуха. Что это за растение? Белое, похожее на вату, свисает с ветвей, летает в воздухе и лежит на земле — это тополиный пух. Поздней весной и ранним летом тополиный пух опускается на землю, если приглядеться, можно увидеть маленькие семена тополя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креплять знания о деревьях; учить различать различные виды деревьев; воспитывать интерес к жизни раст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 за странная метель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нег посыпал в жаркий ден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нежинки летают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т тепла не тают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зут всюду: в глаз и в нос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х! Оказалось, это … Пух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Мишка-медвед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ышко и дождик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Послушный мяч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рукой катаю мяч 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ати-кач, кати-ка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не легко его ката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ати-кач, кати-ка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редам руке другой 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оем столик и скамееч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6T09:17:16Z</dcterms:created>
  <dc:creator>Марина</dc:creator>
  <dc:description/>
  <dc:language>en-US</dc:language>
  <cp:lastModifiedBy>User</cp:lastModifiedBy>
  <dcterms:modified xsi:type="dcterms:W3CDTF">2018-07-22T09:18:10Z</dcterms:modified>
  <cp:revision>21</cp:revision>
  <dc:subject/>
  <dc:title>Слайд 1</dc:title>
</cp:coreProperties>
</file>