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6.jpeg" ContentType="image/jpeg"/>
  <Override PartName="/ppt/media/image22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3.wmf" ContentType="image/x-wmf"/>
  <Override PartName="/ppt/media/image10.png" ContentType="image/png"/>
  <Override PartName="/ppt/media/image35.jpeg" ContentType="image/jpeg"/>
  <Override PartName="/ppt/media/image8.jpeg" ContentType="image/jpeg"/>
  <Override PartName="/ppt/media/image30.png" ContentType="image/png"/>
  <Override PartName="/ppt/media/image29.jpeg" ContentType="image/jpeg"/>
  <Override PartName="/ppt/media/image33.gif" ContentType="image/gif"/>
  <Override PartName="/ppt/media/image36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5.wmf" ContentType="image/x-wmf"/>
  <Override PartName="/ppt/media/image3.png" ContentType="image/png"/>
  <Override PartName="/ppt/media/image17.jpeg" ContentType="image/jpeg"/>
  <Override PartName="/ppt/media/image14.wmf" ContentType="image/x-wmf"/>
  <Override PartName="/ppt/media/image31.png" ContentType="image/png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7A78-5A1F-41BF-8063-3311BF4C7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90AA-CA0D-4F6C-91E9-94D1C0D5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7B8E-B97D-427E-ADE7-09C482B46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C65A-8A3D-44AF-87C1-1634C838F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5B9D-47CB-41B5-A86B-1DC81E3A2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53E3-4FE4-4271-B79A-660C1C7E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6437-93B6-4AA0-8D05-D226D2E2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3175-9488-442B-A7E2-05F7CD2E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524A-83A3-4B9C-B8B2-3B7F8D69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D00D-15F5-4308-80D5-38DA6D18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6CB0-04CC-4A0C-8503-91F9E7A3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2CE5-0C5D-4B02-8F86-E73655E0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D9AF-8A28-448D-B50F-0ED2D5FE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966D-7F7B-4839-B01A-42F80ECF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03B4-15CE-47B3-8EB7-A6BE5ABA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7083-33C3-476E-B7B9-66BD7EA2C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443A-F20A-42EA-84A2-4A41DDB46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50A71-4C05-47EB-9536-406F46D75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08B1E-8641-47E5-8CAB-65B7C16C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9724F-AC15-41FE-AFEF-846E3BB2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2CADE-E63A-4BCD-AF10-E04BD565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38225-128B-4CC7-A04A-9B2433BD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5F84-C35A-463C-99B7-717FEF8A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6F6E2-7EF9-44BF-AECB-029FC5EB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DB48A-61D0-483E-B6A5-DE7B0634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250C6-BD9C-4EE1-98C6-B3C2DEED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7A039-25F3-4793-83A6-0980C368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4F1CF-A77F-44D5-9743-20338069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D001E-B599-4AFB-9E42-924B06568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C6ED5-9409-4E71-ABDC-BC1427086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0CD9E-6BDF-48AE-969A-114A80371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3173D-4C2D-40E4-A700-CFE8A787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D608C-81F5-45C6-B789-11945AA3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0688-9B49-45E3-9059-70DBE3F5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D95F8-F547-4F21-8F1D-C561B1ED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8A83E-F352-4DB1-9755-70DB3161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CC2E0-9538-4913-B7E7-42A6261F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1232E-FB70-4896-9B2C-B00035F4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DA32E-8D85-4425-BC03-8AAA5C2E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CAE6E-B219-4388-ADE6-ABE8766A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673F6-4D06-4D16-B2D6-AB3CEB09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AFB11-C054-415A-A32B-C10907F87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F17AB-EE06-4E27-B55A-04247F046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91A7-7846-4572-B6A3-E5898BCF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8832-2436-4CCC-87B8-3A357662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2E8B-6F91-442B-ACAD-E59D7436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749C-8DF1-47E4-9589-16B21BA0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9098-6D36-4F21-9956-879E7A29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05B7-865A-45B4-8C83-2B3A8AE521D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3699-FE9E-4C3A-89D9-5D8D9F56C55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A9D7-8A1E-4807-BC1B-C96975CB601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5524-646B-45D4-9B19-FA67413B99A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539640" y="2637000"/>
            <a:ext cx="7855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« Измерь самого себя – и ты станешь настоящим геометром!»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Марсилио  Сичино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11280" y="3860640"/>
            <a:ext cx="1714320" cy="15624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020000" y="4221000"/>
            <a:ext cx="1714320" cy="145764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3708360" y="4869000"/>
            <a:ext cx="1714680" cy="15714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735120" y="260280"/>
            <a:ext cx="801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00"/>
                </a:solidFill>
                <a:latin typeface="Arial"/>
              </a:rPr>
              <a:t>Как измерить самого себя.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После указа Петра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 русская система мер длины пополнилась новыми английскими единицами. Это было удобно для развития связей, в первую очередь торговых, с другими государствами. Вот эти единицы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1 миля = 7 верст 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7,47 км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1 фут = 12 дюйм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30,48с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1 дюйм = 2,54 с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сажень = 213с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аршин = 71,12 с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ярд = 91,44с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Русские меры длин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724360" y="3789360"/>
            <a:ext cx="2880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У нас получилось: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1772640"/>
            <a:ext cx="39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ний рост учащихся 1 класс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468360" y="2276640"/>
          <a:ext cx="8229600" cy="637920"/>
        </p:xfrm>
        <a:graphic>
          <a:graphicData uri="http://schemas.openxmlformats.org/drawingml/2006/table">
            <a:tbl>
              <a:tblPr/>
              <a:tblGrid>
                <a:gridCol w="1655640"/>
                <a:gridCol w="1640160"/>
                <a:gridCol w="1638000"/>
                <a:gridCol w="1648080"/>
                <a:gridCol w="164772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жен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ши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р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2415240" y="3261960"/>
            <a:ext cx="41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редний рост учащихся 6 класс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332000" y="3933720"/>
          <a:ext cx="6121440" cy="638280"/>
        </p:xfrm>
        <a:graphic>
          <a:graphicData uri="http://schemas.openxmlformats.org/drawingml/2006/table">
            <a:tbl>
              <a:tblPr/>
              <a:tblGrid>
                <a:gridCol w="1231920"/>
                <a:gridCol w="1219320"/>
                <a:gridCol w="1225440"/>
                <a:gridCol w="1219320"/>
                <a:gridCol w="122544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жен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ши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р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>
            <a:off x="1892520" y="5061960"/>
            <a:ext cx="570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чащиеся моего класса за пять лет выросли на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403280" y="5661000"/>
          <a:ext cx="6121440" cy="638280"/>
        </p:xfrm>
        <a:graphic>
          <a:graphicData uri="http://schemas.openxmlformats.org/drawingml/2006/table">
            <a:tbl>
              <a:tblPr/>
              <a:tblGrid>
                <a:gridCol w="1231920"/>
                <a:gridCol w="1219320"/>
                <a:gridCol w="1225440"/>
                <a:gridCol w="1219320"/>
                <a:gridCol w="122544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жен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ши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р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3" name=""/>
          <p:cNvSpPr/>
          <p:nvPr/>
        </p:nvSpPr>
        <p:spPr>
          <a:xfrm>
            <a:off x="250920" y="5118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Кто выше Мальчик с пальчик или Дюймовочка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28760" y="2468160"/>
            <a:ext cx="82296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сота Мальчика с пальчика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4,44 с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сота Дюймовочки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2,54 с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альчик с пальчик выше Дюймовоч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6" name="Picture 2" descr="j0232732"/>
          <p:cNvPicPr/>
          <p:nvPr/>
        </p:nvPicPr>
        <p:blipFill>
          <a:blip r:embed="rId1"/>
          <a:stretch/>
        </p:blipFill>
        <p:spPr>
          <a:xfrm>
            <a:off x="2627280" y="4653000"/>
            <a:ext cx="1330200" cy="1763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j0232429"/>
          <p:cNvPicPr/>
          <p:nvPr/>
        </p:nvPicPr>
        <p:blipFill>
          <a:blip r:embed="rId2"/>
          <a:stretch/>
        </p:blipFill>
        <p:spPr>
          <a:xfrm>
            <a:off x="7093080" y="2708280"/>
            <a:ext cx="128592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7201080" cy="4390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 rot="18615600">
            <a:off x="2384280" y="3477600"/>
            <a:ext cx="3095640" cy="457200"/>
          </a:xfrm>
          <a:prstGeom prst="leftRightArrow">
            <a:avLst>
              <a:gd name="adj1" fmla="val 50000"/>
              <a:gd name="adj2" fmla="val 13479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"/>
          <p:cNvSpPr/>
          <p:nvPr/>
        </p:nvSpPr>
        <p:spPr>
          <a:xfrm>
            <a:off x="3851280" y="3860640"/>
            <a:ext cx="18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5dfd0"/>
                </a:solidFill>
                <a:latin typeface="Arial"/>
              </a:rPr>
              <a:t>19 дюйм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"/>
          <p:cNvSpPr/>
          <p:nvPr/>
        </p:nvSpPr>
        <p:spPr>
          <a:xfrm>
            <a:off x="735120" y="639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"/>
          <p:cNvSpPr/>
          <p:nvPr/>
        </p:nvSpPr>
        <p:spPr>
          <a:xfrm>
            <a:off x="156240" y="404640"/>
            <a:ext cx="62006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Каков размер экран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в сантиметрах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9*2,54=48,26см по диагонал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3343320" cy="38955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211640" y="1557360"/>
            <a:ext cx="45370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6600"/>
                </a:solidFill>
                <a:latin typeface="Cambria"/>
              </a:rPr>
              <a:t>Древний Египет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238400" y="1204920"/>
            <a:ext cx="66672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6600"/>
                </a:solidFill>
                <a:latin typeface="Cambria"/>
              </a:rPr>
              <a:t>Древняя Греция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3889440" cy="31672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643280" y="2349360"/>
            <a:ext cx="417672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6600"/>
                </a:solidFill>
                <a:latin typeface="Cambria"/>
              </a:rPr>
              <a:t>Древний Рим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4968720" cy="4104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3240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240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00"/>
                </a:solidFill>
                <a:latin typeface="Cambria"/>
              </a:rPr>
              <a:t>Средневековая Европа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20515200">
            <a:off x="394920" y="1773000"/>
            <a:ext cx="3781440" cy="20764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 rot="1275600">
            <a:off x="5148000" y="1557000"/>
            <a:ext cx="3551040" cy="26416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2843280" y="3933720"/>
            <a:ext cx="38163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11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6600"/>
                </a:solidFill>
                <a:latin typeface="Cambria"/>
              </a:rPr>
              <a:t>Производство обуви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 rot="20429400">
            <a:off x="684360" y="1413000"/>
            <a:ext cx="2450880" cy="37717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 rot="896400">
            <a:off x="3563640" y="1557360"/>
            <a:ext cx="504036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endParaRPr b="0" lang="en-US" sz="8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Существует связь между различными единицами измерения длины, а также связь меду ростом человека и длиной его стопы. Их необходимо знать, чтобы применять в повседневной жизн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"/>
          <p:cNvSpPr/>
          <p:nvPr/>
        </p:nvSpPr>
        <p:spPr>
          <a:xfrm>
            <a:off x="5867280" y="1268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"/>
          <p:cNvSpPr/>
          <p:nvPr/>
        </p:nvSpPr>
        <p:spPr>
          <a:xfrm>
            <a:off x="1311120" y="476280"/>
            <a:ext cx="599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6600"/>
                </a:solidFill>
                <a:latin typeface="Calibri"/>
              </a:rPr>
              <a:t>Гипотеза.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4464000" cy="33483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81636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По данным ученых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/>
          <p:nvPr/>
        </p:nvSpPr>
        <p:spPr>
          <a:xfrm>
            <a:off x="395280" y="2347920"/>
            <a:ext cx="8366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реднее соотношение роста к длине стопы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ля мужчин от 6,2 до 7,1, для женщин от 6,54 до 7,49.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cd0311"/>
                </a:solidFill>
                <a:latin typeface="Calibri"/>
              </a:rPr>
              <a:t>Замеры стоп</a:t>
            </a:r>
            <a:endParaRPr b="0" lang="en-US" sz="7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5" name="Рисунок 19" descr="333.jpg"/>
          <p:cNvPicPr/>
          <p:nvPr/>
        </p:nvPicPr>
        <p:blipFill>
          <a:blip r:embed="rId1"/>
          <a:stretch/>
        </p:blipFill>
        <p:spPr>
          <a:xfrm>
            <a:off x="468360" y="1935000"/>
            <a:ext cx="2663640" cy="371340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20" descr="334.jpg"/>
          <p:cNvPicPr/>
          <p:nvPr/>
        </p:nvPicPr>
        <p:blipFill>
          <a:blip r:embed="rId2"/>
          <a:stretch/>
        </p:blipFill>
        <p:spPr>
          <a:xfrm>
            <a:off x="4071960" y="1571760"/>
            <a:ext cx="1119240" cy="29001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708360" y="44370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"/>
          <p:cNvSpPr/>
          <p:nvPr/>
        </p:nvSpPr>
        <p:spPr>
          <a:xfrm>
            <a:off x="3780000" y="1557360"/>
            <a:ext cx="158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9" name="Рисунок 23" descr="335.jpg"/>
          <p:cNvPicPr/>
          <p:nvPr/>
        </p:nvPicPr>
        <p:blipFill>
          <a:blip r:embed="rId3"/>
          <a:stretch/>
        </p:blipFill>
        <p:spPr>
          <a:xfrm>
            <a:off x="5929200" y="1285920"/>
            <a:ext cx="3087720" cy="38224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7667640" y="1484280"/>
            <a:ext cx="1297080" cy="86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"/>
          <p:cNvSpPr/>
          <p:nvPr/>
        </p:nvSpPr>
        <p:spPr>
          <a:xfrm>
            <a:off x="6300720" y="4149720"/>
            <a:ext cx="1079640" cy="93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"/>
          <p:cNvSpPr/>
          <p:nvPr/>
        </p:nvSpPr>
        <p:spPr>
          <a:xfrm>
            <a:off x="1694160" y="5589720"/>
            <a:ext cx="15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рчев Егор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4 см 2 м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"/>
          <p:cNvSpPr/>
          <p:nvPr/>
        </p:nvSpPr>
        <p:spPr>
          <a:xfrm>
            <a:off x="3419640" y="460044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иконова Полин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 с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"/>
          <p:cNvSpPr/>
          <p:nvPr/>
        </p:nvSpPr>
        <p:spPr>
          <a:xfrm>
            <a:off x="6156360" y="5118120"/>
            <a:ext cx="25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ванов Серге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 см 8 м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У нас получилось: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Constantia"/>
              </a:rPr>
              <a:t>Девочки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324000" y="1844640"/>
          <a:ext cx="4103280" cy="4320720"/>
        </p:xfrm>
        <a:graphic>
          <a:graphicData uri="http://schemas.openxmlformats.org/drawingml/2006/table">
            <a:tbl>
              <a:tblPr/>
              <a:tblGrid>
                <a:gridCol w="623880"/>
                <a:gridCol w="2066400"/>
                <a:gridCol w="1413000"/>
              </a:tblGrid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амил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топ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брамова 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ольшакова 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утылкина 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ронова 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якина 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нова 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рщавка 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конова 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4572000" y="1844640"/>
          <a:ext cx="4038480" cy="2592360"/>
        </p:xfrm>
        <a:graphic>
          <a:graphicData uri="http://schemas.openxmlformats.org/drawingml/2006/table">
            <a:tbl>
              <a:tblPr/>
              <a:tblGrid>
                <a:gridCol w="536400"/>
                <a:gridCol w="1679760"/>
                <a:gridCol w="1822320"/>
              </a:tblGrid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амил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топ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мошина 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ланова 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вастунова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1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абанова 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"/>
          <p:cNvSpPr/>
          <p:nvPr/>
        </p:nvSpPr>
        <p:spPr>
          <a:xfrm flipV="1" rot="10800000">
            <a:off x="4787640" y="523512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ний размер стопы у девочек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,13 с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У нас получилось: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9280" y="907560"/>
            <a:ext cx="40388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Constantia"/>
              </a:rPr>
              <a:t>Мальчики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324000" y="1844640"/>
          <a:ext cx="4105080" cy="4575240"/>
        </p:xfrm>
        <a:graphic>
          <a:graphicData uri="http://schemas.openxmlformats.org/drawingml/2006/table">
            <a:tbl>
              <a:tblPr/>
              <a:tblGrid>
                <a:gridCol w="512280"/>
                <a:gridCol w="2079720"/>
                <a:gridCol w="1513080"/>
              </a:tblGrid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амил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топ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охов 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шкин 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рохин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сов 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 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тов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злов 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чев 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ылов 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шин 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4572000" y="1844640"/>
          <a:ext cx="4038480" cy="2136960"/>
        </p:xfrm>
        <a:graphic>
          <a:graphicData uri="http://schemas.openxmlformats.org/drawingml/2006/table">
            <a:tbl>
              <a:tblPr/>
              <a:tblGrid>
                <a:gridCol w="641160"/>
                <a:gridCol w="2067120"/>
                <a:gridCol w="1330200"/>
              </a:tblGrid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амил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топ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яев 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ябченко 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олов 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кмаев 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 flipV="1" rot="10800000">
            <a:off x="4858920" y="5228280"/>
            <a:ext cx="39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ний размер стопы у мальчиков   22, 8 с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У нас получилось: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457200" y="2205000"/>
          <a:ext cx="4038120" cy="4176360"/>
        </p:xfrm>
        <a:graphic>
          <a:graphicData uri="http://schemas.openxmlformats.org/drawingml/2006/table">
            <a:tbl>
              <a:tblPr/>
              <a:tblGrid>
                <a:gridCol w="504360"/>
                <a:gridCol w="1816920"/>
                <a:gridCol w="1716840"/>
              </a:tblGrid>
              <a:tr h="56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амил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ост, см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брамова 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ольшакова 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утылкина 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ронова 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якина 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нова 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рщавка 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конова 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1547640" y="1341360"/>
            <a:ext cx="362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Девочки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643280" y="2205000"/>
          <a:ext cx="4038840" cy="2136960"/>
        </p:xfrm>
        <a:graphic>
          <a:graphicData uri="http://schemas.openxmlformats.org/drawingml/2006/table">
            <a:tbl>
              <a:tblPr/>
              <a:tblGrid>
                <a:gridCol w="552600"/>
                <a:gridCol w="1962000"/>
                <a:gridCol w="1524240"/>
              </a:tblGrid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амил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ост, см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мошина 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ланова 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вастунова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абанова 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"/>
          <p:cNvSpPr/>
          <p:nvPr/>
        </p:nvSpPr>
        <p:spPr>
          <a:xfrm>
            <a:off x="4932360" y="515772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ний рост у девочек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4,08 с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У нас получилось: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57200" y="1989000"/>
          <a:ext cx="4038480" cy="4575240"/>
        </p:xfrm>
        <a:graphic>
          <a:graphicData uri="http://schemas.openxmlformats.org/drawingml/2006/table">
            <a:tbl>
              <a:tblPr/>
              <a:tblGrid>
                <a:gridCol w="598320"/>
                <a:gridCol w="1898640"/>
                <a:gridCol w="1541520"/>
              </a:tblGrid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амил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ост, см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охов 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шкин 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рохин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сов 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 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тов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злов 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чев 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ылов 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шин 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"/>
          <p:cNvSpPr/>
          <p:nvPr/>
        </p:nvSpPr>
        <p:spPr>
          <a:xfrm>
            <a:off x="1042920" y="1197000"/>
            <a:ext cx="41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Мальчики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4643280" y="1989000"/>
          <a:ext cx="4038480" cy="2136960"/>
        </p:xfrm>
        <a:graphic>
          <a:graphicData uri="http://schemas.openxmlformats.org/drawingml/2006/table">
            <a:tbl>
              <a:tblPr/>
              <a:tblGrid>
                <a:gridCol w="608040"/>
                <a:gridCol w="1895400"/>
                <a:gridCol w="1535040"/>
              </a:tblGrid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амил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ост, см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яев 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ябченко 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олов 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кмаев 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"/>
          <p:cNvSpPr/>
          <p:nvPr/>
        </p:nvSpPr>
        <p:spPr>
          <a:xfrm>
            <a:off x="4932360" y="5013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ний рост у мальчико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1,9с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ношение</a:t>
            </a: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оста к длине стопы: К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/>
          <p:nvPr/>
        </p:nvSpPr>
        <p:spPr>
          <a:xfrm>
            <a:off x="1042920" y="404640"/>
            <a:ext cx="420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Девочки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"/>
          <p:cNvSpPr/>
          <p:nvPr/>
        </p:nvSpPr>
        <p:spPr>
          <a:xfrm>
            <a:off x="3564000" y="549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реднее К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=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6, 69; 15,4%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539640" y="1197000"/>
          <a:ext cx="8229240" cy="5327280"/>
        </p:xfrm>
        <a:graphic>
          <a:graphicData uri="http://schemas.openxmlformats.org/drawingml/2006/table">
            <a:tbl>
              <a:tblPr/>
              <a:tblGrid>
                <a:gridCol w="786600"/>
                <a:gridCol w="2258280"/>
                <a:gridCol w="1216800"/>
                <a:gridCol w="1217160"/>
                <a:gridCol w="1374840"/>
                <a:gridCol w="1375560"/>
              </a:tblGrid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рамова 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акова 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тылкина 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ронова 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якина 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нова 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щавка 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онова 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шина 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анова 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вастунова 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банова 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ношение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оста к длине стопы: К</a:t>
            </a:r>
            <a:br>
              <a:rPr sz="3200"/>
            </a:b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Мальчики        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Среднее К </a:t>
            </a:r>
            <a:r>
              <a:rPr b="0" lang="en-US" sz="2800" spc="-1" strike="noStrike">
                <a:solidFill>
                  <a:srgbClr val="000099"/>
                </a:solidFill>
                <a:latin typeface="Calibri"/>
              </a:rPr>
              <a:t>= 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6,41;  16,5%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457200" y="1268280"/>
          <a:ext cx="8229600" cy="5214600"/>
        </p:xfrm>
        <a:graphic>
          <a:graphicData uri="http://schemas.openxmlformats.org/drawingml/2006/table">
            <a:tbl>
              <a:tblPr/>
              <a:tblGrid>
                <a:gridCol w="727200"/>
                <a:gridCol w="1630080"/>
                <a:gridCol w="1168560"/>
                <a:gridCol w="1324080"/>
                <a:gridCol w="1689120"/>
                <a:gridCol w="1690560"/>
              </a:tblGrid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хов 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шкин 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рохин 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сов 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ванов 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ов 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злов 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чев 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ылов 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шин 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яев 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ябченко 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колов 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кмаев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Одинаковый рост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457200" y="1268280"/>
          <a:ext cx="8229600" cy="5151600"/>
        </p:xfrm>
        <a:graphic>
          <a:graphicData uri="http://schemas.openxmlformats.org/drawingml/2006/table">
            <a:tbl>
              <a:tblPr/>
              <a:tblGrid>
                <a:gridCol w="1222200"/>
                <a:gridCol w="3278520"/>
                <a:gridCol w="1831680"/>
                <a:gridCol w="1897200"/>
              </a:tblGrid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ами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брамова 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ff"/>
                          </a:solidFill>
                          <a:latin typeface="Arial"/>
                          <a:ea typeface="Times New Roman"/>
                        </a:rPr>
                        <a:t>6,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Constantia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рохин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6,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сов 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6,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Constantia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утылкина 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6fc6"/>
                          </a:solidFill>
                          <a:latin typeface="Arial"/>
                          <a:ea typeface="Times New Roman"/>
                        </a:rPr>
                        <a:t>6,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6fc6"/>
                          </a:solidFill>
                          <a:latin typeface="Arial"/>
                        </a:rPr>
                        <a:t>1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мошина 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6fc6"/>
                          </a:solidFill>
                          <a:latin typeface="Constantia"/>
                        </a:rPr>
                        <a:t>6,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f6fc6"/>
                          </a:solidFill>
                          <a:latin typeface="Arial"/>
                        </a:rPr>
                        <a:t>1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Constantia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вастунова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Constantia"/>
                        </a:rPr>
                        <a:t>6,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шкин 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Constantia"/>
                        </a:rPr>
                        <a:t>6,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Constantia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злов 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5dfd0"/>
                          </a:solidFill>
                          <a:latin typeface="Arial"/>
                        </a:rPr>
                        <a:t>6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5dfd0"/>
                          </a:solidFill>
                          <a:latin typeface="Arial"/>
                        </a:rPr>
                        <a:t>1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кмаев 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5dfd0"/>
                          </a:solidFill>
                          <a:latin typeface="Arial"/>
                        </a:rPr>
                        <a:t>6,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5dfd0"/>
                          </a:solidFill>
                          <a:latin typeface="Arial"/>
                        </a:rPr>
                        <a:t>1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Constantia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яев 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d0311"/>
                          </a:solidFill>
                          <a:latin typeface="Arial"/>
                        </a:rPr>
                        <a:t>6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d0311"/>
                          </a:solidFill>
                          <a:latin typeface="Arial"/>
                        </a:rPr>
                        <a:t>1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  <a:tr h="41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олов 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d0311"/>
                          </a:solidFill>
                          <a:latin typeface="Arial"/>
                        </a:rPr>
                        <a:t>6,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d0311"/>
                          </a:solidFill>
                          <a:latin typeface="Arial"/>
                        </a:rPr>
                        <a:t>1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dd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300" spc="-1" strike="noStrike">
                <a:solidFill>
                  <a:srgbClr val="c00000"/>
                </a:solidFill>
                <a:latin typeface="Calibri"/>
              </a:rPr>
              <a:t>Цель</a:t>
            </a:r>
            <a:r>
              <a:rPr b="1" lang="en-US" sz="8300" spc="-1" strike="noStrike">
                <a:solidFill>
                  <a:srgbClr val="c00000"/>
                </a:solidFill>
                <a:latin typeface="Bookman Old Style"/>
              </a:rPr>
              <a:t>  </a:t>
            </a:r>
            <a:r>
              <a:rPr b="1" lang="ru-RU" sz="8300" spc="-1" strike="noStrike">
                <a:solidFill>
                  <a:srgbClr val="c00000"/>
                </a:solidFill>
                <a:latin typeface="Calibri"/>
              </a:rPr>
              <a:t>работы:</a:t>
            </a:r>
            <a:endParaRPr b="0" lang="en-US" sz="83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4920" y="1484280"/>
            <a:ext cx="854388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ровести сравнительный анализ изменения среднего роста ученика за пять лет в различных единицах длины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айти закономерность между длиной стопы и ростом у одноклассников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0000"/>
                </a:solidFill>
                <a:latin typeface="Calibri"/>
              </a:rPr>
              <a:t>Формулы подсчета длины стопы </a:t>
            </a:r>
            <a:endParaRPr b="0" lang="en-US" sz="6300" spc="-1" strike="noStrike">
              <a:solidFill>
                <a:srgbClr val="0461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4"/>
              <p:cNvSpPr txBox="1"/>
              <p:nvPr/>
            </p:nvSpPr>
            <p:spPr>
              <a:xfrm>
                <a:off x="539640" y="2889360"/>
                <a:ext cx="7720200" cy="13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Д</m:t>
                        </m:r>
                      </m:e>
                      <m:sub>
                        <m:r>
                          <m:t xml:space="preserve">с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м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мал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6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5"/>
              <p:cNvSpPr txBox="1"/>
              <p:nvPr/>
            </p:nvSpPr>
            <p:spPr>
              <a:xfrm>
                <a:off x="395280" y="4581360"/>
                <a:ext cx="8228160" cy="13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Д</m:t>
                        </m:r>
                      </m:e>
                      <m:sub>
                        <m:r>
                          <m:t xml:space="preserve">с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д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де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54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Практическое применение</a:t>
            </a:r>
            <a:r>
              <a:rPr b="1" lang="en-US" sz="63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6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932000" y="1483920"/>
            <a:ext cx="3871800" cy="28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Помощь маме при определении размера подошвы обуви ребенка зная его рост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47480" indent="-447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47480" indent="-447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47480" indent="-447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47480" indent="-447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47480" indent="-447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47480" indent="-447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8" name="Picture 11" descr="следы"/>
          <p:cNvPicPr/>
          <p:nvPr/>
        </p:nvPicPr>
        <p:blipFill>
          <a:blip r:embed="rId1"/>
          <a:stretch/>
        </p:blipFill>
        <p:spPr>
          <a:xfrm>
            <a:off x="428760" y="5715000"/>
            <a:ext cx="8643960" cy="546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G:\Гуле\avatar_u_36621.jpg"/>
          <p:cNvPicPr/>
          <p:nvPr/>
        </p:nvPicPr>
        <p:blipFill>
          <a:blip r:embed="rId2"/>
          <a:stretch/>
        </p:blipFill>
        <p:spPr>
          <a:xfrm>
            <a:off x="6804000" y="4724280"/>
            <a:ext cx="1887480" cy="16909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3" descr="G:\Гуле\feet.jpg"/>
          <p:cNvPicPr/>
          <p:nvPr/>
        </p:nvPicPr>
        <p:blipFill>
          <a:blip r:embed="rId3"/>
          <a:stretch/>
        </p:blipFill>
        <p:spPr>
          <a:xfrm>
            <a:off x="428760" y="1357200"/>
            <a:ext cx="4395600" cy="35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alibri"/>
              </a:rPr>
              <a:t>Посмотрим, как работает эта формула: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Мой рост – 150 см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150*0,154=23,1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В действительности мой размер обуви 23,5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alibri"/>
              </a:rPr>
              <a:t>Подсчитаем размер обуви для Данила: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Рост – 152см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152*0,165 = 25,08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Размер стопы в действительности 25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"/>
          <p:cNvPicPr/>
          <p:nvPr/>
        </p:nvPicPr>
        <p:blipFill>
          <a:blip r:embed="rId1"/>
          <a:srcRect l="24679" t="25951" r="21062" b="16171"/>
          <a:stretch/>
        </p:blipFill>
        <p:spPr>
          <a:xfrm>
            <a:off x="0" y="0"/>
            <a:ext cx="953784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642960" y="1071360"/>
            <a:ext cx="778680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При раскрытии особо опасных преступлений, если преступник оставил отпечаток следа. 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14292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Практическое применение</a:t>
            </a:r>
            <a:r>
              <a:rPr b="1" lang="en-US" sz="63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63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81440" y="115920"/>
            <a:ext cx="8584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Формулы подсчета 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роста по длине стопы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4"/>
              <p:cNvSpPr txBox="1"/>
              <p:nvPr/>
            </p:nvSpPr>
            <p:spPr>
              <a:xfrm>
                <a:off x="468360" y="2563920"/>
                <a:ext cx="806436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мал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Д</m:t>
                        </m:r>
                      </m:e>
                      <m:sub>
                        <m:r>
                          <m:t xml:space="preserve">с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м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6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5"/>
              <p:cNvSpPr txBox="1"/>
              <p:nvPr/>
            </p:nvSpPr>
            <p:spPr>
              <a:xfrm>
                <a:off x="395280" y="4365720"/>
                <a:ext cx="828036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де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Д</m:t>
                        </m:r>
                      </m:e>
                      <m:sub>
                        <m:r>
                          <m:t xml:space="preserve">с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д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5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80720" y="476280"/>
            <a:ext cx="694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Посмотрим, как работает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эта формула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"/>
          <p:cNvSpPr/>
          <p:nvPr/>
        </p:nvSpPr>
        <p:spPr>
          <a:xfrm>
            <a:off x="86400" y="2220840"/>
            <a:ext cx="8472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Рост моего одноклассника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Ерохина С. – 160 см, длина стопы – 26 см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26, 2 : 0,165=158,9 см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Абрамова Л. Рост тоже 160 см,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длина стопы – 25,2 см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25,2 : 0,154= 163,6см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 rot="21258000">
            <a:off x="0" y="6120"/>
            <a:ext cx="8891640" cy="508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5050"/>
                    </a:gs>
                    <a:gs pos="100000">
                      <a:srgbClr val="00ff00"/>
                    </a:gs>
                  </a:gsLst>
                  <a:lin ang="8442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внимание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5050"/>
                  </a:gs>
                  <a:gs pos="100000">
                    <a:srgbClr val="00ff00"/>
                  </a:gs>
                </a:gsLst>
                <a:lin ang="8442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300" spc="-1" strike="noStrike">
                <a:solidFill>
                  <a:srgbClr val="c00000"/>
                </a:solidFill>
                <a:latin typeface="Calibri"/>
              </a:rPr>
              <a:t>Задачи:</a:t>
            </a:r>
            <a:endParaRPr b="0" lang="en-US" sz="83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24000" y="1916280"/>
            <a:ext cx="8291520" cy="39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2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Замеры стоп учащихся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6 «Б» класс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21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выявление зависимости между ростом человека и длиной его стопы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2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Замеры роста учащихся 6 «Б» класс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2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Перевод результатов замеров в другие единицы измерения (сажени, аршины, футы, ярды)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2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Анализ полученных результатов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9528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4683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Первые единицы измерения длины были не очень точными. В качестве измерительных инструментов использовались чаще всего шаг, человеческая рука или нога. Эти измерительные «приборы» были удобны тем, что они у человека всегда были при себ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240" indent="4683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У разных людей эти величины разные, поэтому каждый может судить , на сколько точны были эти единицы длин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Arial"/>
                <a:ea typeface="Arial"/>
              </a:rPr>
              <a:t>Из истории единиц длины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95280" y="227664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В быту для измерения продаваемой ткани, длины меча или копья, размеров различных предметов были необходимы другие единицы. Самой распространенной единицей был локоть – расстояние  от локтя до конца среднего пальца. Среди более мелких единиц можно назвать ладонь – ширину кисти руки. Еще меньшей единицей был дюйм. Первоначально за дюйм принимали верхний сустав большого пальца. Многие народы употребляли фут – длину ступни ноги челове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Arial"/>
                <a:ea typeface="Arial"/>
              </a:rPr>
              <a:t>Из истории единиц длины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78920" y="1916280"/>
            <a:ext cx="52563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 одному из преданий, английский король Генрих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в 1101 году ввел единицу длины ярд, которая была равна расстоянию от кончика его носа до конца пальцев вытянутой рук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 другому преданию, за ярд была принята длина меча этого корол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еперь ярд является самой обиходной английской единицей длин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Calibri"/>
              </a:rPr>
              <a:t>Из истории единиц длины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724360" y="2205000"/>
            <a:ext cx="3095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Русские меры длин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8000" y="2133360"/>
            <a:ext cx="821844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реди русских мер длины древнейшими являются локоть и сажень. Первое упоминание сажени встречается в летописи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I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ве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2825"/>
          <a:stretch/>
        </p:blipFill>
        <p:spPr>
          <a:xfrm>
            <a:off x="4356000" y="4076640"/>
            <a:ext cx="4546800" cy="2362320"/>
          </a:xfrm>
          <a:prstGeom prst="rect">
            <a:avLst/>
          </a:prstGeom>
          <a:ln w="28440">
            <a:solidFill>
              <a:srgbClr val="0f6fc6"/>
            </a:solidFill>
            <a:miter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250920" y="4365720"/>
            <a:ext cx="39607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1d505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ершок – единица, равная двум верхним суставам указательного пальц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 вершок = ¼ пяди = 1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/16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ршина (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4,44 см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Русские меры длин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39640" y="3645000"/>
            <a:ext cx="4608720" cy="26780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5724360" y="3933720"/>
            <a:ext cx="259092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1:11:47Z</dcterms:created>
  <dc:creator>Your User Name</dc:creator>
  <dc:description/>
  <dc:language>en-US</dc:language>
  <cp:lastModifiedBy>1</cp:lastModifiedBy>
  <dcterms:modified xsi:type="dcterms:W3CDTF">2011-01-21T16:46:00Z</dcterms:modified>
  <cp:revision>38</cp:revision>
  <dc:subject/>
  <dc:title>Из истории единиц длины</dc:title>
</cp:coreProperties>
</file>