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6.jpeg" ContentType="image/jpeg"/>
  <Override PartName="/ppt/media/image2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3.wmf" ContentType="image/x-wmf"/>
  <Override PartName="/ppt/media/image10.png" ContentType="image/png"/>
  <Override PartName="/ppt/media/image35.jpeg" ContentType="image/jpeg"/>
  <Override PartName="/ppt/media/image8.jpeg" ContentType="image/jpeg"/>
  <Override PartName="/ppt/media/image30.png" ContentType="image/png"/>
  <Override PartName="/ppt/media/image29.jpeg" ContentType="image/jpeg"/>
  <Override PartName="/ppt/media/image33.gif" ContentType="image/gif"/>
  <Override PartName="/ppt/media/image36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5.wmf" ContentType="image/x-wmf"/>
  <Override PartName="/ppt/media/image3.png" ContentType="image/png"/>
  <Override PartName="/ppt/media/image17.jpeg" ContentType="image/jpeg"/>
  <Override PartName="/ppt/media/image14.wmf" ContentType="image/x-wmf"/>
  <Override PartName="/ppt/media/image31.png" ContentType="image/png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AB6-445D-43D7-91CC-FCF9696E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BEE6-22C7-4A31-83C2-88B691BA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E30-F2C6-4E04-AC12-718D0539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D67F-5898-4290-BD04-C902F6ED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4106-20F0-4F77-AB1D-C207EBFC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0032-C8AA-4A72-9378-FF07C97C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9DE3-33DE-4AFB-AC8E-EEEB58E6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E7A0-72C6-4E6D-B7EA-89CAD1CC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30B4-3574-4E87-8AE4-BC2BD8FC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1781-05F4-484C-955B-EA35FE11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F091-EC44-493A-8BA8-C520D61B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5A0-5916-477C-AB96-D8979032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BAB7-8203-4AF9-8D76-833329C8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1763-8DE7-4912-A41C-DB5C63DD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C692-ED9B-4C2A-8054-096C82F3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42F9-E439-472D-A4AD-5F648656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F08F-0618-42A4-BE9D-D031AABF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4E1E8-A202-4A73-BEF0-1380944B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7B935-6AAD-4193-B635-0016070F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82BE8-8A2A-4ADC-B682-DE9E961B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14B3C-29B5-421A-B37B-67882D74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53363-EC08-4048-AED2-9EFA0C81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718-8224-4721-97A5-2ECA0D3E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CF527-7D90-4B52-9D87-F8C76AA8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4DBF7-3DBA-4CC1-8DBD-A8685234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80EC9-E4F5-4387-ABF3-BA062718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98664-267D-47A5-8BAF-C51AC5BE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1858C-8E00-448E-8153-178E6653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917BC-16B0-45A2-93DB-16A283C9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05F6D-C2F1-4779-9A29-76CDB870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1F258-D54E-4C65-ACA3-FC43FCC8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B219A-6A81-4AC1-9CF5-9C3E7775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F2A11-D7D0-4A33-B5C7-5B851EE6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8DE5-4511-4705-AC54-723C2B1C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03EFE-3F7B-4974-976C-C33FF800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6272C-4E88-4976-B5C6-0F9EBA84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1FB7F-175D-4E08-B171-7292D3F3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3D6D0-E85A-4664-A0F0-37CD70BC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9E359-620D-49DD-92E3-7FFC2597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2A063-0131-44E5-9BDE-9D4B0231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B4B1A-A0CB-4360-BEFE-4EDA4EB4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B6183-37BF-4AEA-A0DE-442BDE6D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28901-DF11-47BD-AD97-D752AB57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182-13FE-4535-9228-63B8E5B4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AD3-21A9-4911-8861-84A2F4AE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91FE-6CF0-4F24-9F16-26F8C9D9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63DC-8EE3-4A73-B77B-D359EFCB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ED03-383E-44B1-8AA0-0D297F96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5975-D332-4D9C-87A8-9E046D9965A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4587-CA8A-451E-803C-FFA4D41CF2F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EA04-87BC-4B32-8832-2D85FE0EA15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B10E-7F03-44BA-862D-1C63D5E1606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39640" y="263700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« Измерь самого себя – и ты станешь настоящим геометром!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Марсилио  Сичин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11280" y="3860640"/>
            <a:ext cx="1714320" cy="15624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4221000"/>
            <a:ext cx="1714320" cy="14576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708360" y="4869000"/>
            <a:ext cx="1714680" cy="15714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735120" y="260280"/>
            <a:ext cx="801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Arial"/>
              </a:rPr>
              <a:t>Как измерить самого себя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После указа Петра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русская система мер длины пополнилась новыми английскими единицами. Это было удобно для развития связей, в первую очередь торговых, с другими государствами. Вот эти единиц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1 миля = 7 верст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7,47 км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1 фут = 12 дюйм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30,48с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1 дюйм = 2,54 с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сажень = 213с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аршин = 71,12 с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ярд = 91,44с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усские меры длин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724360" y="3789360"/>
            <a:ext cx="2880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У нас получилось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1772640"/>
            <a:ext cx="39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ий рост учащихся 1 класс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68360" y="2276640"/>
          <a:ext cx="8229600" cy="637920"/>
        </p:xfrm>
        <a:graphic>
          <a:graphicData uri="http://schemas.openxmlformats.org/drawingml/2006/table">
            <a:tbl>
              <a:tblPr/>
              <a:tblGrid>
                <a:gridCol w="1655640"/>
                <a:gridCol w="1640160"/>
                <a:gridCol w="1638000"/>
                <a:gridCol w="1648080"/>
                <a:gridCol w="164772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2415240" y="326196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редний рост учащихся 6 класс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332000" y="3933720"/>
          <a:ext cx="6121440" cy="638280"/>
        </p:xfrm>
        <a:graphic>
          <a:graphicData uri="http://schemas.openxmlformats.org/drawingml/2006/table">
            <a:tbl>
              <a:tblPr/>
              <a:tblGrid>
                <a:gridCol w="1231920"/>
                <a:gridCol w="1219320"/>
                <a:gridCol w="1225440"/>
                <a:gridCol w="1219320"/>
                <a:gridCol w="122544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1892520" y="5061960"/>
            <a:ext cx="57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щиеся моего класса за пять лет выросли н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403280" y="5661000"/>
          <a:ext cx="6121440" cy="638280"/>
        </p:xfrm>
        <a:graphic>
          <a:graphicData uri="http://schemas.openxmlformats.org/drawingml/2006/table">
            <a:tbl>
              <a:tblPr/>
              <a:tblGrid>
                <a:gridCol w="1231920"/>
                <a:gridCol w="1219320"/>
                <a:gridCol w="1225440"/>
                <a:gridCol w="1219320"/>
                <a:gridCol w="122544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250920" y="5118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то выше Мальчик с пальчик или Дюймовочка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28760" y="246816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сота Мальчика с пальчика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4,44 с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сота Дюймовочки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2,54 с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альчик с пальчик выше Дюймовоч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2" descr="j0232732"/>
          <p:cNvPicPr/>
          <p:nvPr/>
        </p:nvPicPr>
        <p:blipFill>
          <a:blip r:embed="rId1"/>
          <a:stretch/>
        </p:blipFill>
        <p:spPr>
          <a:xfrm>
            <a:off x="2627280" y="4653000"/>
            <a:ext cx="1330200" cy="1763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j0232429"/>
          <p:cNvPicPr/>
          <p:nvPr/>
        </p:nvPicPr>
        <p:blipFill>
          <a:blip r:embed="rId2"/>
          <a:stretch/>
        </p:blipFill>
        <p:spPr>
          <a:xfrm>
            <a:off x="7093080" y="2708280"/>
            <a:ext cx="12859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7201080" cy="439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 rot="18615600">
            <a:off x="2384280" y="3477600"/>
            <a:ext cx="3095640" cy="457200"/>
          </a:xfrm>
          <a:prstGeom prst="leftRightArrow">
            <a:avLst>
              <a:gd name="adj1" fmla="val 50000"/>
              <a:gd name="adj2" fmla="val 13479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"/>
          <p:cNvSpPr/>
          <p:nvPr/>
        </p:nvSpPr>
        <p:spPr>
          <a:xfrm>
            <a:off x="3851280" y="3860640"/>
            <a:ext cx="18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dfd0"/>
                </a:solidFill>
                <a:latin typeface="Arial"/>
              </a:rPr>
              <a:t>19 дюйм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/>
          <p:nvPr/>
        </p:nvSpPr>
        <p:spPr>
          <a:xfrm>
            <a:off x="73512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"/>
          <p:cNvSpPr/>
          <p:nvPr/>
        </p:nvSpPr>
        <p:spPr>
          <a:xfrm>
            <a:off x="156240" y="404640"/>
            <a:ext cx="62006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Каков размер экран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в сантиметрах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9*2,54=48,26см по диагонал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343320" cy="3895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45370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Cambria"/>
              </a:rPr>
              <a:t>Древний Египет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238400" y="1204920"/>
            <a:ext cx="66672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Cambria"/>
              </a:rPr>
              <a:t>Древняя Греция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889440" cy="3167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643280" y="2349360"/>
            <a:ext cx="41767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Cambria"/>
              </a:rPr>
              <a:t>Древний Рим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968720" cy="4104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3240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40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Cambria"/>
              </a:rPr>
              <a:t>Средневековая Европа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20515200">
            <a:off x="394920" y="1773000"/>
            <a:ext cx="3781440" cy="20764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 rot="1275600">
            <a:off x="5148000" y="1557000"/>
            <a:ext cx="3551040" cy="26416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8163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Cambria"/>
              </a:rPr>
              <a:t>Производство обув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 rot="20429400">
            <a:off x="684360" y="1413000"/>
            <a:ext cx="2450880" cy="37717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 rot="896400">
            <a:off x="3563640" y="1557360"/>
            <a:ext cx="504036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endParaRPr b="0" lang="en-US" sz="8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Существует связь между различными единицами измерения длины, а также связь меду ростом человека и длиной его стопы. Их необходимо знать, чтобы применять в повседневной жизн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126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"/>
          <p:cNvSpPr/>
          <p:nvPr/>
        </p:nvSpPr>
        <p:spPr>
          <a:xfrm>
            <a:off x="1311120" y="476280"/>
            <a:ext cx="599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Calibri"/>
              </a:rPr>
              <a:t>Гипотеза.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464000" cy="3348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8163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По данным ученых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/>
          <p:nvPr/>
        </p:nvSpPr>
        <p:spPr>
          <a:xfrm>
            <a:off x="395280" y="2347920"/>
            <a:ext cx="8366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реднее соотношение роста к длине стопы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ля мужчин от 6,2 до 7,1, для женщин от 6,54 до 7,49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d0311"/>
                </a:solidFill>
                <a:latin typeface="Calibri"/>
              </a:rPr>
              <a:t>Замеры стоп</a:t>
            </a:r>
            <a:endParaRPr b="0" lang="en-US" sz="7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Рисунок 19" descr="333.jpg"/>
          <p:cNvPicPr/>
          <p:nvPr/>
        </p:nvPicPr>
        <p:blipFill>
          <a:blip r:embed="rId1"/>
          <a:stretch/>
        </p:blipFill>
        <p:spPr>
          <a:xfrm>
            <a:off x="468360" y="1935000"/>
            <a:ext cx="2663640" cy="37134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20" descr="334.jpg"/>
          <p:cNvPicPr/>
          <p:nvPr/>
        </p:nvPicPr>
        <p:blipFill>
          <a:blip r:embed="rId2"/>
          <a:stretch/>
        </p:blipFill>
        <p:spPr>
          <a:xfrm>
            <a:off x="4071960" y="1571760"/>
            <a:ext cx="1119240" cy="29001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708360" y="4437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"/>
          <p:cNvSpPr/>
          <p:nvPr/>
        </p:nvSpPr>
        <p:spPr>
          <a:xfrm>
            <a:off x="3780000" y="1557360"/>
            <a:ext cx="158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Рисунок 23" descr="335.jpg"/>
          <p:cNvPicPr/>
          <p:nvPr/>
        </p:nvPicPr>
        <p:blipFill>
          <a:blip r:embed="rId3"/>
          <a:stretch/>
        </p:blipFill>
        <p:spPr>
          <a:xfrm>
            <a:off x="5929200" y="1285920"/>
            <a:ext cx="3087720" cy="3822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667640" y="1484280"/>
            <a:ext cx="129708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"/>
          <p:cNvSpPr/>
          <p:nvPr/>
        </p:nvSpPr>
        <p:spPr>
          <a:xfrm>
            <a:off x="6300720" y="4149720"/>
            <a:ext cx="1079640" cy="93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"/>
          <p:cNvSpPr/>
          <p:nvPr/>
        </p:nvSpPr>
        <p:spPr>
          <a:xfrm>
            <a:off x="1694160" y="558972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чев Его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 см 2 м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"/>
          <p:cNvSpPr/>
          <p:nvPr/>
        </p:nvSpPr>
        <p:spPr>
          <a:xfrm>
            <a:off x="3419640" y="46004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иконова Поли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 с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"/>
          <p:cNvSpPr/>
          <p:nvPr/>
        </p:nvSpPr>
        <p:spPr>
          <a:xfrm>
            <a:off x="6156360" y="511812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ванов Серг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 см 8 м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У нас получилось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Constantia"/>
              </a:rPr>
              <a:t>Девочки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24000" y="1844640"/>
          <a:ext cx="4103280" cy="4320720"/>
        </p:xfrm>
        <a:graphic>
          <a:graphicData uri="http://schemas.openxmlformats.org/drawingml/2006/table">
            <a:tbl>
              <a:tblPr/>
              <a:tblGrid>
                <a:gridCol w="623880"/>
                <a:gridCol w="2066400"/>
                <a:gridCol w="1413000"/>
              </a:tblGrid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м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о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рамова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ольшакова 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утылкина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ронова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якина 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нова 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рщавка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конова 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4572000" y="1844640"/>
          <a:ext cx="4038480" cy="2592360"/>
        </p:xfrm>
        <a:graphic>
          <a:graphicData uri="http://schemas.openxmlformats.org/drawingml/2006/table">
            <a:tbl>
              <a:tblPr/>
              <a:tblGrid>
                <a:gridCol w="536400"/>
                <a:gridCol w="1679760"/>
                <a:gridCol w="182232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м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о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шина 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ланова 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вастунова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абанова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/>
          <p:cNvSpPr/>
          <p:nvPr/>
        </p:nvSpPr>
        <p:spPr>
          <a:xfrm flipV="1" rot="10800000">
            <a:off x="4787640" y="523512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ий размер стопы у девоче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,13 с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У нас получилось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280" y="907560"/>
            <a:ext cx="40388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Constantia"/>
              </a:rPr>
              <a:t>Мальчики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24000" y="1844640"/>
          <a:ext cx="4105080" cy="4575240"/>
        </p:xfrm>
        <a:graphic>
          <a:graphicData uri="http://schemas.openxmlformats.org/drawingml/2006/table">
            <a:tbl>
              <a:tblPr/>
              <a:tblGrid>
                <a:gridCol w="512280"/>
                <a:gridCol w="2079720"/>
                <a:gridCol w="151308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м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о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хов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шкин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охин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сов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 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ов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лов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чев 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ылов 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ин 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572000" y="1844640"/>
          <a:ext cx="4038480" cy="2136960"/>
        </p:xfrm>
        <a:graphic>
          <a:graphicData uri="http://schemas.openxmlformats.org/drawingml/2006/table">
            <a:tbl>
              <a:tblPr/>
              <a:tblGrid>
                <a:gridCol w="641160"/>
                <a:gridCol w="2067120"/>
                <a:gridCol w="133020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м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о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яев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ябченко 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олов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кмаев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 flipV="1" rot="10800000">
            <a:off x="4858920" y="5228280"/>
            <a:ext cx="39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ий размер стопы у мальчиков   22, 8 с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У нас получилось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57200" y="2205000"/>
          <a:ext cx="4038120" cy="4176360"/>
        </p:xfrm>
        <a:graphic>
          <a:graphicData uri="http://schemas.openxmlformats.org/drawingml/2006/table">
            <a:tbl>
              <a:tblPr/>
              <a:tblGrid>
                <a:gridCol w="504360"/>
                <a:gridCol w="1816920"/>
                <a:gridCol w="1716840"/>
              </a:tblGrid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м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ст, с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рамова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ольшакова 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утылкина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ронова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якина 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нова 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рщавка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конова 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1547640" y="1341360"/>
            <a:ext cx="362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Девочк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43280" y="2205000"/>
          <a:ext cx="4038840" cy="2136960"/>
        </p:xfrm>
        <a:graphic>
          <a:graphicData uri="http://schemas.openxmlformats.org/drawingml/2006/table">
            <a:tbl>
              <a:tblPr/>
              <a:tblGrid>
                <a:gridCol w="552600"/>
                <a:gridCol w="1962000"/>
                <a:gridCol w="152424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м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ст, с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шина 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ланова 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вастунова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абанова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4932360" y="5157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ий рост у девоче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4,08 с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У нас получилось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1989000"/>
          <a:ext cx="4038480" cy="4575240"/>
        </p:xfrm>
        <a:graphic>
          <a:graphicData uri="http://schemas.openxmlformats.org/drawingml/2006/table">
            <a:tbl>
              <a:tblPr/>
              <a:tblGrid>
                <a:gridCol w="598320"/>
                <a:gridCol w="1898640"/>
                <a:gridCol w="154152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м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ст, с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хов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шкин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охин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сов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 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ов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лов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чев 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ылов 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ин 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1042920" y="1197000"/>
            <a:ext cx="41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Мальчик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643280" y="1989000"/>
          <a:ext cx="4038480" cy="2136960"/>
        </p:xfrm>
        <a:graphic>
          <a:graphicData uri="http://schemas.openxmlformats.org/drawingml/2006/table">
            <a:tbl>
              <a:tblPr/>
              <a:tblGrid>
                <a:gridCol w="608040"/>
                <a:gridCol w="1895400"/>
                <a:gridCol w="153504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м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ст, с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яев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ябченко 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олов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кмаев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/>
          <p:cNvSpPr/>
          <p:nvPr/>
        </p:nvSpPr>
        <p:spPr>
          <a:xfrm>
            <a:off x="4932360" y="5013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ий рост у мальчик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1,9с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ношение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оста к длине стопы: К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/>
          <p:nvPr/>
        </p:nvSpPr>
        <p:spPr>
          <a:xfrm>
            <a:off x="1042920" y="404640"/>
            <a:ext cx="42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Девочк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"/>
          <p:cNvSpPr/>
          <p:nvPr/>
        </p:nvSpPr>
        <p:spPr>
          <a:xfrm>
            <a:off x="356400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реднее К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=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6, 69; 15,4%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39640" y="1197000"/>
          <a:ext cx="8229240" cy="5327280"/>
        </p:xfrm>
        <a:graphic>
          <a:graphicData uri="http://schemas.openxmlformats.org/drawingml/2006/table">
            <a:tbl>
              <a:tblPr/>
              <a:tblGrid>
                <a:gridCol w="786600"/>
                <a:gridCol w="2258280"/>
                <a:gridCol w="1216800"/>
                <a:gridCol w="1217160"/>
                <a:gridCol w="1374840"/>
                <a:gridCol w="13755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рамова 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акова 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тылкина 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ронова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якина 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нова 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щавка 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нова 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шина 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анова 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астунова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банова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ношение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оста к длине стопы: К</a:t>
            </a:r>
            <a:br>
              <a:rPr sz="32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Мальчики       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Среднее К </a:t>
            </a:r>
            <a:r>
              <a:rPr b="0" lang="en-US" sz="2800" spc="-1" strike="noStrike">
                <a:solidFill>
                  <a:srgbClr val="000099"/>
                </a:solidFill>
                <a:latin typeface="Calibri"/>
              </a:rPr>
              <a:t>=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6,41;  16,5%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57200" y="1268280"/>
          <a:ext cx="8229600" cy="5214600"/>
        </p:xfrm>
        <a:graphic>
          <a:graphicData uri="http://schemas.openxmlformats.org/drawingml/2006/table">
            <a:tbl>
              <a:tblPr/>
              <a:tblGrid>
                <a:gridCol w="727200"/>
                <a:gridCol w="1630080"/>
                <a:gridCol w="1168560"/>
                <a:gridCol w="1324080"/>
                <a:gridCol w="1689120"/>
                <a:gridCol w="1690560"/>
              </a:tblGrid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хов 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шкин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охин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сов 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ов 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ов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злов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чев 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ылов 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шин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яев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бченко 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олов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кмаев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Одинаковый рост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57200" y="1268280"/>
          <a:ext cx="8229600" cy="5151600"/>
        </p:xfrm>
        <a:graphic>
          <a:graphicData uri="http://schemas.openxmlformats.org/drawingml/2006/table">
            <a:tbl>
              <a:tblPr/>
              <a:tblGrid>
                <a:gridCol w="1222200"/>
                <a:gridCol w="3278520"/>
                <a:gridCol w="1831680"/>
                <a:gridCol w="1897200"/>
              </a:tblGrid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ми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рамова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6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nstant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охин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6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сов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6,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nstanti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утылкина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6fc6"/>
                          </a:solidFill>
                          <a:latin typeface="Arial"/>
                          <a:ea typeface="Times New Roman"/>
                        </a:rPr>
                        <a:t>6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6fc6"/>
                          </a:solidFill>
                          <a:latin typeface="Arial"/>
                        </a:rPr>
                        <a:t>1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шина 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6fc6"/>
                          </a:solidFill>
                          <a:latin typeface="Constantia"/>
                        </a:rPr>
                        <a:t>6,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6fc6"/>
                          </a:solidFill>
                          <a:latin typeface="Arial"/>
                        </a:rPr>
                        <a:t>1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nstantia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вастунова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6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шкин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6,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nstantia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лов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5dfd0"/>
                          </a:solidFill>
                          <a:latin typeface="Arial"/>
                        </a:rPr>
                        <a:t>6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5dfd0"/>
                          </a:solidFill>
                          <a:latin typeface="Arial"/>
                        </a:rPr>
                        <a:t>1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кмаев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5dfd0"/>
                          </a:solidFill>
                          <a:latin typeface="Arial"/>
                        </a:rPr>
                        <a:t>6,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5dfd0"/>
                          </a:solidFill>
                          <a:latin typeface="Arial"/>
                        </a:rPr>
                        <a:t>1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nstantia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яев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d0311"/>
                          </a:solidFill>
                          <a:latin typeface="Arial"/>
                        </a:rPr>
                        <a:t>6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d0311"/>
                          </a:solidFill>
                          <a:latin typeface="Arial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олов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d0311"/>
                          </a:solidFill>
                          <a:latin typeface="Arial"/>
                        </a:rPr>
                        <a:t>6,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d0311"/>
                          </a:solidFill>
                          <a:latin typeface="Arial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300" spc="-1" strike="noStrike">
                <a:solidFill>
                  <a:srgbClr val="c00000"/>
                </a:solidFill>
                <a:latin typeface="Calibri"/>
              </a:rPr>
              <a:t>Цель</a:t>
            </a:r>
            <a:r>
              <a:rPr b="1" lang="en-US" sz="8300" spc="-1" strike="noStrike">
                <a:solidFill>
                  <a:srgbClr val="c00000"/>
                </a:solidFill>
                <a:latin typeface="Bookman Old Style"/>
              </a:rPr>
              <a:t>  </a:t>
            </a:r>
            <a:r>
              <a:rPr b="1" lang="ru-RU" sz="8300" spc="-1" strike="noStrike">
                <a:solidFill>
                  <a:srgbClr val="c00000"/>
                </a:solidFill>
                <a:latin typeface="Calibri"/>
              </a:rPr>
              <a:t>работы:</a:t>
            </a:r>
            <a:endParaRPr b="0" lang="en-US" sz="83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4920" y="1484280"/>
            <a:ext cx="85438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ровести сравнительный анализ изменения среднего роста ученика за пять лет в различных единицах длины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йти закономерность между длиной стопы и ростом у одноклассников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0000"/>
                </a:solidFill>
                <a:latin typeface="Calibri"/>
              </a:rPr>
              <a:t>Формулы подсчета длины стопы </a:t>
            </a:r>
            <a:endParaRPr b="0" lang="en-US" sz="63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539640" y="2889360"/>
                <a:ext cx="7720200" cy="13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Д</m:t>
                        </m:r>
                      </m:e>
                      <m:sub>
                        <m:r>
                          <m:t xml:space="preserve">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м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мал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5"/>
              <p:cNvSpPr txBox="1"/>
              <p:nvPr/>
            </p:nvSpPr>
            <p:spPr>
              <a:xfrm>
                <a:off x="395280" y="4581360"/>
                <a:ext cx="822816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Д</m:t>
                        </m:r>
                      </m:e>
                      <m:sub>
                        <m:r>
                          <m:t xml:space="preserve">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де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4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Практическое применение</a:t>
            </a:r>
            <a:r>
              <a:rPr b="1" lang="en-US" sz="63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6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932000" y="1483920"/>
            <a:ext cx="3871800" cy="28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Помощь маме при определении размера подошвы обуви ребенка зная его рост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47480" indent="-447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480" indent="-447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480" indent="-447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480" indent="-447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480" indent="-447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480" indent="-447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8" name="Picture 11" descr="следы"/>
          <p:cNvPicPr/>
          <p:nvPr/>
        </p:nvPicPr>
        <p:blipFill>
          <a:blip r:embed="rId1"/>
          <a:stretch/>
        </p:blipFill>
        <p:spPr>
          <a:xfrm>
            <a:off x="428760" y="5715000"/>
            <a:ext cx="8643960" cy="546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G:\Гуле\avatar_u_36621.jpg"/>
          <p:cNvPicPr/>
          <p:nvPr/>
        </p:nvPicPr>
        <p:blipFill>
          <a:blip r:embed="rId2"/>
          <a:stretch/>
        </p:blipFill>
        <p:spPr>
          <a:xfrm>
            <a:off x="6804000" y="4724280"/>
            <a:ext cx="1887480" cy="1690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G:\Гуле\feet.jpg"/>
          <p:cNvPicPr/>
          <p:nvPr/>
        </p:nvPicPr>
        <p:blipFill>
          <a:blip r:embed="rId3"/>
          <a:stretch/>
        </p:blipFill>
        <p:spPr>
          <a:xfrm>
            <a:off x="428760" y="1357200"/>
            <a:ext cx="4395600" cy="35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Посмотрим, как работает эта формула: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Мой рост – 150 см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150*0,154=23,1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В действительности мой размер обуви 23,5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Подсчитаем размер обуви для Данила: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Рост – 152см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152*0,165 = 25,08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Размер стопы в действительности 25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rcRect l="24679" t="25951" r="21062" b="16171"/>
          <a:stretch/>
        </p:blipFill>
        <p:spPr>
          <a:xfrm>
            <a:off x="0" y="0"/>
            <a:ext cx="953784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642960" y="1071360"/>
            <a:ext cx="77868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При раскрытии особо опасных преступлений, если преступник оставил отпечаток следа. 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1429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Практическое применение</a:t>
            </a:r>
            <a:r>
              <a:rPr b="1" lang="en-US" sz="63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6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81440" y="115920"/>
            <a:ext cx="858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Формулы подсчета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роста по длине стопы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468360" y="2563920"/>
                <a:ext cx="806436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мал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Д</m:t>
                        </m:r>
                      </m:e>
                      <m:sub>
                        <m:r>
                          <m:t xml:space="preserve">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м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5"/>
              <p:cNvSpPr txBox="1"/>
              <p:nvPr/>
            </p:nvSpPr>
            <p:spPr>
              <a:xfrm>
                <a:off x="395280" y="4365720"/>
                <a:ext cx="82803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де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Д</m:t>
                        </m:r>
                      </m:e>
                      <m:sub>
                        <m:r>
                          <m:t xml:space="preserve">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80720" y="476280"/>
            <a:ext cx="694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Посмотрим, как работает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эта формула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"/>
          <p:cNvSpPr/>
          <p:nvPr/>
        </p:nvSpPr>
        <p:spPr>
          <a:xfrm>
            <a:off x="86400" y="2220840"/>
            <a:ext cx="8472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Рост моего одноклассника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Ерохина С. – 160 см, длина стопы – 26 с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6, 2 : 0,165=158,9 с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Абрамова Л. Рост тоже 160 см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длина стопы – 25,2 с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5,2 : 0,154= 163,6с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 rot="21258000">
            <a:off x="0" y="6120"/>
            <a:ext cx="8891640" cy="508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5050"/>
                    </a:gs>
                    <a:gs pos="100000">
                      <a:srgbClr val="00ff00"/>
                    </a:gs>
                  </a:gsLst>
                  <a:lin ang="8442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5050"/>
                  </a:gs>
                  <a:gs pos="100000">
                    <a:srgbClr val="00ff00"/>
                  </a:gs>
                </a:gsLst>
                <a:lin ang="8442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300" spc="-1" strike="noStrike">
                <a:solidFill>
                  <a:srgbClr val="c00000"/>
                </a:solidFill>
                <a:latin typeface="Calibri"/>
              </a:rPr>
              <a:t>Задачи:</a:t>
            </a:r>
            <a:endParaRPr b="0" lang="en-US" sz="83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4000" y="1916280"/>
            <a:ext cx="829152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Замеры стоп учащихся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6 «Б» класс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1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ыявление зависимости между ростом человека и длиной его стопы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Замеры роста учащихся 6 «Б» класс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еревод результатов замеров в другие единицы измерения (сажени, аршины, футы, ярды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Анализ полученных результатов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952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4683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Первые единицы измерения длины были не очень точными. В качестве измерительных инструментов использовались чаще всего шаг, человеческая рука или нога. Эти измерительные «приборы» были удобны тем, что они у человека всегда были при себ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240" indent="4683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У разных людей эти величины разные, поэтому каждый может судить , на сколько точны были эти единицы дли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Arial"/>
                <a:ea typeface="Arial"/>
              </a:rPr>
              <a:t>Из истории единиц длин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9528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В быту для измерения продаваемой ткани, длины меча или копья, размеров различных предметов были необходимы другие единицы. Самой распространенной единицей был локоть – расстояние  от локтя до конца среднего пальца. Среди более мелких единиц можно назвать ладонь – ширину кисти руки. Еще меньшей единицей был дюйм. Первоначально за дюйм принимали верхний сустав большого пальца. Многие народы употребляли фут – длину ступни ноги челове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Arial"/>
                <a:ea typeface="Arial"/>
              </a:rPr>
              <a:t>Из истории единиц длин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78920" y="1916280"/>
            <a:ext cx="5256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 одному из преданий, английский король Генрих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в 1101 году ввел единицу длины ярд, которая была равна расстоянию от кончика его носа до конца пальцев вытянутой рук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 другому преданию, за ярд была принята длина меча этого корол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перь ярд является самой обиходной английской единицей дли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Calibri"/>
              </a:rPr>
              <a:t>Из истории единиц длин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724360" y="2205000"/>
            <a:ext cx="3095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усские меры длин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8000" y="21333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реди русских мер длины древнейшими являются локоть и сажень. Первое упоминание сажени встречается в летописи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ве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2825"/>
          <a:stretch/>
        </p:blipFill>
        <p:spPr>
          <a:xfrm>
            <a:off x="4356000" y="4076640"/>
            <a:ext cx="4546800" cy="2362320"/>
          </a:xfrm>
          <a:prstGeom prst="rect">
            <a:avLst/>
          </a:prstGeom>
          <a:ln w="28440">
            <a:solidFill>
              <a:srgbClr val="0f6fc6"/>
            </a:solidFill>
            <a:miter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50920" y="4365720"/>
            <a:ext cx="3960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шок – единица, равная двум верхним суставам указательного пальц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 вершок = ¼ пяди = 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16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ршина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,44 см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усские меры длин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4608720" cy="2678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25909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1:11:47Z</dcterms:created>
  <dc:creator>Your User Name</dc:creator>
  <dc:description/>
  <dc:language>en-US</dc:language>
  <cp:lastModifiedBy>1</cp:lastModifiedBy>
  <dcterms:modified xsi:type="dcterms:W3CDTF">2011-01-21T16:46:00Z</dcterms:modified>
  <cp:revision>38</cp:revision>
  <dc:subject/>
  <dc:title>Из истории единиц длины</dc:title>
</cp:coreProperties>
</file>