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460-B416-44C9-81CB-01AC18B5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C449-737D-405D-BF53-7582B474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5483-CB3C-43C7-95AB-DCEA5B620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AAF6-F586-4BC5-84EC-65755D426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7736-8E34-4ABC-A6EB-76BA8C25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0A4E-A5E9-4585-A873-6850BA56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78BE-0C75-4092-ABED-0D37CF9E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30668-345E-4E81-9490-68F59B23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B0DD-2FA4-4599-9E43-50E240C0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0E3C-8995-4259-96A8-950CA3DE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93BF-759E-4B9B-9E58-E009BE1B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A941-83DF-4B35-8BFD-FA1E6DF4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DAF65-FCDB-4964-94B3-03996881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D7343-F9BF-4CDC-986C-2555DCEB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D5AD-A1D0-4DA3-B8AB-3220D8D4B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9C7A-0DE7-40F9-8497-57FA7658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98B9-B168-4B1B-BA8A-40B8F801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C62-11B4-4237-9EFF-2ECD1B60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F77-95B5-449A-8328-B68BFF0B3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0FD0-0E30-4964-BCA0-AAA78C1D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09C4-0772-4C15-8D37-AF532093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0D8C-86E9-44F6-9B06-A1A55D84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3148-491E-499D-A017-61AD443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C9B4-0208-4C4C-961D-ADF66260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F81D-9BFB-43E2-A917-90BC4BC79FE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67DF-C13B-494E-B34A-988A507C8D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Когда так говорят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9640" y="1341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Урок развития речи в 3 класс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УМК «Школа  Росси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Составитель: </a:t>
            </a: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 Архирее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Роза Гильфано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Comic Sans MS"/>
              </a:rPr>
              <a:t>(учитель начальных классов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omic Sans MS"/>
              </a:rPr>
              <a:t>МОУ  «Макуловская СОШ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omic Sans MS"/>
              </a:rPr>
              <a:t>Верхнеуслонского муниципального района Р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Используемая литература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С.И.Ожегов.Толковый словарь русского языка словарь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 algn="ctr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амые известные фразеологизмы русского язы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66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00"/>
                </a:solidFill>
                <a:latin typeface="Comic Sans MS"/>
              </a:rPr>
              <a:t>Здоровья всем и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00"/>
                </a:solidFill>
                <a:latin typeface="Comic Sans MS"/>
              </a:rPr>
              <a:t>удачи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4800" y="429840"/>
            <a:ext cx="68612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Белены объесться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В пушкинской «Сказке о рыбаке и рыбке», возмущённый бесстыдной жадностью своей старухи, гневно говорит ей: «Что ты, баба, белены объела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Значение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Вести себя вздорно, злобно, как сумасшедш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Происхождение.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В деревне на задворках и свалках вы можете встретить высокие кусты с грязно-желтоватыми, в лиловых прожилках цветами и неприятным запахом. Это и есть белена – очень ядовитое растение. Её семена напоминают мак, но тот, кто их съест, становится похож на безумного: бредит, буйствует, а нередко и умира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35280" y="5805360"/>
            <a:ext cx="54720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6870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99"/>
                </a:solidFill>
                <a:latin typeface="Comic Sans MS"/>
              </a:rPr>
              <a:t>Водить за нос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Умнейший человек, не раз и не два водил противника за нос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Значение.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Обманывать, вводить в заблуждение, обещать и не выполнять обещан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Происхождение.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Выражение было связано с ярмарочным развлечением. Цыгане водили медведей на показ за продетое в нос кольцо. И заставляли их, бедняг,делать разные фокусы, обманывая обещанием подач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19280" y="5516640"/>
            <a:ext cx="61354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993300"/>
                </a:solidFill>
                <a:uFillTx/>
                <a:latin typeface="Comic Sans MS"/>
              </a:rPr>
              <a:t>Волосы дыбом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Его охватил ужас: глаза выкатились, волосы дыб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Comic Sans MS"/>
              </a:rPr>
              <a:t>Значение.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Так говорят, когда человек очень испугал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Comic Sans MS"/>
              </a:rPr>
              <a:t>Происхождение. </a:t>
            </a:r>
            <a:r>
              <a:rPr b="0" lang="en-US" sz="2800" spc="-1" strike="noStrike" u="sng">
                <a:solidFill>
                  <a:srgbClr val="cc6600"/>
                </a:solidFill>
                <a:uFillTx/>
                <a:latin typeface="Comic Sans MS"/>
              </a:rPr>
              <a:t>«</a:t>
            </a: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Стоять дыбом» - это стоять навытяжку, на кончиках пальцев. То есть, когда человек пугается, у него волосы словно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 на цыпочках на голове стоят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506600" cy="2349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528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Всыпать по первое число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За такие дела им, конечно, следует всыпать по первое чис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Значение.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Сурово наказать, отругать кого-либ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Происхождение.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Уж что-что, а это-то выражение вам знакомо… И откуда оно только свалилось на вашу несчастную голову! Не поверите, но…из старой школы, где учеников пороли каждую неделю, независимо от того, прав или виноват. И если наставник переусердствует, то такой порки хватало надолго, вплоть до первого числа следующего месяц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5400000">
            <a:off x="-2857680" y="2857320"/>
            <a:ext cx="6400800" cy="685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 rot="16200000">
            <a:off x="5459400" y="3117600"/>
            <a:ext cx="6400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6600cc"/>
                </a:solidFill>
                <a:latin typeface="Comic Sans MS"/>
              </a:rPr>
              <a:t>Дым коромыслом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Comic Sans MS"/>
              </a:rPr>
              <a:t>Значение.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Шум, гам, беспорядок, суматох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«В корчме дым стоял коромыслом: песни, пляски, крик, драка.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Comic Sans MS"/>
              </a:rPr>
              <a:t>Происхождение. </a:t>
            </a: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В старой Руси избы часто топи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по-чёрному: дым уходил не через печную трубу, а через специальное окошко или дверь. И по форме дыма предсказывалась погода. Идёт дым столбом – будет ясно, волоком – к туману, дождю, коромыслом – к ветру, непогоде, а то и бур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5373720"/>
            <a:ext cx="8494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3399"/>
                </a:solidFill>
                <a:uFillTx/>
                <a:latin typeface="Comic Sans MS"/>
              </a:rPr>
              <a:t>Реветь белугой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«Три дня к ряду ревела она белугой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Comic Sans MS"/>
              </a:rPr>
              <a:t>Значение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Громко кричать или плак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Comic Sans MS"/>
              </a:rPr>
              <a:t>Происхождение.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«Нем,как рыба» - это известно давным-давно. И вдруг «реветь белугой»? Оказывается, речь здесь не о белуге, а о белухе, так называют полярного дельфина. Вот он действительно ревёт очень громк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68360" y="5877000"/>
            <a:ext cx="41529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6600"/>
                </a:solidFill>
                <a:uFillTx/>
                <a:latin typeface="Comic Sans MS"/>
              </a:rPr>
              <a:t>Попасть в переплёт</a:t>
            </a:r>
            <a:r>
              <a:rPr b="0" lang="en-US" sz="4800" spc="-1" strike="noStrike" u="sng">
                <a:solidFill>
                  <a:srgbClr val="cc6600"/>
                </a:solidFill>
                <a:uFillTx/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«Малый попал в такой переплёт, что хоть караул кричи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Значение.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Попасть в затруднительное, опасное или неприятное полож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Происхождение.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В диалектах ПЕРЕПЛЁТ – сплетённая из веток ловушка для рыб. И. как во всякой ловушке, оказаться в ней – дело малоприят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181160" cy="1342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-108000" y="260280"/>
            <a:ext cx="14684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cc0066"/>
                </a:solidFill>
                <a:uFillTx/>
                <a:latin typeface="Comic Sans MS"/>
              </a:rPr>
              <a:t>Ударить лицом в грязь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« Ты уж не подведи, не ударь в грязь лицом перед гостям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Comic Sans MS"/>
              </a:rPr>
              <a:t>Значение.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Оплошать, осрамить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Comic Sans MS"/>
              </a:rPr>
              <a:t>Происхождение.</a:t>
            </a:r>
            <a:r>
              <a:rPr b="1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Ударить в грязь лицом первоначально означало «упасть в грязную землю». Такое падение считалось в народе особенно позорным в кулачных боях – состязаниях борцов, когда слабого противника опрокидывали ничком на земл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2:30:13Z</dcterms:created>
  <dc:creator>User</dc:creator>
  <dc:description/>
  <dc:language>en-US</dc:language>
  <cp:lastModifiedBy>Discovery</cp:lastModifiedBy>
  <dcterms:modified xsi:type="dcterms:W3CDTF">2011-01-27T17:34:07Z</dcterms:modified>
  <cp:revision>26</cp:revision>
  <dc:subject/>
  <dc:title>Филькина грамот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