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FAB-1A98-4418-B752-804D8E51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0F16-AF6E-4B1C-A222-FCE3CE7DC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E85-C538-42BB-A988-6119362F4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98BE-7D95-43DF-A4AF-D54DCD61E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4B57-E599-4215-90E3-BC3C03EE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07E58-48CD-4371-B0BE-5E17E3059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00E04-C81A-40D8-994A-5EA892110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D7DF1-C595-4E58-9588-8708326D4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89CB-8871-4A6A-9AB6-00A8EBE1B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32E2-1FA6-4E92-A8DF-0530A428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C88A8-4A31-434A-9CED-C83C38CB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FDC1-E1F1-413F-9880-59BBDD6A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1CE3-1502-40A5-BADD-B32A5F16C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3A63D-2B25-4152-A5FA-488701C15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2F49-2206-484F-AA2E-BB264048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3AB5-5D9F-472F-9C30-877D089D8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B13F2-EE9B-4E29-A49A-B5A07B1B0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1829-94D6-4489-B013-97729D05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EBFE-19EC-447A-AB43-07860981D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08F6-411B-4BD9-91A0-5D19FAA2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5DE6-BA4B-4C89-8B7A-5F24F571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A3F6-1A7A-41E5-9EE0-51171D0A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933E-7C41-4D96-8E57-4596E8F1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82F-A31E-4AB4-9215-10C8FDA5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F1DF-187D-4290-8183-06E67D34A0C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771E-7E3A-4C51-B587-39A21E0F2A5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008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  </a:t>
            </a:r>
            <a:r>
              <a:rPr b="0" lang="en-US" sz="4400" spc="-1" strike="noStrike">
                <a:solidFill>
                  <a:srgbClr val="ff00ff"/>
                </a:solidFill>
                <a:latin typeface="Comic Sans MS"/>
              </a:rPr>
              <a:t>Когда так говорят?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539640" y="1341360"/>
            <a:ext cx="79200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Урок развития речи в 3 класс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УМК «Школа  Росси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Comic Sans MS"/>
              </a:rPr>
              <a:t>Составитель: </a:t>
            </a: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 Архиреев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Роза Гильфановн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5050"/>
                </a:solidFill>
                <a:latin typeface="Comic Sans MS"/>
              </a:rPr>
              <a:t>(учитель начальных классов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omic Sans MS"/>
              </a:rPr>
              <a:t>МОУ  «Макуловская СОШ»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5050"/>
                </a:solidFill>
                <a:latin typeface="Comic Sans MS"/>
              </a:rPr>
              <a:t>Верхнеуслонского муниципального района Р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Comic Sans MS"/>
              </a:rPr>
              <a:t>Используемая литература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ru-RU" sz="5400" spc="-1" strike="noStrike">
                <a:solidFill>
                  <a:srgbClr val="0033cc"/>
                </a:solidFill>
                <a:latin typeface="Comic Sans MS"/>
              </a:rPr>
              <a:t>С.И.Ожегов.Толковый словарь русского языка словарь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-250200" algn="ctr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mic Sans MS"/>
              </a:rPr>
              <a:t>Самые известные фразеологизмы русского язы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02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0066"/>
                </a:solidFill>
                <a:latin typeface="Comic Sans MS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00"/>
                </a:solidFill>
                <a:latin typeface="Comic Sans MS"/>
              </a:rPr>
              <a:t>Здоровья всем и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9900"/>
                </a:solidFill>
                <a:latin typeface="Comic Sans MS"/>
              </a:rPr>
              <a:t>удачи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4800" y="429840"/>
            <a:ext cx="686124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66"/>
                </a:solidFill>
                <a:latin typeface="Comic Sans MS"/>
              </a:rPr>
              <a:t>Белены объесться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53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33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Comic Sans MS"/>
              </a:rPr>
              <a:t>В пушкинской «Сказке о рыбаке и рыбке», возмущённый бесстыдной жадностью своей старухи, гневно говорит ей: «Что ты, баба, белены объелась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66"/>
                </a:solidFill>
                <a:uFillTx/>
                <a:latin typeface="Comic Sans MS"/>
              </a:rPr>
              <a:t>Значение</a:t>
            </a:r>
            <a:r>
              <a:rPr b="0" lang="en-US" sz="2400" spc="-1" strike="noStrike">
                <a:solidFill>
                  <a:srgbClr val="ff0066"/>
                </a:solidFill>
                <a:latin typeface="Comic Sans MS"/>
              </a:rPr>
              <a:t>. </a:t>
            </a:r>
            <a:r>
              <a:rPr b="0" lang="en-US" sz="2400" spc="-1" strike="noStrike">
                <a:solidFill>
                  <a:srgbClr val="008000"/>
                </a:solidFill>
                <a:latin typeface="Comic Sans MS"/>
              </a:rPr>
              <a:t>Вести себя вздорно, злобно, как сумасшедши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Происхождение.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800000"/>
                </a:solidFill>
                <a:latin typeface="Comic Sans MS"/>
              </a:rPr>
              <a:t>В деревне на задворках и свалках вы можете встретить высокие кусты с грязно-желтоватыми, в лиловых прожилках цветами и неприятным запахом. Это и есть белена – очень ядовитое растение. Её семена напоминают мак, но тот, кто их съест, становится похож на безумного: бредит, буйствует, а нередко и умирае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835280" y="5805360"/>
            <a:ext cx="54720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329760"/>
            <a:ext cx="68706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99"/>
                </a:solidFill>
                <a:latin typeface="Comic Sans MS"/>
              </a:rPr>
              <a:t>Водить за нос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Comic Sans MS"/>
              </a:rPr>
              <a:t>Умнейший человек, не раз и не два водил противника за нос</a:t>
            </a:r>
            <a:r>
              <a:rPr b="0" lang="en-US" sz="4000" spc="-1" strike="noStrike">
                <a:solidFill>
                  <a:srgbClr val="006600"/>
                </a:solidFill>
                <a:latin typeface="Comic Sans MS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99"/>
                </a:solidFill>
                <a:uFillTx/>
                <a:latin typeface="Comic Sans MS"/>
              </a:rPr>
              <a:t>Значение.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Обманывать, вводить в заблуждение, обещать и не выполнять обещанного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Comic Sans MS"/>
              </a:rPr>
              <a:t>Происхождение.  </a:t>
            </a:r>
            <a:r>
              <a:rPr b="0" lang="en-US" sz="2000" spc="-1" strike="noStrike">
                <a:solidFill>
                  <a:srgbClr val="0000ff"/>
                </a:solidFill>
                <a:latin typeface="Comic Sans MS"/>
              </a:rPr>
              <a:t>Выражение было связано с ярмарочным развлечением. Цыгане водили медведей на показ за продетое в нос кольцо. И заставляли их, бедняг,делать разные фокусы, обманывая обещанием подачк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619280" y="5516640"/>
            <a:ext cx="613548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993300"/>
                </a:solidFill>
                <a:uFillTx/>
                <a:latin typeface="Comic Sans MS"/>
              </a:rPr>
              <a:t>Волосы дыбом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21844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808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80"/>
                </a:solidFill>
                <a:latin typeface="Comic Sans MS"/>
              </a:rPr>
              <a:t>Его охватил ужас: глаза выкатились, волосы дыб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00"/>
                </a:solidFill>
                <a:uFillTx/>
                <a:latin typeface="Comic Sans MS"/>
              </a:rPr>
              <a:t>Значение.</a:t>
            </a:r>
            <a:r>
              <a:rPr b="0" lang="en-US" sz="3200" spc="-1" strike="noStrike" u="sng">
                <a:solidFill>
                  <a:srgbClr val="663300"/>
                </a:solidFill>
                <a:uFillTx/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Comic Sans MS"/>
              </a:rPr>
              <a:t>Так говорят, когда человек очень испугал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0000"/>
                </a:solidFill>
                <a:uFillTx/>
                <a:latin typeface="Comic Sans MS"/>
              </a:rPr>
              <a:t>Происхождение. </a:t>
            </a:r>
            <a:r>
              <a:rPr b="0" lang="en-US" sz="2800" spc="-1" strike="noStrike" u="sng">
                <a:solidFill>
                  <a:srgbClr val="cc6600"/>
                </a:solidFill>
                <a:uFillTx/>
                <a:latin typeface="Comic Sans MS"/>
              </a:rPr>
              <a:t>«</a:t>
            </a:r>
            <a:r>
              <a:rPr b="0" lang="en-US" sz="2800" spc="-1" strike="noStrike">
                <a:solidFill>
                  <a:srgbClr val="cc6600"/>
                </a:solidFill>
                <a:latin typeface="Comic Sans MS"/>
              </a:rPr>
              <a:t>Стоять дыбом» - это стоять навытяжку, на кончиках пальцев. То есть, когда человек пугается, у него волосы словно</a:t>
            </a:r>
            <a:r>
              <a:rPr b="0" lang="en-US" sz="2800" spc="-1" strike="noStrike">
                <a:solidFill>
                  <a:srgbClr val="990000"/>
                </a:solidFill>
                <a:latin typeface="Comic Sans MS"/>
              </a:rPr>
              <a:t> на цыпочках на голове стоят</a:t>
            </a:r>
            <a:r>
              <a:rPr b="0" lang="en-US" sz="3200" spc="-1" strike="noStrike">
                <a:solidFill>
                  <a:srgbClr val="99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524720" y="0"/>
            <a:ext cx="1506600" cy="23493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15289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Comic Sans MS"/>
              </a:rPr>
              <a:t>Всыпать по первое число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За такие дела им, конечно, следует всыпать по первое числ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Comic Sans MS"/>
              </a:rPr>
              <a:t>Значение.</a:t>
            </a: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Comic Sans MS"/>
              </a:rPr>
              <a:t>Сурово наказать, отругать кого-либ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Comic Sans MS"/>
              </a:rPr>
              <a:t>Происхождение.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Уж что-что, а это-то выражение вам знакомо… И откуда оно только свалилось на вашу несчастную голову! Не поверите, но…из старой школы, где учеников пороли каждую неделю, независимо от того, прав или виноват. И если наставник переусердствует, то такой порки хватало надолго, вплоть до первого числа следующего месяц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 rot="5400000">
            <a:off x="-2857680" y="2857320"/>
            <a:ext cx="6400800" cy="6858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 rot="16200000">
            <a:off x="5459400" y="3117600"/>
            <a:ext cx="6400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6600cc"/>
                </a:solidFill>
                <a:latin typeface="Comic Sans MS"/>
              </a:rPr>
              <a:t>Дым коромыслом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cc"/>
                </a:solidFill>
                <a:uFillTx/>
                <a:latin typeface="Comic Sans MS"/>
              </a:rPr>
              <a:t>Значение.</a:t>
            </a: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Шум, гам, беспорядок, суматох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«В корчме дым стоял коромыслом: песни, пляски, крик, драка.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00cc"/>
                </a:solidFill>
                <a:uFillTx/>
                <a:latin typeface="Comic Sans MS"/>
              </a:rPr>
              <a:t>Происхождение. </a:t>
            </a:r>
            <a:r>
              <a:rPr b="0" lang="en-US" sz="2000" spc="-1" strike="noStrike">
                <a:solidFill>
                  <a:srgbClr val="6600cc"/>
                </a:solidFill>
                <a:latin typeface="Comic Sans MS"/>
              </a:rPr>
              <a:t>В старой Руси избы часто топили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499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cc"/>
                </a:solidFill>
                <a:latin typeface="Comic Sans MS"/>
              </a:rPr>
              <a:t>по-чёрному: дым уходил не через печную трубу, а через специальное окошко или дверь. И по форме дыма предсказывалась погода. Идёт дым столбом – будет ясно, волоком – к туману, дождю, коромыслом – к ветру, непогоде, а то и буре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8360" y="5373720"/>
            <a:ext cx="849456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 u="sng">
                <a:solidFill>
                  <a:srgbClr val="ff3399"/>
                </a:solidFill>
                <a:uFillTx/>
                <a:latin typeface="Comic Sans MS"/>
              </a:rPr>
              <a:t>Реветь белугой.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«Три дня к ряду ревела она белугой»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Comic Sans MS"/>
              </a:rPr>
              <a:t>Значение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.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Громко кричать или плак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99"/>
                </a:solidFill>
                <a:uFillTx/>
                <a:latin typeface="Comic Sans MS"/>
              </a:rPr>
              <a:t>Происхождение. </a:t>
            </a:r>
            <a:r>
              <a:rPr b="0" lang="en-US" sz="2800" spc="-1" strike="noStrike">
                <a:solidFill>
                  <a:srgbClr val="ff3399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«Нем,как рыба» - это известно давным-давно. И вдруг «реветь белугой»? Оказывается, речь здесь не о белуге, а о белухе, так называют полярного дельфина. Вот он действительно ревёт очень громк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268360" y="5877000"/>
            <a:ext cx="41529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55640" y="333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6600"/>
                </a:solidFill>
                <a:uFillTx/>
                <a:latin typeface="Comic Sans MS"/>
              </a:rPr>
              <a:t>Попасть в переплёт</a:t>
            </a:r>
            <a:r>
              <a:rPr b="0" lang="en-US" sz="4800" spc="-1" strike="noStrike" u="sng">
                <a:solidFill>
                  <a:srgbClr val="cc6600"/>
                </a:solidFill>
                <a:uFillTx/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Comic Sans MS"/>
              </a:rPr>
              <a:t>«Малый попал в такой переплёт, что хоть караул кричи»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Comic Sans MS"/>
              </a:rPr>
              <a:t>Значение.  </a:t>
            </a:r>
            <a:r>
              <a:rPr b="0" lang="en-US" sz="2400" spc="-1" strike="noStrike">
                <a:solidFill>
                  <a:srgbClr val="cc0066"/>
                </a:solidFill>
                <a:latin typeface="Comic Sans MS"/>
              </a:rPr>
              <a:t>Попасть в затруднительное, опасное или неприятное положени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Comic Sans MS"/>
              </a:rPr>
              <a:t>Происхождение.</a:t>
            </a:r>
            <a:r>
              <a:rPr b="0" lang="en-US" sz="2400" spc="-1" strike="noStrike">
                <a:solidFill>
                  <a:srgbClr val="33cc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6600"/>
                </a:solidFill>
                <a:latin typeface="Comic Sans MS"/>
              </a:rPr>
              <a:t>В диалектах ПЕРЕПЛЁТ – сплетённая из веток ловушка для рыб. И. как во всякой ловушке, оказаться в ней – дело малоприятное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7164360" y="5229360"/>
            <a:ext cx="1181160" cy="13428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-108000" y="260280"/>
            <a:ext cx="146844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 u="sng">
                <a:solidFill>
                  <a:srgbClr val="cc0066"/>
                </a:solidFill>
                <a:uFillTx/>
                <a:latin typeface="Comic Sans MS"/>
              </a:rPr>
              <a:t>Ударить лицом в грязь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66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Comic Sans MS"/>
              </a:rPr>
              <a:t>« Ты уж не подведи, не ударь в грязь лицом перед гостям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700"/>
              </a:spcBef>
              <a:buClr>
                <a:srgbClr val="99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Comic Sans MS"/>
              </a:rPr>
              <a:t>Значение. </a:t>
            </a:r>
            <a:r>
              <a:rPr b="0" lang="en-US" sz="2800" spc="-1" strike="noStrike">
                <a:solidFill>
                  <a:srgbClr val="cc0066"/>
                </a:solidFill>
                <a:latin typeface="Comic Sans MS"/>
              </a:rPr>
              <a:t>Оплошать, осрамиться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spcBef>
                <a:spcPts val="601"/>
              </a:spcBef>
              <a:buClr>
                <a:srgbClr val="8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800000"/>
                </a:solidFill>
                <a:uFillTx/>
                <a:latin typeface="Comic Sans MS"/>
              </a:rPr>
              <a:t>Происхождение.</a:t>
            </a:r>
            <a:r>
              <a:rPr b="1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6666"/>
                </a:solidFill>
                <a:latin typeface="Comic Sans MS"/>
              </a:rPr>
              <a:t>Ударить в грязь лицом первоначально означало «упасть в грязную землю». Такое падение считалось в народе особенно позорным в кулачных боях – состязаниях борцов, когда слабого противника опрокидывали ничком на землю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1T22:30:13Z</dcterms:created>
  <dc:creator>User</dc:creator>
  <dc:description/>
  <dc:language>en-US</dc:language>
  <cp:lastModifiedBy>Discovery</cp:lastModifiedBy>
  <dcterms:modified xsi:type="dcterms:W3CDTF">2011-01-27T17:34:07Z</dcterms:modified>
  <cp:revision>26</cp:revision>
  <dc:subject/>
  <dc:title>Филькина грамот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